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D7D9-E220-49B3-9C33-B51A7C283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420C-A5D3-4786-87EA-F7AF190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CF5-DFE9-43FD-B645-0FFC39D7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037-210C-4657-9127-3C21E218C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C8E4-384D-41FE-98BD-9C23243C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CB87-727A-4DFC-9AD4-47BD320F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291-92EA-4F16-8F78-18229EF6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F45B-DD5A-4EE4-A43B-74864BD04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E91-CDF2-4F01-8673-F87D6F0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6DCC-9281-458E-87CB-77D8043C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873-6FAF-47CE-B629-9B476550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D07-EEE8-4AF1-B59F-714F0DAB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CE09-A369-4C1C-8FED-D721C680D790}" type="slidenum">
              <a:rPr b="0" lang="ar-SA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Feeding &amp; Eating Disorders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tima AlHaida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rofessor, Child &amp; Adolescent Psychiatris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llege of Medicine/KSU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Failure To Thrive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ilure to grow &amp; gain weight either from birth or after a period of normal physical developmen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-3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nths to 3rd year  of lif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ganic &amp; non-organic typ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 form of physical abuse or neglec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ocial &amp; family background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mpera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agemen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Pica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ating non-eatable element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R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hronic deprivation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Iron &amp; zinc deficiency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Lead poisoning</a:t>
            </a:r>
            <a:endParaRPr b="0" lang="en-US" sz="3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Obesity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 9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centile ( 20% over expected weight )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verprotected mother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stress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epression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Low self-esteem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amily counseling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B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upport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sychological assessment prior to surgical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vention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Anorexia Nervosa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ilure to gain weigh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layed menarch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-13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years of age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eting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roup of girls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amilial tendenc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fusal of womanhood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art of OCD presentation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pressive disorder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N program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namic therapy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  <a:p>
            <a:pPr marL="343080" indent="0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BT</a:t>
            </a:r>
            <a:endParaRPr b="0" lang="en-US" sz="2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26:17Z</dcterms:created>
  <dc:creator>www.arabswell.com</dc:creator>
  <dc:description/>
  <dc:language>en-US</dc:language>
  <cp:lastModifiedBy>Mac</cp:lastModifiedBy>
  <dcterms:modified xsi:type="dcterms:W3CDTF">2013-11-09T10:12:21Z</dcterms:modified>
  <cp:revision>5</cp:revision>
  <dc:subject/>
  <dc:title>Feeding &amp; Eating Disorders</dc:title>
</cp:coreProperties>
</file>