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F1B-0D65-4F04-AB9F-AC39A76D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ACF-F504-4D8F-B999-77098A11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DCC-4CD4-43BD-94B4-C64A891F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D89-23C4-4A9F-BB3E-BE15639D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D8B-07BC-47FB-B452-77090AED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28F-4DA7-4FB2-AFAB-0E669D1D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77F-EB67-4E09-AA6B-33E8457A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A37-14BF-4EB0-86E7-27245D22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CBB-C88E-4B55-BA9C-D67826E8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58F-3BDD-4572-9A12-A1E1F4B4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549-86E6-42B1-AE8F-614E22DA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C0E-DA6D-4D04-BD3A-848D1326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1708-092A-4A11-8DB2-50B493081D93}" type="slidenum">
              <a:rPr b="0" lang="ar-SA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eeding &amp; Eating Disorder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tima AlHaida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fessor, Child &amp; Adolescent Psychiatris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llege of Medicine/KSU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ailure To Thriv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ilure to grow &amp; gain weight either from birth or after a period of normal physical developmen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-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nths to 3rd year  of lif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rganic &amp; non-organic typ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form of physical abuse or negle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cial &amp; family backgroun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mpera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ica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ating non-eatable elemen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R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ronic depriv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ron &amp; zinc deficienc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ead poison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Obesity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9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centile ( 20% over expected weight 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protected moth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tr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pre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w self-este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mily counse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B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sychological assessment prior to surgical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ventio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orexia Nervosa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ilure to gain weigh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layed menarch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8-13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ears of a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eting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roup of girl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milial tende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fusal of womanhoo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t of OCD presenta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pressive disord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 progra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ynamic therap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B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26:17Z</dcterms:created>
  <dc:creator>www.arabswell.com</dc:creator>
  <dc:description/>
  <dc:language>en-US</dc:language>
  <cp:lastModifiedBy>Mac</cp:lastModifiedBy>
  <dcterms:modified xsi:type="dcterms:W3CDTF">2013-11-09T10:12:21Z</dcterms:modified>
  <cp:revision>5</cp:revision>
  <dc:subject/>
  <dc:title>Feeding &amp; Eating Disorders</dc:title>
</cp:coreProperties>
</file>