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33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S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LO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J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660240" y="1359000"/>
            <a:ext cx="7797960" cy="447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3:20Z</dcterms:created>
  <dc:creator>Valued Acer Customer</dc:creator>
  <dc:description/>
  <dc:language>en-US</dc:language>
  <cp:lastModifiedBy>Valued Acer Customer</cp:lastModifiedBy>
  <dcterms:modified xsi:type="dcterms:W3CDTF">1998-03-14T12:16:16Z</dcterms:modified>
  <cp:revision>1</cp:revision>
  <dc:subject/>
  <dc:title>GENERAL PROCESSES MUST BE TAILORED TO YOUR PROJECTS</dc:title>
</cp:coreProperties>
</file>