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53337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29960" y="17748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CUSE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UM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074600" y="1471680"/>
            <a:ext cx="6993000" cy="4568760"/>
            <a:chOff x="1074600" y="1471680"/>
            <a:chExt cx="6993000" cy="4568760"/>
          </a:xfrm>
        </p:grpSpPr>
        <p:pic>
          <p:nvPicPr>
            <p:cNvPr id="40" name="" descr=""/>
            <p:cNvPicPr/>
            <p:nvPr/>
          </p:nvPicPr>
          <p:blipFill>
            <a:blip r:embed="rId1"/>
            <a:stretch/>
          </p:blipFill>
          <p:spPr>
            <a:xfrm>
              <a:off x="1074600" y="1471680"/>
              <a:ext cx="5519880" cy="452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5688000" y="1598760"/>
              <a:ext cx="2379600" cy="4441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09:51:10Z</dcterms:created>
  <dc:creator>Valued Acer Customer</dc:creator>
  <dc:description/>
  <dc:language>en-US</dc:language>
  <cp:lastModifiedBy>Valued Acer Customer</cp:lastModifiedBy>
  <dcterms:modified xsi:type="dcterms:W3CDTF">1998-03-08T09:51:42Z</dcterms:modified>
  <cp:revision>1</cp:revision>
  <dc:subject/>
  <dc:title>TOP FIVE EXCUSES FOR NO PROCESS DOCUMENTATION</dc:title>
</cp:coreProperties>
</file>