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58FC51-1E7C-4909-832E-75A7B7850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es Especially Important for New OO Tea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lation of theoretical to 1’s and 0’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53337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IN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SS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ELINE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ROVE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244520"/>
            <a:ext cx="7404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’t improve anything that you can’t repe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1765440"/>
            <a:ext cx="8001000" cy="433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09:52:10Z</dcterms:created>
  <dc:creator>Valued Acer Customer</dc:creator>
  <dc:description/>
  <dc:language>en-US</dc:language>
  <cp:lastModifiedBy>Valued Acer Customer</cp:lastModifiedBy>
  <dcterms:modified xsi:type="dcterms:W3CDTF">1998-03-08T09:53:08Z</dcterms:modified>
  <cp:revision>1</cp:revision>
  <dc:subject/>
  <dc:title>DEFINED PROCESSES ARE BASELINE FOR IMPROVEMENTS</dc:title>
</cp:coreProperties>
</file>