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80720" y="20916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75438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7720" y="3763440"/>
            <a:ext cx="75438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80720" y="20916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76344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3400" y="376344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80720" y="20916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8320" y="129528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39280" y="129528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7720" y="376344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8320" y="376344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39280" y="376344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80720" y="20916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7720" y="12952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80720" y="20916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80720" y="20916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0720" y="20916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980720" y="209160"/>
            <a:ext cx="53341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0720" y="20916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7720" y="376344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80720" y="20916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3400" y="376344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80720" y="20916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763440"/>
            <a:ext cx="75438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0720" y="20916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2952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946080"/>
            <a:ext cx="7937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48920" y="6105600"/>
            <a:ext cx="7772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Exotc350 DmBd BT"/>
              </a:rPr>
              <a:t>Dr. M.E. Faya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80720" y="20916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Process Hierarch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14440" y="1181160"/>
            <a:ext cx="8204040" cy="4851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4T13:48:38Z</dcterms:created>
  <dc:creator>Valued Acer Customer</dc:creator>
  <dc:description/>
  <dc:language>en-US</dc:language>
  <cp:lastModifiedBy>Valued Acer Customer</cp:lastModifiedBy>
  <dcterms:modified xsi:type="dcterms:W3CDTF">1998-03-14T13:48:52Z</dcterms:modified>
  <cp:revision>1</cp:revision>
  <dc:subject/>
  <dc:title>Software Process Hierarchy</dc:title>
</cp:coreProperties>
</file>