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9B3B3D-4751-4841-B687-A2312BBEF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 Documentation Format Consider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 Mc Fl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ow-up a bubble into text descrip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83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928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83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928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60080" y="228240"/>
            <a:ext cx="5334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0080" y="2282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TEGRA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PHICAL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U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UMENT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OMMEN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11880" y="4559400"/>
            <a:ext cx="3038400" cy="128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ics maximize commun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expands det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1187280"/>
            <a:ext cx="7734240" cy="481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8T09:54:08Z</dcterms:created>
  <dc:creator>Valued Acer Customer</dc:creator>
  <dc:description/>
  <dc:language>en-US</dc:language>
  <cp:lastModifiedBy>Valued Acer Customer</cp:lastModifiedBy>
  <dcterms:modified xsi:type="dcterms:W3CDTF">1998-03-08T09:54:38Z</dcterms:modified>
  <cp:revision>1</cp:revision>
  <dc:subject/>
  <dc:title>INTEGRATED GRAPHICAL/ TEXTUAL DOCUMENTATION RECOMMENDED</dc:title>
</cp:coreProperties>
</file>