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A559-E732-45F7-9C45-9686B6B4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Appropriate Process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y (standa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know you’re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detail that sw savy contractor could answer “what’s next” - or - “is this [product] done? (not does it work?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t clear enough to be enfor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E49-A99B-479B-880E-9531C516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28D-EEB5-40A9-A172-9DA0B96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9A7-5BEF-47F0-8BD7-FDC353E2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4CB-2C01-4F5E-A66E-EA5B0FDB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4F0-7D20-4B6F-8D7A-837309DE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33E-585E-4F2D-A4AE-D1A7CA3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194-582D-4BC9-B90E-3518534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B27-090C-408D-AC0C-4D55594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F0F-9764-4791-B749-867D85F5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5D3-E43A-43B8-93F4-C17901C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2C4-290C-4939-B46E-1E36A28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8BF-F762-4F3A-8EB5-E6BDC04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031-3F88-4B8B-8ECA-39EDB422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ing Appropriate Process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4920" y="3009960"/>
            <a:ext cx="4013280" cy="35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up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“who”, “what”, “wh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“how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71560" y="1795320"/>
            <a:ext cx="31622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cos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too much “h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3080" y="4525920"/>
            <a:ext cx="2984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14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only “wha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3400" y="2806560"/>
            <a:ext cx="2579760" cy="1500480"/>
          </a:xfrm>
          <a:custGeom>
            <a:avLst/>
            <a:gdLst/>
            <a:ahLst/>
            <a:rect l="l" t="t" r="r" b="b"/>
            <a:pathLst>
              <a:path w="1625" h="945">
                <a:moveTo>
                  <a:pt x="0" y="0"/>
                </a:moveTo>
                <a:lnTo>
                  <a:pt x="480" y="288"/>
                </a:lnTo>
                <a:lnTo>
                  <a:pt x="1624" y="480"/>
                </a:lnTo>
                <a:lnTo>
                  <a:pt x="464" y="632"/>
                </a:lnTo>
                <a:lnTo>
                  <a:pt x="24" y="9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73160" y="1593720"/>
            <a:ext cx="635040" cy="412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8T23:02:22Z</dcterms:created>
  <dc:creator>Valued Acer Customer</dc:creator>
  <dc:description/>
  <dc:language>en-US</dc:language>
  <cp:lastModifiedBy>Valued Acer Customer</cp:lastModifiedBy>
  <dcterms:modified xsi:type="dcterms:W3CDTF">1998-03-08T23:03:13Z</dcterms:modified>
  <cp:revision>1</cp:revision>
  <dc:subject/>
  <dc:title>Identifying Appropriate Process Detail</dc:title>
</cp:coreProperties>
</file>