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FAA-7C6C-44B8-BBFB-66398F0AD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Appropriate Process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Hierarc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y (standa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you’re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detail that sw savy contractor could answer “what’s next” - or - “is this [product] done? (not does it work?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clear enough to be enfor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870-3B37-45C1-AF64-47403534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A18-E77F-417D-B71B-8065CF4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A21-5BF6-4BBD-8FD9-FF39C9CB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3FE-9AEA-46C6-810F-0BDA0B72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9CC-63E7-44C8-9E04-44489C3F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042-6C2A-421A-9001-0908D7A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7A5-52FF-483B-AEF7-BFAF79FD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157-946B-434D-9A61-687FB8D0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654-FBF6-4065-A8CC-A97327EE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2C9-A8D2-43F7-BFE2-AC564D5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5D4-879C-493A-91F9-741DA75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975-4E87-4045-BB36-52E90AF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EC3F-6D0F-4800-BBF3-7815CE03A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ing Appropriate Process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4920" y="3009960"/>
            <a:ext cx="4013280" cy="35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ffective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up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“who”, “what”, “wh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“how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71560" y="1795320"/>
            <a:ext cx="316224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cos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too much “h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3080" y="4525920"/>
            <a:ext cx="2984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only “wha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3400" y="2806560"/>
            <a:ext cx="2579760" cy="1500480"/>
          </a:xfrm>
          <a:custGeom>
            <a:avLst/>
            <a:gdLst/>
            <a:ahLst/>
            <a:rect l="l" t="t" r="r" b="b"/>
            <a:pathLst>
              <a:path w="1625" h="945">
                <a:moveTo>
                  <a:pt x="0" y="0"/>
                </a:moveTo>
                <a:lnTo>
                  <a:pt x="480" y="288"/>
                </a:lnTo>
                <a:lnTo>
                  <a:pt x="1624" y="480"/>
                </a:lnTo>
                <a:lnTo>
                  <a:pt x="464" y="632"/>
                </a:lnTo>
                <a:lnTo>
                  <a:pt x="24" y="9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73160" y="1593720"/>
            <a:ext cx="635040" cy="412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23:02:22Z</dcterms:created>
  <dc:creator>Valued Acer Customer</dc:creator>
  <dc:description/>
  <dc:language>en-US</dc:language>
  <cp:lastModifiedBy>Valued Acer Customer</cp:lastModifiedBy>
  <dcterms:modified xsi:type="dcterms:W3CDTF">1998-03-08T23:03:13Z</dcterms:modified>
  <cp:revision>1</cp:revision>
  <dc:subject/>
  <dc:title>Identifying Appropriate Process Detail</dc:title>
</cp:coreProperties>
</file>