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460-28F0-4ED3-91EA-4630A5A4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0F8-0EB4-47D3-8349-09A5A84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1F7-550C-4DC4-A5F9-134B868A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CBB-EA77-4C26-8E4A-67A168A7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C46-B383-4CDD-9A69-8EEDFB8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362-D452-45A0-A45D-C53802F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2AB-8558-46AD-B006-3D8ED8B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DB2-2F8D-4726-B25A-199FCDE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CC0-3C2F-4436-BDCA-0160CA4C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512-5B07-4063-8022-10B88BC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F15-BDF5-4FF7-A41F-48037F6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C8D-6DD5-462F-B8F7-D44441B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D02-29CC-4802-A647-4276589D0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62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838080"/>
            <a:ext cx="2514600" cy="266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12952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838080"/>
            <a:ext cx="227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escription -- Process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,e. tools &amp;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562720"/>
            <a:ext cx="236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720" y="518148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ition A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886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562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029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6200" y="129528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6200" y="2286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105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960" y="27957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ipants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0481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escription -- Process 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,e. tools, manual, &amp;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481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1905120"/>
            <a:ext cx="22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 Step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520" y="3049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23:24:48Z</dcterms:created>
  <dc:creator>Valued Acer Customer</dc:creator>
  <dc:description/>
  <dc:language>en-US</dc:language>
  <cp:lastModifiedBy>Valued Acer Customer</cp:lastModifiedBy>
  <dcterms:modified xsi:type="dcterms:W3CDTF">1998-03-14T15:23:12Z</dcterms:modified>
  <cp:revision>5</cp:revision>
  <dc:subject/>
  <dc:title>No Slide Title</dc:title>
</cp:coreProperties>
</file>