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967-38F4-4745-836F-692ABAC0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4AD-6901-4B09-8DF9-25109F98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445-79A0-426B-8796-A0AD0329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B3B-6E55-4E8B-91C4-877CC5CB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F85-6A4C-4FEB-B1C9-1CDEA0C9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1DA-A123-4C3B-862A-B6061B0D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86E-34FE-4A76-81F9-C3D4D985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A75-3ECC-47F1-9912-B968EA8F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CDE-9255-47A1-A042-638AF13A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D6C-772D-48CA-9D5C-75212D0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A53-D0E8-4378-ACDE-6A63270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895-09C6-42BE-A084-40ADF9B5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00A2-CDF8-44FB-A7CC-52011A8B3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7621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838080"/>
            <a:ext cx="2514600" cy="2667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129528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838080"/>
            <a:ext cx="227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description -- Process 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,e. tools &amp;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562720"/>
            <a:ext cx="23623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720" y="518148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ition Ar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886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55627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029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6200" y="129528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6200" y="22860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105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e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495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7960" y="27957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icipants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04812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description -- Process out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,e. tools, manual, &amp;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0481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1905120"/>
            <a:ext cx="22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 Step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2520" y="3049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23:24:48Z</dcterms:created>
  <dc:creator>Valued Acer Customer</dc:creator>
  <dc:description/>
  <dc:language>en-US</dc:language>
  <cp:lastModifiedBy>Valued Acer Customer</cp:lastModifiedBy>
  <dcterms:modified xsi:type="dcterms:W3CDTF">1998-03-14T15:23:12Z</dcterms:modified>
  <cp:revision>5</cp:revision>
  <dc:subject/>
  <dc:title>No Slide Title</dc:title>
</cp:coreProperties>
</file>