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B5C-7F61-4C09-BF6D-6B59028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5BF-DC58-4CF7-A31C-EFA25C1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73-C218-4C2D-AE25-0F72C6E3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751-3631-4EE0-AA68-762313CC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690-4B81-4453-B972-DFAEBD0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B68-2AEA-4433-9A2D-8A55D7B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407-CEC7-462E-BC1B-F6C5583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0CD-D1F9-4FBB-A0D2-2ABEFD4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AB7-DC8A-4EA4-AE58-EDB8B9B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6B9-3358-4249-ACE8-A6C6C37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D74-0FA2-4984-85C3-4688888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3EF-BB6E-4C9C-BAEE-7DBCEE9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7451-46CE-451C-8E3E-7ACAFE1F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685800"/>
            <a:ext cx="2590920" cy="1676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1676160" cy="13716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6002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286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5320" y="137160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2200" y="12207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236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447920"/>
            <a:ext cx="22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led Process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57400" y="3886200"/>
            <a:ext cx="5181480" cy="2362320"/>
            <a:chOff x="2057400" y="3886200"/>
            <a:chExt cx="5181480" cy="2362320"/>
          </a:xfrm>
        </p:grpSpPr>
        <p:sp>
          <p:nvSpPr>
            <p:cNvPr id="50" name=""/>
            <p:cNvSpPr/>
            <p:nvPr/>
          </p:nvSpPr>
          <p:spPr>
            <a:xfrm>
              <a:off x="2057400" y="3886200"/>
              <a:ext cx="5181480" cy="2362320"/>
            </a:xfrm>
            <a:prstGeom prst="parallelogram">
              <a:avLst>
                <a:gd name="adj" fmla="val 5483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5600" y="3962520"/>
              <a:ext cx="31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llelogram shows concurr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352680" y="4419720"/>
              <a:ext cx="990360" cy="1600200"/>
              <a:chOff x="3352680" y="4419720"/>
              <a:chExt cx="990360" cy="1600200"/>
            </a:xfrm>
          </p:grpSpPr>
          <p:sp>
            <p:nvSpPr>
              <p:cNvPr id="53" name=""/>
              <p:cNvSpPr/>
              <p:nvPr/>
            </p:nvSpPr>
            <p:spPr>
              <a:xfrm>
                <a:off x="3352680" y="4419720"/>
                <a:ext cx="990360" cy="160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8640" y="4648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8640" y="5791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08200" y="4876920"/>
                <a:ext cx="645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all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572000" y="4419720"/>
              <a:ext cx="990360" cy="1600200"/>
              <a:chOff x="4572000" y="4419720"/>
              <a:chExt cx="990360" cy="1600200"/>
            </a:xfrm>
          </p:grpSpPr>
          <p:sp>
            <p:nvSpPr>
              <p:cNvPr id="58" name=""/>
              <p:cNvSpPr/>
              <p:nvPr/>
            </p:nvSpPr>
            <p:spPr>
              <a:xfrm>
                <a:off x="4572000" y="4419720"/>
                <a:ext cx="990360" cy="160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47960" y="4648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47960" y="5791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27520" y="4876920"/>
                <a:ext cx="645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all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24:48Z</dcterms:created>
  <dc:creator>Valued Acer Customer</dc:creator>
  <dc:description/>
  <dc:language>en-US</dc:language>
  <cp:lastModifiedBy>Valued Acer Customer</cp:lastModifiedBy>
  <dcterms:modified xsi:type="dcterms:W3CDTF">1998-03-14T18:16:50Z</dcterms:modified>
  <cp:revision>5</cp:revision>
  <dc:subject/>
  <dc:title>No Slide Title</dc:title>
</cp:coreProperties>
</file>