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0AD-DBC5-48C1-A02D-1CB88626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5C6-6002-485C-99C5-05BBB02B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6B9-51D3-4D90-972D-101D3C17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C64-8792-4CDF-AC4D-69742F0B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54B-CA22-44E9-9FA3-F664D1DD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C17-B20D-4041-A2A2-E817F62D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A36-7D12-426F-8472-C2AF0910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199-A273-4073-87CE-7C8F33C7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51C-AEC8-441D-AA8D-329347F2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988-B261-4C64-9677-2D7357CF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33E-467B-44D5-8930-C69798F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B63-4428-4CEA-8AF1-6CE881F4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9A68-27B1-44CB-ABCF-53E00FFC8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2880" y="685800"/>
            <a:ext cx="2590920" cy="16765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14400"/>
            <a:ext cx="1676160" cy="13716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6002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286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95320" y="137160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2200" y="12207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4120" y="23637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1447920"/>
            <a:ext cx="22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led Process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57400" y="3886200"/>
            <a:ext cx="5181480" cy="2362320"/>
            <a:chOff x="2057400" y="3886200"/>
            <a:chExt cx="5181480" cy="2362320"/>
          </a:xfrm>
        </p:grpSpPr>
        <p:sp>
          <p:nvSpPr>
            <p:cNvPr id="50" name=""/>
            <p:cNvSpPr/>
            <p:nvPr/>
          </p:nvSpPr>
          <p:spPr>
            <a:xfrm>
              <a:off x="2057400" y="3886200"/>
              <a:ext cx="5181480" cy="2362320"/>
            </a:xfrm>
            <a:prstGeom prst="parallelogram">
              <a:avLst>
                <a:gd name="adj" fmla="val 5483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5600" y="3962520"/>
              <a:ext cx="31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allelogram shows concurr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3352680" y="4419720"/>
              <a:ext cx="990360" cy="1600200"/>
              <a:chOff x="3352680" y="4419720"/>
              <a:chExt cx="990360" cy="1600200"/>
            </a:xfrm>
          </p:grpSpPr>
          <p:sp>
            <p:nvSpPr>
              <p:cNvPr id="53" name=""/>
              <p:cNvSpPr/>
              <p:nvPr/>
            </p:nvSpPr>
            <p:spPr>
              <a:xfrm>
                <a:off x="3352680" y="4419720"/>
                <a:ext cx="990360" cy="160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28640" y="464832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8640" y="579132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508200" y="4876920"/>
                <a:ext cx="645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all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e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572000" y="4419720"/>
              <a:ext cx="990360" cy="1600200"/>
              <a:chOff x="4572000" y="4419720"/>
              <a:chExt cx="990360" cy="1600200"/>
            </a:xfrm>
          </p:grpSpPr>
          <p:sp>
            <p:nvSpPr>
              <p:cNvPr id="58" name=""/>
              <p:cNvSpPr/>
              <p:nvPr/>
            </p:nvSpPr>
            <p:spPr>
              <a:xfrm>
                <a:off x="4572000" y="4419720"/>
                <a:ext cx="990360" cy="160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47960" y="464832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47960" y="579132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27520" y="4876920"/>
                <a:ext cx="645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all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e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23:24:48Z</dcterms:created>
  <dc:creator>Valued Acer Customer</dc:creator>
  <dc:description/>
  <dc:language>en-US</dc:language>
  <cp:lastModifiedBy>Valued Acer Customer</cp:lastModifiedBy>
  <dcterms:modified xsi:type="dcterms:W3CDTF">1998-03-14T18:16:50Z</dcterms:modified>
  <cp:revision>5</cp:revision>
  <dc:subject/>
  <dc:title>No Slide Title</dc:title>
</cp:coreProperties>
</file>