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83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928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83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928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200040" y="228240"/>
            <a:ext cx="5334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55880" y="30456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ORPOR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O 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NCIP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TWA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CESS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317760" y="5288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98640" y="1017720"/>
            <a:ext cx="741996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corporation of Object-Oriented Principles into Formal Software Processes Helps Fulfill the Goals of Software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65160" y="1962000"/>
            <a:ext cx="7290000" cy="2527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48920" y="4525920"/>
            <a:ext cx="1807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inci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84520" y="4695840"/>
            <a:ext cx="819360" cy="159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54160" y="5211720"/>
            <a:ext cx="2509920" cy="839880"/>
          </a:xfrm>
          <a:custGeom>
            <a:avLst/>
            <a:gdLst/>
            <a:ahLst/>
            <a:rect l="l" t="t" r="r" b="b"/>
            <a:pathLst>
              <a:path w="1581" h="529">
                <a:moveTo>
                  <a:pt x="1580" y="528"/>
                </a:moveTo>
                <a:lnTo>
                  <a:pt x="0" y="528"/>
                </a:lnTo>
                <a:lnTo>
                  <a:pt x="0" y="220"/>
                </a:lnTo>
                <a:lnTo>
                  <a:pt x="893" y="220"/>
                </a:lnTo>
                <a:lnTo>
                  <a:pt x="1307" y="0"/>
                </a:lnTo>
                <a:lnTo>
                  <a:pt x="1100" y="220"/>
                </a:lnTo>
                <a:lnTo>
                  <a:pt x="1580" y="220"/>
                </a:lnTo>
                <a:lnTo>
                  <a:pt x="1580" y="52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8600" y="5546880"/>
            <a:ext cx="252432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Monotype Corsiva"/>
              </a:rPr>
              <a:t>These principles are not unique to OO.  OO differs by providing formal mechanisms to address these princi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10:05:36Z</dcterms:created>
  <dc:creator>Valued Acer Customer</dc:creator>
  <dc:description/>
  <dc:language>en-US</dc:language>
  <cp:lastModifiedBy>Valued Acer Customer</cp:lastModifiedBy>
  <dcterms:modified xsi:type="dcterms:W3CDTF">1998-03-14T14:30:30Z</dcterms:modified>
  <cp:revision>1</cp:revision>
  <dc:subject/>
  <dc:title>INCORPORATE OO PRINCIPLES INTO SOFTWARE PROCESSES</dc:title>
</cp:coreProperties>
</file>