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DB4E-524F-4548-BDDC-2D8269F02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CA4D-1F6F-4C18-BCC7-D5422FE80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FDFF-7CC8-48A0-B5EE-86E694419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AE7F-4CD4-480D-B327-CE4274DA8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910C-670D-4D06-9654-713A85EB0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C241-0418-42FF-88F0-B0870BFF6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56F6-B09F-4B8C-972E-8D243C2B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5B5A-FBDF-4FAB-BED6-014419770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CEA3-C4EF-4897-81F0-C94AF0CAA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0775-BCBD-4E96-8A4D-26558353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8DD5-1C22-4F91-BBF7-95FCFDCA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5376-289C-4C90-9EEB-68F6F1C9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4DD2A-446C-4CFF-8A30-C11AE571ED00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ioenergetic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ood Cha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6588000" y="6922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BCH 341 lecture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10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itrogen essential to make protei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10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ir is about 79% nitrogen g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10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very inert which mean that they will not react with other substan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10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, the animals and plants cannot use it at a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10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must be changed into a more reactive form such as N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r 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-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itrogen fix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</a:t>
            </a:r>
            <a:r>
              <a:rPr b="0" lang="ar-SA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itrogen Cyc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6588000" y="404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BCH 341 lecture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hghdq 002"/>
          <p:cNvPicPr/>
          <p:nvPr/>
        </p:nvPicPr>
        <p:blipFill>
          <a:blip r:embed="rId1"/>
          <a:stretch/>
        </p:blipFill>
        <p:spPr>
          <a:xfrm>
            <a:off x="1042920" y="1206360"/>
            <a:ext cx="7488360" cy="53532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6588000" y="2602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BCH 341 lecture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611280" y="404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tinue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itrogen fix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10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itrifying bac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10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itrifying bac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10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cause of the nitrogen cycle, the percentage of nitrogen remains constant in the ai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6588000" y="404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BCH 341 lecture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43588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700"/>
            </a:br>
            <a:r>
              <a:rPr b="1" lang="en-US" sz="37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icro-organisms involved in Nitrogen Cycle</a:t>
            </a:r>
            <a:br>
              <a:rPr sz="3700"/>
            </a:b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4" descr="nitrogen cycle with involved microorganism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6912000" y="2602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BCH 341 lecture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ood and energy in an eco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8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0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living organisms need energ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0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the energy comes from the su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0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of the energy in sunlight captured by plants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ototrophi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0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 food chain start with green pla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0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od chains are usually shor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0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s feeds at different trophic leve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0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omposers release minerals from dead organis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6588000" y="404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BCH 341 lecture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ood Cha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48686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xygen, Carbon dioxide, nitrogen and water are cycling continuously between the animal and plant worl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2"/>
          <a:stretch/>
        </p:blipFill>
        <p:spPr>
          <a:xfrm>
            <a:off x="1116000" y="1125360"/>
            <a:ext cx="6912000" cy="37436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6"/>
          <p:cNvSpPr/>
          <p:nvPr/>
        </p:nvSpPr>
        <p:spPr>
          <a:xfrm>
            <a:off x="6659640" y="333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BCH 341 lecture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26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ood Webs</a:t>
            </a:r>
            <a:br>
              <a:rPr sz="32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6659640" y="333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BCH 341 lecture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9" descr="http://www.sciencebob.com/images/food_web.jpg"/>
          <p:cNvPicPr/>
          <p:nvPr/>
        </p:nvPicPr>
        <p:blipFill>
          <a:blip r:embed="rId1"/>
          <a:stretch/>
        </p:blipFill>
        <p:spPr>
          <a:xfrm>
            <a:off x="2124000" y="1341360"/>
            <a:ext cx="532764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xygen, Carbon dioxide and Nitrogen cycl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food chain thus return simple forms of carbon  to the soil and atmosphe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xygen, Carbon dioxide, nitrogen and water are cycling continuously between the animal and plant worl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6588000" y="404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BCH 341 lecture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xygen Cyc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most all living things need oxygen.  They use this oxygen during the process of creating energy in living cel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st as water moves from the sky to the earth and back in the hydrologic cycle, oxygen is also cycled through the environment. 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nts mark the beginning of the oxygen cycle. 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588000" y="404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BCH 341 lecture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nts are able to use the energy of sunlight to convert carbon dioxide and water into carbohydrates and oxygen in a process called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hotosynthes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 6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6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6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means that plants "breathe" in carbon dioxide and "breathe" out oxygen.      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" name="Group 4"/>
          <p:cNvGrpSpPr/>
          <p:nvPr/>
        </p:nvGrpSpPr>
        <p:grpSpPr>
          <a:xfrm>
            <a:off x="3276720" y="2349360"/>
            <a:ext cx="3047400" cy="1967040"/>
            <a:chOff x="3276720" y="2349360"/>
            <a:chExt cx="3047400" cy="1967040"/>
          </a:xfrm>
        </p:grpSpPr>
        <p:sp>
          <p:nvSpPr>
            <p:cNvPr id="101" name="Oval 5"/>
            <p:cNvSpPr/>
            <p:nvPr/>
          </p:nvSpPr>
          <p:spPr>
            <a:xfrm>
              <a:off x="4335120" y="2349360"/>
              <a:ext cx="924480" cy="838440"/>
            </a:xfrm>
            <a:prstGeom prst="ellipse">
              <a:avLst/>
            </a:prstGeom>
            <a:solidFill>
              <a:srgbClr val="fe9b0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Rectangle 6"/>
            <p:cNvSpPr/>
            <p:nvPr/>
          </p:nvSpPr>
          <p:spPr>
            <a:xfrm>
              <a:off x="4486320" y="2599560"/>
              <a:ext cx="78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U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7"/>
            <p:cNvSpPr/>
            <p:nvPr/>
          </p:nvSpPr>
          <p:spPr>
            <a:xfrm>
              <a:off x="3276720" y="2917440"/>
              <a:ext cx="934920" cy="623160"/>
            </a:xfrm>
            <a:prstGeom prst="pie">
              <a:avLst/>
            </a:prstGeom>
            <a:noFill/>
            <a:ln cap="rnd" w="50760">
              <a:solidFill>
                <a:srgbClr val="fe9b0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Rectangle 8"/>
            <p:cNvSpPr/>
            <p:nvPr/>
          </p:nvSpPr>
          <p:spPr>
            <a:xfrm>
              <a:off x="5307480" y="2440800"/>
              <a:ext cx="10166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ligh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energ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Rectangle 9"/>
            <p:cNvSpPr/>
            <p:nvPr/>
          </p:nvSpPr>
          <p:spPr>
            <a:xfrm>
              <a:off x="3494880" y="3922560"/>
              <a:ext cx="1282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6d1ec"/>
                  </a:solidFill>
                  <a:latin typeface="Times New Roman"/>
                  <a:ea typeface="Times New Roman"/>
                </a:rPr>
                <a:t>(</a:t>
              </a:r>
              <a:r>
                <a:rPr b="0" lang="en-US" sz="2000" spc="-1" strike="noStrike">
                  <a:solidFill>
                    <a:srgbClr val="86d1ec"/>
                  </a:solidFill>
                  <a:latin typeface="Times New Roman"/>
                  <a:ea typeface="Times New Roman"/>
                </a:rPr>
                <a:t>glucose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" name="Text Box 10"/>
          <p:cNvSpPr/>
          <p:nvPr/>
        </p:nvSpPr>
        <p:spPr>
          <a:xfrm>
            <a:off x="6588000" y="2602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BCH 341 lecture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28760" y="8571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 algn="r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imals form the other half of the oxygen cycle.  We breathe in oxygen which we use to break carbohydrates down into energy in a process called respiration (Previously demonstrated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380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380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380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6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 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6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+  6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 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rbon dioxide produced during respiration is breathed out by animals into the air.  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6588000" y="2602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BCH 341 lecture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" name="Group 4"/>
          <p:cNvGrpSpPr/>
          <p:nvPr/>
        </p:nvGrpSpPr>
        <p:grpSpPr>
          <a:xfrm>
            <a:off x="324000" y="2997360"/>
            <a:ext cx="7885440" cy="1749600"/>
            <a:chOff x="324000" y="2997360"/>
            <a:chExt cx="7885440" cy="1749600"/>
          </a:xfrm>
        </p:grpSpPr>
        <p:sp>
          <p:nvSpPr>
            <p:cNvPr id="110" name="Oval 5"/>
            <p:cNvSpPr/>
            <p:nvPr/>
          </p:nvSpPr>
          <p:spPr>
            <a:xfrm>
              <a:off x="7029360" y="3530520"/>
              <a:ext cx="1129680" cy="977400"/>
            </a:xfrm>
            <a:prstGeom prst="ellipse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ATP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Rectangle 6"/>
            <p:cNvSpPr/>
            <p:nvPr/>
          </p:nvSpPr>
          <p:spPr>
            <a:xfrm>
              <a:off x="324000" y="4292280"/>
              <a:ext cx="1612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      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glucos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Rectangle 7"/>
            <p:cNvSpPr/>
            <p:nvPr/>
          </p:nvSpPr>
          <p:spPr>
            <a:xfrm>
              <a:off x="7029720" y="2997360"/>
              <a:ext cx="1179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energy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rbon Cyc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10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sential part of CHO,          Fat &amp; protei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10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r contain ab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03% CO</a:t>
            </a:r>
            <a:r>
              <a:rPr b="0" lang="en-US" sz="2800" spc="-1" strike="noStrike" baseline="-18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صورة 2" descr=""/>
          <p:cNvPicPr/>
          <p:nvPr/>
        </p:nvPicPr>
        <p:blipFill>
          <a:blip r:embed="rId1"/>
          <a:stretch/>
        </p:blipFill>
        <p:spPr>
          <a:xfrm>
            <a:off x="4427640" y="1700280"/>
            <a:ext cx="4716360" cy="4546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7"/>
          <p:cNvSpPr/>
          <p:nvPr/>
        </p:nvSpPr>
        <p:spPr>
          <a:xfrm>
            <a:off x="6912000" y="2602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BCH 341 lecture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12:00:17Z</dcterms:created>
  <dc:creator>Yano</dc:creator>
  <dc:description/>
  <dc:language>en-US</dc:language>
  <cp:lastModifiedBy>aaldawoud</cp:lastModifiedBy>
  <dcterms:modified xsi:type="dcterms:W3CDTF">2011-03-26T07:09:09Z</dcterms:modified>
  <cp:revision>16</cp:revision>
  <dc:subject/>
  <dc:title>Food Chain</dc:title>
</cp:coreProperties>
</file>