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0CAC-3F4A-4F77-B2D7-8982CB68B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BE33-039A-42E9-BE1D-8B404FFF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FB05-2C34-45B3-9D2E-B96BF4479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1EA9-CADF-44A3-B775-C47B4A3C8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5296-0E10-4C13-A6AC-EF30B26B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016C-7DB3-48EA-8103-74C1D340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6C74-AAC9-44C4-8111-3FA387D7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91FD-F892-4E6A-BFB5-F5ABD51D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458C-660A-483D-99F3-C3B89E2B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7FAE-0DE0-4871-9C28-78953B98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E095-C6E2-4D87-9D66-06EAE053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9653-727A-48F0-A4EA-AB586B67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956A-05C6-45B9-A103-CF3C8721C5E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ioenerget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od Cha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6588000" y="692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BCH 341 lecture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trogen essential to make protei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ir is about 79% nitrogen g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very inert which mean that they will not react with other substa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, the animals and plants cannot use it at 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must be changed into a more reactive form such as 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 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itrogen fix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r>
              <a:rPr b="0" lang="ar-SA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itrogen 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6588000" y="404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BCH 341 lecture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hghdq 002"/>
          <p:cNvPicPr/>
          <p:nvPr/>
        </p:nvPicPr>
        <p:blipFill>
          <a:blip r:embed="rId1"/>
          <a:stretch/>
        </p:blipFill>
        <p:spPr>
          <a:xfrm>
            <a:off x="1042920" y="1206360"/>
            <a:ext cx="7488360" cy="53532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6588000" y="260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BCH 341 lecture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611280" y="404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inue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itrogen fix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trifying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itrifying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cause of the nitrogen cycle, the percentage of nitrogen remains constant in the a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588000" y="404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BCH 341 lecture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43588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1" lang="en-US" sz="37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cro-organisms involved in Nitrogen Cycle</a:t>
            </a:r>
            <a:br>
              <a:rPr sz="3700"/>
            </a:b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nitrogen cycle with involved microorganism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6912000" y="260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BCH 341 lecture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od and energy in an eco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living organisms need ener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e energy comes from the su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of the energy in sunlight captured by plants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ototroph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 food chain start with green pla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od chains are usually sho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s feeds at different trophic lev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omposers release minerals from dead organis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6588000" y="404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BCH 341 lecture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od Cha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48686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xygen, Carbon dioxide, nitrogen and water are cycling continuously between the animal and plant worl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1116000" y="1125360"/>
            <a:ext cx="6912000" cy="3743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6659640" y="333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BCH 341 lecture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2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od Webs</a:t>
            </a:r>
            <a:br>
              <a:rPr sz="32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6659640" y="333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BCH 341 lecture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9" descr="http://www.sciencebob.com/images/food_web.jpg"/>
          <p:cNvPicPr/>
          <p:nvPr/>
        </p:nvPicPr>
        <p:blipFill>
          <a:blip r:embed="rId1"/>
          <a:stretch/>
        </p:blipFill>
        <p:spPr>
          <a:xfrm>
            <a:off x="2124000" y="1341360"/>
            <a:ext cx="532764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xygen, Carbon dioxide and Nitrogen cycl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ood chain thus return simple forms of carbon  to the soil and atmosphe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xygen, Carbon dioxide, nitrogen and water are cycling continuously between the animal and plant worl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6588000" y="404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BCH 341 lecture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xygen Cyc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most all living things need oxygen.  They use this oxygen during the process of creating energy in living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 as water moves from the sky to the earth and back in the hydrologic cycle, oxygen is also cycled through the environment.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ts mark the beginning of the oxygen cycle. 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588000" y="404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BCH 341 lecture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ts are able to use the energy of sunlight to convert carbon dioxide and water into carbohydrates and oxygen in a process called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otosynthes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 6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6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6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means that plants "breathe" in carbon dioxide and "breathe" out oxygen.   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Group 4"/>
          <p:cNvGrpSpPr/>
          <p:nvPr/>
        </p:nvGrpSpPr>
        <p:grpSpPr>
          <a:xfrm>
            <a:off x="3276720" y="2349360"/>
            <a:ext cx="3047400" cy="1967040"/>
            <a:chOff x="3276720" y="2349360"/>
            <a:chExt cx="3047400" cy="1967040"/>
          </a:xfrm>
        </p:grpSpPr>
        <p:sp>
          <p:nvSpPr>
            <p:cNvPr id="101" name="Oval 5"/>
            <p:cNvSpPr/>
            <p:nvPr/>
          </p:nvSpPr>
          <p:spPr>
            <a:xfrm>
              <a:off x="4335120" y="2349360"/>
              <a:ext cx="924480" cy="838440"/>
            </a:xfrm>
            <a:prstGeom prst="ellipse">
              <a:avLst/>
            </a:prstGeom>
            <a:solidFill>
              <a:srgbClr val="fe9b0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Rectangle 6"/>
            <p:cNvSpPr/>
            <p:nvPr/>
          </p:nvSpPr>
          <p:spPr>
            <a:xfrm>
              <a:off x="4486320" y="259956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U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3276720" y="2917440"/>
              <a:ext cx="934920" cy="623160"/>
            </a:xfrm>
            <a:prstGeom prst="pie">
              <a:avLst/>
            </a:prstGeom>
            <a:noFill/>
            <a:ln cap="rnd" w="50760">
              <a:solidFill>
                <a:srgbClr val="fe9b0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5307480" y="2440800"/>
              <a:ext cx="10166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ligh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energ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3494880" y="3922560"/>
              <a:ext cx="1282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6d1ec"/>
                  </a:solidFill>
                  <a:latin typeface="Times New Roman"/>
                  <a:ea typeface="Times New Roman"/>
                </a:rPr>
                <a:t>(</a:t>
              </a:r>
              <a:r>
                <a:rPr b="0" lang="en-US" sz="2000" spc="-1" strike="noStrike">
                  <a:solidFill>
                    <a:srgbClr val="86d1ec"/>
                  </a:solidFill>
                  <a:latin typeface="Times New Roman"/>
                  <a:ea typeface="Times New Roman"/>
                </a:rPr>
                <a:t>glucose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Text Box 10"/>
          <p:cNvSpPr/>
          <p:nvPr/>
        </p:nvSpPr>
        <p:spPr>
          <a:xfrm>
            <a:off x="6588000" y="260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BCH 341 lecture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28760" y="8571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r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imals form the other half of the oxygen cycle.  We breathe in oxygen which we use to break carbohydrates down into energy in a process called respiration (Previously demonstrated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6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6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+  6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 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bon dioxide produced during respiration is breathed out by animals into the air.  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6588000" y="260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BCH 341 lecture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Group 4"/>
          <p:cNvGrpSpPr/>
          <p:nvPr/>
        </p:nvGrpSpPr>
        <p:grpSpPr>
          <a:xfrm>
            <a:off x="324000" y="2997360"/>
            <a:ext cx="7885440" cy="1749600"/>
            <a:chOff x="324000" y="2997360"/>
            <a:chExt cx="7885440" cy="1749600"/>
          </a:xfrm>
        </p:grpSpPr>
        <p:sp>
          <p:nvSpPr>
            <p:cNvPr id="110" name="Oval 5"/>
            <p:cNvSpPr/>
            <p:nvPr/>
          </p:nvSpPr>
          <p:spPr>
            <a:xfrm>
              <a:off x="7029360" y="3530520"/>
              <a:ext cx="1129680" cy="97740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AT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6"/>
            <p:cNvSpPr/>
            <p:nvPr/>
          </p:nvSpPr>
          <p:spPr>
            <a:xfrm>
              <a:off x="324000" y="4292280"/>
              <a:ext cx="1612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     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uco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7"/>
            <p:cNvSpPr/>
            <p:nvPr/>
          </p:nvSpPr>
          <p:spPr>
            <a:xfrm>
              <a:off x="7029720" y="2997360"/>
              <a:ext cx="1179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energ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rbon 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sential part of CHO,          Fat &amp; protei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r contain ab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03% CO</a:t>
            </a:r>
            <a:r>
              <a:rPr b="0" lang="en-US" sz="2800" spc="-1" strike="noStrike" baseline="-18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صورة 2" descr=""/>
          <p:cNvPicPr/>
          <p:nvPr/>
        </p:nvPicPr>
        <p:blipFill>
          <a:blip r:embed="rId1"/>
          <a:stretch/>
        </p:blipFill>
        <p:spPr>
          <a:xfrm>
            <a:off x="4427640" y="1700280"/>
            <a:ext cx="4716360" cy="4546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6912000" y="260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BCH 341 lecture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12:00:17Z</dcterms:created>
  <dc:creator>Yano</dc:creator>
  <dc:description/>
  <dc:language>en-US</dc:language>
  <cp:lastModifiedBy>aaldawoud</cp:lastModifiedBy>
  <dcterms:modified xsi:type="dcterms:W3CDTF">2011-03-26T07:09:09Z</dcterms:modified>
  <cp:revision>16</cp:revision>
  <dc:subject/>
  <dc:title>Food Chain</dc:title>
</cp:coreProperties>
</file>