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ECB-0DA2-41BD-8017-9AFD1104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358-F05F-414A-9F85-A674D422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8B3-3BC6-4234-A177-8793C028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746-7DBA-485A-BA11-50794188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8CC3-1DA3-4DB5-9462-ED7E456C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F152-C055-4BC1-A786-268A5DDE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F08D-63E2-42CD-8AFF-022BDFE6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0CF2-9D9B-4A95-9847-8955ED7C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474C-B5BB-4F50-AB83-25308422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B421-78F6-4412-B453-1FEB05B6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285F-89EF-42B5-AAF0-99679FE7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109-CD76-4D03-8D59-0A5CA21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B7AD-B96D-48B1-A28B-729417C6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D6D7-0599-46CC-B4E3-638B9FAF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4955-CA90-402B-9486-E004D5F0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FAB3-C568-445D-8038-92EA2C4F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FB01-EC0B-4FAF-865F-9A0B2F4B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2BF-6D42-476F-8B2B-91C5851D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02D-5BBB-410F-B683-83832905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514-F79F-44A2-A3BE-A9DED9E3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FB9-9D5B-4B7C-86DA-4E8991C8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FC2-D4D6-48C9-89F2-847E916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024-15AC-4B20-B45C-5712D45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3FF-1494-4C7E-A950-27A7F1F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CA10-D365-4322-ACEA-C00FB8C03A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1220-5385-4A5F-8FFA-207D94ACB2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ion of the Sola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426708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 Plot of Abun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1028" descr=""/>
          <p:cNvPicPr/>
          <p:nvPr/>
        </p:nvPicPr>
        <p:blipFill>
          <a:blip r:embed="rId1"/>
          <a:stretch/>
        </p:blipFill>
        <p:spPr>
          <a:xfrm>
            <a:off x="76212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Log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09480" y="1389240"/>
            <a:ext cx="79981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Linear View of Abun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Linear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76212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active dating of solar system r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 ~ 4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n ~4.5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orites ~4.6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rbital and rotation planes confined to ecliptic plane with counterclockwise mo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ve satellite and rings around Jovi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s have more of the heavier elements than the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etary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463680" y="1892160"/>
          <a:ext cx="8159760" cy="40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92160"/>
                    <a:ext cx="815976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Planet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restrial planets are closer t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vian planets furthest from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nclu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s formed at same time as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ary and satellite/ring systems are similar to remnants of dusty disks such as that seen about stars being born (e.g. T Tauri sta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 composition dependent upon where it formed in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(protoplanet)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remnant heat from collapse retained nea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sun ignites, remaining dust reaches an equilibrium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densities of the planets are explained by condensation temper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bular dust temperature increases to center of neb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Phy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absorbed per unit area from sun = energy emitted as thermal radi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Flux = Lum (Sun) / 4 x distanc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x emitted = constant x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Stefan-Boltzmann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ding from above y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 = constant / distanc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ahoma"/>
              </a:rPr>
              <a:t>0.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on of the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iew of the big bang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stellar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bular condensation 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the impe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undance of the chemical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near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ogarithmic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Chemis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617400" y="1895400"/>
          <a:ext cx="774864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895400"/>
                    <a:ext cx="774864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d Particles collide, stick together, sink toward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restrials -&gt; ro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vians -&gt; rocky core + ices + light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lest, most massive collect H and 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collisions -&gt; heating and differentiating of inter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nants flushed by solar w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tion of atmosphe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 Talked Ab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eview of the Big Bang the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use to look at observa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hemical Abundance of Elem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use to realize how it came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ation of the Solar Syst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bular Condensation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to Consi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solar system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observational underpinning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re other solar systems? (to be discussed at end of seme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vidence is there for other solar system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AT THE BEGINNING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g Bang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1" name="Object 0"/>
          <p:cNvGraphicFramePr/>
          <p:nvPr/>
        </p:nvGraphicFramePr>
        <p:xfrm>
          <a:off x="457200" y="1851120"/>
          <a:ext cx="8199360" cy="50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51120"/>
                    <a:ext cx="819936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Pictorial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3" descr="collapse1"/>
          <p:cNvPicPr/>
          <p:nvPr/>
        </p:nvPicPr>
        <p:blipFill>
          <a:blip r:embed="rId1"/>
          <a:stretch/>
        </p:blipFill>
        <p:spPr>
          <a:xfrm>
            <a:off x="0" y="15238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ollapse2"/>
          <p:cNvPicPr/>
          <p:nvPr/>
        </p:nvPicPr>
        <p:blipFill>
          <a:blip r:embed="rId2"/>
          <a:stretch/>
        </p:blipFill>
        <p:spPr>
          <a:xfrm>
            <a:off x="4038480" y="2819520"/>
            <a:ext cx="51055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ctorial View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3" descr="collapse3"/>
          <p:cNvPicPr/>
          <p:nvPr/>
        </p:nvPicPr>
        <p:blipFill>
          <a:blip r:embed="rId1"/>
          <a:stretch/>
        </p:blipFill>
        <p:spPr>
          <a:xfrm>
            <a:off x="0" y="1600200"/>
            <a:ext cx="523872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ollapse4"/>
          <p:cNvPicPr/>
          <p:nvPr/>
        </p:nvPicPr>
        <p:blipFill>
          <a:blip r:embed="rId2"/>
          <a:stretch/>
        </p:blipFill>
        <p:spPr>
          <a:xfrm>
            <a:off x="3200400" y="3616200"/>
            <a:ext cx="5943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ST Pictorial Eviden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3" descr="orionsys_hst"/>
          <p:cNvPicPr/>
          <p:nvPr/>
        </p:nvPicPr>
        <p:blipFill>
          <a:blip r:embed="rId1"/>
          <a:stretch/>
        </p:blipFill>
        <p:spPr>
          <a:xfrm>
            <a:off x="1295280" y="1600200"/>
            <a:ext cx="64962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ST Pictorial Eviden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3" descr="M16Full-50crop"/>
          <p:cNvPicPr/>
          <p:nvPr/>
        </p:nvPicPr>
        <p:blipFill>
          <a:blip r:embed="rId1"/>
          <a:stretch/>
        </p:blipFill>
        <p:spPr>
          <a:xfrm>
            <a:off x="304920" y="2895480"/>
            <a:ext cx="2286000" cy="224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M16WF2-blowup"/>
          <p:cNvPicPr/>
          <p:nvPr/>
        </p:nvPicPr>
        <p:blipFill>
          <a:blip r:embed="rId2"/>
          <a:stretch/>
        </p:blipFill>
        <p:spPr>
          <a:xfrm>
            <a:off x="4038480" y="1981080"/>
            <a:ext cx="4648320" cy="419436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 flipV="1">
            <a:off x="762120" y="198072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838080" y="3429000"/>
            <a:ext cx="320040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undance of the Chemical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57440"/>
            <a:ext cx="81536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start of the Stellar 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was about 75-90% hydrogen, 10-25% helium and 1-2% deuter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W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undance of the elements is often plotted on a logarithmic s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allows for the different elements to actually appear on the same scale as hydrogen and hel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does show relative differences among higher atomic weight elements better than linear sc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undance of elements on a linear scale is very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0:03:58Z</dcterms:created>
  <dc:creator>Harold Geller</dc:creator>
  <dc:description/>
  <dc:language>en-US</dc:language>
  <cp:lastModifiedBy>ksu</cp:lastModifiedBy>
  <cp:lastPrinted>2001-07-23T16:06:28Z</cp:lastPrinted>
  <dcterms:modified xsi:type="dcterms:W3CDTF">2011-11-01T11:02:55Z</dcterms:modified>
  <cp:revision>66</cp:revision>
  <dc:subject/>
  <dc:title>When a picture is worth a hundred million bits</dc:title>
</cp:coreProperties>
</file>