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.png" ContentType="image/png"/>
  <Override PartName="/ppt/media/image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560-3DB1-40FC-B786-20729B5A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C8E-7F79-4351-906D-55DB6C7B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2DA-0D3D-41D1-884C-162B4070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764-BF19-4012-BA7C-B0BA4EC4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B87C-B9BF-4A7B-954B-514582BE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B7E2-A01F-49B9-BCCF-7D99A3A5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696F-49CD-4ACA-900A-614D4498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8FB1-45E4-4BC8-A54F-2711017F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99BC-317A-48C9-A3E3-6676D2B4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B9B9-A269-465F-AFBC-A8D352A7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967A-FAB7-4797-8CEB-CE880566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B34-561F-45E5-A46A-5705AB7A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C44C-834F-4D65-A315-A6DF0E84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7288-18C8-4E7B-B90F-40A9F870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2C33-6D22-4F9D-AB9F-AA9A33BB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B4FC-25E2-40AE-997A-1BEF53F8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60F2-B9BC-4B17-9C6D-2C305409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4BA-0338-475D-9B09-97532D5F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3F3-4150-4A56-87F3-76BD5CEF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6D9-BCB8-46C7-83E3-C2FAC122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82B-0BEF-44B8-BCD9-C8AF9E04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2EF-15E5-4175-A726-6F7C63F5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CC4-6660-4363-8144-CF8BFA43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62F-9638-45F7-8290-A2D8AEBE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0205-F7E9-4CDD-94FF-0E2C28A343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9D21-272E-42DB-AFC6-35448EFD10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mation of the Solar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426708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g Plot of Abun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1028" descr=""/>
          <p:cNvPicPr/>
          <p:nvPr/>
        </p:nvPicPr>
        <p:blipFill>
          <a:blip r:embed="rId1"/>
          <a:stretch/>
        </p:blipFill>
        <p:spPr>
          <a:xfrm>
            <a:off x="762120" y="1546200"/>
            <a:ext cx="77691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other Log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09480" y="1389240"/>
            <a:ext cx="799812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Linear View of Abun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other Linear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762120" y="1546200"/>
            <a:ext cx="77691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Observ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active dating of solar system r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th ~ 4 billion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on ~4.5 billion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orites ~4.6 billion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rbital and rotation planes confined to ecliptic plane with counterclockwise mo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ve satellite and rings around Jovi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ts have more of the heavier elements than the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etary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463680" y="1892160"/>
          <a:ext cx="8159760" cy="40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92160"/>
                    <a:ext cx="815976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Planet Observ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restrial planets are closer t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vian planets furthest from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nclu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ets formed at same time as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etary and satellite/ring systems are similar to remnants of dusty disks such as that seen about stars being born (e.g. T Tauri sta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et composition dependent upon where it formed in solar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bular Condensation (protoplanet)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remnant heat from collapse retained near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sun ignites, remaining dust reaches an equilibrium 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densities of the planets are explained by condensation temper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bular dust temperature increases to center of nebu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bular Condensation Phys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absorbed per unit area from sun = energy emitted as thermal radi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ar Flux = Lum (Sun) / 4 x distanc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x emitted = constant x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Stefan-Boltzmann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ding from above y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 = constant / distanc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ahoma"/>
              </a:rPr>
              <a:t>0.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ar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on of the Solar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iew of the big bang the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stellar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bular condensation the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the impe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undance of the chemical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inear 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ogarithmic 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bular Condensation Chemist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617400" y="1895400"/>
          <a:ext cx="7748640" cy="416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895400"/>
                    <a:ext cx="774864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bular Condensation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id Particles collide, stick together, sink toward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restrials -&gt; ro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vians -&gt; rocky core + ices + light g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lest, most massive collect H and 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collisions -&gt; heating and differentiating of inter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nants flushed by solar wi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olution of atmosphe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 Talked Abo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eview of the Big Bang the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use to look at observa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hemical Abundance of Eleme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use to realize how it came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mation of the Solar Syst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bular Condensation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to Consid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solar system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observational underpinning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there other solar systems? (to be discussed at end of semes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vidence is there for other solar system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 AT THE BEGINNING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g Bang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1" name="Object 0"/>
          <p:cNvGraphicFramePr/>
          <p:nvPr/>
        </p:nvGraphicFramePr>
        <p:xfrm>
          <a:off x="457200" y="1851120"/>
          <a:ext cx="8199360" cy="500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51120"/>
                    <a:ext cx="819936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Pictorial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3" descr="collapse1"/>
          <p:cNvPicPr/>
          <p:nvPr/>
        </p:nvPicPr>
        <p:blipFill>
          <a:blip r:embed="rId1"/>
          <a:stretch/>
        </p:blipFill>
        <p:spPr>
          <a:xfrm>
            <a:off x="0" y="15238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ollapse2"/>
          <p:cNvPicPr/>
          <p:nvPr/>
        </p:nvPicPr>
        <p:blipFill>
          <a:blip r:embed="rId2"/>
          <a:stretch/>
        </p:blipFill>
        <p:spPr>
          <a:xfrm>
            <a:off x="4038480" y="2819520"/>
            <a:ext cx="51055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ictorial View Continu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3" descr="collapse3"/>
          <p:cNvPicPr/>
          <p:nvPr/>
        </p:nvPicPr>
        <p:blipFill>
          <a:blip r:embed="rId1"/>
          <a:stretch/>
        </p:blipFill>
        <p:spPr>
          <a:xfrm>
            <a:off x="0" y="1600200"/>
            <a:ext cx="5238720" cy="238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ollapse4"/>
          <p:cNvPicPr/>
          <p:nvPr/>
        </p:nvPicPr>
        <p:blipFill>
          <a:blip r:embed="rId2"/>
          <a:stretch/>
        </p:blipFill>
        <p:spPr>
          <a:xfrm>
            <a:off x="3200400" y="3616200"/>
            <a:ext cx="5943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ST Pictorial Evidenc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3" descr="orionsys_hst"/>
          <p:cNvPicPr/>
          <p:nvPr/>
        </p:nvPicPr>
        <p:blipFill>
          <a:blip r:embed="rId1"/>
          <a:stretch/>
        </p:blipFill>
        <p:spPr>
          <a:xfrm>
            <a:off x="1295280" y="1600200"/>
            <a:ext cx="64962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ST Pictorial Evidenc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3" descr="M16Full-50crop"/>
          <p:cNvPicPr/>
          <p:nvPr/>
        </p:nvPicPr>
        <p:blipFill>
          <a:blip r:embed="rId1"/>
          <a:stretch/>
        </p:blipFill>
        <p:spPr>
          <a:xfrm>
            <a:off x="304920" y="2895480"/>
            <a:ext cx="2286000" cy="2248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M16WF2-blowup"/>
          <p:cNvPicPr/>
          <p:nvPr/>
        </p:nvPicPr>
        <p:blipFill>
          <a:blip r:embed="rId2"/>
          <a:stretch/>
        </p:blipFill>
        <p:spPr>
          <a:xfrm>
            <a:off x="4038480" y="1981080"/>
            <a:ext cx="4648320" cy="4194360"/>
          </a:xfrm>
          <a:prstGeom prst="rect">
            <a:avLst/>
          </a:prstGeom>
          <a:ln w="0">
            <a:noFill/>
          </a:ln>
        </p:spPr>
      </p:pic>
      <p:sp>
        <p:nvSpPr>
          <p:cNvPr id="104" name="Line 5"/>
          <p:cNvSpPr/>
          <p:nvPr/>
        </p:nvSpPr>
        <p:spPr>
          <a:xfrm flipV="1">
            <a:off x="762120" y="1980720"/>
            <a:ext cx="33526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838080" y="3429000"/>
            <a:ext cx="320040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undance of the Chemical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657440"/>
            <a:ext cx="81536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the start of the Stellar 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was about 75-90% hydrogen, 10-25% helium and 1-2% deuter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 W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undance of the elements is often plotted on a logarithmic sc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allows for the different elements to actually appear on the same scale as hydrogen and heli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does show relative differences among higher atomic weight elements better than linear sc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undance of elements on a linear scale is very diffe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00:03:58Z</dcterms:created>
  <dc:creator>Harold Geller</dc:creator>
  <dc:description/>
  <dc:language>en-US</dc:language>
  <cp:lastModifiedBy>ksu</cp:lastModifiedBy>
  <cp:lastPrinted>2001-07-23T16:06:28Z</cp:lastPrinted>
  <dcterms:modified xsi:type="dcterms:W3CDTF">2011-11-01T11:02:55Z</dcterms:modified>
  <cp:revision>66</cp:revision>
  <dc:subject/>
  <dc:title>When a picture is worth a hundred million bits</dc:title>
</cp:coreProperties>
</file>