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.png" ContentType="image/png"/>
  <Override PartName="/ppt/media/image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2E6-E865-4C19-950E-A26DFC12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71E-D2CA-4BD4-AAB5-6C6BF038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7EF-6C1C-44C5-9683-E6E745B1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489-4B33-4E78-9F37-0015CD9F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935A-636A-4730-92B9-DDDCEA58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282B-9F2C-4328-A7F9-FCAB1CF1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1FDC-7816-489F-8131-68C9B38F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4789-0F40-46BB-AD8A-737C888D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F505-034A-43FA-8E69-7B081213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9AF2-4CBB-4336-85E6-D8F5EA6D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FAEF-EC15-4BB0-8E59-49217C92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DE87-386B-42F0-8155-B808621D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3D9F-5B83-4876-9C4C-6498A301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3F25-3F97-45FF-8662-6767219A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0215-7269-4859-8430-28294A10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64C1-F945-44F3-8579-979D108D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6565-ECA4-4A38-9A3A-1FD0BD43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2B1-4DE6-458B-9A04-07068436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633-C26F-4464-A578-1174B895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B86-9BB2-43A1-881F-F8A11059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0CF-6888-43E5-BE2B-4FC12039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AB5-C141-49D1-9198-893BDA3E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02E-F1BC-401D-9CD6-E6885671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28B-CF2B-4310-9ECA-9F50E1CF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401B-5A39-4F68-BCD7-5A7C6B1F0F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A554-AC70-491E-B60A-A936F7FADE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mation of the Solar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38280" y="426708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g Plot of Abun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1028" descr=""/>
          <p:cNvPicPr/>
          <p:nvPr/>
        </p:nvPicPr>
        <p:blipFill>
          <a:blip r:embed="rId1"/>
          <a:stretch/>
        </p:blipFill>
        <p:spPr>
          <a:xfrm>
            <a:off x="762120" y="1546200"/>
            <a:ext cx="77691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other Log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09480" y="1389240"/>
            <a:ext cx="799812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Linear View of Abun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other Linear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762120" y="1546200"/>
            <a:ext cx="77691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Observ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active dating of solar system r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th ~ 4 billion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on ~4.5 billion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orites ~4.6 billion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rbital and rotation planes confined to ecliptic plane with counterclockwise mo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ve satellite and rings around Jovi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ts have more of the heavier elements than the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netary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463680" y="1892160"/>
          <a:ext cx="8159760" cy="40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92160"/>
                    <a:ext cx="815976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ther Planet Observ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restrial planets are closer t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vian planets furthest from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me Conclus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ets formed at same time as s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etary and satellite/ring systems are similar to remnants of dusty disks such as that seen about stars being born (e.g. T Tauri sta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et composition dependent upon where it formed in solar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bular Condensation (protoplanet)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remnant heat from collapse retained near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sun ignites, remaining dust reaches an equilibrium 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densities of the planets are explained by condensation temper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bular dust temperature increases to center of nebu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bular Condensation Phys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absorbed per unit area from sun = energy emitted as thermal radi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ar Flux = Lum (Sun) / 4 x distanc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x emitted = constant x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Stefan-Boltzmann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ding from above y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 = constant / distanc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ahoma"/>
              </a:rPr>
              <a:t>0.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ar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tion of the Solar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iew of the big bang the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stellar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bular condensation the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the impe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undance of the chemical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inear 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ogarithmic 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bular Condensation Chemist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617400" y="1895400"/>
          <a:ext cx="7748640" cy="416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895400"/>
                    <a:ext cx="774864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bular Condensation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id Particles collide, stick together, sink toward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restrials -&gt; ro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vians -&gt; rocky core + ices + light g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lest, most massive collect H and 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collisions -&gt; heating and differentiating of inter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nants flushed by solar wi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olution of atmosphe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 Talked Abo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eview of the Big Bang the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use to look at observab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Chemical Abundance of Eleme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use to realize how it came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rmation of the Solar Syst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bular Condensation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to Consid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solar system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observational underpinning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there other solar systems? (to be discussed at end of semes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vidence is there for other solar system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 AT THE BEGINNING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g Bang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1" name="Object 0"/>
          <p:cNvGraphicFramePr/>
          <p:nvPr/>
        </p:nvGraphicFramePr>
        <p:xfrm>
          <a:off x="457200" y="1851120"/>
          <a:ext cx="8199360" cy="500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51120"/>
                    <a:ext cx="819936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 Pictorial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3" descr="collapse1"/>
          <p:cNvPicPr/>
          <p:nvPr/>
        </p:nvPicPr>
        <p:blipFill>
          <a:blip r:embed="rId1"/>
          <a:stretch/>
        </p:blipFill>
        <p:spPr>
          <a:xfrm>
            <a:off x="0" y="15238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ollapse2"/>
          <p:cNvPicPr/>
          <p:nvPr/>
        </p:nvPicPr>
        <p:blipFill>
          <a:blip r:embed="rId2"/>
          <a:stretch/>
        </p:blipFill>
        <p:spPr>
          <a:xfrm>
            <a:off x="4038480" y="2819520"/>
            <a:ext cx="51055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ictorial View Continu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3" descr="collapse3"/>
          <p:cNvPicPr/>
          <p:nvPr/>
        </p:nvPicPr>
        <p:blipFill>
          <a:blip r:embed="rId1"/>
          <a:stretch/>
        </p:blipFill>
        <p:spPr>
          <a:xfrm>
            <a:off x="0" y="1600200"/>
            <a:ext cx="5238720" cy="238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ollapse4"/>
          <p:cNvPicPr/>
          <p:nvPr/>
        </p:nvPicPr>
        <p:blipFill>
          <a:blip r:embed="rId2"/>
          <a:stretch/>
        </p:blipFill>
        <p:spPr>
          <a:xfrm>
            <a:off x="3200400" y="3616200"/>
            <a:ext cx="5943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ST Pictorial Evidenc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3" descr="orionsys_hst"/>
          <p:cNvPicPr/>
          <p:nvPr/>
        </p:nvPicPr>
        <p:blipFill>
          <a:blip r:embed="rId1"/>
          <a:stretch/>
        </p:blipFill>
        <p:spPr>
          <a:xfrm>
            <a:off x="1295280" y="1600200"/>
            <a:ext cx="649620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ST Pictorial Evidenc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3" descr="M16Full-50crop"/>
          <p:cNvPicPr/>
          <p:nvPr/>
        </p:nvPicPr>
        <p:blipFill>
          <a:blip r:embed="rId1"/>
          <a:stretch/>
        </p:blipFill>
        <p:spPr>
          <a:xfrm>
            <a:off x="304920" y="2895480"/>
            <a:ext cx="2286000" cy="2248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M16WF2-blowup"/>
          <p:cNvPicPr/>
          <p:nvPr/>
        </p:nvPicPr>
        <p:blipFill>
          <a:blip r:embed="rId2"/>
          <a:stretch/>
        </p:blipFill>
        <p:spPr>
          <a:xfrm>
            <a:off x="4038480" y="1981080"/>
            <a:ext cx="4648320" cy="4194360"/>
          </a:xfrm>
          <a:prstGeom prst="rect">
            <a:avLst/>
          </a:prstGeom>
          <a:ln w="0">
            <a:noFill/>
          </a:ln>
        </p:spPr>
      </p:pic>
      <p:sp>
        <p:nvSpPr>
          <p:cNvPr id="104" name="Line 5"/>
          <p:cNvSpPr/>
          <p:nvPr/>
        </p:nvSpPr>
        <p:spPr>
          <a:xfrm flipV="1">
            <a:off x="762120" y="1980720"/>
            <a:ext cx="33526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838080" y="3429000"/>
            <a:ext cx="320040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undance of the Chemical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657440"/>
            <a:ext cx="81536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the start of the Stellar 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was about 75-90% hydrogen, 10-25% helium and 1-2% deuter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 W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undance of the elements is often plotted on a logarithmic sc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allows for the different elements to actually appear on the same scale as hydrogen and heli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does show relative differences among higher atomic weight elements better than linear sc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undance of elements on a linear scale is very diffe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00:03:58Z</dcterms:created>
  <dc:creator>Harold Geller</dc:creator>
  <dc:description/>
  <dc:language>en-US</dc:language>
  <cp:lastModifiedBy>ksu</cp:lastModifiedBy>
  <cp:lastPrinted>2001-07-23T16:06:28Z</cp:lastPrinted>
  <dcterms:modified xsi:type="dcterms:W3CDTF">2011-11-01T11:02:55Z</dcterms:modified>
  <cp:revision>66</cp:revision>
  <dc:subject/>
  <dc:title>When a picture is worth a hundred million bits</dc:title>
</cp:coreProperties>
</file>