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27F-34AF-49F7-ACC3-DDCE7BA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C0E-3A12-47D7-A484-D5E389D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971-8948-467E-839C-BB16595A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644-F8A1-45F0-B2B1-90E497C4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E237-5C2C-41FA-9AAF-20F224C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13D-C600-4D07-8BFE-040FC2E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5CC5-5F7A-4838-BB94-86305FF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2D2-9204-4826-9F80-473FD163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AF3-E037-4DB8-918B-C0C9C318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1E2-8CAA-4856-8FEC-4A787183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3A8-3524-49B8-A6D3-B54482D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065-C441-4CAF-ABA9-69BDE9F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CC00-5793-43BC-A404-4CD8DD3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DBE-57D6-4611-A921-F6B3AF3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2A80-CAF2-497E-9BC0-7D9FD65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FFC1-C3C4-49F4-873C-58F156B3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ADC-FA43-4961-BBA3-B7ECEA75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6E5-0967-4DE4-B3F5-808F581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CD9-38B9-4B0B-B727-E082749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7E4-23F4-430C-B6BF-18B02D9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7D7-17B2-4710-A6B4-1AF7186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BED-5C1F-4381-AECC-CACC46A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761-9B4C-49E7-AB04-DC72FAE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4A0-620C-40B5-AF66-846BD0F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0516-AB46-4180-BFAA-BF0293DE90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ACCD-71C8-464D-8A8E-2742B212C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ion of the 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426708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 Plot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1028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og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89240"/>
            <a:ext cx="79981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Linear View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inear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active dating of solar system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 ~ 4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n ~4.5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orites ~4.6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rbital and rotation planes confined to ecliptic plane with counterclockwise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ve satellite and rings around Jovi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s have more of the heavier elements than the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etary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463680" y="1892160"/>
          <a:ext cx="8159760" cy="40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92160"/>
                    <a:ext cx="81597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Planet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 planets are closer t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 planets furthest from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s formed at same time as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ary and satellite/ring systems are similar to remnants of dusty disks such as that seen about stars being born (e.g. T Tauri sta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 composition dependent upon where it formed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(protoplanet)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mnant heat from collapse retained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sun ignites, remaining dust reaches an equilibrium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ensities of the planets are explained by condensation temper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dust temperature increases to center of neb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absorbed per unit area from sun = energy emitted as thermal radi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Flux = Lum (Sun) / 4 x distanc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x emitted = constant x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Stefan-Boltzmann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ding from above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 = constant / distanc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stellar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bular condensation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impe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ndance of the chem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garithmic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Chemis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617400" y="1895400"/>
          <a:ext cx="774864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895400"/>
                    <a:ext cx="77486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Particles collide, stick together, sink toward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s -&gt; ro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s -&gt; rocky core + ices + light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lest, most massive collect H and 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llisions -&gt; heating and differentiating of int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nants flushed by solar w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of atmosphe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 Talked Ab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look at observa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mical Abundance of El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realize how it came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Condensa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solar system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observational underpinn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other solar systems? (to be discussed at end of seme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vidence is there for other solar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T THE BEGINNING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g Bang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57200" y="1851120"/>
          <a:ext cx="819936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51120"/>
                    <a:ext cx="81993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Pictorial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3" descr="collapse1"/>
          <p:cNvPicPr/>
          <p:nvPr/>
        </p:nvPicPr>
        <p:blipFill>
          <a:blip r:embed="rId1"/>
          <a:stretch/>
        </p:blipFill>
        <p:spPr>
          <a:xfrm>
            <a:off x="0" y="15238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ollapse2"/>
          <p:cNvPicPr/>
          <p:nvPr/>
        </p:nvPicPr>
        <p:blipFill>
          <a:blip r:embed="rId2"/>
          <a:stretch/>
        </p:blipFill>
        <p:spPr>
          <a:xfrm>
            <a:off x="4038480" y="2819520"/>
            <a:ext cx="5105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ctorial View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3" descr="collapse3"/>
          <p:cNvPicPr/>
          <p:nvPr/>
        </p:nvPicPr>
        <p:blipFill>
          <a:blip r:embed="rId1"/>
          <a:stretch/>
        </p:blipFill>
        <p:spPr>
          <a:xfrm>
            <a:off x="0" y="1600200"/>
            <a:ext cx="523872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ollapse4"/>
          <p:cNvPicPr/>
          <p:nvPr/>
        </p:nvPicPr>
        <p:blipFill>
          <a:blip r:embed="rId2"/>
          <a:stretch/>
        </p:blipFill>
        <p:spPr>
          <a:xfrm>
            <a:off x="3200400" y="3616200"/>
            <a:ext cx="5943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orionsys_hst"/>
          <p:cNvPicPr/>
          <p:nvPr/>
        </p:nvPicPr>
        <p:blipFill>
          <a:blip r:embed="rId1"/>
          <a:stretch/>
        </p:blipFill>
        <p:spPr>
          <a:xfrm>
            <a:off x="1295280" y="1600200"/>
            <a:ext cx="6496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3" descr="M16Full-50crop"/>
          <p:cNvPicPr/>
          <p:nvPr/>
        </p:nvPicPr>
        <p:blipFill>
          <a:blip r:embed="rId1"/>
          <a:stretch/>
        </p:blipFill>
        <p:spPr>
          <a:xfrm>
            <a:off x="304920" y="2895480"/>
            <a:ext cx="2286000" cy="22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M16WF2-blowup"/>
          <p:cNvPicPr/>
          <p:nvPr/>
        </p:nvPicPr>
        <p:blipFill>
          <a:blip r:embed="rId2"/>
          <a:stretch/>
        </p:blipFill>
        <p:spPr>
          <a:xfrm>
            <a:off x="4038480" y="1981080"/>
            <a:ext cx="4648320" cy="419436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V="1">
            <a:off x="762120" y="198072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38080" y="3429000"/>
            <a:ext cx="32004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undance of the Chemical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57440"/>
            <a:ext cx="81536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start of the Stellar 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was about 75-90% hydrogen, 10-25% helium and 1-2% deuter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W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the elements is often plotted on a logarithmic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allows for the different elements to actually appear on the same scale as hydrogen and hel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oes show relative differences among higher atomic weight elements better than 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elements on a linear scale is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0:03:58Z</dcterms:created>
  <dc:creator>Harold Geller</dc:creator>
  <dc:description/>
  <dc:language>en-US</dc:language>
  <cp:lastModifiedBy>ksu</cp:lastModifiedBy>
  <cp:lastPrinted>2001-07-23T16:06:28Z</cp:lastPrinted>
  <dcterms:modified xsi:type="dcterms:W3CDTF">2011-11-01T11:02:55Z</dcterms:modified>
  <cp:revision>66</cp:revision>
  <dc:subject/>
  <dc:title>When a picture is worth a hundred million bits</dc:title>
</cp:coreProperties>
</file>