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2502-0F5A-48B3-B902-76C1BC72709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6B49-72CA-4BE5-A0A6-1B2E9BA15A6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E3E-EC2E-4BD1-8BFD-ED8B138F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BBE-5D4A-4F5B-B32E-68A385DA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A57-2644-4A49-952C-79B786B9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939-2F0E-4F48-987B-14DCC78D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69B-2056-4B66-B89B-FA7E9CAE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C86-D5F8-4D55-A7C1-3BCDEEE7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0CF-718D-447A-A0D1-0B52748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A6E4-3304-4C36-A9A8-655DDBCF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D08-6255-4EA1-BE07-721C1660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8EAD-D93B-472B-B8A0-1553D720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189-5E9B-4EB1-B8B5-1311C9FE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8BB-148F-46DF-86EB-C55BC4F2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4620-42D0-4BE5-B9BA-5679A49E21F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8FA4-B3F1-4C49-AA1F-7B755329E19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3B11-1FAA-42D5-ACF9-4FB1DB95B20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E2CC-EA78-4D4A-AA3F-09D9B3AB086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the following mathematical appetizer is about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Functions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07AB-B4C7-4A71-9512-2FB2AFBF2DA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E0A1-4B12-4ED8-9932-3D1AA30EE95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look at the following well-known func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hat is the image of S = {Linda, Max}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S) = {Moscow, Boston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hat is the image of S = {Max, Peter}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S) = {Boston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7F42-6EB6-4E3D-997B-7B4F6B2B2BE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D6B6-AB66-4DE7-BE69-41CC7C5B451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said to b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e-to-on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jec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if and only i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 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f(x) = f(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=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In other word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 is one-to-one if and only if it does not map two distinct elements of A onto the same element of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D1E3-EB41-472B-A34D-3D91C8CF4A0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2580-4ABC-47AF-AFB9-710584A59D9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again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one-to-on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, Max and Peter are mapped onto the same element of the imag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724280" y="1066680"/>
            <a:ext cx="39625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Peter) = 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g one-to-on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, each element is assigned a unique element of the imag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B915-CE83-45AD-811A-9D2342DD24F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289B-024E-4402-82C1-E0AEB654ACC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we prove that a function f is one-to-on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Whenever you want to prove something, first take a look at the relevant definition(s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 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f(x) = f(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=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proof by counter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f(-3), but 3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3, so f is not one-to-o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F1C-91DF-4BF9-9416-9E4CE679034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B7B3-7A6A-403E-AB14-C00A7B2EC31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839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yet 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3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-to-one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 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f(x) = f(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=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o show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y) whenever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3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y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if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, then f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y), that is, f is one-to-on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0CF5-1054-44A5-8B12-D295CAD886E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5D9D-87B0-4E53-AE3B-70DC16E59DB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with A,B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 is calle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rictly increas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x &lt;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) &lt; f(y)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rictly decreas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,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(x &lt;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) &gt; f(y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viously, a function that is either strictly increasing or strictly decreasing i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e-to-on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B2C8-F83F-4140-AC1C-B92B7A97C44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6A41-1C30-4131-88EA-D012D9A0054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calle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t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urjec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and only if for every element 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there is an element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with f(a) =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other words, f is onto if and only if it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an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its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ntire codoma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ne-to-one correspond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or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bije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and only if it is both one-to-one and ont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viously, if f is a bijection and A and B are finite sets, then |A| = |B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E48-0919-4513-AD11-46C1EAAD451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A4D9-9566-4352-B5A0-12DEF57443F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the following examples, we use the arrow representation to illustrate functions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each example, the complete sets A and B are show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F050-505B-4F25-98BE-B860AFACCC0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3678-B736-4912-A985-B9D480FB30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685800" y="1143000"/>
            <a:ext cx="4343400" cy="3339720"/>
            <a:chOff x="685800" y="1143000"/>
            <a:chExt cx="4343400" cy="3339720"/>
          </a:xfrm>
        </p:grpSpPr>
        <p:sp>
          <p:nvSpPr>
            <p:cNvPr id="158" name="Text Box 5"/>
            <p:cNvSpPr/>
            <p:nvPr/>
          </p:nvSpPr>
          <p:spPr>
            <a:xfrm>
              <a:off x="68580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Text Box 6"/>
            <p:cNvSpPr/>
            <p:nvPr/>
          </p:nvSpPr>
          <p:spPr>
            <a:xfrm>
              <a:off x="685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6858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685800" y="39621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04776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2971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ew Yor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2971800" y="29718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971800" y="396216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66" name="Line 13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Line 14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9" name="Line 16"/>
          <p:cNvSpPr/>
          <p:nvPr/>
        </p:nvSpPr>
        <p:spPr>
          <a:xfrm flipV="1">
            <a:off x="1905120" y="1752480"/>
            <a:ext cx="1066680" cy="2362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BA63-2D1F-4E64-BB1B-4DDC6B7B0D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09DC-7FE0-446E-921B-FAD289252E1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685800" y="1143000"/>
            <a:ext cx="4343400" cy="3340080"/>
            <a:chOff x="685800" y="1143000"/>
            <a:chExt cx="4343400" cy="3340080"/>
          </a:xfrm>
        </p:grpSpPr>
        <p:sp>
          <p:nvSpPr>
            <p:cNvPr id="175" name="Text Box 5"/>
            <p:cNvSpPr/>
            <p:nvPr/>
          </p:nvSpPr>
          <p:spPr>
            <a:xfrm>
              <a:off x="68580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Text Box 6"/>
            <p:cNvSpPr/>
            <p:nvPr/>
          </p:nvSpPr>
          <p:spPr>
            <a:xfrm>
              <a:off x="685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685800" y="29718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Text Box 8"/>
            <p:cNvSpPr/>
            <p:nvPr/>
          </p:nvSpPr>
          <p:spPr>
            <a:xfrm>
              <a:off x="685800" y="3962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3048120" y="11430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2971800" y="2057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ew Yor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2971800" y="29718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2971800" y="3962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83" name="Line 13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Line 14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Line 16"/>
          <p:cNvSpPr/>
          <p:nvPr/>
        </p:nvSpPr>
        <p:spPr>
          <a:xfrm flipV="1">
            <a:off x="1905120" y="1752480"/>
            <a:ext cx="1066680" cy="2362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6858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ul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Line 18"/>
          <p:cNvSpPr/>
          <p:nvPr/>
        </p:nvSpPr>
        <p:spPr>
          <a:xfrm flipV="1">
            <a:off x="1828800" y="2590560"/>
            <a:ext cx="1143000" cy="236196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34A6-4AF6-4622-982E-C71F299465E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5D01-83F4-43C7-83ED-E8347C81670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 from a set A to a set B is a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ssign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xactly one element of B to each element of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ri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a) 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b is the unique element of B assigned by the function f to the element a of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f is a function from A to B, we wri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ote:  Here, “</a:t>
            </a:r>
            <a:r>
              <a:rPr b="0" lang="en-US" sz="28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“ has nothing to do with if… the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6F6D-21B4-4866-BD9E-90A1D80B9CA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4B7C-98C3-4414-BC9A-B8008A2742A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Line 4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Line 5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1905120" y="4114800"/>
            <a:ext cx="914400" cy="9144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97" name="Group 8"/>
          <p:cNvGrpSpPr/>
          <p:nvPr/>
        </p:nvGrpSpPr>
        <p:grpSpPr>
          <a:xfrm>
            <a:off x="685800" y="1143000"/>
            <a:ext cx="4343400" cy="4330440"/>
            <a:chOff x="685800" y="1143000"/>
            <a:chExt cx="4343400" cy="4330440"/>
          </a:xfrm>
        </p:grpSpPr>
        <p:grpSp>
          <p:nvGrpSpPr>
            <p:cNvPr id="198" name="Group 9"/>
            <p:cNvGrpSpPr/>
            <p:nvPr/>
          </p:nvGrpSpPr>
          <p:grpSpPr>
            <a:xfrm>
              <a:off x="685800" y="1143000"/>
              <a:ext cx="4343400" cy="3340080"/>
              <a:chOff x="685800" y="1143000"/>
              <a:chExt cx="4343400" cy="3340080"/>
            </a:xfrm>
          </p:grpSpPr>
          <p:sp>
            <p:nvSpPr>
              <p:cNvPr id="199" name="Text Box 10"/>
              <p:cNvSpPr/>
              <p:nvPr/>
            </p:nvSpPr>
            <p:spPr>
              <a:xfrm>
                <a:off x="68580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Linda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0" name="Text Box 11"/>
              <p:cNvSpPr/>
              <p:nvPr/>
            </p:nvSpPr>
            <p:spPr>
              <a:xfrm>
                <a:off x="685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ax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1" name="Text Box 12"/>
              <p:cNvSpPr/>
              <p:nvPr/>
            </p:nvSpPr>
            <p:spPr>
              <a:xfrm>
                <a:off x="685800" y="29718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Kathy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2" name="Text Box 13"/>
              <p:cNvSpPr/>
              <p:nvPr/>
            </p:nvSpPr>
            <p:spPr>
              <a:xfrm>
                <a:off x="685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Peter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3" name="Text Box 14"/>
              <p:cNvSpPr/>
              <p:nvPr/>
            </p:nvSpPr>
            <p:spPr>
              <a:xfrm>
                <a:off x="304812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Boston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4" name="Text Box 15"/>
              <p:cNvSpPr/>
              <p:nvPr/>
            </p:nvSpPr>
            <p:spPr>
              <a:xfrm>
                <a:off x="2971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New York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5" name="Text Box 16"/>
              <p:cNvSpPr/>
              <p:nvPr/>
            </p:nvSpPr>
            <p:spPr>
              <a:xfrm>
                <a:off x="2971800" y="29718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Hong Kong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06" name="Text Box 17"/>
              <p:cNvSpPr/>
              <p:nvPr/>
            </p:nvSpPr>
            <p:spPr>
              <a:xfrm>
                <a:off x="2971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oscow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207" name="Text Box 18"/>
            <p:cNvSpPr/>
            <p:nvPr/>
          </p:nvSpPr>
          <p:spPr>
            <a:xfrm>
              <a:off x="297180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</a:t>
              </a:r>
              <a:r>
                <a:rPr b="0" lang="de-DE" sz="2800" spc="-1" strike="noStrike">
                  <a:solidFill>
                    <a:srgbClr val="ffff00"/>
                  </a:solidFill>
                  <a:latin typeface="Comic Sans MS"/>
                </a:rPr>
                <a:t>ü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ec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5B19-E676-473A-85F1-0CFCA12B77F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2B45-4E11-4F94-9D74-BEE7B3E7F4D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! f is not even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 function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Line 5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1905120" y="4267080"/>
            <a:ext cx="914400" cy="6858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16" name="Group 8"/>
          <p:cNvGrpSpPr/>
          <p:nvPr/>
        </p:nvGrpSpPr>
        <p:grpSpPr>
          <a:xfrm>
            <a:off x="685800" y="1143000"/>
            <a:ext cx="4343400" cy="4330440"/>
            <a:chOff x="685800" y="1143000"/>
            <a:chExt cx="4343400" cy="4330440"/>
          </a:xfrm>
        </p:grpSpPr>
        <p:grpSp>
          <p:nvGrpSpPr>
            <p:cNvPr id="217" name="Group 9"/>
            <p:cNvGrpSpPr/>
            <p:nvPr/>
          </p:nvGrpSpPr>
          <p:grpSpPr>
            <a:xfrm>
              <a:off x="685800" y="1143000"/>
              <a:ext cx="4343400" cy="3340080"/>
              <a:chOff x="685800" y="1143000"/>
              <a:chExt cx="4343400" cy="3340080"/>
            </a:xfrm>
          </p:grpSpPr>
          <p:sp>
            <p:nvSpPr>
              <p:cNvPr id="218" name="Text Box 10"/>
              <p:cNvSpPr/>
              <p:nvPr/>
            </p:nvSpPr>
            <p:spPr>
              <a:xfrm>
                <a:off x="68580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Linda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19" name="Text Box 11"/>
              <p:cNvSpPr/>
              <p:nvPr/>
            </p:nvSpPr>
            <p:spPr>
              <a:xfrm>
                <a:off x="685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ax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0" name="Text Box 12"/>
              <p:cNvSpPr/>
              <p:nvPr/>
            </p:nvSpPr>
            <p:spPr>
              <a:xfrm>
                <a:off x="685800" y="29718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Kathy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1" name="Text Box 13"/>
              <p:cNvSpPr/>
              <p:nvPr/>
            </p:nvSpPr>
            <p:spPr>
              <a:xfrm>
                <a:off x="685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Peter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2" name="Text Box 14"/>
              <p:cNvSpPr/>
              <p:nvPr/>
            </p:nvSpPr>
            <p:spPr>
              <a:xfrm>
                <a:off x="3048120" y="11430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Boston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3" name="Text Box 15"/>
              <p:cNvSpPr/>
              <p:nvPr/>
            </p:nvSpPr>
            <p:spPr>
              <a:xfrm>
                <a:off x="2971800" y="20574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New York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4" name="Text Box 16"/>
              <p:cNvSpPr/>
              <p:nvPr/>
            </p:nvSpPr>
            <p:spPr>
              <a:xfrm>
                <a:off x="2971800" y="2971800"/>
                <a:ext cx="2057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Hong Kong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  <p:sp>
            <p:nvSpPr>
              <p:cNvPr id="225" name="Text Box 17"/>
              <p:cNvSpPr/>
              <p:nvPr/>
            </p:nvSpPr>
            <p:spPr>
              <a:xfrm>
                <a:off x="2971800" y="396252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Comic Sans MS"/>
                  </a:rPr>
                  <a:t>Moscow</a:t>
                </a:r>
                <a:endParaRPr b="0" lang="en-US" sz="2800" spc="-1" strike="noStrike">
                  <a:solidFill>
                    <a:srgbClr val="ffff00"/>
                  </a:solidFill>
                  <a:latin typeface="Comic Sans MS"/>
                </a:endParaRPr>
              </a:p>
            </p:txBody>
          </p:sp>
        </p:grpSp>
        <p:sp>
          <p:nvSpPr>
            <p:cNvPr id="226" name="Text Box 18"/>
            <p:cNvSpPr/>
            <p:nvPr/>
          </p:nvSpPr>
          <p:spPr>
            <a:xfrm>
              <a:off x="297180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</a:t>
              </a:r>
              <a:r>
                <a:rPr b="0" lang="de-DE" sz="2800" spc="-1" strike="noStrike">
                  <a:solidFill>
                    <a:srgbClr val="ffff00"/>
                  </a:solidFill>
                  <a:latin typeface="Comic Sans MS"/>
                </a:rPr>
                <a:t>ü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ec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7" name="Line 19"/>
          <p:cNvSpPr/>
          <p:nvPr/>
        </p:nvSpPr>
        <p:spPr>
          <a:xfrm flipV="1">
            <a:off x="1905120" y="2514240"/>
            <a:ext cx="990360" cy="16002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4389-0946-4B85-9089-366E10CFE59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F713-BFCE-414C-AA5B-D711840AB12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perties of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410080" y="1371240"/>
            <a:ext cx="33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in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ur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bijectiv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nd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685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ath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04812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2971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971800" y="2971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971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1828800" y="1523880"/>
            <a:ext cx="99072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Line 13"/>
          <p:cNvSpPr/>
          <p:nvPr/>
        </p:nvSpPr>
        <p:spPr>
          <a:xfrm flipV="1">
            <a:off x="1905120" y="1523520"/>
            <a:ext cx="99036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Line 14"/>
          <p:cNvSpPr/>
          <p:nvPr/>
        </p:nvSpPr>
        <p:spPr>
          <a:xfrm>
            <a:off x="1905120" y="3276720"/>
            <a:ext cx="99036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Line 15"/>
          <p:cNvSpPr/>
          <p:nvPr/>
        </p:nvSpPr>
        <p:spPr>
          <a:xfrm>
            <a:off x="1905120" y="4114800"/>
            <a:ext cx="914400" cy="91440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2971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685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len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 flipV="1">
            <a:off x="1981080" y="2437920"/>
            <a:ext cx="914400" cy="25909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604A-537F-43DB-80D3-A8E2E954D7C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CD38-B14E-4BA7-930D-B1A12EA06BD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nteresting property of bijections is that they have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verse 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verse 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bije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function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with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) = a whenever f(a) = b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4614-B0E8-473C-B616-EF513828155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0484-F37C-4C64-A366-19587267DD1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09480" y="1066680"/>
            <a:ext cx="3886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Helena) = 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learly, f is bijectiv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876920" y="1066680"/>
            <a:ext cx="40384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 inverse function  f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is given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Moscow) = Lind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oston) = Ma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Hong Kong) = Kath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) = Pe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ew York) = Helen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version is only possible for bijections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= invertible function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7" dur="indefinite" restart="never" nodeType="tmRoot">
          <p:childTnLst>
            <p:seq>
              <p:cTn id="1088" dur="indefinite" nodeType="mainSeq">
                <p:childTnLst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A4C6-9642-44AA-BD01-2C258866BEE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A1F8-C471-49E8-A056-15BAAB88D70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vers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8580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nd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85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685800" y="29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ath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85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e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3048120" y="1143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29718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971800" y="297180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297180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2971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de-DE" sz="2800" spc="-1" strike="noStrike">
                <a:solidFill>
                  <a:srgbClr val="ffff00"/>
                </a:solidFill>
                <a:latin typeface="Comic Sans MS"/>
              </a:rPr>
              <a:t>ü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c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8580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lena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69" name="Group 13"/>
          <p:cNvGrpSpPr/>
          <p:nvPr/>
        </p:nvGrpSpPr>
        <p:grpSpPr>
          <a:xfrm>
            <a:off x="1828800" y="1523880"/>
            <a:ext cx="1066680" cy="3505320"/>
            <a:chOff x="1828800" y="1523880"/>
            <a:chExt cx="1066680" cy="3505320"/>
          </a:xfrm>
        </p:grpSpPr>
        <p:sp>
          <p:nvSpPr>
            <p:cNvPr id="270" name="Line 14"/>
            <p:cNvSpPr/>
            <p:nvPr/>
          </p:nvSpPr>
          <p:spPr>
            <a:xfrm>
              <a:off x="1828800" y="1523880"/>
              <a:ext cx="990720" cy="26672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Line 15"/>
            <p:cNvSpPr/>
            <p:nvPr/>
          </p:nvSpPr>
          <p:spPr>
            <a:xfrm>
              <a:off x="1905120" y="2362320"/>
              <a:ext cx="9903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16"/>
            <p:cNvSpPr/>
            <p:nvPr/>
          </p:nvSpPr>
          <p:spPr>
            <a:xfrm>
              <a:off x="1905120" y="3276720"/>
              <a:ext cx="99036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Line 17"/>
            <p:cNvSpPr/>
            <p:nvPr/>
          </p:nvSpPr>
          <p:spPr>
            <a:xfrm>
              <a:off x="1905120" y="4114800"/>
              <a:ext cx="914400" cy="91440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Line 18"/>
            <p:cNvSpPr/>
            <p:nvPr/>
          </p:nvSpPr>
          <p:spPr>
            <a:xfrm flipV="1">
              <a:off x="1981080" y="2437920"/>
              <a:ext cx="914400" cy="2590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5" name="Group 19"/>
          <p:cNvGrpSpPr/>
          <p:nvPr/>
        </p:nvGrpSpPr>
        <p:grpSpPr>
          <a:xfrm>
            <a:off x="6095880" y="1219320"/>
            <a:ext cx="1752840" cy="520560"/>
            <a:chOff x="6095880" y="1219320"/>
            <a:chExt cx="1752840" cy="520560"/>
          </a:xfrm>
        </p:grpSpPr>
        <p:sp>
          <p:nvSpPr>
            <p:cNvPr id="276" name="Line 20"/>
            <p:cNvSpPr/>
            <p:nvPr/>
          </p:nvSpPr>
          <p:spPr>
            <a:xfrm>
              <a:off x="6858000" y="1447920"/>
              <a:ext cx="990720" cy="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Text Box 21"/>
            <p:cNvSpPr/>
            <p:nvPr/>
          </p:nvSpPr>
          <p:spPr>
            <a:xfrm>
              <a:off x="6095880" y="121932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8" name="Group 22"/>
          <p:cNvGrpSpPr/>
          <p:nvPr/>
        </p:nvGrpSpPr>
        <p:grpSpPr>
          <a:xfrm>
            <a:off x="6095880" y="2057400"/>
            <a:ext cx="1752840" cy="520560"/>
            <a:chOff x="6095880" y="2057400"/>
            <a:chExt cx="1752840" cy="520560"/>
          </a:xfrm>
        </p:grpSpPr>
        <p:sp>
          <p:nvSpPr>
            <p:cNvPr id="279" name="Line 23"/>
            <p:cNvSpPr/>
            <p:nvPr/>
          </p:nvSpPr>
          <p:spPr>
            <a:xfrm>
              <a:off x="6858000" y="2286000"/>
              <a:ext cx="990720" cy="0"/>
            </a:xfrm>
            <a:prstGeom prst="line">
              <a:avLst/>
            </a:prstGeom>
            <a:ln w="1908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Text Box 24"/>
            <p:cNvSpPr/>
            <p:nvPr/>
          </p:nvSpPr>
          <p:spPr>
            <a:xfrm>
              <a:off x="6095880" y="205740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</a:t>
              </a:r>
              <a:r>
                <a:rPr b="0" lang="en-US" sz="2800" spc="-1" strike="noStrike" baseline="30000">
                  <a:solidFill>
                    <a:srgbClr val="ffff00"/>
                  </a:solidFill>
                  <a:latin typeface="Comic Sans MS"/>
                </a:rPr>
                <a:t>-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81" name="Line 25"/>
          <p:cNvSpPr/>
          <p:nvPr/>
        </p:nvSpPr>
        <p:spPr>
          <a:xfrm flipH="1">
            <a:off x="1904760" y="2209680"/>
            <a:ext cx="99036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2" name="Line 26"/>
          <p:cNvSpPr/>
          <p:nvPr/>
        </p:nvSpPr>
        <p:spPr>
          <a:xfrm flipH="1">
            <a:off x="1905120" y="2286000"/>
            <a:ext cx="914400" cy="259092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Line 27"/>
          <p:cNvSpPr/>
          <p:nvPr/>
        </p:nvSpPr>
        <p:spPr>
          <a:xfrm flipH="1">
            <a:off x="1904760" y="3124080"/>
            <a:ext cx="990360" cy="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Line 28"/>
          <p:cNvSpPr/>
          <p:nvPr/>
        </p:nvSpPr>
        <p:spPr>
          <a:xfrm flipH="1" flipV="1">
            <a:off x="1904760" y="1294920"/>
            <a:ext cx="990360" cy="26672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Line 29"/>
          <p:cNvSpPr/>
          <p:nvPr/>
        </p:nvSpPr>
        <p:spPr>
          <a:xfrm flipH="1" flipV="1">
            <a:off x="1905120" y="4343400"/>
            <a:ext cx="914400" cy="91440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33760" y="2819160"/>
            <a:ext cx="32763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:C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 is no function, because it is not defined for all elements of C and assigns two images to the pre-image New Yor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CBFA-6317-4E59-A2E3-1A09E04FD18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0501-A4E1-47C2-B804-9858FF08736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i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os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wo functions g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and  f:B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, denoted by  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, is defined by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)(a) = f(g(a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means that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irs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unction g is applied to element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,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mapping it onto an element of B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unction f is applied to this element of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B, mapping it onto an element of C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refo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 composite function map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from A to C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AE12-8A31-4ACB-836C-2031CF052AA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287A-4663-478F-ABDA-A517DC4827F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i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7x – 4, g(x) = 3x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g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)(5) = f(g(5)) = f(15) = 105 – 4 = 10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)(x) = f(g(x)) = f(3x) = 21x -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929B-1162-41E3-B3EC-86541CC891D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21F9-CAD1-492D-9F3A-49492305F44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posi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mposition of a function and its invers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)(x) =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(x)) = 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composition of a function and its inverse is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ntity fun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(x) = x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AFA6-93B5-4579-ABAB-E1788AADA13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AC66-2743-4CE0-8D2F-327063FB862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raph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raph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f a functio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set of ordered pairs {(a, b) |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and f(a) = b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graph is a subset of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that can be used to visualize f in a two-dimensional coordinate syst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5F58-4EFA-4033-B6AB-F14093E907F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0FF5-BD60-44DB-9F26-EB90870AFFB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we say that A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oma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 and B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doma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f(a) = b, we say that b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ma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and a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-ima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an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set of all images of elements of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ap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to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53D2-3ED7-454F-9BD8-1258C8F5BD5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5356-3A90-4EE8-B987-C20CFE3557A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loor and Ceiling 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lo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eil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unctions map the real numbers onto the integers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lo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unction assigns to 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largest z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ith z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0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3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eil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unction assigns to 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mallest z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ith z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3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3.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nodeType="clickEffect" fill="hold">
                      <p:stCondLst>
                        <p:cond delay="indefinite"/>
                      </p:stCondLst>
                      <p:childTnLst>
                        <p:par>
                          <p:cTn id="1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B9D9-EB93-4525-B2A7-D0FBABF3B41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5AC-C727-4666-A263-61586E9541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take a look at the function f: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 with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 = {Linda, Max, Kathy, Peter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 = {Boston, New York, Hong Kong, Moscow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New York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re, the range of f is C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188C-5384-4F31-B5D8-26A77564262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8726-33C2-4972-9E97-5DFAD1622C4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re-specify f as follo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Linda) = Moscow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Max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Kathy) = Hong Ko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Peter) = Bost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s f still a functi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038480" y="4343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962520" y="50292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{Moscow, Boston, Hong Kong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80880" y="5029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What is its rang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64F-684C-4D3F-A3C8-B38E203A533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0B87-B888-418E-BB75-3E6D3A46B5C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ther ways to represent 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914400" y="2057400"/>
            <a:ext cx="3200040" cy="3581280"/>
            <a:chOff x="914400" y="2057400"/>
            <a:chExt cx="3200040" cy="3581280"/>
          </a:xfrm>
        </p:grpSpPr>
        <p:sp>
          <p:nvSpPr>
            <p:cNvPr id="76" name="Rectangle 5"/>
            <p:cNvSpPr/>
            <p:nvPr/>
          </p:nvSpPr>
          <p:spPr>
            <a:xfrm>
              <a:off x="2514240" y="510264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914400" y="5102640"/>
              <a:ext cx="15998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8" name="Rectangle 7"/>
            <p:cNvSpPr/>
            <p:nvPr/>
          </p:nvSpPr>
          <p:spPr>
            <a:xfrm>
              <a:off x="2514240" y="4115880"/>
              <a:ext cx="160020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9" name="Rectangle 8"/>
            <p:cNvSpPr/>
            <p:nvPr/>
          </p:nvSpPr>
          <p:spPr>
            <a:xfrm>
              <a:off x="914400" y="4115880"/>
              <a:ext cx="1599840" cy="98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0" name="Rectangle 9"/>
            <p:cNvSpPr/>
            <p:nvPr/>
          </p:nvSpPr>
          <p:spPr>
            <a:xfrm>
              <a:off x="2514240" y="3579840"/>
              <a:ext cx="160020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1" name="Rectangle 10"/>
            <p:cNvSpPr/>
            <p:nvPr/>
          </p:nvSpPr>
          <p:spPr>
            <a:xfrm>
              <a:off x="914400" y="3579840"/>
              <a:ext cx="1599840" cy="5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2" name="Rectangle 11"/>
            <p:cNvSpPr/>
            <p:nvPr/>
          </p:nvSpPr>
          <p:spPr>
            <a:xfrm>
              <a:off x="2514240" y="2592720"/>
              <a:ext cx="160020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3" name="Rectangle 12"/>
            <p:cNvSpPr/>
            <p:nvPr/>
          </p:nvSpPr>
          <p:spPr>
            <a:xfrm>
              <a:off x="914400" y="2592720"/>
              <a:ext cx="15998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4" name="Rectangle 13"/>
            <p:cNvSpPr/>
            <p:nvPr/>
          </p:nvSpPr>
          <p:spPr>
            <a:xfrm>
              <a:off x="2514240" y="2057400"/>
              <a:ext cx="160020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x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5" name="Rectangle 14"/>
            <p:cNvSpPr/>
            <p:nvPr/>
          </p:nvSpPr>
          <p:spPr>
            <a:xfrm>
              <a:off x="914400" y="2057400"/>
              <a:ext cx="159984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" name="Line 15"/>
            <p:cNvSpPr/>
            <p:nvPr/>
          </p:nvSpPr>
          <p:spPr>
            <a:xfrm>
              <a:off x="914400" y="2057400"/>
              <a:ext cx="3200040" cy="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" name="Line 16"/>
            <p:cNvSpPr/>
            <p:nvPr/>
          </p:nvSpPr>
          <p:spPr>
            <a:xfrm>
              <a:off x="914400" y="357984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8" name="Line 17"/>
            <p:cNvSpPr/>
            <p:nvPr/>
          </p:nvSpPr>
          <p:spPr>
            <a:xfrm>
              <a:off x="914400" y="411588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" name="Line 18"/>
            <p:cNvSpPr/>
            <p:nvPr/>
          </p:nvSpPr>
          <p:spPr>
            <a:xfrm>
              <a:off x="914400" y="510264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914400" y="5638680"/>
              <a:ext cx="3200040" cy="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914400" y="2057400"/>
              <a:ext cx="0" cy="358128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" name="Line 21"/>
            <p:cNvSpPr/>
            <p:nvPr/>
          </p:nvSpPr>
          <p:spPr>
            <a:xfrm>
              <a:off x="4114440" y="2057400"/>
              <a:ext cx="0" cy="3581280"/>
            </a:xfrm>
            <a:prstGeom prst="line">
              <a:avLst/>
            </a:prstGeom>
            <a:ln cap="sq"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" name="Line 22"/>
            <p:cNvSpPr/>
            <p:nvPr/>
          </p:nvSpPr>
          <p:spPr>
            <a:xfrm>
              <a:off x="2514240" y="2057400"/>
              <a:ext cx="0" cy="35812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" name="Line 23"/>
            <p:cNvSpPr/>
            <p:nvPr/>
          </p:nvSpPr>
          <p:spPr>
            <a:xfrm>
              <a:off x="914400" y="2592720"/>
              <a:ext cx="320004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95" name="Group 24"/>
          <p:cNvGrpSpPr/>
          <p:nvPr/>
        </p:nvGrpSpPr>
        <p:grpSpPr>
          <a:xfrm>
            <a:off x="4648320" y="2133720"/>
            <a:ext cx="4343400" cy="3339720"/>
            <a:chOff x="4648320" y="2133720"/>
            <a:chExt cx="4343400" cy="3339720"/>
          </a:xfrm>
        </p:grpSpPr>
        <p:sp>
          <p:nvSpPr>
            <p:cNvPr id="96" name="Text Box 25"/>
            <p:cNvSpPr/>
            <p:nvPr/>
          </p:nvSpPr>
          <p:spPr>
            <a:xfrm>
              <a:off x="4648320" y="21337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Linda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7" name="Text Box 26"/>
            <p:cNvSpPr/>
            <p:nvPr/>
          </p:nvSpPr>
          <p:spPr>
            <a:xfrm>
              <a:off x="4648320" y="30481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a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Text Box 27"/>
            <p:cNvSpPr/>
            <p:nvPr/>
          </p:nvSpPr>
          <p:spPr>
            <a:xfrm>
              <a:off x="4648320" y="39625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Kath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464832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eter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0" name="Text Box 29"/>
            <p:cNvSpPr/>
            <p:nvPr/>
          </p:nvSpPr>
          <p:spPr>
            <a:xfrm>
              <a:off x="7010280" y="21337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Bost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Text Box 30"/>
            <p:cNvSpPr/>
            <p:nvPr/>
          </p:nvSpPr>
          <p:spPr>
            <a:xfrm>
              <a:off x="6934320" y="304812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New York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2" name="Text Box 31"/>
            <p:cNvSpPr/>
            <p:nvPr/>
          </p:nvSpPr>
          <p:spPr>
            <a:xfrm>
              <a:off x="6934320" y="396252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Hong Kong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3" name="Text Box 32"/>
            <p:cNvSpPr/>
            <p:nvPr/>
          </p:nvSpPr>
          <p:spPr>
            <a:xfrm>
              <a:off x="6934320" y="4952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Moscow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04" name="Line 33"/>
          <p:cNvSpPr/>
          <p:nvPr/>
        </p:nvSpPr>
        <p:spPr>
          <a:xfrm>
            <a:off x="5791320" y="2438280"/>
            <a:ext cx="990360" cy="26672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Line 34"/>
          <p:cNvSpPr/>
          <p:nvPr/>
        </p:nvSpPr>
        <p:spPr>
          <a:xfrm flipV="1">
            <a:off x="5867280" y="2437920"/>
            <a:ext cx="990720" cy="8384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Line 35"/>
          <p:cNvSpPr/>
          <p:nvPr/>
        </p:nvSpPr>
        <p:spPr>
          <a:xfrm>
            <a:off x="5867280" y="4191120"/>
            <a:ext cx="9907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Line 36"/>
          <p:cNvSpPr/>
          <p:nvPr/>
        </p:nvSpPr>
        <p:spPr>
          <a:xfrm flipV="1">
            <a:off x="5867280" y="2666880"/>
            <a:ext cx="1067040" cy="236232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1BE0-C2BB-490C-9EE8-967DB6FE79A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FC7B-28F8-43B9-B26E-D649C82E860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the domain of our function f is large, it is convenient to specify f with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ormul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e.g.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: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) = 2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leads to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-3) = -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7A39-B689-4A5D-90F3-8A97E527E54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47DA-6DD8-440D-901A-67007E2279D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functions from A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u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also functions from A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3x,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x +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+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3x + x + 5 = 4x +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(x) = 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) = 3x (x + 5) = 3x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5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D9F-2021-4937-B489-E481CE16BE2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C60D-ABE4-4EE7-841E-18703EC5EF2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unc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lready know that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an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function f: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is the set of all images of elements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only regard a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ub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, the set of all images of elements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 is called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mag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denote the image of S by f(S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S) = {f(s) |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}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1:25Z</dcterms:modified>
  <cp:revision>40</cp:revision>
  <dc:subject/>
  <dc:title>PowerPoint Presentation</dc:title>
</cp:coreProperties>
</file>