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B6D1-3C43-490B-8BD8-0860B3859DA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736A-6FF5-4C5C-AD9C-9ACFD64B083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A9F-FB5E-4597-9B07-B1BA04DD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168-6BB6-43AE-A001-BF1B073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3D9-9CAA-495A-A440-EB89E885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921-B58F-4B09-971D-B40A473A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375-749B-49BA-924A-49EEBC7B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DAC-5554-44ED-AC7F-7A1BC6F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5FC-46C3-400A-9457-6EE2FE9D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370-897F-42C1-A4DC-6C64CBC2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EF0-C158-4C1D-AF24-180931F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9C9-C333-4AA5-A070-64AE164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515-6FB0-47A6-8128-5A8A877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4C5-2CFC-47D3-BF65-D75E1BE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169-1931-485C-AA5E-DA643B6E705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FF4-1A4A-4111-96EE-E6B131ADB0F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20AC-CD7A-46B1-B528-44551F65FC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DF9-4747-43BC-A885-3DCAE38307C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the following mathematical appetizer is about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3C1-B3E7-4302-BD76-BBA58F36B33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6A2-1AE9-425C-80F3-0F2751CAB30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look at the following well-known fun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the image of S = {Linda, Max}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Moscow, Bosto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the image of S = {Max, Peter}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Bosto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398-B2B4-4134-B9C3-164D552930F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A07-6CE4-4A50-8516-8F813EEAB3B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said to b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jec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if and only i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n other word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 is one-to-one if and only if it does not map two distinct elements of A onto the same element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57E-3A2F-4EE7-9356-5E56173D2C2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8F7-5AFE-45A9-8BF6-873F1C2A7A5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agai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, Max and Peter are mapped onto the same element of the imag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72428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Peter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g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, each element is assigned a unique element of the imag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5B55-E943-40A4-96D3-750322374D5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0F8-A056-4461-BD68-74FED530B42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we prove that a function f is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Whenever you want to prove something, first take a look at the relevant definition(s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proof by counter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-3), but 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3, so f is not one-to-o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A22-FF40-45C6-902C-53A08DD7E5C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45C3-6D59-4ACE-8043-3FA1AC704F6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3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-to-on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o show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 whenever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3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if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, then 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, that is, f is one-to-o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1F81-2984-4CA2-B382-AF5B5C3B63E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5700-0BFD-4F0C-AF10-EB498AC2A17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with A,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 is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rictly increas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x &lt;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&lt; f(y)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rictly decreas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x &lt;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&gt; f(y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viously, a function that is either strictly increasing or strictly decreasing i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E9C-6B46-4D2D-8523-7435731E7F0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7206-2FCD-4B39-9F67-B5262BD8492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t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rjec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and only if for every element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there is an element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with f(a) =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other words, f is onto if and only if i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i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ntire co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 correspond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or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bije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and only if it is both one-to-one and ont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viously, if f is a bijection and A and B are finite sets, then |A| = |B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EF8-F42E-4E95-8F9D-46803B8A3DD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CFE-89EA-404A-B094-94DA33F85EC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the following examples, we use the arrow representation to illustrate functions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ach example, the complete sets A and B are show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377-0690-47EB-86D4-10C9E4ADDC1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29EB-73E4-4773-8233-B1FD8E6904D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685800" y="1143000"/>
            <a:ext cx="4343400" cy="3339720"/>
            <a:chOff x="685800" y="1143000"/>
            <a:chExt cx="4343400" cy="3339720"/>
          </a:xfrm>
        </p:grpSpPr>
        <p:sp>
          <p:nvSpPr>
            <p:cNvPr id="158" name="Text Box 5"/>
            <p:cNvSpPr/>
            <p:nvPr/>
          </p:nvSpPr>
          <p:spPr>
            <a:xfrm>
              <a:off x="68580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Text Box 6"/>
            <p:cNvSpPr/>
            <p:nvPr/>
          </p:nvSpPr>
          <p:spPr>
            <a:xfrm>
              <a:off x="685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6858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685800" y="39621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04776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2971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2971800" y="29718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971800" y="39621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6" name="Line 13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Line 14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Line 16"/>
          <p:cNvSpPr/>
          <p:nvPr/>
        </p:nvSpPr>
        <p:spPr>
          <a:xfrm flipV="1">
            <a:off x="1905120" y="1752480"/>
            <a:ext cx="106668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F4F-1099-4DFE-A960-19DB413A3E9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0782-B12F-4E22-B230-15E79D45BE4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5800" y="1143000"/>
            <a:ext cx="4343400" cy="3340080"/>
            <a:chOff x="685800" y="1143000"/>
            <a:chExt cx="4343400" cy="3340080"/>
          </a:xfrm>
        </p:grpSpPr>
        <p:sp>
          <p:nvSpPr>
            <p:cNvPr id="175" name="Text Box 5"/>
            <p:cNvSpPr/>
            <p:nvPr/>
          </p:nvSpPr>
          <p:spPr>
            <a:xfrm>
              <a:off x="68580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685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6858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68580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304812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2971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2971800" y="29718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297180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3" name="Line 13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 flipV="1">
            <a:off x="1905120" y="1752480"/>
            <a:ext cx="106668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858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u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828800" y="2590560"/>
            <a:ext cx="1143000" cy="2361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E58-6222-4A16-99B8-A2F2D59B942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628B-19EB-4ABF-8634-EB9AAAE69FD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 from a set A to a set B is a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ssign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xactly one element of B to each element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ri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a)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b is the unique element of B assigned by the function f to the element a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 is a function from A to B, we wri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ote:  Here, “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“ has nothing to do with if…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72E-C8B6-40EA-8FCF-994E4969344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DAA-9EC9-4A33-B204-F99BC7A8F7F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1905120" y="4114800"/>
            <a:ext cx="914400" cy="9144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685800" y="1143000"/>
            <a:ext cx="4343400" cy="4330440"/>
            <a:chOff x="685800" y="1143000"/>
            <a:chExt cx="4343400" cy="4330440"/>
          </a:xfrm>
        </p:grpSpPr>
        <p:grpSp>
          <p:nvGrpSpPr>
            <p:cNvPr id="198" name="Group 9"/>
            <p:cNvGrpSpPr/>
            <p:nvPr/>
          </p:nvGrpSpPr>
          <p:grpSpPr>
            <a:xfrm>
              <a:off x="685800" y="1143000"/>
              <a:ext cx="4343400" cy="3340080"/>
              <a:chOff x="685800" y="1143000"/>
              <a:chExt cx="4343400" cy="3340080"/>
            </a:xfrm>
          </p:grpSpPr>
          <p:sp>
            <p:nvSpPr>
              <p:cNvPr id="199" name="Text Box 10"/>
              <p:cNvSpPr/>
              <p:nvPr/>
            </p:nvSpPr>
            <p:spPr>
              <a:xfrm>
                <a:off x="68580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Linda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0" name="Text Box 11"/>
              <p:cNvSpPr/>
              <p:nvPr/>
            </p:nvSpPr>
            <p:spPr>
              <a:xfrm>
                <a:off x="685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ax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1" name="Text Box 12"/>
              <p:cNvSpPr/>
              <p:nvPr/>
            </p:nvSpPr>
            <p:spPr>
              <a:xfrm>
                <a:off x="685800" y="29718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Kathy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2" name="Text Box 13"/>
              <p:cNvSpPr/>
              <p:nvPr/>
            </p:nvSpPr>
            <p:spPr>
              <a:xfrm>
                <a:off x="685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Peter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3" name="Text Box 14"/>
              <p:cNvSpPr/>
              <p:nvPr/>
            </p:nvSpPr>
            <p:spPr>
              <a:xfrm>
                <a:off x="304812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Boston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2971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New York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2971800" y="2971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Hong Kong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2971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oscow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207" name="Text Box 18"/>
            <p:cNvSpPr/>
            <p:nvPr/>
          </p:nvSpPr>
          <p:spPr>
            <a:xfrm>
              <a:off x="297180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</a:t>
              </a:r>
              <a:r>
                <a:rPr b="0" lang="de-DE" sz="2800" spc="-1" strike="noStrike">
                  <a:solidFill>
                    <a:srgbClr val="ffff00"/>
                  </a:solidFill>
                  <a:latin typeface="Comic Sans MS"/>
                </a:rPr>
                <a:t>ü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ec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D5E2-3BD1-4F7A-8EDC-2316C489E6A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492-91F1-4083-80A2-BE617BB27A6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! f is not eve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 function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5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267080"/>
            <a:ext cx="914400" cy="685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685800" y="1143000"/>
            <a:ext cx="4343400" cy="4330440"/>
            <a:chOff x="685800" y="1143000"/>
            <a:chExt cx="4343400" cy="4330440"/>
          </a:xfrm>
        </p:grpSpPr>
        <p:grpSp>
          <p:nvGrpSpPr>
            <p:cNvPr id="217" name="Group 9"/>
            <p:cNvGrpSpPr/>
            <p:nvPr/>
          </p:nvGrpSpPr>
          <p:grpSpPr>
            <a:xfrm>
              <a:off x="685800" y="1143000"/>
              <a:ext cx="4343400" cy="3340080"/>
              <a:chOff x="685800" y="1143000"/>
              <a:chExt cx="4343400" cy="3340080"/>
            </a:xfrm>
          </p:grpSpPr>
          <p:sp>
            <p:nvSpPr>
              <p:cNvPr id="218" name="Text Box 10"/>
              <p:cNvSpPr/>
              <p:nvPr/>
            </p:nvSpPr>
            <p:spPr>
              <a:xfrm>
                <a:off x="68580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Linda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19" name="Text Box 11"/>
              <p:cNvSpPr/>
              <p:nvPr/>
            </p:nvSpPr>
            <p:spPr>
              <a:xfrm>
                <a:off x="685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ax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0" name="Text Box 12"/>
              <p:cNvSpPr/>
              <p:nvPr/>
            </p:nvSpPr>
            <p:spPr>
              <a:xfrm>
                <a:off x="685800" y="29718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Kathy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1" name="Text Box 13"/>
              <p:cNvSpPr/>
              <p:nvPr/>
            </p:nvSpPr>
            <p:spPr>
              <a:xfrm>
                <a:off x="685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Peter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2" name="Text Box 14"/>
              <p:cNvSpPr/>
              <p:nvPr/>
            </p:nvSpPr>
            <p:spPr>
              <a:xfrm>
                <a:off x="304812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Boston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3" name="Text Box 15"/>
              <p:cNvSpPr/>
              <p:nvPr/>
            </p:nvSpPr>
            <p:spPr>
              <a:xfrm>
                <a:off x="2971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New York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4" name="Text Box 16"/>
              <p:cNvSpPr/>
              <p:nvPr/>
            </p:nvSpPr>
            <p:spPr>
              <a:xfrm>
                <a:off x="2971800" y="2971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Hong Kong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5" name="Text Box 17"/>
              <p:cNvSpPr/>
              <p:nvPr/>
            </p:nvSpPr>
            <p:spPr>
              <a:xfrm>
                <a:off x="2971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oscow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226" name="Text Box 18"/>
            <p:cNvSpPr/>
            <p:nvPr/>
          </p:nvSpPr>
          <p:spPr>
            <a:xfrm>
              <a:off x="297180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</a:t>
              </a:r>
              <a:r>
                <a:rPr b="0" lang="de-DE" sz="2800" spc="-1" strike="noStrike">
                  <a:solidFill>
                    <a:srgbClr val="ffff00"/>
                  </a:solidFill>
                  <a:latin typeface="Comic Sans MS"/>
                </a:rPr>
                <a:t>ü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ec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Line 19"/>
          <p:cNvSpPr/>
          <p:nvPr/>
        </p:nvSpPr>
        <p:spPr>
          <a:xfrm flipV="1">
            <a:off x="1905120" y="2514240"/>
            <a:ext cx="990360" cy="1600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727-8370-4CC6-BFB0-1457A3C68F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026-2397-41DD-8C8D-E02F33F6E0C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85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0481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971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971800" y="2971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971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1905120" y="4114800"/>
            <a:ext cx="914400" cy="9144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971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85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1981080" y="2437920"/>
            <a:ext cx="914400" cy="2590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9C2-633B-4EAE-9491-6F7D6856640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9A9-49AD-4EC9-8E82-EBA7DBBA5F5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nteresting property of bijections is that they have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verse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verse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ije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function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with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= a whenever f(a) = b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916-103F-4198-AC20-6D4D9F1BCD8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936-EE93-4090-9F6B-26EC69E96FF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09480" y="1066680"/>
            <a:ext cx="3886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Helena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learly, f is bijectiv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6920" y="1066680"/>
            <a:ext cx="4038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 inverse function  f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is given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Moscow) = 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oston) = 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Hong Kong) = 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) = 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ew York) = 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sion is only possible for bijectio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= invertible function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E75-3E05-4586-A82F-BAE82EE9B14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177-9F84-47A2-8846-24A29B654C0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8580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85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8580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85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0481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971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971800" y="2971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971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971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85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1828800" y="1523880"/>
            <a:ext cx="1066680" cy="3505320"/>
            <a:chOff x="1828800" y="1523880"/>
            <a:chExt cx="1066680" cy="3505320"/>
          </a:xfrm>
        </p:grpSpPr>
        <p:sp>
          <p:nvSpPr>
            <p:cNvPr id="270" name="Line 14"/>
            <p:cNvSpPr/>
            <p:nvPr/>
          </p:nvSpPr>
          <p:spPr>
            <a:xfrm>
              <a:off x="1828800" y="1523880"/>
              <a:ext cx="990720" cy="26672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1905120" y="2362320"/>
              <a:ext cx="99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1905120" y="3276720"/>
              <a:ext cx="99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Line 17"/>
            <p:cNvSpPr/>
            <p:nvPr/>
          </p:nvSpPr>
          <p:spPr>
            <a:xfrm>
              <a:off x="1905120" y="4114800"/>
              <a:ext cx="914400" cy="9144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18"/>
            <p:cNvSpPr/>
            <p:nvPr/>
          </p:nvSpPr>
          <p:spPr>
            <a:xfrm flipV="1">
              <a:off x="1981080" y="2437920"/>
              <a:ext cx="914400" cy="2590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5" name="Group 19"/>
          <p:cNvGrpSpPr/>
          <p:nvPr/>
        </p:nvGrpSpPr>
        <p:grpSpPr>
          <a:xfrm>
            <a:off x="6095880" y="1219320"/>
            <a:ext cx="1752840" cy="520560"/>
            <a:chOff x="6095880" y="1219320"/>
            <a:chExt cx="1752840" cy="520560"/>
          </a:xfrm>
        </p:grpSpPr>
        <p:sp>
          <p:nvSpPr>
            <p:cNvPr id="276" name="Line 20"/>
            <p:cNvSpPr/>
            <p:nvPr/>
          </p:nvSpPr>
          <p:spPr>
            <a:xfrm>
              <a:off x="6858000" y="1447920"/>
              <a:ext cx="99072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Text Box 21"/>
            <p:cNvSpPr/>
            <p:nvPr/>
          </p:nvSpPr>
          <p:spPr>
            <a:xfrm>
              <a:off x="6095880" y="12193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8" name="Group 22"/>
          <p:cNvGrpSpPr/>
          <p:nvPr/>
        </p:nvGrpSpPr>
        <p:grpSpPr>
          <a:xfrm>
            <a:off x="6095880" y="2057400"/>
            <a:ext cx="1752840" cy="520560"/>
            <a:chOff x="6095880" y="2057400"/>
            <a:chExt cx="1752840" cy="520560"/>
          </a:xfrm>
        </p:grpSpPr>
        <p:sp>
          <p:nvSpPr>
            <p:cNvPr id="279" name="Line 23"/>
            <p:cNvSpPr/>
            <p:nvPr/>
          </p:nvSpPr>
          <p:spPr>
            <a:xfrm>
              <a:off x="6858000" y="2286000"/>
              <a:ext cx="990720" cy="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Text Box 24"/>
            <p:cNvSpPr/>
            <p:nvPr/>
          </p:nvSpPr>
          <p:spPr>
            <a:xfrm>
              <a:off x="6095880" y="2057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</a:t>
              </a:r>
              <a:r>
                <a:rPr b="0" lang="en-US" sz="2800" spc="-1" strike="noStrike" baseline="30000">
                  <a:solidFill>
                    <a:srgbClr val="ffff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81" name="Line 25"/>
          <p:cNvSpPr/>
          <p:nvPr/>
        </p:nvSpPr>
        <p:spPr>
          <a:xfrm flipH="1">
            <a:off x="1904760" y="2209680"/>
            <a:ext cx="99036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Line 26"/>
          <p:cNvSpPr/>
          <p:nvPr/>
        </p:nvSpPr>
        <p:spPr>
          <a:xfrm flipH="1">
            <a:off x="1905120" y="2286000"/>
            <a:ext cx="914400" cy="259092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Line 27"/>
          <p:cNvSpPr/>
          <p:nvPr/>
        </p:nvSpPr>
        <p:spPr>
          <a:xfrm flipH="1">
            <a:off x="1904760" y="3124080"/>
            <a:ext cx="99036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28"/>
          <p:cNvSpPr/>
          <p:nvPr/>
        </p:nvSpPr>
        <p:spPr>
          <a:xfrm flipH="1" flipV="1">
            <a:off x="1904760" y="1294920"/>
            <a:ext cx="990360" cy="2667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9"/>
          <p:cNvSpPr/>
          <p:nvPr/>
        </p:nvSpPr>
        <p:spPr>
          <a:xfrm flipH="1" flipV="1">
            <a:off x="1905120" y="4343400"/>
            <a:ext cx="914400" cy="9144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3760" y="2819160"/>
            <a:ext cx="327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:C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 is no function, because it is not defined for all elements of C and assigns two images to the pre-image New Yor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744-C189-4065-B9F3-69FBDF18731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12C4-CD3C-4896-8798-4C24A82C13A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functions g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and  f: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, denoted by  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, is defined by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a) = f(g(a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means that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unction g is applied to element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mapping it onto an element of B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unction f is applied to this element of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, mapping it onto an element of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refo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composite function map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from A to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5EDB-B21B-45C3-93A2-CB229ACE7E2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FAC-1815-49FC-ACA4-1FF56524B6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7x – 4, g(x) = 3x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g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5) = f(g(5)) = f(15) = 105 – 4 = 10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x) = f(g(x)) = f(3x) = 21x -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DEB-85F5-4083-B4A7-2CBAD9DBB0B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58AC-ACDC-406A-B04C-38AD551803E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osition of a function and its invers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)(x) =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(x)) = 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composition of a function and its inverse is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ntity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(x) = 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E6B-A4B8-4339-926A-67389D15107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921-8603-4186-846F-CBB4E509AD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rap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a functio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ordered pairs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and f(a) = b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raph is a subset of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that can be used to visualize f in a two-dimensional coordinate syst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710-03AB-4470-9AD9-5FA40FAAC26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283C-F229-4965-9F69-AA50F204F61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we say that A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 and B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(a) = b, we say that b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and a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-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all images of elements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ap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134-6441-4305-9E72-713AAB4B8DE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B23-6084-4F61-B796-310E0B6738F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loor and Ceiling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lo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eil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s map the real numbers onto the integer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lo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 assigns to 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largest z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0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eil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 assigns to 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mallest z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2C94-6A2A-4EBD-94CC-F7DDA36E5C0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39E3-C774-44E2-AF2E-687BAEA29F4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take a look at the function f: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 with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 = {Linda, Max, Kathy, Peter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 = {Boston, New York, Hong Kong, Moscow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the range of f is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687-FEBF-42AB-BBD9-E4EAB2F2C92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5D1-6F66-4F76-8541-51818E291D4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re-specify f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till a functi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038480" y="4343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962520" y="50292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{Moscow, Boston, Hong Kong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80880" y="5029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its rang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EBBE-3F83-405F-9E2D-6E5BD69D21F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58A-3CC7-45FA-955B-A8DB7320C27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ther ways to represent 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914400" y="2057400"/>
            <a:ext cx="3200040" cy="3581280"/>
            <a:chOff x="914400" y="2057400"/>
            <a:chExt cx="3200040" cy="3581280"/>
          </a:xfrm>
        </p:grpSpPr>
        <p:sp>
          <p:nvSpPr>
            <p:cNvPr id="76" name="Rectangle 5"/>
            <p:cNvSpPr/>
            <p:nvPr/>
          </p:nvSpPr>
          <p:spPr>
            <a:xfrm>
              <a:off x="2514240" y="510264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914400" y="5102640"/>
              <a:ext cx="1599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514240" y="4115880"/>
              <a:ext cx="160020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>
              <a:off x="914400" y="4115880"/>
              <a:ext cx="159984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>
              <a:off x="2514240" y="357984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914400" y="3579840"/>
              <a:ext cx="1599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2514240" y="2592720"/>
              <a:ext cx="16002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914400" y="2592720"/>
              <a:ext cx="15998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4240" y="2057400"/>
              <a:ext cx="16002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914400" y="2057400"/>
              <a:ext cx="15998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914400" y="2057400"/>
              <a:ext cx="320004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>
              <a:off x="914400" y="357984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914400" y="411588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914400" y="510264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914400" y="5638680"/>
              <a:ext cx="320004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914400" y="2057400"/>
              <a:ext cx="0" cy="358128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4114440" y="2057400"/>
              <a:ext cx="0" cy="358128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>
              <a:off x="2514240" y="2057400"/>
              <a:ext cx="0" cy="3581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>
              <a:off x="914400" y="259272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5" name="Group 24"/>
          <p:cNvGrpSpPr/>
          <p:nvPr/>
        </p:nvGrpSpPr>
        <p:grpSpPr>
          <a:xfrm>
            <a:off x="4648320" y="2133720"/>
            <a:ext cx="4343400" cy="3339720"/>
            <a:chOff x="4648320" y="2133720"/>
            <a:chExt cx="4343400" cy="3339720"/>
          </a:xfrm>
        </p:grpSpPr>
        <p:sp>
          <p:nvSpPr>
            <p:cNvPr id="96" name="Text Box 25"/>
            <p:cNvSpPr/>
            <p:nvPr/>
          </p:nvSpPr>
          <p:spPr>
            <a:xfrm>
              <a:off x="4648320" y="2133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Text Box 26"/>
            <p:cNvSpPr/>
            <p:nvPr/>
          </p:nvSpPr>
          <p:spPr>
            <a:xfrm>
              <a:off x="4648320" y="30481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464832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464832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7010280" y="2133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Text Box 30"/>
            <p:cNvSpPr/>
            <p:nvPr/>
          </p:nvSpPr>
          <p:spPr>
            <a:xfrm>
              <a:off x="6934320" y="30481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Text Box 31"/>
            <p:cNvSpPr/>
            <p:nvPr/>
          </p:nvSpPr>
          <p:spPr>
            <a:xfrm>
              <a:off x="6934320" y="39625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693432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4" name="Line 33"/>
          <p:cNvSpPr/>
          <p:nvPr/>
        </p:nvSpPr>
        <p:spPr>
          <a:xfrm>
            <a:off x="5791320" y="2438280"/>
            <a:ext cx="99036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34"/>
          <p:cNvSpPr/>
          <p:nvPr/>
        </p:nvSpPr>
        <p:spPr>
          <a:xfrm flipV="1">
            <a:off x="5867280" y="2437920"/>
            <a:ext cx="99072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35"/>
          <p:cNvSpPr/>
          <p:nvPr/>
        </p:nvSpPr>
        <p:spPr>
          <a:xfrm>
            <a:off x="5867280" y="4191120"/>
            <a:ext cx="9907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36"/>
          <p:cNvSpPr/>
          <p:nvPr/>
        </p:nvSpPr>
        <p:spPr>
          <a:xfrm flipV="1">
            <a:off x="5867280" y="2666880"/>
            <a:ext cx="106704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A02-8261-44AE-983B-7E784054DFB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DE8B-A4DB-4BD8-B0E2-78C80B7A40C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the domain of our function f is large, it is convenient to specify f with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.g.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2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to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-3) = -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4C31-4A73-4492-821F-B02D385D48D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62D-281A-4A09-B60A-AF535329168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unctions from A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so functions from A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,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x +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 + x + 5 = 4x +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 (x + 5) = 3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5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D90-CB93-488F-A364-0F463BB8A00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C3F2-B8E1-439A-A1E4-B2DEF1046B8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ready know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all images of elements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only regard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b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, the set of all images of elements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is called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denote the image of S by f(S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f(s) |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1:25Z</dcterms:modified>
  <cp:revision>40</cp:revision>
  <dc:subject/>
  <dc:title>PowerPoint Presentation</dc:title>
</cp:coreProperties>
</file>