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D2F2-BF46-40F2-8C71-65A5F851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Basic 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390760" y="380880"/>
            <a:ext cx="5915160" cy="590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18669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eign keys may cause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either v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 refer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ecause they refer to a table that has not yet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number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MALL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-point (real) number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-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VARCHA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-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eng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 VARYING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Component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N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 the form YYYY-MM-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TA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a minimum of six positions for decimal fractions of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TIME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a relative value that can be used to increment or decrement an absolute value of a date, time, or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ata Types and Domai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used with the attribut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t easier to change the data type for a domain that is used by numerous attrib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schema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DOMAIN SSN_TYPE AS CHAR(9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and referential integr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on attribute domains and NU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individual tuples within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Attribute Constraints and Attribute 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NU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permitted for a particular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valu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umber INT NOT NULL CHECK (Dnumber &gt; 0 AND Dnumber &lt; 2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09760" y="671400"/>
            <a:ext cx="812448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Key and Referential Integrity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 K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one or more attributes that make up the primary key of a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umber INT PRIMARY KE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alternate (secondary)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ame VARCHAR(15) UNIQ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Data Definition and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Constrai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trieval Querie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eatures of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Key and Referential Integrity Constrai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IG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K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operation: reject update on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tial triggered 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inclu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taken by the DBMS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e for 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N DE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on suitable for “relationship”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Names to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later a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on Tuples Using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s at the end of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 each tuple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 (Dept_create_date &lt;= Mgr_start_dat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etrieval Querie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asic statement for retrieving information from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allows a table to have two or more tuples that are identical in all their attribu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rela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et or ba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LECT-FROM-WHERE Structure of Basic SQ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form of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30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LECT-FROM-WHERE Structure of Basic SQL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057040"/>
            <a:ext cx="82281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mparison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, &lt;, &lt;=, &gt;, &gt;=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 whose values are to be retr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condition that must be true for any retrieved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05760" cy="2266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683424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684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3916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rcRect l="0" t="0" r="0" b="70378"/>
          <a:stretch/>
        </p:blipFill>
        <p:spPr>
          <a:xfrm>
            <a:off x="457200" y="1219320"/>
            <a:ext cx="728352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733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Attribute Na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name can be used for two (or more) attribu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attributes are in different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ttribute name with the relation name to prevent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660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asing, Renaming, and Tupl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pl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lternative relation names E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MPLOYEE AS E(Fn, Mi, Ln, Ssn, Bd, Addr, Sex, Sal, Sssn, D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one of the major reasons for the commercial success of relation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Quer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s for data definitions, queries, and updates (both DDL and D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specializ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pecified WHERE Cla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Use of the Aste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no condition on tupl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ssible tuple comb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676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pecified WHERE Cla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Use of the Asterisk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 asterisk 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all the attribute values of the selected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55627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s Se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does not automatically eliminate duplicate tuples in query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keywor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IN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istinct tuples should remain in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629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s Set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ifference)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multiset opera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4962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ing Pattern Matching and Arithmetic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t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replaces an arbitrary number of zero or mor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core (_) replaces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rithmetic ope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(+), subtraction (–), multiplication (*), and division (/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of Que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B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e result in a descending ord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ecify ascending order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BY D.Dname DESC, E.Lname ASC, E.Fname A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and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Basic SQL Retriev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39891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, DELETE, and UPDATE Stateme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mmands used to modify the datab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SERT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relation name and a list of values for the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02936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13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LETE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tuples from a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to select the tuples to b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5218" r="0" b="0"/>
          <a:stretch/>
        </p:blipFill>
        <p:spPr>
          <a:xfrm>
            <a:off x="1752480" y="3348000"/>
            <a:ext cx="49802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Data Definition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for relational model terms relation, tuple, and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SQL command for data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PDATE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attribute values of one or more selected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attributes to be modified and new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00200" y="4876920"/>
            <a:ext cx="5958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Features of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specifying complex retrieval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programs in various programming languages that include SQ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commands for specifying physical database design parameters, file structures for relations, and access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contro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Features of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the granting and revoking of privileges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s for creating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relational systems known as object-rel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such as XML and O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, queries, updates, constraint specification, and view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ed in Chapter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 commands for creating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s for constrain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etrieval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update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and Catalog Concep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sch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zation ident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, constraints, views, domains, and other constr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ment in SQL ends with a semi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and Catalog Concept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CHE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SCHEMA COMPANY AUTHORIZATION ‘Jsmith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collection of schemas in an SQ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an SQL-compliant RDBMS on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 new re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ttributes and initi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ptionally specify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 COMPANY.EMPLOYE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ABLE EMPLOYE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E TABLE Command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tab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re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nd its tuples are actually created and stored as a file by the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roug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6457680" cy="484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52280" y="4403880"/>
            <a:ext cx="186696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16:19Z</dcterms:modified>
  <cp:revision>53</cp:revision>
  <dc:subject/>
  <dc:title>Slide 1</dc:title>
</cp:coreProperties>
</file>