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CB3F-3FD3-41C1-881F-04CAD6B45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99072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Pearson Education, Inc. Publishing as Pearson Addison-W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AW logo"/>
          <p:cNvPicPr/>
          <p:nvPr/>
        </p:nvPicPr>
        <p:blipFill>
          <a:blip r:embed="rId3"/>
          <a:stretch/>
        </p:blipFill>
        <p:spPr>
          <a:xfrm>
            <a:off x="0" y="617364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5151240" cy="632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68580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Ramez Elmasri and Shamkant Nava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0" y="634536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8686800" y="0"/>
            <a:ext cx="466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8580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Ramez Elmasri and Shamkant Nava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AW logo"/>
          <p:cNvPicPr/>
          <p:nvPr/>
        </p:nvPicPr>
        <p:blipFill>
          <a:blip r:embed="rId3"/>
          <a:stretch/>
        </p:blipFill>
        <p:spPr>
          <a:xfrm>
            <a:off x="0" y="634536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8686800" y="0"/>
            <a:ext cx="466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99072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Pearson Education, Inc. Publishing as Pearson Addison-W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AW logo"/>
          <p:cNvPicPr/>
          <p:nvPr/>
        </p:nvPicPr>
        <p:blipFill>
          <a:blip r:embed="rId3"/>
          <a:stretch/>
        </p:blipFill>
        <p:spPr>
          <a:xfrm>
            <a:off x="0" y="617364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5151240" cy="632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380880" y="2209680"/>
            <a:ext cx="304812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ury Gothic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Century Gothic"/>
              </a:rPr>
              <a:t>Databases and Database 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80880" y="2209680"/>
            <a:ext cx="304812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ury Gothic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Century Gothic"/>
              </a:rPr>
              <a:t>Basic SQ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390760" y="380880"/>
            <a:ext cx="5915160" cy="5905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52280" y="4419720"/>
            <a:ext cx="186696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E TABLE Command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oreign keys may cause err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d either v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ar refer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because they refer to a table that has not yet been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 Data Types and Domain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er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yp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 number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MALL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ing-point (real) number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-str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yp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length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ACTER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ing 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VARCHAR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VARYING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ACTER VARYING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 Data Types and Domains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t-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typ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length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T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ing length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T VARYING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ty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ty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Components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N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in the form YYYY-MM-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 Data Types and Domains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stam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type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STAM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a minimum of six positions for decimal fractions of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 TIME Z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es a relative value that can be used to increment or decrement an absolute value of a date, time, or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 Data Types and Domains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used with the attribut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it easier to change the data type for a domain that is used by numerous attrib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s schema rea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DOMAIN SSN_TYPE AS CHAR(9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ing Constraint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a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and referential integrity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on attribute domains and NU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on individual tuples within a 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ing Attribute Constraints and Attribute Defa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OT NU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not permitted for a particular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alue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number INT NOT NULL CHECK (Dnumber &gt; 0 AND Dnumber &lt; 2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09760" y="671400"/>
            <a:ext cx="812448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ing Key and Referential Integrity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 KE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one or more attributes that make up the primary key of a 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number INT PRIMARY KE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alternate (secondary)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name VARCHAR(15) UNIQU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4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Data Definition and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ing Constraints in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Retrieval Queries in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s in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Features of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ing Key and Referential Integrity Constraint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IG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KE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operation: reject update on vi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tial triggered 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inclu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NU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C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taken by the DBMS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NU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DE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ame for bo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N DE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N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C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on suitable for “relationship”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Names to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R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later al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ing Constraints on Tuples Using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s at the end o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to each tuple individ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 (Dept_create_date &lt;= Mgr_start_dat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etrieval Querie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basic statement for retrieving information from a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allows a table to have two or more tuples that are identical in all their attribut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relatio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set or bag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LECT-FROM-WHERE Structure of Basic SQL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form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307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LECT-FROM-WHERE Structure of Basic SQL Queri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057040"/>
            <a:ext cx="82281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comparison 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, &lt;, &lt;=, &gt;, &gt;=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s whose values are to be retrie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 condition that must be true for any retrieved t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105760" cy="2266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683424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68450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3916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rcRect l="0" t="0" r="0" b="70378"/>
          <a:stretch/>
        </p:blipFill>
        <p:spPr>
          <a:xfrm>
            <a:off x="457200" y="1219320"/>
            <a:ext cx="7283520" cy="1523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7331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Attribute Nam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name can be used for two (or more) attribu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ong as the attributes are in different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attribute name with the relation name to prevent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1143000" y="4724280"/>
            <a:ext cx="6608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asing, Renaming, and Tupl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i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pl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alternative relation names E and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AS E(Fn, Mi, Ln, Ssn, Bd, Addr, Sex, Sal, Sssn, D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langu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one of the major reasons for the commercial success of relational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Quer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s for data definitions, queries, and updates (both DDL and D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specializ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specified WHERE Clau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Use of the Aste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no condition on tuple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OSS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ossible tuple combin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6765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specified WHERE Clau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Use of the Asterisk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an asterisk 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e all the attribute values of the selected t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556272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as Set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does not automatically eliminate duplicate tuples in query 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keywor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distinct tuples should remain in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6629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as Sets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ifference)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S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ing multiset operation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S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752480" y="3733920"/>
            <a:ext cx="49626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ring Pattern Matching and Arithmetic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I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str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tern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replaces an arbitrary number of zero or mor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core (_) replaces a singl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arithmetic opera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(+), subtraction (–), multiplication (*), and division (/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ison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ing of Quer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 BY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ee result in a descending order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S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pecify ascending order explici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 BY D.Dname DESC, E.Lname ASC, E.Fname A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and Sum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Basic SQL Retrieval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398916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, DELETE, and UPDATE Statement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ommands used to modify the databa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SERT 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the relation name and a list of values for the tu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7029360" cy="838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113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LETE 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s tuples from a 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use to select the tuples to be de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rcRect l="0" t="5218" r="0" b="0"/>
          <a:stretch/>
        </p:blipFill>
        <p:spPr>
          <a:xfrm>
            <a:off x="1752480" y="3348000"/>
            <a:ext cx="498024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 Data Definition and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for relational model terms relation, tuple, and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SQL command for data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PDATE 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attribute values of one or more selected tu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attributes to be modified and new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600200" y="4876920"/>
            <a:ext cx="5958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Features of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for specifying complex retrieval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programs in various programming languages that include SQ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commands for specifying physical database design parameters, file structures for relations, and access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 control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Features of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ing the granting and revoking of privileges to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s for creating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relational systems known as object-rel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ies such as XML and O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ve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efinition, queries, updates, constraint specification, and view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ed in Chapter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efinition commands for creating t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s for constraint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retrieval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update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and Catalog Concept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 sche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by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ma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ization identif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s, constraints, views, domains, and other constr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tement in SQL ends with a semi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and Catalog Concepts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SCHE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SCHEMA COMPANY AUTHORIZATION ‘Jsmith’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d collection of schemas in an SQ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of an SQL-compliant RDBMS on a comput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E TABLE Command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a new re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attributes and initial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ptionally specify sch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TABLE COMPANY.EMPLOYE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TABLE EMPLOYE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E TABLE Command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tab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rel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and its tuples are actually created and stored as a file by the 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tu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hroug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VIE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6457680" cy="4846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152280" y="4403880"/>
            <a:ext cx="186696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5:58:58Z</dcterms:created>
  <dc:creator>Dr. HASSAN</dc:creator>
  <dc:description/>
  <dc:language>en-US</dc:language>
  <cp:lastModifiedBy>Dr. HASSAN</cp:lastModifiedBy>
  <dcterms:modified xsi:type="dcterms:W3CDTF">2011-06-26T09:16:19Z</dcterms:modified>
  <cp:revision>53</cp:revision>
  <dc:subject/>
  <dc:title>Slide 1</dc:title>
</cp:coreProperties>
</file>