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4BE1F54-6796-4AED-9F7C-F0A9FC13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FA32D89-71F3-4927-8236-115C3FC7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828-8D27-4FE7-9276-634B9267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C72-8503-48F6-A926-A66580F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AC0-308F-466E-AAC9-C20CB6D0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732-1938-478A-8750-03DCDC62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12E-0313-465D-A318-11E69424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87A-02CA-4631-9E81-ABDD8C5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19A-1A49-43A2-863F-A878EC47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12B-4E29-4DD8-8CD6-6970F70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478-20D0-4BDF-8FF0-92DD078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322-3AE9-4DE4-8160-DB7BE33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ED3-CE41-47D9-8F36-233CF1E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2DB-5DF2-488E-A585-0A12DFF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4DEA-DB57-4FFE-AC6A-73898C60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Principles of Engineering Economic Analysi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5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401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gineering Economy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mmer Semester 1431-143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5" descr="5eCover.bmp"/>
          <p:cNvPicPr/>
          <p:nvPr/>
        </p:nvPicPr>
        <p:blipFill>
          <a:blip r:embed="rId1"/>
          <a:stretch/>
        </p:blipFill>
        <p:spPr>
          <a:xfrm>
            <a:off x="6019920" y="2590920"/>
            <a:ext cx="2919240" cy="38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Rectangle 3"/>
          <p:cNvSpPr/>
          <p:nvPr/>
        </p:nvSpPr>
        <p:spPr>
          <a:xfrm>
            <a:off x="762120" y="3352680"/>
            <a:ext cx="50292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. Talal Al-Refa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l Engineering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: 2-A-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Khalid Alda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l Engineering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: 2-A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Engineering economic analy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ing a combination of quantitative and qualitative techniques to analy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conomic differen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ong engineering design alternatives in selecting the preferre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Is Included in 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mportance of the time value of money (TVO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discounted cash flow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 principles of engineering economic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7-step approach for performing engineering economic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TVOM can be igno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Fundamental Concep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ney has a time val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ime Value of Mone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5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1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5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2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5000 a year from toda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,000 a year from toda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0,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ime Value of Mone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ardless of the value of inflation, money has a time value due to its “earning power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by airplane and need a c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buy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and need a place to st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buy a house or condomi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a house, apartment, or hotel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and need m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money from a business o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0"/>
            <a:ext cx="8458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ur Discounted Cash Flow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 has a time valu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 cannot be added or subtracted unless it occurs at the same point(s) in ti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ove money forward one time unit, multiply by one plus the discount or interest r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ove money backward one time unit, divide by one plus the discount or interest r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has a time val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investments that are economically justifi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mutually exclusive investment alternative that maximizes economic wor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investment alternatives are equivalent if they have the same economic wor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need a new machine and don’t buy it, you pay for it without ever getting it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nry F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revenue must exceed marginal co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 to invest as long as each additional increment of investment yields a return that is greater than the investor’s TVO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only differences in cash flows among investment alternativ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bject of management is not necessarily the highest rate of return on capital, but … to assure profit with each increment of volume that will at least equal the economic cost of additional capital required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aldson Br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ief Financial Offi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Mo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arious universities, this course is referred to as Engineering Economy, Engineering Economic Analysis, Economic Decision Making, Economic Analysis, and Economic Decision Analysis, among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to be covered is frequently cited by alumni as the topic they want to see given greater empha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will be approached from a cash flow perspective, i.e., the concern will be with monies spent and received (sav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investment alternatives over a common period of ti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s and returns tend to be positively correla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costs are irrelevant in engineering economic analyses, unless they impact future co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conomic Justification</a:t>
            </a:r>
            <a:br>
              <a:rPr sz="4000"/>
            </a:b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Seven Questions to Answ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nvestment alternatives are 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length of time over which the decision is to be mad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VOM will be used to move monies forward and/or backward in ti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best estimates of the cash flows for each alterna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vestment alternative seems best, based on the economic criterion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ensitive is the decision to changes or errors in the estimates used in the analysi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vestment is recommend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T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ystematic Economic Analysis Technique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-Step Proced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investment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e the planning horiz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y the discount r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imate the cash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e the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 supplementary analy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1: Identify the Feasible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mportant step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ware the “Do Nothing”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range of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objectiv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“size gat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the whole, justify the whole, and implement the part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.5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irm is considering three investment proposals (A,B, &amp; C).  A requires $1M investment, B requires $2.5M, and C requires $3M.  The firm has $4.5M to invest. C is contingent on A; B and C are mutually exclusive.  The “do nothing” alternative is not feasible.  Form the set of mutually exclusive investment alternatives that exis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.5 Forming Invest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s from Investment Propos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304920" y="1760400"/>
          <a:ext cx="8610480" cy="40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60400"/>
                    <a:ext cx="861048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762120" y="1143000"/>
          <a:ext cx="7543800" cy="52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5438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.5 Forming Invest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s from Investment Propos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90720" y="571500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990720" y="28195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990720" y="2362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2: Define the Planning Horizon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idth of th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&lt; 5 yrs; Japan &gt; 15 y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horizon vs. working life vs. depreciable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planning horiz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too short a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too long a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223040" y="64911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e Chap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3: Specify the Discount Rat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dle rate, interest rate, return on investment (ROI), minimum attractive rate of return (MA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has a time val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y cost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– double-dig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 – single-dig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223040" y="64911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e Chap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4: Estimate the Cash Flows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is not a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estimat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gibles and intangi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estimates, not past estim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 and reven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l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forget the competi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bjectives are for you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the economic justification portion of the FE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prepare economic justifications for engineering propos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manage personal finances and make wise investment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evaluate economic justifications performed by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5: Compare the Investment Alternative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method (PW) (* Ch. 5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method (CW) 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ed payback period method (DPBP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back period method (PBP) 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th method (FW) (* Ch. 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worth method (AW) (* Ch. 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te of return method (I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rate of return method (E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internal rate of return (MI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/Cost ratio method (B/C) (* Ch. 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6: Perform Supplementary Analyse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wade in rivers, on the average, two feet deep when wearing boots that are two feet tall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even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the extra mi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ware of “paralysis of analysi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-even, Sensitivity, and Risk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-even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value of one or more parameters that will make the PW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impact of a range of values for one or more parameters on the measure of mer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probability the PW&gt;0, given probability distributions for one or mor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 the support of the users of the recommend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sell the recommend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surpr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over-sell the technical aspects of the recommend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spects seldom convince management to make the required inves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cision-makers’ perspectives are br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 their priorities and tailor the economic justification package according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 the proposed investments to the well-being of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how the investment relates to the firm’s strategic plan and stated corporat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proposal will be only one of many submitted and many will not be fun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to fund your proposal does not mean management is stup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’s decision to fund your proposal does not mean they are brilli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confuse unfavorable results with desti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is everything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 maximization is not always the “name of the game,” but “selling” i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rm’s ability to finance the proposal is as important as its economic mer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get what you pa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be penny-wise and dollar-foo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he “Golden Rule,” those with gold make the ru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ss you bet the more you stand to lose in case you wi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 Stop #1—Checking Your Pu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someone offers you the choice of receiving $1000 today versus receiving $1000 a year from today, you should take the money today if your time value of money is greater than z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f False: A strength of the weighted factor comparison technique is its scientific foundation and its elimination of subjectivity from decision mak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your time value of money is 10% annually, then you will be indifferent between receiving $1000 today and receiving $1100 one year from tod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Based on the principles of engineering economic analysis, you should bet on the horse with the lowest odds to win, because risk and returns tend to be positively correla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Every economic decision should be based on the time value of mone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 Stop #1—Checking Your Pu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someone offers you the choice of receiving $1000 today versus receiving $1000 a year from today, you should take the money today if your time value of money is greater than zero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f False: A strength of the weighted factor comparison technique is its scientific foundation and its elimination of subjectivity from decision making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your time value of money is 10% annually, then you will be indifferent between receiving $1000 today and receiving $1100 one year from today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Based on the principles of engineering economic analysis, you should bet on the horse with the lowest odds to win, because risk and returns tend to be positively correlated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Every economic decision should be based on the time value of money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rse objectives are for you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omfortable using financial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 of tradeoffs involving expenses and capital costs under tax and inflation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amiliar with advanced techniques of modeling decision problems under risk and uncertainty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y Commitment to Yo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will endeavor 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rt and end class on-time every ti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prepared and give a “best effort” in teaching the course materi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 you as professionals and cover material that will be of maximum benefit to you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ermine your grade based on your performance, i.e., you are not competing with one anoth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urn all graded work promptl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pond to your feedbac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our Commitment to 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endeavor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every class and arrive on time, unless you are ill or have a personal “emergenc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handouts and text before coming to class; turn in all homework and take all t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self as a professional, maintain the highest integrity and code of conduct, and help other students learn the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if you have difficulty understanding the material and provide feedback at the end of each class on positive and negative aspects of the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extbook for the course 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28600" y="2514600"/>
            <a:ext cx="5867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s of Engineering Economi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. A. White, K. E. Case, and D. B. Pratt,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, John Wiley &amp; Sons, Inc., 200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5" descr="5eCover.bmp"/>
          <p:cNvPicPr/>
          <p:nvPr/>
        </p:nvPicPr>
        <p:blipFill>
          <a:blip r:embed="rId1"/>
          <a:stretch/>
        </p:blipFill>
        <p:spPr>
          <a:xfrm rot="483000">
            <a:off x="5381640" y="1954080"/>
            <a:ext cx="3157560" cy="41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BASIS FOR COURSE GRA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zes (15%) and Attendance (5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-5.30    PM)               wed. 20-08-14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-11.30 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wed. 11-09-14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gineering Economic Analys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5:30:01Z</dcterms:created>
  <dc:creator>kstoval</dc:creator>
  <dc:description/>
  <dc:language>en-US</dc:language>
  <cp:lastModifiedBy>ksu</cp:lastModifiedBy>
  <dcterms:modified xsi:type="dcterms:W3CDTF">2011-12-27T17:38:47Z</dcterms:modified>
  <cp:revision>152</cp:revision>
  <dc:subject/>
  <dc:title>INEG 3413 Engineering Economic Analysis Fall 2004</dc:title>
</cp:coreProperties>
</file>