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1292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636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12920" y="8956440"/>
            <a:ext cx="30718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2922055-5BD5-450F-B5DD-916CDF170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4013280" y="8956800"/>
            <a:ext cx="3071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5905155-6313-40E3-826E-029D65A7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200" y="4479480"/>
            <a:ext cx="5667480" cy="42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4E2-2812-4DA0-A33F-CE04398E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057-3EA5-40AD-852C-666D6ACE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B2B-422A-43B4-A6CF-8277E568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A23-C673-43E9-A555-E86BFE4E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CEC-6E0C-48C6-A76F-40FB7C1B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ED3-566D-43ED-A77C-D2947FAC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EB7-5F74-4F7F-BC4F-C2990E50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6B6-36C4-45A4-89D7-39BFCB61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E6B-5A61-4FDC-9D0A-AF328B80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F0F-EA29-4CAD-8324-CD9101CC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28E-06F6-497C-8764-D3C1D11A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4D8-5AC8-45AB-AFFD-BE311012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191C-AAD2-4E5B-9A20-7E5052123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400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Principles of Engineering Economic Analysi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, 5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401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ngineering Economy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ummer Semester 1431-143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5" descr="5eCover.bmp"/>
          <p:cNvPicPr/>
          <p:nvPr/>
        </p:nvPicPr>
        <p:blipFill>
          <a:blip r:embed="rId1"/>
          <a:stretch/>
        </p:blipFill>
        <p:spPr>
          <a:xfrm>
            <a:off x="6019920" y="2590920"/>
            <a:ext cx="2919240" cy="383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Rectangle 3"/>
          <p:cNvSpPr/>
          <p:nvPr/>
        </p:nvSpPr>
        <p:spPr>
          <a:xfrm>
            <a:off x="762120" y="3352680"/>
            <a:ext cx="50292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. Talal Al-Refa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vil Engineering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: 2-A-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Khalid Alda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vil Engineering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: 2-A-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Engineering economic analy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using a combination of quantitative and qualitative techniques to analy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conomic differen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mong engineering design alternatives in selecting the preferred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 Is Included in Chapter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mportance of the time value of money (TVO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discounted cash flow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 principles of engineering economic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7-step approach for performing engineering economic analy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 TVOM can be igno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Fundamental Concep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oney has a time valu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ime Value of Mone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00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05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10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50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200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5000 a year from toda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0,000 a year from toda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you rather receive $1000 today or $100,000 a year from tod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ime Value of Mone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ardless of the value of inflation, money has a time value due to its “earning power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 you arrive in a city by airplane and need a c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buy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rent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 you arrive in a city and need a place to st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buy a house or condomi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rent a house, apartment, or hotel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 you arrive in a city and need mon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an rent money from a business o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0"/>
            <a:ext cx="84582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our Discounted Cash Flow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ey has a time valu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ey cannot be added or subtracted unless it occurs at the same point(s) in ti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ove money forward one time unit, multiply by one plus the discount or interest r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ove money backward one time unit, divide by one plus the discount or interest r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inciples of Engineering Economic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has a time valu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investments that are economically justifi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e the mutually exclusive investment alternative that maximizes economic wort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investment alternatives are equivalent if they have the same economic wort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need a new machine and don’t buy it, you pay for it without ever getting it.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nry F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inciples of Engineering Economic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revenue must exceed marginal cos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e to invest as long as each additional increment of investment yields a return that is greater than the investor’s TVO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only differences in cash flows among investment alternativ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bject of management is not necessarily the highest rate of return on capital, but … to assure profit with each increment of volume that will at least equal the economic cost of additional capital required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naldson Bro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ief Financial Offi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eneral Mo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various universities, this course is referred to as Engineering Economy, Engineering Economic Analysis, Economic Decision Making, Economic Analysis, and Economic Decision Analysis, among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erial to be covered is frequently cited by alumni as the topic they want to see given greater empha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will be approached from a cash flow perspective, i.e., the concern will be with monies spent and received (sav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inciples of Engineering Economic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 investment alternatives over a common period of ti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s and returns tend to be positively correlat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costs are irrelevant in engineering economic analyses, unless they impact future co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conomic Justification</a:t>
            </a:r>
            <a:br>
              <a:rPr sz="4000"/>
            </a:b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Seven Questions to Answ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nvestment alternatives are availa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length of time over which the decision is to be mad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VOM will be used to move monies forward and/or backward in ti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best estimates of the cash flows for each alternati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vestment alternative seems best, based on the economic criterion chos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sensitive is the decision to changes or errors in the estimates used in the analysi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vestment is recommend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AT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ystematic Economic Analysis Technique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-Step Proced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the investment altern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e the planning horiz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y the discount r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imate the cash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re the altern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 supplementary analy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 the preferred alterna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1: Identify the Feasible Altern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important step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ware the “Do Nothing” altern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a range of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objectiv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of “size gates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the whole, justify the whole, and implement the parts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1.5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irm is considering three investment proposals (A,B, &amp; C).  A requires $1M investment, B requires $2.5M, and C requires $3M.  The firm has $4.5M to invest. C is contingent on A; B and C are mutually exclusive.  The “do nothing” alternative is not feasible.  Form the set of mutually exclusive investment alternatives that exis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.5 Forming Invest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ives from Investment Propos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304920" y="1760400"/>
          <a:ext cx="8610480" cy="402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60400"/>
                    <a:ext cx="861048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762120" y="1143000"/>
          <a:ext cx="7543800" cy="52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54380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.5 Forming Invest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ives from Investment Propos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90720" y="571500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990720" y="281952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990720" y="236232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990720" y="3809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2: Define the Planning Horizon*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idth of the wind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&lt; 5 yrs; Japan &gt; 15 y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ing horizon vs. working life vs. depreciable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planning horiz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of too short a planning hori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of too long a planning hori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223040" y="64911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ee Chap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3: Specify the Discount Rate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rdle rate, interest rate, return on investment (ROI), minimum attractive rate of return (MAR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has a time val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y cost fo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– double-digi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pan – single-digi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223040" y="64911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ee Chap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4: Estimate the Cash Flows*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iation is not a cash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ual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estimates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gibles and intangi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 estimates, not past estim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s and reven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mental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forget the competition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e Chapter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urse 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bjectives are for you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for the economic justification portion of the FE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prepare economic justifications for engineering propos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manage personal finances and make wise investment dec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evaluate economic justifications performed by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5: Compare the Investment Alternatives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worth method (PW) (* Ch. 5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talized worth method (CW) (* Ch.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unted payback period method (DPBP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* Ch.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back period method (PBP) (* Ch.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worth method (FW) (* Ch. 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worth method (AW) (* Ch. 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te of return method (IRR) (* Ch. 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rate of return method (ERR) (* Ch. 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ed internal rate of return (MIRR) (* Ch. 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/Cost ratio method (B/C) (* Ch. 1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6: Perform Supplementary Analyses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wade in rivers, on the average, two feet deep when wearing boots that are two feet tall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even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ing the extra mil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ware of “paralysis of analysi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e Chapter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-even, Sensitivity, and Risk Analy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-even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ng the value of one or more parameters that will make the PW=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ng the impact of a range of values for one or more parameters on the measure of mer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ng the probability the PW&gt;0, given probability distributions for one or more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7: Select the Preferred Alternative*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ain the support of the users of the recommended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sell the recommend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e surpri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over-sell the technical aspects of the recommended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aspects seldom convince management to make the required invest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cision-makers’ perspectives are bro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 their priorities and tailor the economic justification package according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86600" y="6491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see Chapter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e the proposed investments to the well-being of the fi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how the investment relates to the firm’s strategic plan and stated corporate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proposal will be only one of many submitted and many will not be fun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lure to fund your proposal does not mean management is stup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’s decision to fund your proposal does not mean they are brilli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7: Select the Preferred Alterna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confuse unfavorable results with desti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 is everything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t maximization is not always the “name of the game,” but “selling” i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irm’s ability to finance the proposal is as important as its economic mer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get what you pa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be penny-wise and dollar-fooli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ember the “Golden Rule,” those with gold make the rul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ss you bet the more you stand to lose in case you wi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ep 7: Select the Preferred Alterna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t Stop #1—Checking Your Pu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If someone offers you the choice of receiving $1000 today versus receiving $1000 a year from today, you should take the money today if your time value of money is greater than zer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f False: A strength of the weighted factor comparison technique is its scientific foundation and its elimination of subjectivity from decision mak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If your time value of money is 10% annually, then you will be indifferent between receiving $1000 today and receiving $1100 one year from toda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Based on the principles of engineering economic analysis, you should bet on the horse with the lowest odds to win, because risk and returns tend to be positively correla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Every economic decision should be based on the time value of mone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t Stop #1—Checking Your Pu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If someone offers you the choice of receiving $1000 today versus receiving $1000 a year from today, you should take the money today if your time value of money is greater than zero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f False: A strength of the weighted factor comparison technique is its scientific foundation and its elimination of subjectivity from decision making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If your time value of money is 10% annually, then you will be indifferent between receiving $1000 today and receiving $1100 one year from today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Based on the principles of engineering economic analysis, you should bet on the horse with the lowest odds to win, because risk and returns tend to be positively correlated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 or False: Every economic decision should be based on the time value of money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urse 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urse objectives are for you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omfortable using financial langu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ware of tradeoffs involving expenses and capital costs under tax and inflation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familiar with advanced techniques of modeling decision problems under risk and uncertainty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y Commitment to You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will endeavor 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rt and end class on-time every ti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 prepared and give a “best effort” in teaching the course materia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eat you as professionals and cover material that will be of maximum benefit to you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termine your grade based on your performance, i.e., you are not competing with one anoth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turn all graded work promptl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pond to your feedbac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Your Commitment to 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endeavor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every class and arrive on time, unless you are ill or have a personal “emergenc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handouts and text before coming to class; turn in all homework and take all te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yourself as a professional, maintain the highest integrity and code of conduct, and help other students learn the mate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e know if you have difficulty understanding the material and provide feedback at the end of each class on positive and negative aspects of the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extbook for the course 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228600" y="2514600"/>
            <a:ext cx="58672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s of Engineering Economi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. A. White, K. E. Case, and D. B. Pratt,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, John Wiley &amp; Sons, Inc., 200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5" descr="5eCover.bmp"/>
          <p:cNvPicPr/>
          <p:nvPr/>
        </p:nvPicPr>
        <p:blipFill>
          <a:blip r:embed="rId1"/>
          <a:stretch/>
        </p:blipFill>
        <p:spPr>
          <a:xfrm rot="483000">
            <a:off x="5381640" y="1954080"/>
            <a:ext cx="3157560" cy="415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BASIS FOR COURSE GRA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zes (15%) and Attendance (5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te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-5.30    PM)               wed. 20-08-14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-11.30 P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wed. 11-09-14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Ex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%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hapter 1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gineering Economic Analysi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5:30:01Z</dcterms:created>
  <dc:creator>kstoval</dc:creator>
  <dc:description/>
  <dc:language>en-US</dc:language>
  <cp:lastModifiedBy>ksu</cp:lastModifiedBy>
  <dcterms:modified xsi:type="dcterms:W3CDTF">2011-12-27T17:38:47Z</dcterms:modified>
  <cp:revision>152</cp:revision>
  <dc:subject/>
  <dc:title>INEG 3413 Engineering Economic Analysis Fall 2004</dc:title>
</cp:coreProperties>
</file>