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20.png" ContentType="image/png"/>
  <Override PartName="/ppt/media/image2.wmf" ContentType="image/x-wmf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wmf" ContentType="image/x-wmf"/>
  <Override PartName="/ppt/media/image10.png" ContentType="image/png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77600" cy="93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93760" y="704880"/>
            <a:ext cx="4689360" cy="351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1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91180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08240" y="891180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8759-D389-4BAA-88E7-1C84FD1BF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93760" y="704880"/>
            <a:ext cx="4689360" cy="35179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1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SOLVER parameter box can be grabbed, moved, and re-siz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008600" y="89121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A8C6-2303-415B-970B-FFF2661D6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57A-7470-4FAE-9751-957F037B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7852-9CD0-48FF-9299-39FACCBB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249F-36E1-4C3B-A009-68F36825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42E6-1157-4FEE-B4C2-369DAE2F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0C59-85C9-4384-A680-2D4DB90D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D661-AE42-4844-A105-ED590DBB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6CB4-D351-4D60-9F66-D9FB1701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FB51-06DB-4CAE-9BBD-C027546A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4C4F-2FD5-452E-B845-FAD0D861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A2C-1A39-4114-98A8-A314FFA1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3DB-C63D-4BFD-8318-7F34B091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614D-CAAD-46F0-97BB-699BE0EA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5380-CCAB-4BAA-8FFC-567BCC8DC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" name="Rectangle 6"/>
            <p:cNvSpPr/>
            <p:nvPr/>
          </p:nvSpPr>
          <p:spPr>
            <a:xfrm>
              <a:off x="0" y="0"/>
              <a:ext cx="9144000" cy="647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0" y="6400800"/>
              <a:ext cx="8001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cc"/>
                  </a:solidFill>
                  <a:latin typeface="Arial"/>
                </a:rPr>
                <a:t>Principles of Engineering Economic Analysis</a:t>
              </a: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, 5th ed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hyperlink" Target="http://luckylildevil.com/DATA/Clothing_Styles_Fabric_Images/Printed_Images_LARGE/Skull_And_Cross_Bones_L.gif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luckylildevil.com/DATA/Clothing_Styles_Fabric_Images/Printed_Images_LARGE/Skull_And_Cross_Bones_L.gif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Chapter 5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Present Worth Analysis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1143000"/>
          <a:ext cx="919656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965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Box 2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ving with Excel®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art 3" descr=""/>
          <p:cNvPicPr/>
          <p:nvPr/>
        </p:nvPicPr>
        <p:blipFill>
          <a:blip r:embed="rId1"/>
          <a:stretch/>
        </p:blipFill>
        <p:spPr>
          <a:xfrm>
            <a:off x="146160" y="506520"/>
            <a:ext cx="8772480" cy="5668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otting Cumulative Present Wort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 Worth Analysis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e Alterna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ose the alternative with the greatest present wor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4"/>
          <p:cNvGrpSpPr/>
          <p:nvPr/>
        </p:nvGrpSpPr>
        <p:grpSpPr>
          <a:xfrm>
            <a:off x="838080" y="2438280"/>
            <a:ext cx="7696080" cy="1447560"/>
            <a:chOff x="838080" y="2438280"/>
            <a:chExt cx="7696080" cy="1447560"/>
          </a:xfrm>
        </p:grpSpPr>
        <p:pic>
          <p:nvPicPr>
            <p:cNvPr id="77" name="Picture 5" descr=""/>
            <p:cNvPicPr/>
            <p:nvPr/>
          </p:nvPicPr>
          <p:blipFill>
            <a:blip r:embed="rId1"/>
            <a:stretch/>
          </p:blipFill>
          <p:spPr>
            <a:xfrm>
              <a:off x="838080" y="2438280"/>
              <a:ext cx="769608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6"/>
            <p:cNvSpPr/>
            <p:nvPr/>
          </p:nvSpPr>
          <p:spPr>
            <a:xfrm>
              <a:off x="1646640" y="3327480"/>
              <a:ext cx="80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Palatino Linotype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Palatino Linotype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design alternatives (A &amp; B) are being considered for a new ride (The Scream Machine) at a theme park in Florida. Alternative A requires a $300,000 investment and will produce net annual revenue of $55,000/yr. Alternative B requires a $450,000 investment and will produce net annual revenue of $80,000/yr. At the end of the 10-yr planning horizon, both designs will have negligible salvage values. Based on a 10%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should be chosen? (The “do nothing” alternative is feasible and assumed to have a PW of $0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%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-$300,000 + $55,000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|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%,10) = $37,951.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PV(10%,10,-55000)-300000 = $37,951.1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$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 is better than doing noth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%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-$450,000 + $80,000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|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%,10) = $41,565.6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PV(10%,10,-80000)-450000 = $41,565.3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 is better than 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design alternatives (A &amp; B) are being considered for a new ride (The Scream Machine) at a theme park in Florida. Alternative A requires a $300,000 investment and will produce net annual revenue of $55,000/yr. Alternative B requires a $450,000 investment and will produce net annual revenue of $80,000/yr. At the end of the 10-yr planning horizon, both designs will have negligible salvage values. Based on a 10%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should be chosen? (The “do nothing” alternative is feasible and assumed to have a PW of $0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%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-$300,000 + $55,000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|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%,10) = $37,951.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PV(10%,10,-55000)-300000 = $37,951.1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$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 is better than doing noth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%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-$450,000 + $80,000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|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%,10) = $41,565.6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PV(10%,10,-80000)-450000 = $41,565.3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 is better than 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52280" y="3581280"/>
            <a:ext cx="88394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ow does PW change with changing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MARR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533520"/>
          <a:ext cx="7620120" cy="588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7620120" cy="58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3"/>
          <p:cNvGraphicFramePr/>
          <p:nvPr/>
        </p:nvGraphicFramePr>
        <p:xfrm>
          <a:off x="4191120" y="152280"/>
          <a:ext cx="4779720" cy="3394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152280"/>
                    <a:ext cx="477972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0" y="-81000"/>
          <a:ext cx="9144000" cy="6859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81000"/>
                    <a:ext cx="9144000" cy="685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3"/>
          <p:cNvSpPr/>
          <p:nvPr/>
        </p:nvSpPr>
        <p:spPr>
          <a:xfrm>
            <a:off x="0" y="6477120"/>
            <a:ext cx="8381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0" y="6477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w Chart for the Incremental Comparison of Investment Altern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5.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’s use an incremental approach to evaluate the two design alternatives for a new ride at a theme park. Recall, Alternative A required a $300,000 investment and produced annual revenue of $55,000; Alternative B required a $450,000 investment and produced annual revenue of $80,000. At the end of the 10-yr planning horizon, both had negligible salvage values. Based on a 10%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should be chosen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%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-$300,000 + $55,000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|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%,10) = $37,951.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PV(10%,10,-55000)-300000 = $37,951.1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$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 is better than doing noth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-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%) = -$150,000 + $25,000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|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%,10) = $3,614.2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PV(10%,10,-25000)-150000 = $3,614.1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$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 is better than 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 Worth Analy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Shot” Invest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209680" y="3962520"/>
            <a:ext cx="5181840" cy="2468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5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152640" y="609480"/>
            <a:ext cx="929628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investment alternatives (1 &amp; 2) are available, with the CFDs shown below. They are “one shot” investments. Using a 15% MARR, which should be chose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5%) = -$4,000 + $3,500(P|A 15%,4) + $1,000(P|F 15%,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5%) = $6,564.1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5%) = -$5,000 + $1,000(P|A 15%,6) + $1,000(P|G 15%,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5%) = $6,721.2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41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atic Economic Analysis Techniq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Identify the investment alterna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Define the planning horiz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Specify the discount r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Estimate the cash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. Compare the alterna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Perform supplementary analy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Select the preferred invest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2209680" y="3962520"/>
            <a:ext cx="5181840" cy="2468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5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152640" y="609480"/>
            <a:ext cx="929628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investment alternatives (1 &amp; 2) are available, with the CFDs shown below. They are “one shot” investments. Using a 15% MARR, which should be chose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5%) = -$4,000 + $3,500(P|A 15%,4) + $1,000(P|F 15%,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5%) = $6,564.1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5%) = -$5,000 + $1,000(P|A 15%,6) + $1,000(P|G 15%,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5%) = $6,721.2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eft Arrow 4"/>
          <p:cNvSpPr/>
          <p:nvPr/>
        </p:nvSpPr>
        <p:spPr>
          <a:xfrm>
            <a:off x="3505320" y="3429000"/>
            <a:ext cx="380880" cy="1371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counted Payback Period Analy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Altern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counted Payback Period Metho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es how long it takes to fully recover an investment while considering the time value of mone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ing in popular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e the smallest value of </a:t>
            </a: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ch th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determine the point in time when cumulative discounted cash flow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$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197080" y="3208320"/>
                <a:ext cx="4824360" cy="20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≥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counted Payback Perio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TMAN calls this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t present value payback ye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’s use Excel’s®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OLV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OAL SEE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determine the DPBP for the SMP investment with salvage value decreasing as geometric and gradient seri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d on a 10% MARR, how long does it take for the $500,000 investment in a surface mount placement machine to be recovered, based on an annual savings of $92,500 and a negligible salvage value, regardless of how long the machine is used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yea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NPER(10%,92500,-50000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 8.16 yea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6 (Continue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is the PW of the investment in the SMP machine affected when salvage value decreases from $500,000 to $50,000 over the 10-year planning horizon? Consider both geometric and gradient decreas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6 (Continue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is the PW of the investment in the SMP machine affected when salvage value decreases from $500,000 to $50,000 over the 10-year planning horizon? Consider both geometric and gradient decreas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 = ($500,000 - $50,000)/10 = $45,000/y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RATE(10,,-500000,50000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20.6%/y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d on a 10% MARR, how long does it take for the $500,000 investment in a surface mount placement machine to be recovered, based on an annual savings of $92,500 and a salvage value at the end of n years equal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) $500,000(1 – 0.206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) $500,000 - $45,000n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xcel®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V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ol is used to solve the examp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of Economic Wort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nt Worth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$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ture Worth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$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al Worth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$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italized Worth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$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unted Payback Period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alue, e.g. 2 yr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yback Period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alu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Rate of Return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R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 Rate of Return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R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ied Internal Rate of Return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R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/Cost Ratio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.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686800" cy="651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2057400" y="2133720"/>
            <a:ext cx="54849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6360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yback Period Metho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TMAN calls it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sh payback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s the length of time required to recover the initial investment without considering the time value of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equivalent to those already conside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pular method of valuing invest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the smallest value of m such th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gnores cash flows that occur after the payback perio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2932200" y="3711600"/>
                <a:ext cx="224784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26" name="Picture 5" descr="Skull_And_Cross_Bones_L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1009800" cy="819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Skull_And_Cross_Bones_L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134200" y="0"/>
            <a:ext cx="10098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Use the Payback Period Metho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es not require interest rate calcu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es not require a decision concerning the MAR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ily explained and understo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lects a manager’s attitudes when capital is lim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dge against uncertainty of future cash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s a rough measure of the liquidity of an invest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payback period for the $500,000 SMP investment, given an annual savings of $92,500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BP  = $500,000/$92,5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5.4054 yea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NPER(0%,92500,-50000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 5.405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counted Payback Period Analy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e Alterna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suppose a third design (alternative C) is developed for The Scream Machine. As before, A requires a $300,000 investment and produces revenue of $55,000/yr; and B requires a $450,000 investment and produces revenue of $80,000/yr. The new design (C) requires a $150,000 investment and produces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ear revenue of $45,000; thereafter, revenue decreases by $5000/yr. Based on a 10%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design has the smallest DPBP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%)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NPER(10%,-55000,300000) = 8.273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%)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NPER(10%,-80000,450000) = 8.674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%)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.273 yea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using the Excel®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OL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8096400" cy="6477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1676520" y="1371600"/>
            <a:ext cx="71625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80964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suppose a third design (alternative C) is developed for The Scream Machine. As before, A requires a $300,000 investment and produces revenue of $55,000/yr; and B requires a $450,000 investment and produces revenue of $80,000/yr. The new design (C) requires a $150,000 investment and produces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ear revenue of $45,000; thereafter, revenue decreases by $5000/yr. Based on a 10%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design has the smallest DPBP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%)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NPER(10%,-55000,300000) = 8.273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%)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NPER(10%,-80000,450000) = 8.674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%)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.273 yea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usin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OL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5638680"/>
            <a:ext cx="9144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ote: PW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10%) = -$150,000 + $45,000(P|A 10%,10) - $5,000(P|G 10%,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W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10%) = $12,048.81 &lt; PW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10%) &lt; PW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10%)       B is best, not C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6781680" y="4800600"/>
            <a:ext cx="228600" cy="1066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of Economic Wort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king Methods or Incremental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 Wor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Wor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Wor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ized Wor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ounted Payback Perio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back Peri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l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Rate of Retu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 Rate of Retu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ified Internal Rate of Retu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/Cost Rat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nt Worth as a Function of Investment 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Chart 4" descr=""/>
          <p:cNvPicPr/>
          <p:nvPr/>
        </p:nvPicPr>
        <p:blipFill>
          <a:blip r:embed="rId1"/>
          <a:stretch/>
        </p:blipFill>
        <p:spPr>
          <a:xfrm>
            <a:off x="285840" y="512640"/>
            <a:ext cx="8577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ose-Up of Critical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Chart 3" descr=""/>
          <p:cNvPicPr/>
          <p:nvPr/>
        </p:nvPicPr>
        <p:blipFill>
          <a:blip r:embed="rId1"/>
          <a:stretch/>
        </p:blipFill>
        <p:spPr>
          <a:xfrm>
            <a:off x="450720" y="755640"/>
            <a:ext cx="824868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investments are available, but only one can be pursued: invest $10,000 and obtain $5,000/yr for 2 yrs, plus $1,000 after 5 yrs; invest $10,000 and receive $5,000, $4,000, $3,000, $2,000, and $1,000 over the next 5 yrs; invest $10,000 and receive $2,500/yr for 5 yrs, plus $10,000 after 5 yrs. Which is best using PBP? using PW and a MARR of 10%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533520" y="3505320"/>
          <a:ext cx="8381880" cy="244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505320"/>
                    <a:ext cx="838188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AutoShape 6"/>
          <p:cNvSpPr/>
          <p:nvPr/>
        </p:nvSpPr>
        <p:spPr>
          <a:xfrm>
            <a:off x="2895480" y="5791320"/>
            <a:ext cx="129564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6400800" y="6019920"/>
            <a:ext cx="12952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335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BP ranking: 1, 2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4343400" y="6095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W ranking: 3, 2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pitalized Worth Analy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Altern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apitalized Worth Method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erpetuity is an investment that has an infinite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apitalized worth is the present worth of a perpetu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apitalized worth indicates the amount of money needed “up front” such that the interest earned will cover the cash flow requirements forever for the invest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d mostly by gover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1976400" y="5486400"/>
                <a:ext cx="45036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W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W</m:t>
                    </m:r>
                    <m:r>
                      <m:t xml:space="preserve">(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10 years the dome of the state capital building has to be cleaned, sand blasted, and re-touched. It costs $750,000 to complete the work. Using a 5% MARR, what is the capitalized cost for the refurbishment of the capital do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$750,000 + $750,000(P|F 5%,10) + $750,000(P|F 5%,10) +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$750,000(A|P 5%,10)/0.05 = $750,000(0.1295)/0.05 = $1,942,5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=PMT(5%,10,-750000)/0.05 = $1,942,56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$750,000 + $750,000(A|F 5%,10)/0.05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$750,000 + $750,000(0.0795)/0.05 = $1,942,5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=750000+PMT(5%,10,,-750000)/0.05 = $1,942,56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all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(A|P i%,n) = (A|F i%,n) + 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w highway is to be constructed. Asphalt paving will be used. The asphalt will cost $150/ft, including the material and paving operation. Due to heavy usage, the asphalt is expected to last 5 yrs before requiring resurfacing. The cost of resurfacing will be the same/ft. Paved ditches must be installed on each side of the highway and will cost $7.75/ft to install; ditches will have to be re-paved in 15 yrs at a cost equal to the initial cost. Four pipe culverts are required/mile; each costs $8,000 and will last 10 yrs; replacements will cost $10,000, each, forever. Annual maintenance of the highway will cost $9,000/mi. Cleaning each culvert will cost $1,250/yr. Cleaning and maintaining each ditch will cost $3.75/ft every year. Using a 5% MARR, what is the capitalized cost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per mile for the highwa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ving Highway and Ditches/m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5,280 ft/mi[$150/ft(A|P 5%,5) + $7.75/ft(A|P 5%,15)]/0.05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$3,737,4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=5280*(PMT(5%,5,-150)+PMT(5%,15,-7.75))/0.05 = $3,737,48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way Maintenance/m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$9,000/0.05 = $180,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tch Maintenance/m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2(5,280 ft/mi)($3.75/ft)/0.05 = $792,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lverts/m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4[($8,000 + $1,250/0.05 + $10,000(A|F 5%,10)/0.05]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$195,6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=4*(8000+1250/0.05+PMT(5%,10,,-10000)/0.0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= $195,6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way/m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$3,737,487 + $180,000 + $792,000 + $195,6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$4,905,09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12 (Solutio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5.1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uch will it cost to endow a $12,500 scholarship if the endowment earns 4.5% interes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W = $12,500/0.045 = $277,777.78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5.1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83808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se, instead of endowing a scholarship, you wish to establish a fund that will pay for the cost of a scholarship for 100 years. How much must you contribute to a fund that earns interest at an annual rate of 9%, if the size of the scholarship grows at an annual rate of 4.5%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of Economic Wort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ollowing are consistent measures of economic worth, i.e., yield the same recommendation (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if performed correct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 Wor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Wor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Wor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Rate of Retur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 Rate of Retu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/Cost Rat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italized worth yields the same recommendation if the planning horizon is infinitely long or equal to a least common multiple of lives of the investment alterna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636040" cy="6477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1523880" y="2133720"/>
            <a:ext cx="58248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6360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pitalized Worth Analy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e Alterna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 developing country, two alternatives are being considered for delivering water from a mountainous area to an arid area. A pipeline can be installed at a cost of $125 million; major replacements every 15 years will cost $10 million. Annual O&amp;M costs are estimated to be $5 million. Alternately, a canal can be constructed at a cost of $200 million; annual O&amp;M costs are estimated to be $1 million; upgrades of the canal will be required every 10 years at a cost of $5 million. Using a 5% MARR and a capitalized cost analysis, which alternative should be chose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51920" y="6854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$125,000,000 + [$10,000,000(A|F 5%,15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$5,000,000]/0.05 = $234,268,000.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125000000+(PMT(5%,15,,-10000000)+5000000)/0.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 $234,268,457.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$200,000,000 + [$5,000,000(A|F 5%,10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$1,000,000]/0.05 = $227,950,000.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 200000000+(PMT(5%,10,,-5000000)+1000000)/.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C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 $227,950,457.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15 (Solutio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t Stop #5— Open Road Ahea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Present worth analysis is the most popula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C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sure of economic wo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Unless non-monetary considerations dictate otherwise, choose the mutually exclusive investment alternative that has the greatest present worth, regardless of the lives of the alterna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When using present worth analysis to evaluate the economic viability of mutually exclusive alternatives, use a common period of time in the compari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0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R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0%, t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 5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B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0, t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&g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, t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&g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&l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&l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W, AW, CW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B/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ranking methods; therefore, the alternative having the greate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W, AW, CW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B/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uld be recommen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Either ranking or incremental analysis can be used with all four “worth” methods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W, AW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The “do nothing” alternative always has negligible incremental costs and reven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t Stop #5— Open Road Ahea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Present worth analysis is the most popula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C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sure of economic worth.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Unless non-monetary considerations dictate otherwise, choose the mutually exclusive investment alternative that has the greatest present worth, regardless of the lives of the alternatives.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A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When using present worth analysis to evaluate the economic viability of mutually exclusive alternatives, use a common period of time in the comparison.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0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R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0%, t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 5 years.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BP.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0, t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0.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&g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, t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&g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&l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&l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.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W, AW, CW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B/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ranking methods; therefore, the alternative having the greate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W, AW, CW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B/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uld be recommended.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Either ranking or incremental analysis can be used with all four “worth” methods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W, AW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The “do nothing” alternative always has negligible incremental costs and revenues.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 Worth Analy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king versus incremental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fore-tax versus after-tax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al versus unequal l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versus multiple alterna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ite versus infinite planning horiz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ounted payback period and payback period analy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 Worth Analy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Altern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ent Worth Method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s all cash flows to a single sum equivalent at time zero using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ver the planning horiz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ost popular DCF metho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bring all cash flows back to “time zero” and add them up!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828800" y="3581280"/>
                <a:ext cx="515772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W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$500,000 investment in a surface mount placement machine is being considered. Over a 10-year planning horizon, it is estimated the SMP machine will produce net annual savings of $92,500. At the end of 10 years, it is estimated the SMP machine will have a $50,000 salvage value. Based on a 10% MARR and a present worth analysis, should the investment be mad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-$500K + $92.5K(P|A 10%,10) + $50K(P|F 10%,1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$87,650.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PV(10%,10,-92500,-50000)-500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 $87,649.6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22:19:51Z</dcterms:created>
  <dc:creator>John A White</dc:creator>
  <dc:description/>
  <dc:language>en-US</dc:language>
  <cp:lastModifiedBy>ksu</cp:lastModifiedBy>
  <dcterms:modified xsi:type="dcterms:W3CDTF">2011-12-27T17:40:55Z</dcterms:modified>
  <cp:revision>64</cp:revision>
  <dc:subject/>
  <dc:title>Chapter 5</dc:title>
</cp:coreProperties>
</file>