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E4DFF7-EDD8-41FC-A7A0-5EAF4BC4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3862BF-8A64-4FED-998B-5091D8FC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B2626B-DE51-403A-972E-D5A28EDA7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5C1C85-4DF2-4784-89A0-07180DC8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656215-6567-47C3-8B12-9A15EF0C0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981618-1448-4524-B165-46A2A9D5C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9044B8-2952-4499-89C9-629315DC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3ACA66-134E-4CF6-9397-96772B86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7E66C1-BE26-4787-81A4-38F3AC37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6B0A5B-B349-43A7-8F56-C84F3306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8857D1-D6B8-4FA0-8CE7-FF1844DF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7A16BB-DCD3-4FB9-B348-11DF4177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E3BE3D-9BB3-4266-99E8-39CBAA74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E4BED5-4EDB-4314-BED9-9209808C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164755-8915-4400-9B4C-52BD1B3B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B6D208-4EC4-48A7-9027-7AC6DD7B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386CE9-C7E8-4E4E-9FE9-248F804D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8E01C3-FD1E-44D3-8B18-946C022D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706F2F-51D5-4759-B17D-E43F2314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F65CC6-CA18-425F-B38D-CE0129E7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E2A252-807E-49C9-9A1E-6D600F6BB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0A380B-26DE-41EC-B09C-7AF17BEE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6C7719-A7C2-42C2-BE79-0930E95CC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095FFD-9F76-4731-8AD5-5D9CE84B5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94878A-38F9-41B7-A5DD-0C5128E2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7AFB1D-4CD5-4A60-8FF1-49E160A7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4BE831-FF43-458B-AAB9-D69D26EC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A3463B-67CE-4C53-B72E-1ACE469F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F72257-83C0-4E0B-9DD6-D77358A0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BCB37C-2D1C-4B82-A991-CBAD11BC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661C24-6C80-4F46-8767-6F9CFF08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B0FC34-2207-409B-8F53-63393139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2F3934-DE62-4514-835D-5FD98B17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9B4E77-E860-48C8-8433-9CCFC650B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957CB2-7DCF-421C-AE91-E0E145BE2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B757880-34C9-4715-8851-5650A733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52F-0FF5-4A34-B006-69BC738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EFA-D8B1-47F4-AB51-59DB002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E88-E1E1-4165-A9E2-BF349C1F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4E4-0611-407B-9EF7-8059B80F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BB4-31F2-48C6-9F2E-E408AC96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0D3-8E4F-4C2E-A9A4-62F9201E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17B-D373-4DA4-B357-BC52A04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3CF-6644-4ABA-81E5-F375DBB7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244-99D9-46D8-B3F3-54164797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ECE-6577-4019-B72F-809BAB1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1B9-0848-49A9-8095-8959E604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817-B8D3-49B5-A23D-74B455C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AC4-0D18-445A-8585-A5809773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Rectangle 8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6400800"/>
              <a:ext cx="8001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Arial"/>
                </a:rPr>
                <a:t>Principles of Engineering Economic Analysis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, 5th ed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taining and Estima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sh Fl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vag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lvage Val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t cash flow resulting from disposing of the asset or terminating the pro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vage Value may be positive or nega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vage Value is determined by deducting the cost of disposal from the market value of the asset at the time of dispo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vage value is typically one of the most difficult values to est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t/Future viewpoint focuses on when costs and revenues occur relative to “time now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y cost that occurred prior to “time now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y cost that is expected to occur subsequent to “time now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terpretations apply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uture reven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nk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y past cost that cannot be reasonably expected to be recove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Examples 16.2 and 16.3 for additional ins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pportunity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cost of foregoing an opportunity to earn interest, or a retur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s invested (or tied up in) one opportunity cannot be used for other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 in expected returns is an opportunity cost of the cho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nnual opportunity cost of holding $600 million dollars in inventory is $90 million/year if an interest rate of 15%/year is assu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16.4 provides an additional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st/Futur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st of Capital (Co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the cost of obtaining funds for investment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 of Capital provides a lower bound for MAR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R &gt;= C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ajors sources of capital are frequently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b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rces consist primarily of loans and b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rces consist primarily of stocks and accumulated prior ear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288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nufacturing Cost Structur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eaks the selling price of a product into component pie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els are applied to the component pieces and to various combinations of the component piec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bels can vary by company and by industry but the component pieces are usually 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similar cost structure can be developed for non-manufacturing environments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some of the terminology for the component pieces and the combinations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Component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Materials Cost (D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Labor Cost (D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rect Materials Cost (I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rect Labor Cost (I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and Miscellaneous Cost (F&amp;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neral and Administrative Cost (G&amp;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lling (Marketing) Cost (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it (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ample 16.5 for additional insight regarding the distinction between Direct and 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 Cost Structure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ing Price = DM+DL+IM+IL+F&amp;M+G&amp;A+S+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Goods Sold +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sion Cost = DL+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e Cost = DM+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y Overhead = 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 Factory Overhead = G&amp;A+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of Go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d = DM+DL+IM+IL+F&amp;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Prime Cost + Factory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d = DM+DL+IM+IL+F&amp;M+G&amp;A+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Goods Manufactured + Non Factory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and Variable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xed Cost (F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y cost that does not vary in proportion to the quantity of outp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include rent, depreciation, lighting,  and supervisor sala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 Costs are commonly fixed only over a certain range of production,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evant ran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 supervisor salaries or lighting are fixed for one shift operation but step to a new higher level for two shift ope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cessive relevant ranges are often represented graphically as a step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and Variable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ariable Cost (VC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ost that varies in proportion to the quantity of outp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examples include direct materials and direct lab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Costs are often represented as a linear function of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(x) = rate * x; where x is the level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um of fixed costs and variable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(x) = FC + V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tal Revenue (TR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um of revenues received for the units so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Revenue is often represented as a linear function of units sol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(x) = price * x; where x is the number of units s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teady state inventory is assumed then units sold will be equal to the units produc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int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eake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ere total costs equal total revenues, can be found by solv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(x) = FC + V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of Chapter 16 as Two Separate but Related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 terminology and estimation - for obtaining and understanding cash flows (16.1-16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unting principles – to help understand economic analysis from the business’ perspective (16.4-16.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8680" cy="45417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8"/>
          <p:cNvSpPr/>
          <p:nvPr/>
        </p:nvSpPr>
        <p:spPr>
          <a:xfrm>
            <a:off x="4038480" y="22860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4191120" y="2133720"/>
            <a:ext cx="4550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304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3353040" y="2133720"/>
            <a:ext cx="415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304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production (sales) is less than breakeven, a loss will occ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production (sales) is greater than breakeven, a profit will occu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values of the breakeven quantity are generally  desir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values can be achieved 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the revenue rate (the slope of the revenue line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ing the variable cost rate (the slope of the total cost lin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ing the fixed cost (the intercept of the total cost lin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gineering Economy projects frequently target one of these areas for improv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of breakeve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 = $5.00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C = $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(x) = ($2.50+$1.00)(x) = $3.50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x) = FC + V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.00(x) = $300 + $3.50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00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ofit for a lot size of 1,000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(Loss) = TR(x) – TC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R(x) – (FC + VC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R(x) – FC – V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5.00(x) - $300 - $3.50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5.00(1,000) - $300 - $3.50(1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$1,200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200" indent="-5040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Breakeven Example is provided in Example 16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ations of Break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breakeven is very general and can be appli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that do not represent revenue and/or c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two funct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result in multiple breakeve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 16.4 for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6.9 includes a non-linear break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verage c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) is the ratio of total cost to units of outpu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(x) = TC(x) /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FC + VC(x)) /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C / x + VC(x) /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variable cost is linear with respect to x, then VC(x)/x is a constant (the variable cost rate),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(x) = FC / x + V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ng average cost in this w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(x) = FC / x + VC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s to the idea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production volume (x) increases, average cost decrea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results from spreading the fixed cost (FC) over a larger and larger number of 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xed cost per unit (FC / x) is decreasing while the variable cost rate remains constant resulting in lower average cost per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ginal Co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C) is the incremental cost of additional 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discrete case, marginal cost is the cost of producing one more discrete un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cremental cost increase of going from x units produced to (x+1) units produc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usually determined through difference equations; TC(x+1) – TC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tional Note: The marginal cost at x=5 is the additional cost incurred in producing the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t, not the additional cost incurred in producing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t. Marginal cost can rightfully by defined either way, be careful of the definition in u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 and Marginal Viewpoi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ntinuous case, marginal cost is the instantaneous rate of the change of the co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etermined by differentiating the co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C(x)/dx evaluated at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the marginal cost for the cost function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(x) = $60,000 + $30(x) at x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rete Appro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(10) = TC(11) - TC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$60,000+$30(11)) – ($60,000+$30(1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$60,330 – $60,300 = $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inuous Appro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(x) = d/dx[$60,000 + $30(x)] = $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ilar results are obtained for x=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worthwhile to note that since the variable costs are linear ($30*x), the marginal cost is a consta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st Terminology and Estimation (16.1-16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ost Viewpoi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erspectives yield different ins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numeric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Relationship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inal, Average, and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and Total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gt; 0 then TC(x+1) &gt;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= 0 then TC(x+1)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lt; 0 then TC(x+1) &lt;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Cost and Average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lt; AC(x) then AC(x+1) &lt;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= AC(x) then AC(x+1) =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C(x) &gt; AC(x) then AC(x+1) &gt; A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6.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 16.9 is an extended example that illustrates many of the concepts in this section for the non-linear ca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articular, it inclu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ling price that varies with deman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ar cost but non-linear revenue and profi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ion of marginal revenue and average profit function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tinction between maximizing revenue and maximizing profi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breakeven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conducting an economic analysis, an engineer should consider costs from one and only one cost view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cost of foregoing an opportunity to earn interest, or a return, on investment funds is referred to as a sunk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ime cost is the sum of direct material cost and direct labor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the cost function for producing x units is TC(x) = 700+0.6x and the revenue function is TR(x) = 2.0x; then the breakeven value is 500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average cost function for Question 4 is given by AC(x) = 500 + 1.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tradeoff being considered when determining the level of detail of an estimate is the cost of making the estimate versus the cost of errors resulting from an inaccurate est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An income statement shows the assets, liabilities, and net worth of a firm at a point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fundamental equation of accounting states that assets = liabilities + net 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BIT can also be referred to as operating ear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n cost accounting, the acronym ABC refers to a Pareto analysis of costs where A items are most important, C items are least important, and B items are somewhere betw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VA is a management tool that focuses manager’s attention on adding value for the sharehol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228600" y="685800"/>
            <a:ext cx="86868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When conducting an economic analysis, an engineer should consider costs from one and only one cost viewpoin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all viewpoints should be considere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cost of foregoing an opportunity to earn interest, or a return, on investment funds is referred to as a sunk cos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the cost of foregoing an opportunity is the opportunity co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Prime cost is the sum of direct material cost and direct labor cost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If the cost function for producing x units is TC(x) = 700+0.6x and the revenue function is TR(x) = 2.0x; then the breakeven value is 500 units?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average cost function for Question 4 is given by AC(x) = 500 + 1.4x?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alse, the average cost function is AC(x)=700/x + 0.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ue or False: The tradeoff being considered when determining the level of detail of an estimate is the cost of making the estimate versus the cost of errors resulting from an inaccurate estimate. 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228600" y="685800"/>
            <a:ext cx="8686800" cy="5638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An income statement shows the assets, liabilities, and net worth of a firm at a point in time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, an income statement shows revenues, expenses, and resulting profit over a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fundamental equation of accounting states that assets = liabilities + net worth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BIT can also be referred to as operating earning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n cost accounting, the acronym ABC refers to a Pareto analysis of costs where A items are most important, C items are least important, and B items are somewhere between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lse, in cost accounting, ABC is the acronym for Activity Based Co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VA is a management tool that focuses manager’s attention on adding value for the shareholders.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80880" y="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 Stop #16 – Is Accounting a Foreign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6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cision making requires collecting data about the amount and timing of cash flows for the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sources is frequently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viewpoints helps ensure that all relevant cash flows are col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erminology for the various sources helps ensure that cash flows are properly interp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xample 16.1 for additional in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Viewpo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6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ive Cost View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ycl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/Futur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ing Cost Structur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/Variable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/Marginal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Cycle viewpoint focuses on when cash flows occur within the life cycle of an asset’s (or project’s) service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and Maintenance (O&amp;M) Costs and Re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vag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rst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costs required to place the asset i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ing and Installa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ool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Equipmen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&amp;M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ng and Maintenance (O&amp;M)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outine costs required to keep the asset in servi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de variety of costs may be considered here depending on the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e Maintenance (lubricants, filter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fe Cycle Viewpoi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ng Reven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venues that result from having and using the ass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s are typically estimated based on the volume and value of the parts that utilize the asset or result from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venues are ones that would not be available if the asset or project was not in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2:48:05Z</dcterms:created>
  <dc:creator>John A White</dc:creator>
  <dc:description/>
  <dc:language>en-US</dc:language>
  <cp:lastModifiedBy>ksu</cp:lastModifiedBy>
  <dcterms:modified xsi:type="dcterms:W3CDTF">2011-12-27T17:43:39Z</dcterms:modified>
  <cp:revision>368</cp:revision>
  <dc:subject/>
  <dc:title>Chapter 5</dc:title>
</cp:coreProperties>
</file>