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C94985A-4A60-4BC2-9C5A-225321BB0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AABCE58-A193-4EC6-B141-B309464FC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524789E-ADFB-4CB2-87E8-35793C151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B2C8228-EAE7-4EB9-BAA4-0CC5B3F27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02074F8-7668-4EC1-9D4A-5A2F6B892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6FCB475-7F29-494D-9AA9-07F5B3B47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17D56C3-F6D5-458F-A446-BCF066AB0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EB203C7-74F0-43D4-A282-C6A5F3163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434AFF3-4458-4C94-B98B-28CC7E574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B40166A-6163-4F4E-8B51-9434C5194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B27FCAB-6FE3-400A-B653-E4B806FA6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589CA3F-537C-4001-ABE9-23189AC8B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22090A2-B433-4390-85F4-77F153767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D1D1906-EBAF-4AD0-BE57-DA1FB23AC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68A98DB-3FC5-4CDE-A6BE-C733A2B8D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721566C-0DD7-4782-BA71-5ACE16EF5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A23639E-91F2-48D8-823F-F4A12A277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FEC69C7-2615-40FD-8A12-3AFAE41CF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C631D18-2ABF-4243-B221-C8AAED5A7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F042448-EA5E-4C0E-B07E-B7B845AF9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2EA656E-AB55-44F6-B91B-BEA29865A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22B29F2-C920-4ED1-AF2B-C81BE9480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CC5F405-60F6-4068-91CA-82A4EF62D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BA0BBFC-1A92-4284-8370-9865198B3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FF0E7AA-9610-4903-A02F-BA25F5C66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8A68DA6-E2F0-4FC7-9072-731918B4A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6723779-E3B5-4F32-BDEA-5701218AD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59A15B6-2FBE-41E0-BF16-18D29D211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7A542DA-0C6D-4FD9-B86E-01456DB6F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9A2164D-F5D8-4284-B2BF-FC812633A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70BB5F0-2614-4398-9E22-F5F25164A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50D48B7-2B53-4CF6-85ED-F3BD1957E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51930A7-130A-476D-9605-57928D6EE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A72D103-C685-4BE5-850F-96CD84E8A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992EEAD-D4B6-4E39-AFAF-9EE67DE2E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D62E489-473A-438B-A42D-1BAAA0AF1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8880-4AC9-4D1A-ABC1-A385C80F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AEAC-4282-4FCA-B0A6-C6E7E122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E8C2-CBDB-4419-B6B4-9ADC9C93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2487-DE9D-45E2-942D-6F9A6B00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A5BB-ADDD-4884-8B69-D9A9913A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62EA-3116-455D-8F52-740960F2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16CE-2105-4FBF-8834-25BF9D3B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D401-2809-40E1-8795-25D04CCA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F868-E55A-4957-9093-A376A3AD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B7FE-982F-4687-A260-C7221068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DF6E-E427-4B03-A30F-71ED0750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4117-442E-4165-A902-077C747F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2A7E-110A-47DF-A45A-EB3C06546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" name="Rectangle 8"/>
            <p:cNvSpPr/>
            <p:nvPr/>
          </p:nvSpPr>
          <p:spPr>
            <a:xfrm>
              <a:off x="0" y="0"/>
              <a:ext cx="9144000" cy="647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6400800"/>
              <a:ext cx="8001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cc"/>
                  </a:solidFill>
                  <a:latin typeface="Arial"/>
                </a:rPr>
                <a:t>Principles of Engineering Economic Analysis</a:t>
              </a: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, 5th ed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Arial"/>
              </a:rPr>
              <a:t>Chapter 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9144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btaining and Estimat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ash Flow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fe Cycle Viewpoi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vage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lvage Val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net cash flow resulting from disposing of the asset or terminating the proje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vage Value may be positive or negati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vage Value is determined by deducting the cost of disposal from the market value of the asset at the time of dispos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vage value is typically one of the most difficult values to estim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st/Future View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st/Future viewpoint focuses on when costs and revenues occur relative to “time now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st co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ny cost that occurred prior to “time now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ture co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ny cost that is expected to occur subsequent to “time now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interpretations apply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st reven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ture reven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st/Future Viewpoi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unk Cos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ny past cost that cannot be reasonably expected to be recover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d Examples 16.2 and 16.3 for additional insigh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Opportunity Cos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cost of foregoing an opportunity to earn interest, or a retur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ds invested (or tied up in) one opportunity cannot be used for other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ifference in expected returns is an opportunity cost of the cho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nnual opportunity cost of holding $600 million dollars in inventory is $90 million/year if an interest rate of 15%/year is assum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16.4 provides an additional exam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st/Future Viewpoi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7524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st of Capital (CoC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s to the cost of obtaining funds for investment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st of Capital provides a lower bound for MAR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R &gt;= Co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majors sources of capital are frequently us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eb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ources consist primarily of loans and bo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qu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ources consist primarily of stocks and accumulated prior earn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ufacturing Cost Structure View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8288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anufacturing Cost Structure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reaks the selling price of a product into component piec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bels are applied to the component pieces and to various combinations of the component piec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bels can vary by company and by industry but the component pieces are usually consis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similar cost structure can be developed for non-manufacturing environments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some of the terminology for the component pieces and the combinations may diff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ufacturing Cost Structure Component Pie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1828440"/>
            <a:ext cx="83818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rect Materials Cost (D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rect Labor Cost (D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direct Materials Cost (I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direct Labor Cost (I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xed and Miscellaneous Cost (F&amp;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neral and Administrative Cost (G&amp;A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lling (Marketing) Cost (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fit (P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Example 16.5 for additional insight regarding the distinction between Direct and Indirec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ufacturing Cost Structure Combi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8052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ling Price = DM+DL+IM+IL+F&amp;M+G&amp;A+S+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Cost of Goods Sold +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version Cost = DL+IM+IL+F&amp;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me Cost = DM+D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tory Overhead = IM+IL+F&amp;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 Factory Overhead = G&amp;A+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st of Goo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200" indent="-504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ufactured = DM+DL+IM+IL+F&amp;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Prime Cost + Factory Overh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200" indent="-504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d = DM+DL+IM+IL+F&amp;M+G&amp;A+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200" indent="-504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Cost of Goods Manufactured + Non Factory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xed and Variable Viewpoi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ixed Cost (FC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ny cost that does not vary in proportion to the quantity of outpu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 include rent, depreciation, lighting,  and supervisor sala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xed Costs are commonly fixed only over a certain range of production, called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levant rang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 supervisor salaries or lighting are fixed for one shift operation but step to a new higher level for two shift oper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ccessive relevant ranges are often represented graphically as a step fun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xed and Variable Viewpoi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Variable Cost (VC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cost that varies in proportion to the quantity of outpu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 examples include direct materials and direct lab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able Costs are often represented as a linear function of out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(x) = rate * x; where x is the level of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otal Cos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sum of fixed costs and variable c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C(x) = FC + VC(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e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otal Revenue (TR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sum of revenues received for the units so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Revenue is often represented as a linear function of units sol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(x) = price * x; where x is the number of units so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teady state inventory is assumed then units sold will be equal to the units produc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oint of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reakev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where total costs equal total revenues, can be found by solv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(x) = FC + VC(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nk of Chapter 16 as Two Separate but Related 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23623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st  terminology and estimation - for obtaining and understanding cash flows (16.1-16.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35480" indent="-735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ounting principles – to help understand economic analysis from the business’ perspective (16.4-16.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even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8680" cy="4541760"/>
          </a:xfrm>
          <a:prstGeom prst="rect">
            <a:avLst/>
          </a:prstGeom>
          <a:ln w="0">
            <a:noFill/>
          </a:ln>
        </p:spPr>
      </p:pic>
      <p:sp>
        <p:nvSpPr>
          <p:cNvPr id="91" name="Right Arrow 8"/>
          <p:cNvSpPr/>
          <p:nvPr/>
        </p:nvSpPr>
        <p:spPr>
          <a:xfrm>
            <a:off x="4038480" y="228600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4191120" y="2133720"/>
            <a:ext cx="4550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2304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3353040" y="2133720"/>
            <a:ext cx="415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2304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ificance of Breake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f production (sales) is less than breakeven, a loss will occu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f production (sales) is greater than breakeven, a profit will occu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ower values of the breakeven quantity are generally  desirabl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ower values can be achieved by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ing the revenue rate (the slope of the revenue line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reasing the variable cost rate (the slope of the total cost lin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ing the fixed cost (the intercept of the total cost lin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gineering Economy projects frequently target one of these areas for improvem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16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ation of breakeven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(x) = $5.00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C = $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(x) = ($2.50+$1.00)(x) = $3.50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ev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(x) = FC + V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.00(x) = $300 + $3.50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200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16.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Profit for a lot size of 1,000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 (Loss) = TR(x) – TC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200" indent="-5040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TR(x) – (FC + VC(x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200" indent="-5040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TR(x) – FC – V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200" indent="-5040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$5.00(x) - $300 - $3.50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200" indent="-5040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$5.00(1,000) - $300 - $3.50(1,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200" indent="-5040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$1,200 pro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200" indent="-5040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Breakeven Example is provided in Example 16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izations of Breake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cept of breakeven is very general and can be appli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 that do not represent revenue and/or co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two function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result in multiple breakeven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Figure 16.4 for 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linear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16.9 includes a non-linear break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rage and Marginal Viewpoi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verage co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C) is the ratio of total cost to units of outpu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(x) = TC(x) /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FC + VC(x)) /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FC / x + VC(x) /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variable cost is linear with respect to x, then VC(x)/x is a constant (the variable cost rate),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(x) = FC / x + VC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es of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ressing average cost in this way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(x) = FC / x + VC 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s to the idea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conomies of sca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production volume (x) increases, average cost decrea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results from spreading the fixed cost (FC) over a larger and larger number of uni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xed cost per unit (FC / x) is decreasing while the variable cost rate remains constant resulting in lower average cost per un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rage and Marginal Viewpoi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arginal Cos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MC) is the incremental cost of additional produ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e discrete case, marginal cost is the cost of producing one more discrete un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ncremental cost increase of going from x units produced to (x+1) units produc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usually determined through difference equations; TC(x+1) – TC(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tional Note: The marginal cost at x=5 is the additional cost incurred in producing the 6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nit, not the additional cost incurred in producing the 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nit. Marginal cost can rightfully by defined either way, be careful of the definition in u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rage and Marginal Viewpoi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ontinuous case, marginal cost is the instantaneous rate of the change of the cost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determined by differentiating the cost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TC(x)/dx evaluated at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16.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termine the marginal cost for the cost function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(x) = $60,000 + $30(x) at x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crete Approa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(10) = TC(11) - TC(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$60,000+$30(11)) – ($60,000+$30(10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$60,330 – $60,300 = $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inuous Approa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(x) = d/dx[$60,000 + $30(x)] = $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milar results are obtained for x=2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worthwhile to note that since the variable costs are linear ($30*x), the marginal cost is a constan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st Terminology and Estimation (16.1-16.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this 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Cost Viewpoin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perspectives yield different ins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ing numeric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Relationship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ginal, Average, and To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8284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 Cost and Total Co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C(x) &gt; 0 then TC(x+1) &gt; T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C(x) = 0 then TC(x+1) = T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C(x) &lt; 0 then TC(x+1) &lt; T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 Cost and Average Co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C(x) &lt; AC(x) then AC(x+1) &lt; A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C(x) = AC(x) then AC(x+1) = A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C(x) &gt; AC(x) then AC(x+1) &gt; A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16.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 16.9 is an extended example that illustrates many of the concepts in this section for the non-linear cas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particular, it includ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ling price that varies with demand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ar cost but non-linear revenue and profi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tion of marginal revenue and average profit function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istinction between maximizing revenue and maximizing profi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ple breakeven poi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Content Placeholder 2"/>
          <p:cNvSpPr/>
          <p:nvPr/>
        </p:nvSpPr>
        <p:spPr>
          <a:xfrm>
            <a:off x="228600" y="685800"/>
            <a:ext cx="8686800" cy="5638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When conducting an economic analysis, an engineer should consider costs from one and only one cost view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The cost of foregoing an opportunity to earn interest, or a return, on investment funds is referred to as a sunk c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Prime cost is the sum of direct material cost and direct labor c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If the cost function for producing x units is TC(x) = 700+0.6x and the revenue function is TR(x) = 2.0x; then the breakeven value is 500 un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The average cost function for Question 4 is given by AC(x) = 500 + 1.4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The tradeoff being considered when determining the level of detail of an estimate is the cost of making the estimate versus the cost of errors resulting from an inaccurate estim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80880" y="763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t Stop #16 – Is Accounting a Foreign Langu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Content Placeholder 2"/>
          <p:cNvSpPr/>
          <p:nvPr/>
        </p:nvSpPr>
        <p:spPr>
          <a:xfrm>
            <a:off x="228600" y="685800"/>
            <a:ext cx="8686800" cy="5638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An income statement shows the assets, liabilities, and net worth of a firm at a point in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The fundamental equation of accounting states that assets = liabilities + net wo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EBIT can also be referred to as operating earn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In cost accounting, the acronym ABC refers to a Pareto analysis of costs where A items are most important, C items are least important, and B items are somewhere betw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EVA is a management tool that focuses manager’s attention on adding value for the sharehold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380880" y="763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t Stop #16 – Is Accounting a Foreign Langu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ontent Placeholder 2"/>
          <p:cNvSpPr/>
          <p:nvPr/>
        </p:nvSpPr>
        <p:spPr>
          <a:xfrm>
            <a:off x="228600" y="685800"/>
            <a:ext cx="8686800" cy="5715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ue or False: When conducting an economic analysis, an engineer should consider costs from one and only one cost viewpoint. 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False, all viewpoints should be considere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ue or False: The cost of foregoing an opportunity to earn interest, or a return, on investment funds is referred to as a sunk cost. 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False, the cost of foregoing an opportunity is the opportunity cos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ue or False: Prime cost is the sum of direct material cost and direct labor cost. 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ue or False: If the cost function for producing x units is TC(x) = 700+0.6x and the revenue function is TR(x) = 2.0x; then the breakeven value is 500 units? 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ue or False: The average cost function for Question 4 is given by AC(x) = 500 + 1.4x? 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False, the average cost function is AC(x)=700/x + 0.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ue or False: The tradeoff being considered when determining the level of detail of an estimate is the cost of making the estimate versus the cost of errors resulting from an inaccurate estimate. 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380880" y="763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t Stop #16 – Is Accounting a Foreign Langu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Content Placeholder 2"/>
          <p:cNvSpPr/>
          <p:nvPr/>
        </p:nvSpPr>
        <p:spPr>
          <a:xfrm>
            <a:off x="228600" y="685800"/>
            <a:ext cx="8686800" cy="5638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An income statement shows the assets, liabilities, and net worth of a firm at a point in time.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lse, an income statement shows revenues, expenses, and resulting profit over a period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The fundamental equation of accounting states that assets = liabilities + net worth.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EBIT can also be referred to as operating earnings.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In cost accounting, the acronym ABC refers to a Pareto analysis of costs where A items are most important, C items are least important, and B items are somewhere between.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lse, in cost accounting, ABC is the acronym for Activity Based Co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EVA is a management tool that focuses manager’s attention on adding value for the shareholders.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380880" y="763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t Stop #16 – Is Accounting a Foreign Langu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is Important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16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decision making requires collecting data about the amount and timing of cash flows for the alterna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riety of sources is frequently requ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viewpoints helps ensure that all relevant cash flows are col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terminology for the various sources helps ensure that cash flows are properly interpre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Example 16.1 for additional ins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Viewpoi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16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Five Cost View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Cycle View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/Future View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facturing Cost Structure View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/Variable View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/Marginal View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fe Cycle View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fe Cycle viewpoint focuses on when cash flows occur within the life cycle of an asset’s (or project’s) service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and Maintenance (O&amp;M) Costs and Reven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vag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fe Cycle Viewpoi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rst Cos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costs required to place the asset in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pping and Installation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Tooling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ng Equipment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fe Cycle Viewpoi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&amp;M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erating and Maintenance (O&amp;M) Cos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routine costs required to keep the asset in servic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ide variety of costs may be considered here depending on the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2760" indent="-4935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2760" indent="-4935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e Maintenance (lubricants, filter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2760" indent="-4935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2760" indent="-4935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fe Cycle Viewpoi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ng Reven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6765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erating Revenu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revenues that result from having and using the asse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nues are typically estimated based on the volume and value of the parts that utilize the asset or result from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revenues are ones that would not be available if the asset or project was not in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1T22:48:05Z</dcterms:created>
  <dc:creator>John A White</dc:creator>
  <dc:description/>
  <dc:language>en-US</dc:language>
  <cp:lastModifiedBy>ksu</cp:lastModifiedBy>
  <dcterms:modified xsi:type="dcterms:W3CDTF">2011-12-27T17:43:39Z</dcterms:modified>
  <cp:revision>368</cp:revision>
  <dc:subject/>
  <dc:title>Chapter 5</dc:title>
</cp:coreProperties>
</file>