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1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872-3E62-4374-AD92-92239D6E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F77-DA17-4025-A73E-D65FB00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168-E1F3-4973-A129-80BE0717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DFE-B448-4EE5-8A65-7C0797B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2A3A-A144-41E8-9056-06E92276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75F-09D1-4918-A010-43582683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FA9E-34D1-447E-B307-7467FFD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8B37-891B-4308-8A89-585994F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E528-8D92-4034-B95F-2804D7DC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B6EE-1F5F-4EA9-BD8F-BF5F30DF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2159-A459-453F-96D6-E528D24E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581-8E06-4512-8F49-226F0B68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446-CCF3-40CA-93E1-C71B2FE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ED9-5287-462D-9328-CE4E0CAC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E054-3556-4E40-9ABA-3CB726B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7912-1C04-40A8-8AD2-9BA4C112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682-4EE2-4B44-83E4-9AB6CC82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D622-417B-482C-BF21-F217B9E9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4C2E-4C5E-4E60-9AD3-42859AA4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309D-0D07-4D4E-A0C5-50D7AE34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5FEA-3BDD-4415-A07C-CC4B317C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4B70-5805-4E1B-9C44-E4A71E5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011-51A9-4FFA-9B3A-654C4C84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5A78-F1EE-4721-9958-CCDF33E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429D-2CD2-435C-9B4C-7558643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FAD9-0CC4-4952-B1AD-FA0C630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2D7C-6D20-40D8-B3D1-0A89607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155D-B3BD-4C9D-B43C-1C0EA9A9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CA98-89E6-45F4-A2AE-1DB7C430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5C8A-8A30-44F3-A7E9-0612D49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AD75-C203-44DB-943B-CA0918C6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456D-30C6-4A78-9C0F-619DD188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5774-0AC8-4FD0-BFAB-DF47C7BC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A8C-6895-4F72-9C5F-7C00D4B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F3FD-22C3-480B-BB65-33A9564E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3971-A5A7-4DBD-8C79-2DF3ABFB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CDE6-20E6-4E3F-962C-E7377A31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C881-5EC5-4165-A14C-910B2BE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0D08-E1EE-4645-9342-E8ABD4C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052E-8D62-4235-8B84-BCBC6E9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461F-3B80-4677-92D0-BF5D20E7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E467-66A0-4456-B316-8FE8BF6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7B06-07F7-4B96-B038-FD6F8064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29CE-650D-4DB4-9414-0F5616BF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F04-9198-4C1F-B793-9633E8DC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3464-43A7-48F3-9CB5-0CEFD80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CD20-57F1-4A62-BA21-C113E6A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3EED-8CAF-4C00-BA5D-183B0CBD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C8B47-6865-4312-9F15-27DFF606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54A1-C358-4360-A672-AAC04AC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4991-93C8-4291-87EE-912249A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3F7A-B17D-4DAB-B0BD-BA55031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28BF-2B95-4261-8E35-8C9F510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DD21-E977-417F-BCEA-27F4CF54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9434-75AC-47F5-8D1A-1705CA81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F5D-8CA4-488E-B4B2-96145159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ACF2-5B23-4E55-92AF-CA07F7CE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5CF-EA26-4194-B55D-F2844D5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022-2305-434E-B9A7-C44D03A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BA1-D054-46E4-B597-5835B20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7A02-BA8E-4560-B12A-4FF6134C72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D87-8151-41E0-9755-268B7209EA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C0EF-38CD-4283-BA6A-A25697FB96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85A-A706-4867-83DD-774921EE67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B3A-1E0C-41DC-877D-5272E43FE2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uaa.alaska.edu/biohome/dna.jpg&amp;imgrefurl=http://www.uaa.alaska.edu/biohome/biology.html&amp;h=281&amp;w=277&amp;prev=/images%3Fq%3DDNA%26start%3D20%26svnum%3D10%26hl%3Dzh-CN%26lr%3D%26ie%3DUTF-8%26inlang%3Dzh-CN%26sa%3D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nsanto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33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esting Foods for Introduced Ge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GMO—Detecting Genetically Modified Fo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 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nsanto also produces seeds which grow into plants genetically engineered to be tolerant to glyphosate which are known a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rops. The genes contained in these seeds are patent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2" descr="Fig4.jpg"/>
          <p:cNvPicPr/>
          <p:nvPr/>
        </p:nvPicPr>
        <p:blipFill>
          <a:blip r:embed="rId1"/>
          <a:stretch/>
        </p:blipFill>
        <p:spPr>
          <a:xfrm>
            <a:off x="4933800" y="1968480"/>
            <a:ext cx="37497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ro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1996, genetically modified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soybea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istant to Roundup became commercially available,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orn in 1998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urrent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Roundup 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rops include soy, maize (corn), canola, sugar beet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cotton, with whe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alfalfa still under developm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Content Placeholder 4" descr="RRC2color.jpg"/>
          <p:cNvPicPr/>
          <p:nvPr/>
        </p:nvPicPr>
        <p:blipFill>
          <a:blip r:embed="rId1"/>
          <a:stretch/>
        </p:blipFill>
        <p:spPr>
          <a:xfrm>
            <a:off x="4933800" y="1882800"/>
            <a:ext cx="37497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 Till Farm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Round-Up eliminates  ALL plants…except those that are genetically modifi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need to till (plow-turn over) the field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rves the top soi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Content Placeholder 4" descr="dust-bowl-cause-1.jpg"/>
          <p:cNvPicPr/>
          <p:nvPr/>
        </p:nvPicPr>
        <p:blipFill>
          <a:blip r:embed="rId1"/>
          <a:stretch/>
        </p:blipFill>
        <p:spPr>
          <a:xfrm>
            <a:off x="4800600" y="60948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4876920" y="358128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low-based farming in this region cultivated an unexpected yield: the loss of fertile topsoil that literally blew away in the win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VA1CCA4QJ4K5CA9DFRIECAFXC85VCA0HDVKHCAUPDKOJCABO345VCAEFNJVLCAJG9GXECA55WU67CA52ROI3CAOU5IHDCAUUONXLCA4XETIICAWZS5K4CAXDSM1PCA9FA3ANCA3DQWOYCADOYDDCCAF8SRRL.jpg"/>
          <p:cNvPicPr/>
          <p:nvPr/>
        </p:nvPicPr>
        <p:blipFill>
          <a:blip r:embed="rId2"/>
          <a:stretch/>
        </p:blipFill>
        <p:spPr>
          <a:xfrm>
            <a:off x="6781680" y="3581280"/>
            <a:ext cx="2011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lyphosate Resistance Found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4 strain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grobacterium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species of bacteria that was found growing in the waste-fed column at a factory that made glyphos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7520" indent="-227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PSP synthase enzyme from this bacterium (C4 EPSP synthase) was almost completely insensitive to glyphos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Content Placeholder 4" descr="Sin_titulo11.jpg"/>
          <p:cNvPicPr/>
          <p:nvPr/>
        </p:nvPicPr>
        <p:blipFill>
          <a:blip r:embed="rId1"/>
          <a:stretch/>
        </p:blipFill>
        <p:spPr>
          <a:xfrm>
            <a:off x="5181480" y="2362320"/>
            <a:ext cx="2901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66047"/>
                </a:solidFill>
                <a:latin typeface="Franklin Gothic Book"/>
              </a:rPr>
              <a:t>Agrobacterium tumefacie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bacterium infects plants and injects DNA from a plasmid into plant cel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jected DNA enters the nucleus and becomes incorporated into the plant chromsome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nder normal circumstance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auses gall tumors in pla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Content Placeholder 4" descr="070915-agrobacterium-tumefaciens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4 EPSP bacterial gene was cloned and inserted into a bacterial plant vector in order to prepare for cloning into plan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0840" indent="-240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onsanto C4 EPSP cloning vectors first patented September 13, 1994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Content Placeholder 8" descr="Monsanto_Roundup_Ready_cloning_vector.jpg"/>
          <p:cNvPicPr/>
          <p:nvPr/>
        </p:nvPicPr>
        <p:blipFill>
          <a:blip r:embed="rId1"/>
          <a:stretch/>
        </p:blipFill>
        <p:spPr>
          <a:xfrm>
            <a:off x="4933800" y="1992240"/>
            <a:ext cx="37497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371240"/>
            <a:ext cx="449568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plasmid vector that will work in E. co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eeds also characteristics that allow the plasmid to work in Agrobacterium tumefacie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eds a promoter…..to turn on the gene in plants!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5" descr="transgeniccrop.gif"/>
          <p:cNvPicPr/>
          <p:nvPr/>
        </p:nvPicPr>
        <p:blipFill>
          <a:blip r:embed="rId1"/>
          <a:stretch/>
        </p:blipFill>
        <p:spPr>
          <a:xfrm>
            <a:off x="4933800" y="2133720"/>
            <a:ext cx="3749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Clo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plant promoter (P-35S) is inserted at the 5' en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promoter is the 35S promoter from cauliflower mosaic virus (CaMV)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680" indent="-256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3' end of the gene is modified by inserting the polyadenylation site (NOS 3') from the nopaline synthase gene of the tumor-inducing (Ti) plasmid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1640" y="1447920"/>
            <a:ext cx="4111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35S            Resistance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5’                                     aaaaaaaaaaa  3’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Straight Connector 6"/>
          <p:cNvSpPr/>
          <p:nvPr/>
        </p:nvSpPr>
        <p:spPr>
          <a:xfrm>
            <a:off x="5029200" y="3124080"/>
            <a:ext cx="990720" cy="0"/>
          </a:xfrm>
          <a:prstGeom prst="line">
            <a:avLst/>
          </a:prstGeom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8"/>
          <p:cNvSpPr/>
          <p:nvPr/>
        </p:nvSpPr>
        <p:spPr>
          <a:xfrm>
            <a:off x="6095880" y="3124080"/>
            <a:ext cx="914400" cy="0"/>
          </a:xfrm>
          <a:prstGeom prst="line">
            <a:avLst/>
          </a:prstGeom>
          <a:ln w="38160">
            <a:solidFill>
              <a:srgbClr val="9562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0"/>
          <p:cNvCxnSpPr/>
          <p:nvPr/>
        </p:nvCxnSpPr>
        <p:spPr>
          <a:xfrm flipH="1">
            <a:off x="5407920" y="2516040"/>
            <a:ext cx="3960" cy="457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4" name="Straight Arrow Connector 12"/>
          <p:cNvCxnSpPr/>
          <p:nvPr/>
        </p:nvCxnSpPr>
        <p:spPr>
          <a:xfrm flipH="1">
            <a:off x="6552360" y="2438280"/>
            <a:ext cx="2520" cy="457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 Transform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Agrobacterium tumefacie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infects plants and injects DNA into plant cells where it enters the nucleus and becomes incorporated into the plant chromsom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combinat DNA is transferred and no tumors are formed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Content Placeholder 4" descr="Agrobacterium_transformation.jpg"/>
          <p:cNvPicPr/>
          <p:nvPr/>
        </p:nvPicPr>
        <p:blipFill>
          <a:blip r:embed="rId1"/>
          <a:stretch/>
        </p:blipFill>
        <p:spPr>
          <a:xfrm>
            <a:off x="4933800" y="2363760"/>
            <a:ext cx="37497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undup Ready soybean was the first crop plant produced by Monsant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day, 90% of the soybean crop in the USA consists of Roundup Ready® plan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760" indent="-2487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 can't buy soybean products that don't come from genetically modified pl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0" name="Content Placeholder 4" descr="Soy_Saponins.jpg"/>
          <p:cNvPicPr/>
          <p:nvPr/>
        </p:nvPicPr>
        <p:blipFill>
          <a:blip r:embed="rId1"/>
          <a:stretch/>
        </p:blipFill>
        <p:spPr>
          <a:xfrm>
            <a:off x="5094360" y="20192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’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ally modified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ganisms have DNA that has been modified through genetic enginee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M foods were first put on the market in the early 1990s fueling a revolution in agri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plants…the gene may come from another plant, or from another  species, or from another kingdo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ed DNA codes for a protein that gives the GMO an advantage over the wild typ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3760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a6a1a1"/>
                </a:solidFill>
                <a:latin typeface="Times New Roman"/>
              </a:rPr>
              <a:t>How to make a Genetically Modified Plant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3520" y="15235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late gene that direct cells to make protein of inter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(From bacteria in the sewers of the chemical plant making R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 the gene to the promoter that works in pla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</a:rPr>
              <a:t>Califlower mosaic virus 35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the promoter-gene and a gene for selectable marker into plant cell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2d050"/>
                </a:solidFill>
                <a:latin typeface="Perpetua"/>
              </a:rPr>
              <a:t>Agrobacterium tumefac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00600" y="160020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genetically altered cells to grow into plant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4" descr="rrsoy.jpg"/>
          <p:cNvPicPr/>
          <p:nvPr/>
        </p:nvPicPr>
        <p:blipFill>
          <a:blip r:embed="rId1"/>
          <a:stretch/>
        </p:blipFill>
        <p:spPr>
          <a:xfrm>
            <a:off x="4800600" y="3048120"/>
            <a:ext cx="3722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3880" y="1676160"/>
            <a:ext cx="675324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幼圆"/>
              </a:rPr>
              <a:t>Detection technology of GMO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039760" y="2743200"/>
            <a:ext cx="4361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Real-time PC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DNA Microarray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Captured PCR-ELISA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Quicktest</a:t>
            </a:r>
            <a:r>
              <a:rPr b="0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 strip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4" descr="http://images.google.com/images?q=tbn:A6auXAXDrrEC:www.uaa.alaska.edu/biohome/d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286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How to Detect a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olate DNA from plant tissue and food products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PCR) is used to assay for evidence o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Perpetua"/>
              </a:rPr>
              <a:t>the 35S promoter tha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rives expression of the glyphosate resistance gene and many other plant transgenes.  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0400" indent="-2304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TextBox 4"/>
          <p:cNvSpPr/>
          <p:nvPr/>
        </p:nvSpPr>
        <p:spPr>
          <a:xfrm rot="2218800">
            <a:off x="4273920" y="3169080"/>
            <a:ext cx="47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Amienne"/>
              </a:rPr>
              <a:t>LOOK FOR THE GENETIC DIFFERENCE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50720" y="457200"/>
            <a:ext cx="49230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Real-time PC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53352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Screening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Target gen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: </a:t>
            </a:r>
            <a:r>
              <a:rPr b="0" lang="en-US" sz="2800" spc="-1" strike="noStrike">
                <a:solidFill>
                  <a:srgbClr val="6699ff"/>
                </a:solidFill>
                <a:latin typeface="Perpetua"/>
                <a:ea typeface="SimSun"/>
              </a:rPr>
              <a:t>CaMV 35S Promo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Nos temina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 , </a:t>
            </a:r>
            <a:r>
              <a:rPr b="0" lang="en-US" sz="2800" spc="-1" strike="noStrike">
                <a:solidFill>
                  <a:srgbClr val="808000"/>
                </a:solidFill>
                <a:latin typeface="Perpetua"/>
                <a:ea typeface="SimSun"/>
              </a:rPr>
              <a:t>NptII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 </a:t>
            </a:r>
            <a:r>
              <a:rPr b="0" lang="en-US" sz="2800" spc="-1" strike="noStrike">
                <a:solidFill>
                  <a:srgbClr val="008080"/>
                </a:solidFill>
                <a:latin typeface="Perpetua"/>
                <a:ea typeface="SimSun"/>
              </a:rPr>
              <a:t>Ba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Perpetua"/>
                <a:ea typeface="SimSun"/>
              </a:rPr>
              <a:t>FMV promot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cc66ff"/>
                </a:solidFill>
                <a:latin typeface="Perpetua"/>
                <a:ea typeface="SimSun"/>
              </a:rPr>
              <a:t>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Reference gene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  <a:ea typeface="SimSun"/>
              </a:rPr>
              <a:t>: 18S 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Quantitative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339933"/>
                </a:solidFill>
                <a:latin typeface="Perpetua"/>
                <a:ea typeface="SimSun"/>
              </a:rPr>
              <a:t>Roundup Ready soy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76 Ma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  <a:ea typeface="SimSun"/>
              </a:rPr>
              <a:t>Event-specific detection 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Perpetua"/>
                <a:ea typeface="SimSun"/>
              </a:rPr>
              <a:t>GTS40-3-2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76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Mon810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Bt11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GA21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</a:t>
            </a:r>
            <a:r>
              <a:rPr b="0" lang="en-US" sz="2800" spc="-1" strike="noStrike">
                <a:solidFill>
                  <a:srgbClr val="990099"/>
                </a:solidFill>
                <a:latin typeface="Perpetua"/>
                <a:ea typeface="SimSun"/>
              </a:rPr>
              <a:t>T25</a:t>
            </a:r>
            <a:r>
              <a:rPr b="0" lang="en-US" sz="2800" spc="-1" strike="noStrike">
                <a:solidFill>
                  <a:srgbClr val="0033cc"/>
                </a:solidFill>
                <a:latin typeface="Perpetua"/>
                <a:ea typeface="SimSun"/>
              </a:rPr>
              <a:t>, RT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5S PROMOTER INDICATES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rbicide resistance correlates with an </a:t>
            </a:r>
            <a:r>
              <a:rPr b="0" lang="en-US" sz="2600" spc="-1" strike="noStrike">
                <a:solidFill>
                  <a:srgbClr val="92d050"/>
                </a:solidFill>
                <a:latin typeface="Perpetua"/>
              </a:rPr>
              <a:t>insertion alle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the 35S promoter – that is readily identified by electrophoresis on an agarose mini-ge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mplification of tubulin, a protein found in all plants, provides evidence of amplifiable DNA in the preparation, while tissue from wild-type and Roundup Ready® soy plants are positive controls for the 35S promoter. 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Two PCR reactions are performed for each plant or food sample.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ne primer set amplifies the 35S promoter from cauliflower mosaic viru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esence of a 35S product is diagnostic for the presence of a transge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6240" indent="-2462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35S promoter is used to drive expression of the glyphosate (Roundup) resistance gene or Bt gene in edible crops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second primer set amplifies a fragment of a tubulin gene and controls for the presence of plant template DN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nce the tubulin gene is found in all plant genomes, the presence of a tubulin product indicates amplifiable DNA in the sample isolated. 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bulin is a housekeeping ge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esults of a GMO Tes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0" name="Content Placeholder 4" descr="gmo_gel_web.jpg"/>
          <p:cNvPicPr/>
          <p:nvPr/>
        </p:nvPicPr>
        <p:blipFill>
          <a:blip r:embed="rId1"/>
          <a:stretch/>
        </p:blipFill>
        <p:spPr>
          <a:xfrm>
            <a:off x="1447920" y="1828800"/>
            <a:ext cx="48765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PCR to Detect GM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llowing primer sets were used in the experimen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CCGACAGTGGTCCCAAAGATGGAC-3' (Forward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ATATAGAGGAAGGGTCTTGCGAAGG-3' (Reverse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GGGATCCACTTCATGCTTTCGTCC-3' (Forward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'-GGGAACCACATCACCACGGTACAT-3' (Reverse Primer)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CR Characteris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naturing step:  94 C  30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ealing step:     60 C 30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ending step:     72 C  30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4X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5S  ----162 base pai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ubulin-187 base pai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696464"/>
              </a:solidFill>
              <a:latin typeface="Franklin Gothic Book"/>
              <a:ea typeface="Tahoma"/>
            </a:endParaRPr>
          </a:p>
        </p:txBody>
      </p:sp>
      <p:pic>
        <p:nvPicPr>
          <p:cNvPr id="315" name="Content Placeholder 7" descr="IMG_0088.JPG"/>
          <p:cNvPicPr/>
          <p:nvPr/>
        </p:nvPicPr>
        <p:blipFill>
          <a:blip r:embed="rId1"/>
          <a:srcRect l="0" t="8130" r="0" b="10582"/>
          <a:stretch/>
        </p:blipFill>
        <p:spPr>
          <a:xfrm>
            <a:off x="228600" y="609480"/>
            <a:ext cx="2813040" cy="3581640"/>
          </a:xfrm>
          <a:prstGeom prst="rect">
            <a:avLst/>
          </a:prstGeom>
          <a:ln w="0">
            <a:noFill/>
          </a:ln>
        </p:spPr>
      </p:pic>
      <p:pic>
        <p:nvPicPr>
          <p:cNvPr id="316" name="Content Placeholder 8" descr="IMG_0089.JPG"/>
          <p:cNvPicPr/>
          <p:nvPr/>
        </p:nvPicPr>
        <p:blipFill>
          <a:blip r:embed="rId2"/>
          <a:srcRect l="0" t="0" r="37679" b="4484"/>
          <a:stretch/>
        </p:blipFill>
        <p:spPr>
          <a:xfrm>
            <a:off x="3200400" y="609480"/>
            <a:ext cx="1752480" cy="3581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IMG_0094.JPG"/>
          <p:cNvPicPr/>
          <p:nvPr/>
        </p:nvPicPr>
        <p:blipFill>
          <a:blip r:embed="rId3"/>
          <a:srcRect l="0" t="10231" r="8527" b="7925"/>
          <a:stretch/>
        </p:blipFill>
        <p:spPr>
          <a:xfrm>
            <a:off x="5334120" y="609480"/>
            <a:ext cx="3429000" cy="36036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2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 DP  BS  AS EC AS  KR  FD                     CB   AM  + c                                  TL     ASca TJ    TF    SC   DH   DH   D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4876920" y="838080"/>
            <a:ext cx="5331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4343400"/>
          <a:ext cx="8915400" cy="63972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CR    +   -   -     +   +  +  +   +                   +  +    +                           +     +     -      +   +     -      +    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MO   -               -     -    -   -    +                    -   -      +                           -      -       +    -    +     +     -       -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5dc"/>
                    </a:solidFill>
                  </a:tcPr>
                </a:tc>
              </a:tr>
            </a:tbl>
          </a:graphicData>
        </a:graphic>
      </p:graphicFrame>
      <p:sp>
        <p:nvSpPr>
          <p:cNvPr id="321" name="TextBox 17"/>
          <p:cNvSpPr/>
          <p:nvPr/>
        </p:nvSpPr>
        <p:spPr>
          <a:xfrm>
            <a:off x="380880" y="5029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Ma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Samples were successfully amplified with only 4 products testing + for G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= Wheat (but we had not wheat products??   S 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H= corn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GMO – PCR Results…….Biorad/Carolina Ki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3" name="Content Placeholder 6" descr="GMO 5.26.09 003.jpg"/>
          <p:cNvPicPr/>
          <p:nvPr/>
        </p:nvPicPr>
        <p:blipFill>
          <a:blip r:embed="rId1"/>
          <a:stretch/>
        </p:blipFill>
        <p:spPr>
          <a:xfrm>
            <a:off x="228600" y="2057400"/>
            <a:ext cx="2895480" cy="45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GMO 5.26.09 004.jpg"/>
          <p:cNvPicPr/>
          <p:nvPr/>
        </p:nvPicPr>
        <p:blipFill>
          <a:blip r:embed="rId2"/>
          <a:stretch/>
        </p:blipFill>
        <p:spPr>
          <a:xfrm>
            <a:off x="3200400" y="2362320"/>
            <a:ext cx="2895480" cy="426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GMO 5.26.09 005.jpg"/>
          <p:cNvPicPr/>
          <p:nvPr/>
        </p:nvPicPr>
        <p:blipFill>
          <a:blip r:embed="rId3"/>
          <a:stretch/>
        </p:blipFill>
        <p:spPr>
          <a:xfrm>
            <a:off x="6324480" y="2362320"/>
            <a:ext cx="2638440" cy="4190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100pb.gif"/>
          <p:cNvPicPr/>
          <p:nvPr/>
        </p:nvPicPr>
        <p:blipFill>
          <a:blip r:embed="rId4"/>
          <a:stretch/>
        </p:blipFill>
        <p:spPr>
          <a:xfrm>
            <a:off x="2819520" y="2971800"/>
            <a:ext cx="425160" cy="1636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100pb.gif"/>
          <p:cNvPicPr/>
          <p:nvPr/>
        </p:nvPicPr>
        <p:blipFill>
          <a:blip r:embed="rId5"/>
          <a:stretch/>
        </p:blipFill>
        <p:spPr>
          <a:xfrm>
            <a:off x="2819520" y="4800600"/>
            <a:ext cx="425160" cy="16365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3"/>
          <p:cNvSpPr/>
          <p:nvPr/>
        </p:nvSpPr>
        <p:spPr>
          <a:xfrm>
            <a:off x="0" y="1828800"/>
            <a:ext cx="9144000" cy="1053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   AB  NB  CW CT  RH LB  RB          WM  RP TS  AH  HB EB  CV AL  AK  M            M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H  NF  BF TW MH SB ZP     +  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5 Promoter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PS                                                              Cracker     Veg. pepperoni                        Tor. Chip           pretzel  PC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0" y="4572000"/>
            <a:ext cx="9144000" cy="36828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ulin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PSII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"/>
          <p:cNvSpPr/>
          <p:nvPr/>
        </p:nvSpPr>
        <p:spPr>
          <a:xfrm>
            <a:off x="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-Anim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 products have been proposed  or produc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657360" indent="-246240"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Pig engineered to produce omega-3 fatty aci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57360" indent="-246240"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Perpetua"/>
              </a:rPr>
              <a:t>Sheep that express antibodies in mil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Content Placeholder 4" descr="0205PIGS_narrowweb__300x365,0.jpg"/>
          <p:cNvPicPr/>
          <p:nvPr/>
        </p:nvPicPr>
        <p:blipFill>
          <a:blip r:embed="rId1"/>
          <a:stretch/>
        </p:blipFill>
        <p:spPr>
          <a:xfrm>
            <a:off x="4933800" y="1452600"/>
            <a:ext cx="37497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Results: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f66047"/>
                </a:solidFill>
                <a:latin typeface="Franklin Gothic Book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4 Food items were tested for genetic modification using the S35 promoter from CMV as a mark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bulin or Photosystem II used for a negative contr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 samples had + PCR resul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5 samples showed +results for the S35 promo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blem cracker and tortilla chip PCR product wrong size.  Chips and pretzel don’t have + contr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Conclusion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rtilla chips, pretzels, veggie pepperoni and club crackers appear to contain food from GMO’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ong size products, no tubulin make conclusion regarding pretzel and cracker suspe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rprize—wheat products have generally not been reported to contain this genetic modification.  Perhaps they also contain corn or soy products. Further testing would be necessary to confir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ed to optimize the proced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6047"/>
                </a:solidFill>
                <a:latin typeface="Franklin Gothic Book"/>
              </a:rPr>
              <a:t>GMO’s - Plan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ally modified plant products: soybean, corn, canola, and cotton seed oi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s en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rbicide resist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ect resist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rought toler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ost toleranc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layed fruit ripening and other trai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Content Placeholder 4" descr="2V95CA9EQ0GVCASESNAECAZKV32SCALW8FK8CA227DEWCADZI6Q1CAVTHT4KCALFSM70CAL78SJDCAO3HSYECAYTWXS3CA5FDB90CAHLJFKBCAEDHY9VCAD1HP9ACAP6F2V0CAPBRNYNCAX8ZOY2CASAHN8F.jpg"/>
          <p:cNvPicPr/>
          <p:nvPr/>
        </p:nvPicPr>
        <p:blipFill>
          <a:blip r:embed="rId1"/>
          <a:stretch/>
        </p:blipFill>
        <p:spPr>
          <a:xfrm>
            <a:off x="5029200" y="1447920"/>
            <a:ext cx="1913040" cy="144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PH8CAPU779ZCASSOIQHCAUZRZ7HCAIL31G5CA30U4MZCA3SBT09CAO4DAOZCAGII8YOCAPWFIDZCA0Q1005CAGREBWFCADJUTYLCAJAPZ89CA5O0IWNCA3HE5YLCA2V78SACAKX0MDCCA9G7KBLCA71C2FG.jpg"/>
          <p:cNvPicPr/>
          <p:nvPr/>
        </p:nvPicPr>
        <p:blipFill>
          <a:blip r:embed="rId2"/>
          <a:stretch/>
        </p:blipFill>
        <p:spPr>
          <a:xfrm>
            <a:off x="4952880" y="30481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GMO Pla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474840" indent="-2329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lavr Savr toma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commercially grown genetically engineered food granted a license for human consump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duced by the Californi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any Calgene  199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ld in 1994, and was only available for a few years before production cea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Content Placeholder 4" descr="untitled.bmp"/>
          <p:cNvPicPr/>
          <p:nvPr/>
        </p:nvPicPr>
        <p:blipFill>
          <a:blip r:embed="rId1"/>
          <a:stretch/>
        </p:blipFill>
        <p:spPr>
          <a:xfrm>
            <a:off x="5029200" y="14479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Flavor-sav          Vs   Norm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25000" indent="-22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re resistant to rotting and softening by adding an antisense gene which interferes with the production of the enzyme polygalacturonase (s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NA interferenc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5000" indent="-22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ftening makes the tomato more susceptible to being damaged by fungal infecti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ide Variety of Tomato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cked BEFORE they are ripe….still very fi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tificially ripen with ethylene g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ier handling and shel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Curved Right Arrow 4"/>
          <p:cNvSpPr/>
          <p:nvPr/>
        </p:nvSpPr>
        <p:spPr>
          <a:xfrm>
            <a:off x="152280" y="37339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BT-Cor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t corn is a variant of maize, genetically altered to express the bacterial Bt tox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isonous to insect pest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ase of corn, the pest is the European Corn Bor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4" descr="Corn_borer.jpg"/>
          <p:cNvPicPr/>
          <p:nvPr/>
        </p:nvPicPr>
        <p:blipFill>
          <a:blip r:embed="rId1"/>
          <a:stretch/>
        </p:blipFill>
        <p:spPr>
          <a:xfrm>
            <a:off x="5208480" y="2603520"/>
            <a:ext cx="32004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BT-Cor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gene from  a microorganis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Bacillus thuringiensi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inserted into the corn genom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e codes for a protein toxin that forms a crystalline product…the product is eaten &amp; perforates the larval digestive tract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ores allow naturally occurring enteric bacteria such as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nterobacte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o infect the insect causing death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Content Placeholder 4" descr="cg_corn.jpg"/>
          <p:cNvPicPr/>
          <p:nvPr/>
        </p:nvPicPr>
        <p:blipFill>
          <a:blip r:embed="rId1"/>
          <a:stretch/>
        </p:blipFill>
        <p:spPr>
          <a:xfrm>
            <a:off x="5181480" y="1371600"/>
            <a:ext cx="2978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Round-up Rea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oundu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the brand name of a systemic, broad-spectrum herbici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duced by 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Monsanto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active ingredi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yphosat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Content Placeholder 5" descr="roundup2.jpg"/>
          <p:cNvPicPr/>
          <p:nvPr/>
        </p:nvPicPr>
        <p:blipFill>
          <a:blip r:embed="rId2"/>
          <a:stretch/>
        </p:blipFill>
        <p:spPr>
          <a:xfrm>
            <a:off x="5318280" y="1905120"/>
            <a:ext cx="2981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57:03Z</dcterms:created>
  <dc:creator>backup</dc:creator>
  <dc:description/>
  <dc:language>en-US</dc:language>
  <cp:lastModifiedBy>win7</cp:lastModifiedBy>
  <dcterms:modified xsi:type="dcterms:W3CDTF">2013-05-11T17:12:50Z</dcterms:modified>
  <cp:revision>35</cp:revision>
  <dc:subject/>
  <dc:title>GMO—Detecting Genetically Modified Foods</dc:title>
</cp:coreProperties>
</file>