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17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2EF-3092-49DB-8DB6-B75DED04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720-8CF8-4703-A575-459BD459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5A1-3CD4-414E-9D71-1EE2C6C5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4D4-C6CE-44DE-9B66-417B95E4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F806-5778-4091-A954-9DE42ED2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7E0A-FEF1-461A-9170-3D3C99AC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65A9-B4F7-419A-8AE9-911C27D0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BBA4-4E6B-413C-A910-6996AFCF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0BA3-E255-4E8D-B732-9918A1E4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7D9D-293B-44F1-8366-0F9F9FED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A0DF-2AC0-4D3A-B4A6-9B343D18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3AE-583D-46AB-AA3A-FF9A8711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24ED-20EA-47BF-B318-C3A6FC89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29A0-4B56-4EE2-8BA4-31112F58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8BEB-3372-4125-B608-A6AF214B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1DB7-BAD9-49B8-8DE3-76F5160B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477F-E912-4E91-BC75-656528BB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4ED19-650E-4A95-9B60-4289F57F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4984-37EA-4171-A7CB-F0702BE3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DA29C-73C0-48C5-91C3-A2D301C0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AA79E-EAC1-4CC0-8EBD-D19B0CC2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C5512-91BF-4544-A194-AF92D26C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F024-8C96-439F-8311-E0C5C93D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0684F-0A62-4391-B1EC-F78276C2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E7951-DFF1-4F79-926B-56FFD3F2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0A946-0018-4F2A-AF30-BB63E987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B3074-0162-4E6F-BFFA-BA93F802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EDD2D-E1D0-434F-BA99-FD661FE8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7416C-0B3D-4193-91D8-3A604072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9363F-7618-41C0-9191-99957D14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B9600-EE26-491D-B6A1-0BB73F24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1CE3D-FFDC-4EC3-A11D-00365386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CA756-2907-4D23-A895-528DC75B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6CC-0816-4705-AB78-DFA5425F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BA58-F272-4800-BEB4-4920BD7D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E892D-42C3-4896-B4CF-4E5F95EC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CFA31-DD74-4B83-A7D1-45475E21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5A394-CBF3-43B1-BBB1-66EBC706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231E2-2636-488F-A213-302A2910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B81D9-6716-46FA-961B-94893DE1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21BF2-95D7-433C-8F2B-C1B8E28C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9DA01-B851-4D31-A231-FF52F278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B97FF-B94F-40CB-A082-4F098517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776F6-199C-44F8-A841-5EC0BDEB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8C5-98F8-477E-A157-A206BD96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DF145-29C9-4D6C-92E4-1CFB9FF1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461F8-7651-48AA-94F2-B3D37D70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832AA-C957-4219-8732-D3FEA94E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C6320-932B-4D38-A44C-F821E954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BF82B-D8DB-48C5-B6DC-67DE274D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86C9B-70D4-4231-92E3-F3DA935F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21EB1-138B-4C5F-A311-EE3B8351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58207-11EB-41AE-858B-57545D45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0D756-2BB9-4A89-8676-AACF2FCA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48946-24CD-41E8-B322-2B2D3356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91E-460E-457C-8F58-E0D5EBAD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F4E65-38F4-4207-97E4-750EDFE9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46A-EC9A-46D0-A5A5-205FA5FE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B08-28D6-4AD9-B3D5-8BBE749E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79A-FE8E-474E-83F3-1616A5D9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BD1E-98AC-4C4F-8386-99910710F93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4C00-0524-40C2-BE38-8FC774A9A56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28F0-A47E-45AB-90C6-53E7DE02EF5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C9EF-54D0-4C5E-820F-FBD6B7F6C1F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FF5D-2BC6-44D1-87D8-4B150F11580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uaa.alaska.edu/biohome/dna.jpg&amp;imgrefurl=http://www.uaa.alaska.edu/biohome/biology.html&amp;h=281&amp;w=277&amp;prev=/images%3Fq%3DDNA%26start%3D20%26svnum%3D10%26hl%3Dzh-CN%26lr%3D%26ie%3DUTF-8%26inlang%3Dzh-CN%26sa%3DN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onsanto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556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336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336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Testing Foods for Introduced Ge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GMO—Detecting Genetically Modified Foo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ound up Read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nsanto also produces seeds which grow into plants genetically engineered to be tolerant to glyphosate which are known as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Roundup Read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crops. The genes contained in these seeds are patented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Content Placeholder 12" descr="Fig4.jpg"/>
          <p:cNvPicPr/>
          <p:nvPr/>
        </p:nvPicPr>
        <p:blipFill>
          <a:blip r:embed="rId1"/>
          <a:stretch/>
        </p:blipFill>
        <p:spPr>
          <a:xfrm>
            <a:off x="4933800" y="1968480"/>
            <a:ext cx="374976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oundup Ready Crop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46240" indent="-246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1996, genetically modified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Roundup Read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soybean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sistant to Roundup became commercially available,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Roundup Read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corn in 1998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6240" indent="-246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6240" indent="-246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urrent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Roundup Read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crops include soy, maize (corn), canola, sugar beet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and cotton, with whea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and alfalfa still under developme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0" name="Content Placeholder 4" descr="RRC2color.jpg"/>
          <p:cNvPicPr/>
          <p:nvPr/>
        </p:nvPicPr>
        <p:blipFill>
          <a:blip r:embed="rId1"/>
          <a:stretch/>
        </p:blipFill>
        <p:spPr>
          <a:xfrm>
            <a:off x="4933800" y="1882800"/>
            <a:ext cx="37497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o Till Farm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ing Round-Up eliminates  ALL plants…except those that are genetically modifi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need to till (plow-turn over) the field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rves the top soi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3" name="Content Placeholder 4" descr="dust-bowl-cause-1.jpg"/>
          <p:cNvPicPr/>
          <p:nvPr/>
        </p:nvPicPr>
        <p:blipFill>
          <a:blip r:embed="rId1"/>
          <a:stretch/>
        </p:blipFill>
        <p:spPr>
          <a:xfrm>
            <a:off x="4800600" y="609480"/>
            <a:ext cx="3749760" cy="28116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4876920" y="3581280"/>
            <a:ext cx="198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plow-based farming in this region cultivated an unexpected yield: the loss of fertile topsoil that literally blew away in the win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VA1CCA4QJ4K5CA9DFRIECAFXC85VCA0HDVKHCAUPDKOJCABO345VCAEFNJVLCAJG9GXECA55WU67CA52ROI3CAOU5IHDCAUUONXLCA4XETIICAWZS5K4CAXDSM1PCA9FA3ANCA3DQWOYCADOYDDCCAF8SRRL.jpg"/>
          <p:cNvPicPr/>
          <p:nvPr/>
        </p:nvPicPr>
        <p:blipFill>
          <a:blip r:embed="rId2"/>
          <a:stretch/>
        </p:blipFill>
        <p:spPr>
          <a:xfrm>
            <a:off x="6781680" y="3581280"/>
            <a:ext cx="2011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Glyphosate Resistance Found!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27520" indent="-227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4 strain of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Agrobacterium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7520" indent="-227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7520" indent="-227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species of bacteria that was found growing in the waste-fed column at a factory that made glyphosat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7520" indent="-227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7520" indent="-227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EPSP synthase enzyme from this bacterium (C4 EPSP synthase) was almost completely insensitive to glyphos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8" name="Content Placeholder 4" descr="Sin_titulo11.jpg"/>
          <p:cNvPicPr/>
          <p:nvPr/>
        </p:nvPicPr>
        <p:blipFill>
          <a:blip r:embed="rId1"/>
          <a:stretch/>
        </p:blipFill>
        <p:spPr>
          <a:xfrm>
            <a:off x="5181480" y="2362320"/>
            <a:ext cx="29019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66047"/>
                </a:solidFill>
                <a:latin typeface="Franklin Gothic Book"/>
              </a:rPr>
              <a:t>Agrobacterium tumefacie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is bacterium infects plants and injects DNA from a plasmid into plant cel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jected DNA enters the nucleus and becomes incorporated into the plant chromsome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nder normal circumstances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Agrobacterium tumefacien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causes gall tumors in plan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1" name="Content Placeholder 4" descr="070915-agrobacterium-tumefaciens.jpg"/>
          <p:cNvPicPr/>
          <p:nvPr/>
        </p:nvPicPr>
        <p:blipFill>
          <a:blip r:embed="rId1"/>
          <a:stretch/>
        </p:blipFill>
        <p:spPr>
          <a:xfrm>
            <a:off x="4952880" y="1905120"/>
            <a:ext cx="33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oundup Ready Clon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0840" indent="-240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4 EPSP bacterial gene was cloned and inserted into a bacterial plant vector in order to prepare for cloning into plant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0840" indent="-240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0840" indent="-240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onsanto C4 EPSP cloning vectors first patented September 13, 1994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4" name="Content Placeholder 8" descr="Monsanto_Roundup_Ready_cloning_vector.jpg"/>
          <p:cNvPicPr/>
          <p:nvPr/>
        </p:nvPicPr>
        <p:blipFill>
          <a:blip r:embed="rId1"/>
          <a:stretch/>
        </p:blipFill>
        <p:spPr>
          <a:xfrm>
            <a:off x="4933800" y="1992240"/>
            <a:ext cx="374976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oundup Ready Clon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371240"/>
            <a:ext cx="449568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plasmid vector that will work in E. col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eeds also characteristics that allow the plasmid to work in Agrobacterium tumefacien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eds a promoter…..to turn on the gene in plants!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Content Placeholder 5" descr="transgeniccrop.gif"/>
          <p:cNvPicPr/>
          <p:nvPr/>
        </p:nvPicPr>
        <p:blipFill>
          <a:blip r:embed="rId1"/>
          <a:stretch/>
        </p:blipFill>
        <p:spPr>
          <a:xfrm>
            <a:off x="4933800" y="2133720"/>
            <a:ext cx="3749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oundup Ready Clon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6680" indent="-256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plant promoter (P-35S) is inserted at the 5' end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6680" indent="-256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6680" indent="-256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promoter is the 35S promoter from cauliflower mosaic virus (CaMV)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6680" indent="-256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6680" indent="-256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3' end of the gene is modified by inserting the polyadenylation site (NOS 3') from the nopaline synthase gene of the tumor-inducing (Ti) plasmid from 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Agrobacterium tumefaciens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1640" y="1447920"/>
            <a:ext cx="4111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371600" indent="-2286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35S            Resistance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5’                                     aaaaaaaaaaa  3’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Straight Connector 6"/>
          <p:cNvSpPr/>
          <p:nvPr/>
        </p:nvSpPr>
        <p:spPr>
          <a:xfrm>
            <a:off x="5029200" y="3124080"/>
            <a:ext cx="990720" cy="0"/>
          </a:xfrm>
          <a:prstGeom prst="line">
            <a:avLst/>
          </a:prstGeom>
          <a:ln w="381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8"/>
          <p:cNvSpPr/>
          <p:nvPr/>
        </p:nvSpPr>
        <p:spPr>
          <a:xfrm>
            <a:off x="6095880" y="3124080"/>
            <a:ext cx="914400" cy="0"/>
          </a:xfrm>
          <a:prstGeom prst="line">
            <a:avLst/>
          </a:prstGeom>
          <a:ln w="38160">
            <a:solidFill>
              <a:srgbClr val="9562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Straight Arrow Connector 10"/>
          <p:cNvCxnSpPr/>
          <p:nvPr/>
        </p:nvCxnSpPr>
        <p:spPr>
          <a:xfrm flipH="1">
            <a:off x="5407920" y="2516040"/>
            <a:ext cx="3960" cy="4579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84" name="Straight Arrow Connector 12"/>
          <p:cNvCxnSpPr/>
          <p:nvPr/>
        </p:nvCxnSpPr>
        <p:spPr>
          <a:xfrm flipH="1">
            <a:off x="6552360" y="2438280"/>
            <a:ext cx="2520" cy="4579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oundup Ready Transforma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3720" indent="-243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Agrobacterium tumefacien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infects plants and injects DNA into plant cells where it enters the nucleus and becomes incorporated into the plant chromsome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recombinat DNA is transferred and no tumors are formed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7" name="Content Placeholder 4" descr="Agrobacterium_transformation.jpg"/>
          <p:cNvPicPr/>
          <p:nvPr/>
        </p:nvPicPr>
        <p:blipFill>
          <a:blip r:embed="rId1"/>
          <a:stretch/>
        </p:blipFill>
        <p:spPr>
          <a:xfrm>
            <a:off x="4933800" y="2363760"/>
            <a:ext cx="374976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oundup Read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48760" indent="-2487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oundup Ready soybean was the first crop plant produced by Monsant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760" indent="-2487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760" indent="-2487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oday, 90% of the soybean crop in the USA consists of Roundup Ready® plant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760" indent="-2487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760" indent="-2487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ou can't buy soybean products that don't come from genetically modified plan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0" name="Content Placeholder 4" descr="Soy_Saponins.jpg"/>
          <p:cNvPicPr/>
          <p:nvPr/>
        </p:nvPicPr>
        <p:blipFill>
          <a:blip r:embed="rId1"/>
          <a:stretch/>
        </p:blipFill>
        <p:spPr>
          <a:xfrm>
            <a:off x="5094360" y="201924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GMO’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Genetically modified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ganisms have DNA that has been modified through genetic enginee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3760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3760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M foods were first put on the market in the early 1990s fueling a revolution in agricul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37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37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 plants…the gene may come from another plant, or from another  species, or from another kingdom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37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37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ed DNA codes for a protein that gives the GMO an advantage over the wild typ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3760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3760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a6a1a1"/>
                </a:solidFill>
                <a:latin typeface="Times New Roman"/>
              </a:rPr>
              <a:t>How to make a Genetically Modified Plant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33520" y="15235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olate gene that direct cells to make protein of inter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Times New Roman"/>
              </a:rPr>
              <a:t>(From bacteria in the sewers of the chemical plant making RR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ach the gene to the promoter that works in pla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</a:rPr>
              <a:t>Califlower mosaic virus 35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the promoter-gene and a gene for selectable marker into plant cells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2d050"/>
                </a:solidFill>
                <a:latin typeface="Perpetua"/>
              </a:rPr>
              <a:t>Agrobacterium tumefacie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800600" y="160020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the genetically altered cells to grow into plants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4" name="Picture 4" descr="rrsoy.jpg"/>
          <p:cNvPicPr/>
          <p:nvPr/>
        </p:nvPicPr>
        <p:blipFill>
          <a:blip r:embed="rId1"/>
          <a:stretch/>
        </p:blipFill>
        <p:spPr>
          <a:xfrm>
            <a:off x="4800600" y="3048120"/>
            <a:ext cx="3722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3880" y="1676160"/>
            <a:ext cx="6753240" cy="1066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  <a:ea typeface="幼圆"/>
              </a:rPr>
              <a:t>Detection technology of GMOs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039760" y="2743200"/>
            <a:ext cx="4361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Perpetua"/>
                <a:ea typeface="SimSun"/>
              </a:rPr>
              <a:t>Real-time PCR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Perpetua"/>
                <a:ea typeface="SimSun"/>
              </a:rPr>
              <a:t>DNA Microarray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Perpetua"/>
                <a:ea typeface="SimSun"/>
              </a:rPr>
              <a:t>Captured PCR-ELISA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Perpetua"/>
                <a:ea typeface="SimSun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Perpetua"/>
                <a:ea typeface="SimSun"/>
              </a:rPr>
              <a:t>Quicktest</a:t>
            </a:r>
            <a:r>
              <a:rPr b="0" lang="en-US" sz="3600" spc="-1" strike="noStrike">
                <a:solidFill>
                  <a:srgbClr val="ff0000"/>
                </a:solidFill>
                <a:latin typeface="Perpetua"/>
                <a:ea typeface="SimSun"/>
              </a:rPr>
              <a:t> strip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7" name="Picture 4" descr="http://images.google.com/images?q=tbn:A6auXAXDrrEC:www.uaa.alaska.edu/biohome/d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1286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How to Detect a GM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0400" indent="-2304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olate DNA from plant tissue and food products.  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0400" indent="-2304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0400" indent="-2304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PCR) is used to assay for evidence of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0400" indent="-2304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0400" indent="-2304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Perpetua"/>
              </a:rPr>
              <a:t>the 35S promoter that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0400" indent="-2304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0400" indent="-2304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rives expression of the glyphosate resistance gene and many other plant transgenes.   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0400" indent="-2304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TextBox 4"/>
          <p:cNvSpPr/>
          <p:nvPr/>
        </p:nvSpPr>
        <p:spPr>
          <a:xfrm rot="2218800">
            <a:off x="4273920" y="3169080"/>
            <a:ext cx="47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2d050"/>
                </a:solidFill>
                <a:latin typeface="Amienne"/>
              </a:rPr>
              <a:t>LOOK FOR THE GENETIC DIFFERENCE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50720" y="457200"/>
            <a:ext cx="4923000" cy="8380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Real-time PC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533520" y="1295280"/>
            <a:ext cx="8839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  <a:ea typeface="SimSun"/>
              </a:rPr>
              <a:t>Screening K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  </a:t>
            </a: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Target gene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  <a:ea typeface="SimSun"/>
              </a:rPr>
              <a:t>: </a:t>
            </a:r>
            <a:r>
              <a:rPr b="0" lang="en-US" sz="2800" spc="-1" strike="noStrike">
                <a:solidFill>
                  <a:srgbClr val="6699ff"/>
                </a:solidFill>
                <a:latin typeface="Perpetua"/>
                <a:ea typeface="SimSun"/>
              </a:rPr>
              <a:t>CaMV 35S Promoto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  <a:ea typeface="SimSun"/>
              </a:rPr>
              <a:t>, </a:t>
            </a:r>
            <a:r>
              <a:rPr b="0" lang="en-US" sz="2800" spc="-1" strike="noStrike">
                <a:solidFill>
                  <a:srgbClr val="990099"/>
                </a:solidFill>
                <a:latin typeface="Perpetua"/>
                <a:ea typeface="SimSun"/>
              </a:rPr>
              <a:t>Nos teminato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  <a:ea typeface="SimSun"/>
              </a:rPr>
              <a:t> , </a:t>
            </a:r>
            <a:r>
              <a:rPr b="0" lang="en-US" sz="2800" spc="-1" strike="noStrike">
                <a:solidFill>
                  <a:srgbClr val="808000"/>
                </a:solidFill>
                <a:latin typeface="Perpetua"/>
                <a:ea typeface="SimSun"/>
              </a:rPr>
              <a:t>NptII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  <a:ea typeface="SimSun"/>
              </a:rPr>
              <a:t>,  </a:t>
            </a:r>
            <a:r>
              <a:rPr b="0" lang="en-US" sz="2800" spc="-1" strike="noStrike">
                <a:solidFill>
                  <a:srgbClr val="008080"/>
                </a:solidFill>
                <a:latin typeface="Perpetua"/>
                <a:ea typeface="SimSun"/>
              </a:rPr>
              <a:t>Ba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  <a:ea typeface="SimSun"/>
              </a:rPr>
              <a:t>, </a:t>
            </a:r>
            <a:r>
              <a:rPr b="0" lang="en-US" sz="2800" spc="-1" strike="noStrike">
                <a:solidFill>
                  <a:srgbClr val="666699"/>
                </a:solidFill>
                <a:latin typeface="Perpetua"/>
                <a:ea typeface="SimSun"/>
              </a:rPr>
              <a:t>FMV promoto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  <a:ea typeface="SimSun"/>
              </a:rPr>
              <a:t>, </a:t>
            </a:r>
            <a:r>
              <a:rPr b="0" lang="en-US" sz="2800" spc="-1" strike="noStrike">
                <a:solidFill>
                  <a:srgbClr val="cc66ff"/>
                </a:solidFill>
                <a:latin typeface="Perpetua"/>
                <a:ea typeface="SimSun"/>
              </a:rPr>
              <a:t>P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  </a:t>
            </a: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Reference gene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  <a:ea typeface="SimSun"/>
              </a:rPr>
              <a:t>: 18S r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  <a:ea typeface="SimSun"/>
              </a:rPr>
              <a:t>Quantitative K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Perpetua"/>
                <a:ea typeface="SimSun"/>
              </a:rPr>
              <a:t>  </a:t>
            </a:r>
            <a:r>
              <a:rPr b="0" lang="en-US" sz="2800" spc="-1" strike="noStrike">
                <a:solidFill>
                  <a:srgbClr val="339933"/>
                </a:solidFill>
                <a:latin typeface="Perpetua"/>
                <a:ea typeface="SimSun"/>
              </a:rPr>
              <a:t>Roundup Ready soy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  </a:t>
            </a:r>
            <a:r>
              <a:rPr b="0" lang="en-US" sz="2800" spc="-1" strike="noStrike">
                <a:solidFill>
                  <a:srgbClr val="990099"/>
                </a:solidFill>
                <a:latin typeface="Perpetua"/>
                <a:ea typeface="SimSun"/>
              </a:rPr>
              <a:t>Bt176 Ma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  <a:ea typeface="SimSun"/>
              </a:rPr>
              <a:t>Event-specific detection k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  </a:t>
            </a:r>
            <a:r>
              <a:rPr b="0" lang="en-US" sz="2800" spc="-1" strike="noStrike">
                <a:solidFill>
                  <a:srgbClr val="990033"/>
                </a:solidFill>
                <a:latin typeface="Perpetua"/>
                <a:ea typeface="SimSun"/>
              </a:rPr>
              <a:t>GTS40-3-2</a:t>
            </a: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, </a:t>
            </a:r>
            <a:r>
              <a:rPr b="0" lang="en-US" sz="2800" spc="-1" strike="noStrike">
                <a:solidFill>
                  <a:srgbClr val="990099"/>
                </a:solidFill>
                <a:latin typeface="Perpetua"/>
                <a:ea typeface="SimSun"/>
              </a:rPr>
              <a:t>Bt176</a:t>
            </a: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, </a:t>
            </a:r>
            <a:r>
              <a:rPr b="0" lang="en-US" sz="2800" spc="-1" strike="noStrike">
                <a:solidFill>
                  <a:srgbClr val="990099"/>
                </a:solidFill>
                <a:latin typeface="Perpetua"/>
                <a:ea typeface="SimSun"/>
              </a:rPr>
              <a:t>Mon810</a:t>
            </a: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, </a:t>
            </a:r>
            <a:r>
              <a:rPr b="0" lang="en-US" sz="2800" spc="-1" strike="noStrike">
                <a:solidFill>
                  <a:srgbClr val="990099"/>
                </a:solidFill>
                <a:latin typeface="Perpetua"/>
                <a:ea typeface="SimSun"/>
              </a:rPr>
              <a:t>Bt11</a:t>
            </a: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, </a:t>
            </a:r>
            <a:r>
              <a:rPr b="0" lang="en-US" sz="2800" spc="-1" strike="noStrike">
                <a:solidFill>
                  <a:srgbClr val="990099"/>
                </a:solidFill>
                <a:latin typeface="Perpetua"/>
                <a:ea typeface="SimSun"/>
              </a:rPr>
              <a:t>GA21</a:t>
            </a: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, </a:t>
            </a:r>
            <a:r>
              <a:rPr b="0" lang="en-US" sz="2800" spc="-1" strike="noStrike">
                <a:solidFill>
                  <a:srgbClr val="990099"/>
                </a:solidFill>
                <a:latin typeface="Perpetua"/>
                <a:ea typeface="SimSun"/>
              </a:rPr>
              <a:t>T25</a:t>
            </a: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, RT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35S PROMOTER INDICATES GM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rbicide resistance correlates with an </a:t>
            </a:r>
            <a:r>
              <a:rPr b="0" lang="en-US" sz="2600" spc="-1" strike="noStrike">
                <a:solidFill>
                  <a:srgbClr val="92d050"/>
                </a:solidFill>
                <a:latin typeface="Perpetua"/>
              </a:rPr>
              <a:t>insertion allel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– the 35S promoter – that is readily identified by electrophoresis on an agarose mini-ge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mplification of tubulin, a protein found in all plants, provides evidence of amplifiable DNA in the preparation, while tissue from wild-type and Roundup Ready® soy plants are positive controls for the 35S promoter. 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6047"/>
                </a:solidFill>
                <a:latin typeface="Franklin Gothic Book"/>
              </a:rPr>
              <a:t>Two PCR reactions are performed for each plant or food sample.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46240" indent="-246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ne primer set amplifies the 35S promoter from cauliflower mosaic viru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6240" indent="-246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esence of a 35S product is diagnostic for the presence of a transge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6240" indent="-246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6240" indent="-246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35S promoter is used to drive expression of the glyphosate (Roundup) resistance gene or Bt gene in edible crops.  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38320" indent="-238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second primer set amplifies a fragment of a tubulin gene and controls for the presence of plant template DN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ince the tubulin gene is found in all plant genomes, the presence of a tubulin product indicates amplifiable DNA in the sample isolated.  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ubulin is a housekeeping ge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esults of a GMO Tes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10" name="Content Placeholder 4" descr="gmo_gel_web.jpg"/>
          <p:cNvPicPr/>
          <p:nvPr/>
        </p:nvPicPr>
        <p:blipFill>
          <a:blip r:embed="rId1"/>
          <a:stretch/>
        </p:blipFill>
        <p:spPr>
          <a:xfrm>
            <a:off x="1447920" y="1828800"/>
            <a:ext cx="48765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PCR to Detect GM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following primer sets were used in the experiment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'-CCGACAGTGGTCCCAAAGATGGAC-3' (Forward Primer)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'-ATATAGAGGAAGGGTCTTGCGAAGG-3' (Reverse Primer)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'-GGGATCCACTTCATGCTTTCGTCC-3' (Forward Primer)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'-GGGAACCACATCACCACGGTACAT-3' (Reverse Primer)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38320" indent="-238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CR Characteristic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naturing step:  94 C  30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ealing step:     60 C 30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tending step:     72 C  30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34X.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35S  ----162 base pai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ubulin-187 base pai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696464"/>
              </a:solidFill>
              <a:latin typeface="Franklin Gothic Book"/>
              <a:ea typeface="Tahoma"/>
            </a:endParaRPr>
          </a:p>
        </p:txBody>
      </p:sp>
      <p:pic>
        <p:nvPicPr>
          <p:cNvPr id="315" name="Content Placeholder 7" descr="IMG_0088.JPG"/>
          <p:cNvPicPr/>
          <p:nvPr/>
        </p:nvPicPr>
        <p:blipFill>
          <a:blip r:embed="rId1"/>
          <a:srcRect l="0" t="8130" r="0" b="10582"/>
          <a:stretch/>
        </p:blipFill>
        <p:spPr>
          <a:xfrm>
            <a:off x="228600" y="609480"/>
            <a:ext cx="2813040" cy="3581640"/>
          </a:xfrm>
          <a:prstGeom prst="rect">
            <a:avLst/>
          </a:prstGeom>
          <a:ln w="0">
            <a:noFill/>
          </a:ln>
        </p:spPr>
      </p:pic>
      <p:pic>
        <p:nvPicPr>
          <p:cNvPr id="316" name="Content Placeholder 8" descr="IMG_0089.JPG"/>
          <p:cNvPicPr/>
          <p:nvPr/>
        </p:nvPicPr>
        <p:blipFill>
          <a:blip r:embed="rId2"/>
          <a:srcRect l="0" t="0" r="37679" b="4484"/>
          <a:stretch/>
        </p:blipFill>
        <p:spPr>
          <a:xfrm>
            <a:off x="3200400" y="609480"/>
            <a:ext cx="1752480" cy="3581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IMG_0094.JPG"/>
          <p:cNvPicPr/>
          <p:nvPr/>
        </p:nvPicPr>
        <p:blipFill>
          <a:blip r:embed="rId3"/>
          <a:srcRect l="0" t="10231" r="8527" b="7925"/>
          <a:stretch/>
        </p:blipFill>
        <p:spPr>
          <a:xfrm>
            <a:off x="5334120" y="609480"/>
            <a:ext cx="3429000" cy="360360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2"/>
          <p:cNvSpPr/>
          <p:nvPr/>
        </p:nvSpPr>
        <p:spPr>
          <a:xfrm>
            <a:off x="228600" y="304920"/>
            <a:ext cx="8686800" cy="36828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 DP  BS  AS EC AS  KR  FD                     CB   AM  + c                                  TL     ASca TJ    TF    SC   DH   DH   D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3"/>
          <p:cNvSpPr/>
          <p:nvPr/>
        </p:nvSpPr>
        <p:spPr>
          <a:xfrm>
            <a:off x="4876920" y="838080"/>
            <a:ext cx="53316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4343400"/>
          <a:ext cx="8915400" cy="639720"/>
        </p:xfrm>
        <a:graphic>
          <a:graphicData uri="http://schemas.openxmlformats.org/drawingml/2006/table">
            <a:tbl>
              <a:tblPr/>
              <a:tblGrid>
                <a:gridCol w="89154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CR    +   -   -     +   +  +  +   +                   +  +    +                           +     +     -      +   +     -      +    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MO   -               -     -    -   -    +                    -   -      +                           -      -       +    -    +     +     -       -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5dc"/>
                    </a:solidFill>
                  </a:tcPr>
                </a:tc>
              </a:tr>
            </a:tbl>
          </a:graphicData>
        </a:graphic>
      </p:graphicFrame>
      <p:sp>
        <p:nvSpPr>
          <p:cNvPr id="321" name="TextBox 17"/>
          <p:cNvSpPr/>
          <p:nvPr/>
        </p:nvSpPr>
        <p:spPr>
          <a:xfrm>
            <a:off x="380880" y="50292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: Ma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Samples were successfully amplified with only 4 products testing + for G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D= Wheat (but we had not wheat products??   S C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F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DH= corn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6047"/>
                </a:solidFill>
                <a:latin typeface="Franklin Gothic Book"/>
              </a:rPr>
              <a:t>GMO – PCR Results…….Biorad/Carolina Kit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23" name="Content Placeholder 6" descr="GMO 5.26.09 003.jpg"/>
          <p:cNvPicPr/>
          <p:nvPr/>
        </p:nvPicPr>
        <p:blipFill>
          <a:blip r:embed="rId1"/>
          <a:stretch/>
        </p:blipFill>
        <p:spPr>
          <a:xfrm>
            <a:off x="228600" y="2057400"/>
            <a:ext cx="2895480" cy="45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GMO 5.26.09 004.jpg"/>
          <p:cNvPicPr/>
          <p:nvPr/>
        </p:nvPicPr>
        <p:blipFill>
          <a:blip r:embed="rId2"/>
          <a:stretch/>
        </p:blipFill>
        <p:spPr>
          <a:xfrm>
            <a:off x="3200400" y="2362320"/>
            <a:ext cx="2895480" cy="4267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GMO 5.26.09 005.jpg"/>
          <p:cNvPicPr/>
          <p:nvPr/>
        </p:nvPicPr>
        <p:blipFill>
          <a:blip r:embed="rId3"/>
          <a:stretch/>
        </p:blipFill>
        <p:spPr>
          <a:xfrm>
            <a:off x="6324480" y="2362320"/>
            <a:ext cx="2638440" cy="4190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100pb.gif"/>
          <p:cNvPicPr/>
          <p:nvPr/>
        </p:nvPicPr>
        <p:blipFill>
          <a:blip r:embed="rId4"/>
          <a:stretch/>
        </p:blipFill>
        <p:spPr>
          <a:xfrm>
            <a:off x="2819520" y="2971800"/>
            <a:ext cx="425160" cy="1636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100pb.gif"/>
          <p:cNvPicPr/>
          <p:nvPr/>
        </p:nvPicPr>
        <p:blipFill>
          <a:blip r:embed="rId5"/>
          <a:stretch/>
        </p:blipFill>
        <p:spPr>
          <a:xfrm>
            <a:off x="2819520" y="4800600"/>
            <a:ext cx="425160" cy="1636560"/>
          </a:xfrm>
          <a:prstGeom prst="rect">
            <a:avLst/>
          </a:prstGeom>
          <a:ln w="0">
            <a:noFill/>
          </a:ln>
        </p:spPr>
      </p:pic>
      <p:sp>
        <p:nvSpPr>
          <p:cNvPr id="328" name="TextBox 13"/>
          <p:cNvSpPr/>
          <p:nvPr/>
        </p:nvSpPr>
        <p:spPr>
          <a:xfrm>
            <a:off x="0" y="1828800"/>
            <a:ext cx="9144000" cy="1053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   AB  NB  CW CT  RH LB  RB          WM  RP TS  AH  HB EB  CV AL  AK  M            M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H  NF  BF TW MH SB ZP     +  M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5 Promoter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PS                                                              Cracker     Veg. pepperoni                        Tor. Chip           pretzel  PC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4"/>
          <p:cNvSpPr/>
          <p:nvPr/>
        </p:nvSpPr>
        <p:spPr>
          <a:xfrm>
            <a:off x="0" y="4572000"/>
            <a:ext cx="9144000" cy="36828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bulin 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PSII 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5"/>
          <p:cNvSpPr/>
          <p:nvPr/>
        </p:nvSpPr>
        <p:spPr>
          <a:xfrm>
            <a:off x="0" y="3352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GMO-Anima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imal products have been proposed  or produc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657360" indent="-246240"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Pig engineered to produce omega-3 fatty acid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657360" indent="-246240"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Sheep that express antibodies in mil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4" name="Content Placeholder 4" descr="0205PIGS_narrowweb__300x365,0.jpg"/>
          <p:cNvPicPr/>
          <p:nvPr/>
        </p:nvPicPr>
        <p:blipFill>
          <a:blip r:embed="rId1"/>
          <a:stretch/>
        </p:blipFill>
        <p:spPr>
          <a:xfrm>
            <a:off x="4933800" y="1452600"/>
            <a:ext cx="374976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6047"/>
                </a:solidFill>
                <a:latin typeface="Franklin Gothic Book"/>
              </a:rPr>
              <a:t>Results:</a:t>
            </a:r>
            <a:r>
              <a:rPr b="0" lang="en-US" sz="3600" spc="-1" strike="noStrike">
                <a:solidFill>
                  <a:srgbClr val="f66047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f66047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f66047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f66047"/>
                </a:solidFill>
                <a:latin typeface="Franklin Gothic Book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4 Food items were tested for genetic modification using the S35 promoter from CMV as a mark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ubulin or Photosystem II used for a negative contro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9 samples had + PCR resul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5 samples showed +results for the S35 promo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blem cracker and tortilla chip PCR product wrong size.  Chips and pretzel don’t have + contr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Conclusions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ortilla chips, pretzels, veggie pepperoni and club crackers appear to contain food from GMO’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rong size products, no tubulin make conclusion regarding pretzel and cracker suspec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rprize—wheat products have generally not been reported to contain this genetic modification.  Perhaps they also contain corn or soy products. Further testing would be necessary to confir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eed to optimize the proced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6047"/>
                </a:solidFill>
                <a:latin typeface="Franklin Gothic Book"/>
              </a:rPr>
              <a:t>GMO’s - Plant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enetically modified plant products: soybean, corn, canola, and cotton seed oi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enes encod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erbicide resistance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sect resistance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rought tolerance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rost tolerance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layed fruit ripening and other trai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Content Placeholder 4" descr="2V95CA9EQ0GVCASESNAECAZKV32SCALW8FK8CA227DEWCADZI6Q1CAVTHT4KCALFSM70CAL78SJDCAO3HSYECAYTWXS3CA5FDB90CAHLJFKBCAEDHY9VCAD1HP9ACAP6F2V0CAPBRNYNCAX8ZOY2CASAHN8F.jpg"/>
          <p:cNvPicPr/>
          <p:nvPr/>
        </p:nvPicPr>
        <p:blipFill>
          <a:blip r:embed="rId1"/>
          <a:stretch/>
        </p:blipFill>
        <p:spPr>
          <a:xfrm>
            <a:off x="5029200" y="1447920"/>
            <a:ext cx="1913040" cy="1441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PPH8CAPU779ZCASSOIQHCAUZRZ7HCAIL31G5CA30U4MZCA3SBT09CAO4DAOZCAGII8YOCAPWFIDZCA0Q1005CAGREBWFCADJUTYLCAJAPZ89CA5O0IWNCA3HE5YLCA2V78SACAKX0MDCCA9G7KBLCA71C2FG.jpg"/>
          <p:cNvPicPr/>
          <p:nvPr/>
        </p:nvPicPr>
        <p:blipFill>
          <a:blip r:embed="rId2"/>
          <a:stretch/>
        </p:blipFill>
        <p:spPr>
          <a:xfrm>
            <a:off x="4952880" y="3048120"/>
            <a:ext cx="16002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GMO Pla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474840" indent="-2329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Flavr Savr tomat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first commercially grown genetically engineered food granted a license for human consump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duced by the Californi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mpany Calgene  1992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ld in 1994, and was only available for a few years before production ceas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Content Placeholder 4" descr="untitled.bmp"/>
          <p:cNvPicPr/>
          <p:nvPr/>
        </p:nvPicPr>
        <p:blipFill>
          <a:blip r:embed="rId1"/>
          <a:stretch/>
        </p:blipFill>
        <p:spPr>
          <a:xfrm>
            <a:off x="5029200" y="1447920"/>
            <a:ext cx="323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Flavor-sav          Vs   Norm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25000" indent="-22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re resistant to rotting and softening by adding an antisense gene which interferes with the production of the enzyme polygalacturonase (se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RNA interferenc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ftening makes the tomato more susceptible to being damaged by fungal infection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ide Variety of Tomato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cked BEFORE they are ripe….still very fir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rtificially ripen with ethylene g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sier handling and shel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Curved Right Arrow 4"/>
          <p:cNvSpPr/>
          <p:nvPr/>
        </p:nvSpPr>
        <p:spPr>
          <a:xfrm>
            <a:off x="152280" y="373392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BT-Cor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t corn is a variant of maize, genetically altered to express the bacterial Bt toxi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oisonous to insect pest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the case of corn, the pest is the European Corn Bor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Content Placeholder 4" descr="Corn_borer.jpg"/>
          <p:cNvPicPr/>
          <p:nvPr/>
        </p:nvPicPr>
        <p:blipFill>
          <a:blip r:embed="rId1"/>
          <a:stretch/>
        </p:blipFill>
        <p:spPr>
          <a:xfrm>
            <a:off x="5208480" y="2603520"/>
            <a:ext cx="32004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BT-Cor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3720" indent="-243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gene from  a microorganism 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Bacillus thuringiensis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inserted into the corn genome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gene codes for a protein toxin that forms a crystalline product…the product is eaten &amp; perforates the larval digestive tract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pores allow naturally occurring enteric bacteria such as 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E. coli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Enterobacter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to infect the insect causing death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Content Placeholder 4" descr="cg_corn.jpg"/>
          <p:cNvPicPr/>
          <p:nvPr/>
        </p:nvPicPr>
        <p:blipFill>
          <a:blip r:embed="rId1"/>
          <a:stretch/>
        </p:blipFill>
        <p:spPr>
          <a:xfrm>
            <a:off x="5181480" y="1371600"/>
            <a:ext cx="2978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ound-up Read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oundup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s the brand name of a systemic, broad-spectrum herbicid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duced by </a:t>
            </a: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Monsanto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active ingredien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glyphosat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4" name="Content Placeholder 5" descr="roundup2.jpg"/>
          <p:cNvPicPr/>
          <p:nvPr/>
        </p:nvPicPr>
        <p:blipFill>
          <a:blip r:embed="rId2"/>
          <a:stretch/>
        </p:blipFill>
        <p:spPr>
          <a:xfrm>
            <a:off x="5318280" y="1905120"/>
            <a:ext cx="2981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3:57:03Z</dcterms:created>
  <dc:creator>backup</dc:creator>
  <dc:description/>
  <dc:language>en-US</dc:language>
  <cp:lastModifiedBy>win7</cp:lastModifiedBy>
  <dcterms:modified xsi:type="dcterms:W3CDTF">2013-05-11T17:12:50Z</dcterms:modified>
  <cp:revision>35</cp:revision>
  <dc:subject/>
  <dc:title>GMO—Detecting Genetically Modified Foods</dc:title>
</cp:coreProperties>
</file>