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7B0-4474-4141-AE21-25389ABA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FBD-3415-4CC4-84D0-9E9BD8B3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D2EE-1004-4589-8E0B-810A46FD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B580-AB18-4BD3-91E8-B19C50BE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189CC-24AF-4320-B926-373AFE62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B4157-196F-431E-910F-28A7B0A1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CAC23-B69A-423A-86D6-C84B0661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1B73C-926A-41A6-A088-F6E48EA5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0CA71-2B4E-4306-8E01-91A12940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C7F21-BB81-4B25-95F6-29313C9D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12B12-E2D1-48B9-BC51-70F7FDD6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DBC-201E-4E87-B704-BDD6D7ED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13589-32A1-436D-8B3B-9F7803BF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E3DF5-F570-45DC-9FB5-502754AE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E117B-1E17-418C-96DE-EA112959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FEA19-91B0-4E7A-879B-9D42291C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7CCE2-2B12-46C7-BC44-28ED2AD1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AB7-0615-4564-BA08-4C7CB558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0B00-F184-442B-8EA2-D4609CB4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48BA-F981-4F86-9700-15509DA9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20F-E982-44A0-B044-4258D098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446-5780-4A62-94EB-F81FCF10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B367-B2D9-4481-89D8-8002B806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9B0C-3966-47FA-AD0E-4A1A5F7F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3300-CA69-45A2-9992-D67F8C2AB87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CFC6-2F61-4CE8-97ED-0AEE27439F3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064360" cy="583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beneficial effects should be consid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crease in nutrient avai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struction of protease inhibi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struction of toxins……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8. losses must be balanced against 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asteurization of milk ( vit. C, B1,B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a preservatives ( thia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 Inadequate methods of assessing nutritive value can lead to false conclusions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 Availability of foods around the year so it is a non-valid comparison between fresh and processed f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General Principles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76360" y="1844640"/>
            <a:ext cx="640080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usewife and food nutrients (retai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od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sharp distinction between home-prepared and factory-processed foods in their nutritional val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all mothers good cook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estruction of nutr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texture and flavors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36280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Browallia New"/>
                <a:ea typeface="Browallia New"/>
              </a:rPr>
              <a:t>The term “ processing “ covers an enormous field of </a:t>
            </a:r>
            <a:r>
              <a:rPr b="0" lang="en-US" sz="2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widely differing</a:t>
            </a:r>
            <a:r>
              <a:rPr b="0" lang="en-US" sz="2800" spc="-1" strike="noStrike">
                <a:solidFill>
                  <a:srgbClr val="e3e3ff"/>
                </a:solidFill>
                <a:latin typeface="Browallia New"/>
                <a:ea typeface="Browallia New"/>
              </a:rPr>
              <a:t> treatments carried out for a diversity of purposes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Browallia New"/>
                <a:ea typeface="Browallia New"/>
              </a:rPr>
              <a:t>* Kind of losses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Browallia New"/>
                <a:ea typeface="Browallia New"/>
              </a:rPr>
              <a:t>1. Intentional losses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Browallia New"/>
                <a:ea typeface="Browallia New"/>
              </a:rPr>
              <a:t>     - milled cereals ( bran)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Browallia New"/>
                <a:ea typeface="Browallia New"/>
              </a:rPr>
              <a:t>     - vegetables are trimmed 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Browallia New"/>
                <a:ea typeface="Browallia New"/>
              </a:rPr>
              <a:t>     - fish eviscerated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Browallia New"/>
                <a:ea typeface="Browallia New"/>
              </a:rPr>
              <a:t>     - foodstuffs extracted from the raw</a:t>
            </a:r>
            <a:r>
              <a:rPr b="0" lang="en-US" sz="2800" spc="-1" strike="noStrike">
                <a:solidFill>
                  <a:srgbClr val="e3e3ff"/>
                </a:solidFill>
                <a:latin typeface="Browallia New"/>
              </a:rPr>
              <a:t> materials ( starches, sugars, fats, protein isolates)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Browallia New"/>
              </a:rPr>
              <a:t>2. Inevitable losses ( cooking, blanching, canning, drying, sterilization)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Browallia New"/>
              </a:rPr>
              <a:t>3. accidental and / or avoidable losses ( due to inadequate control)</a:t>
            </a:r>
            <a:r>
              <a:rPr b="0" lang="ar-SA" sz="2800" spc="-1" strike="noStrike">
                <a:solidFill>
                  <a:srgbClr val="e3e3ff"/>
                </a:solidFill>
                <a:latin typeface="Browallia New"/>
              </a:rPr>
              <a:t> </a:t>
            </a:r>
            <a:r>
              <a:rPr b="0" lang="en-US" sz="2800" spc="-1" strike="noStrike">
                <a:solidFill>
                  <a:srgbClr val="e3e3ff"/>
                </a:solidFill>
                <a:latin typeface="Browallia New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re such losses a matter for concer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annot be answered as a gener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no evident malnutrition in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have no significanc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the earliest stages of malnutrition are extremely difficult to diagn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some sections of the community may be affected mo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utritionist vs food scient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rition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look to the diet as a whole ( no significa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od scient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any avoidable loss indicates poor commercial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Factory processing vs domestic cooking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comparisons are rarely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P include partial or even complete cooking so factory losses replace those that take place in the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tuation is very complic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different results for each nutrient , food , process and factory …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xperimental conditions ( contradict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some losses are inevi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eser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mprovement of pala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texture and eating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reation of new produc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emoval of inedible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limination of m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destruction of 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Many of these processes involve heat and water treatment ( both will result in some los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nutritional losses in food processing refer generally to all nutrients 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- vitamin c and to a lesser extent B1 are the most sen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- the other are much more s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3. manufacturing and processing losses are often in place rather than in addition to what happen in the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relative importance of the food in question as a source of the particular nutrient must be taken into account ( ignorance of poor sour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we should look to sections of the community relying on a small No. of foods as a source of nutri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we have to be careful when we make comparison between fresh and processed food and even between fresh fo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21:09:04Z</dcterms:created>
  <dc:creator>FSC</dc:creator>
  <dc:description/>
  <dc:language>en-US</dc:language>
  <cp:lastModifiedBy>User</cp:lastModifiedBy>
  <dcterms:modified xsi:type="dcterms:W3CDTF">2010-10-07T15:46:58Z</dcterms:modified>
  <cp:revision>18</cp:revision>
  <dc:subject/>
  <dc:title>General Principples</dc:title>
</cp:coreProperties>
</file>