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DB24-A63D-46B7-A75B-A24FD777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38F7-491F-4A6B-8AF7-3DFCE76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5DD-60D2-4F83-AD01-CEA26DB6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105-4A84-4F6C-BB72-ACBBCF8A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421C0-AF45-442C-A5E8-EC1C296C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098B8-5B0C-4EF5-9944-4E5E53D7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95DBE-22F6-406E-A48E-546899D2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41C90-78F0-472D-9C6A-8BE430D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C47B0-7678-4F12-9D7D-A1063497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2305C-EBBD-40F2-83E0-1E072D3B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FAE04-8908-479F-86EA-6C7DF47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86F-6D6F-49F3-8148-4830096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73621-DB5D-4B86-9941-480D0A8E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7FE7-2663-44D9-88AB-4D8F2D8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D5E48-287D-4B14-B6DF-4841D40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BECCF-4499-4C31-BAD6-0F5216A5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B67F4-22D8-45D9-9EC4-6748E772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CBD-96F0-4E36-8198-AC45D165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0A6-C3FF-4032-B5B9-C120FA2F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A96E-62F3-4848-892A-46479667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6BE3-ED48-4CE4-B0F7-AC0C243B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798-98A4-48B8-943B-29DC1071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50B-9630-4166-8252-E0128874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3E7C-C962-44AF-9682-E29FCE0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911-480C-46AE-B297-F0B76CEB6E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9B54-5E23-4112-87B9-C9FCE5EEDBE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8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beneficial effects should be consid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crease in nutrient 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truction of protease inhib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struction of toxins……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8. losses must be balanced against 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asteurization of milk ( vit. C, B1,B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a preservatives ( thiam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Inadequate methods of assessing nutritive value can lead to false conclusion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Availability of foods around the year so it is a non-valid comparison between fresh and processed f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General Principle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40080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ewife and food nutrients (ret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harp distinction between home-prepared and factory-processed foods in their nutritional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all mothers good cook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struction of nutr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exture and flavor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The term “ processing “ covers an enormous field of </a:t>
            </a:r>
            <a:r>
              <a:rPr b="0" lang="en-US" sz="2800" spc="-1" strike="noStrike">
                <a:solidFill>
                  <a:srgbClr val="ffffff"/>
                </a:solidFill>
                <a:latin typeface="Browallia New"/>
                <a:ea typeface="Browallia New"/>
              </a:rPr>
              <a:t>widely differing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treatments carried out for a diversity of purposes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* Kind of loss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1. Intentional losses: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milled cereals ( bran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vegetables are trimmed 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fish eviscerated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  <a:ea typeface="Browallia New"/>
              </a:rPr>
              <a:t>     - foodstuffs extracted from the raw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 materials ( starches, sugars, fats, protein isolates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2. Inevitable losses ( cooking, blanching, canning, drying, sterilization)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3. accidental and / or avoidable losses ( due to inadequate control)</a:t>
            </a:r>
            <a:r>
              <a:rPr b="0" lang="ar-SA" sz="2800" spc="-1" strike="noStrike">
                <a:solidFill>
                  <a:srgbClr val="e3e3ff"/>
                </a:solidFill>
                <a:latin typeface="Browallia New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Browallia New"/>
              </a:rPr>
              <a:t> 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re such losses a matter for concer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Cannot be answered as a gen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evident malnutrition in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have no significanc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the earliest stages of malnutrition are extremely difficult to diagn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some sections of the community may be affected mo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utritionist vs food scient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look to the diet as a whole ( no signific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od scient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any avoidable loss indicates poor commercial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actory processing vs domestic cooking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mparisons are rarely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P include partial or even complete cooking so factory losses replace those that take place in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tuation is very compl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different results for each nutrient , food , process and factory …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xperimental conditions ( contradict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some losses are inevi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e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mprovement of pala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exture and eating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creation of new produc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emoval of inedib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limination of m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destruction of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ny of these processes involve heat and water treatment ( both will result in some los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nutritional losses in food processing refer generally to all nutrients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 vitamin c and to a lesser extent B1 are the most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- the other are much more sta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3. manufacturing and processing losses are often in place rather than in addition to what happen in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relative importance of the food in question as a source of the particular nutrient must be taken into account ( ignorance of poor sour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should look to sections of the community relying on a small No. of foods as a source of nutr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we have to be careful when we make comparison between fresh and processed food and even between fresh fo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1:09:04Z</dcterms:created>
  <dc:creator>FSC</dc:creator>
  <dc:description/>
  <dc:language>en-US</dc:language>
  <cp:lastModifiedBy>User</cp:lastModifiedBy>
  <dcterms:modified xsi:type="dcterms:W3CDTF">2010-10-07T15:46:58Z</dcterms:modified>
  <cp:revision>18</cp:revision>
  <dc:subject/>
  <dc:title>General Principples</dc:title>
</cp:coreProperties>
</file>