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24C-17CB-46C0-9030-3CCA3377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978-D912-4ABA-A309-6BF70E3B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67A-7D3D-4911-9B00-CA6CC5B1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025-866C-4539-9312-C59AA881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A16-FF07-42EE-940D-8E0B9E48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4C3-6E7B-4D9E-A744-948EC2EC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F40-F25D-4761-93E9-7C0242C3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463-1271-449D-83F4-95773D61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587-AF5F-4A6B-8FD8-2F9C2A27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E47-ECC5-4DF4-9F9B-DA04C65D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8DE-509A-483C-A242-F4D0D147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B81-F441-4F1E-9F47-E9CC2BB7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B68E-FE86-4142-80A1-758A623B17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7E6A-36E5-4032-9E76-5B336DAFC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Introduction -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C555-95B7-4DA7-B9E4-FC43C466A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52280" y="571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BCH 361/ Section: 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228600"/>
            <a:ext cx="2470320" cy="173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00D0-CBCF-4FD9-82D1-512C6817E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627720" cy="3809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Right Arrow 5"/>
          <p:cNvSpPr/>
          <p:nvPr/>
        </p:nvSpPr>
        <p:spPr>
          <a:xfrm>
            <a:off x="3886200" y="3505320"/>
            <a:ext cx="838080" cy="38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922560" cy="2895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7"/>
          <p:cNvSpPr/>
          <p:nvPr/>
        </p:nvSpPr>
        <p:spPr>
          <a:xfrm>
            <a:off x="380880" y="5715000"/>
            <a:ext cx="7543800" cy="914400"/>
          </a:xfrm>
          <a:prstGeom prst="rect">
            <a:avLst/>
          </a:prstGeom>
          <a:solidFill>
            <a:srgbClr val="e6b9b8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When DNA was destroyed, the transforming activity was l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but when DNA was left intact, the transforming activity surv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7238880" y="5181480"/>
            <a:ext cx="1067040" cy="838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723888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4314960" cy="2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&#10;TA0206.jpg                                                     00003E63_x000b_Macho Drive                    B62D9425:"/>
          <p:cNvPicPr/>
          <p:nvPr/>
        </p:nvPicPr>
        <p:blipFill>
          <a:blip r:embed="rId1"/>
          <a:srcRect l="0" t="0" r="0" b="2597"/>
          <a:stretch/>
        </p:blipFill>
        <p:spPr>
          <a:xfrm>
            <a:off x="4952880" y="1746360"/>
            <a:ext cx="4003920" cy="433368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itle 1"/>
          <p:cNvSpPr/>
          <p:nvPr/>
        </p:nvSpPr>
        <p:spPr>
          <a:xfrm>
            <a:off x="45720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Hershey-Chase Bacteriophag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2895480"/>
            <a:ext cx="4495680" cy="2438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Because DNA and not protein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entered the cell, then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DNA must be the heritable material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(i.e., responsible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for the function and reproduction of ph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A.H. received Nobel Prize in 1969 for this &amp; othe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04920" y="21337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315200" y="380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457200" y="685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- 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Gierer &amp; Schramm (TMV) Experi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62120" y="5791320"/>
            <a:ext cx="7772400" cy="838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Gierer &amp; Schramm 1956/Fraenkel-Conrat &amp; Singer 1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Used 2 viral strains to demonstrate RNA is the genetic material of T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673"/>
          <a:stretch/>
        </p:blipFill>
        <p:spPr>
          <a:xfrm>
            <a:off x="2057400" y="1981080"/>
            <a:ext cx="5824440" cy="3505320"/>
          </a:xfrm>
          <a:prstGeom prst="rect">
            <a:avLst/>
          </a:prstGeom>
          <a:ln w="1260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Rectangle 10"/>
          <p:cNvSpPr/>
          <p:nvPr/>
        </p:nvSpPr>
        <p:spPr>
          <a:xfrm>
            <a:off x="2365200" y="4572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RNA as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1219320" y="16765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7238880" y="380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0000"/>
                </a:solidFill>
                <a:latin typeface="Cambria"/>
              </a:rPr>
              <a:t>In 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F03C-E913-405C-9EB6-AFB03E2AE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ctangle 4"/>
          <p:cNvGrpSpPr/>
          <p:nvPr/>
        </p:nvGrpSpPr>
        <p:grpSpPr>
          <a:xfrm>
            <a:off x="1432080" y="2266920"/>
            <a:ext cx="6359400" cy="647640"/>
            <a:chOff x="1432080" y="2266920"/>
            <a:chExt cx="6359400" cy="647640"/>
          </a:xfrm>
        </p:grpSpPr>
        <p:pic>
          <p:nvPicPr>
            <p:cNvPr id="114" name="Rectangle 4" descr=""/>
            <p:cNvPicPr/>
            <p:nvPr/>
          </p:nvPicPr>
          <p:blipFill>
            <a:blip r:embed="rId1"/>
            <a:stretch/>
          </p:blipFill>
          <p:spPr>
            <a:xfrm>
              <a:off x="1432080" y="22669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447920" y="22860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RNA) is transforming 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5"/>
          <p:cNvGrpSpPr/>
          <p:nvPr/>
        </p:nvGrpSpPr>
        <p:grpSpPr>
          <a:xfrm>
            <a:off x="1432080" y="3638520"/>
            <a:ext cx="6359400" cy="647640"/>
            <a:chOff x="1432080" y="3638520"/>
            <a:chExt cx="6359400" cy="647640"/>
          </a:xfrm>
        </p:grpSpPr>
        <p:pic>
          <p:nvPicPr>
            <p:cNvPr id="117" name="Rectangle 5" descr=""/>
            <p:cNvPicPr/>
            <p:nvPr/>
          </p:nvPicPr>
          <p:blipFill>
            <a:blip r:embed="rId2"/>
            <a:stretch/>
          </p:blipFill>
          <p:spPr>
            <a:xfrm>
              <a:off x="1432080" y="36385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447920" y="36576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protein) is the genetic mate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7"/>
          <p:cNvGrpSpPr/>
          <p:nvPr/>
        </p:nvGrpSpPr>
        <p:grpSpPr>
          <a:xfrm>
            <a:off x="1432080" y="4937040"/>
            <a:ext cx="6359400" cy="646200"/>
            <a:chOff x="1432080" y="4937040"/>
            <a:chExt cx="6359400" cy="646200"/>
          </a:xfrm>
        </p:grpSpPr>
        <p:pic>
          <p:nvPicPr>
            <p:cNvPr id="120" name="Rectangle 7" descr=""/>
            <p:cNvPicPr/>
            <p:nvPr/>
          </p:nvPicPr>
          <p:blipFill>
            <a:blip r:embed="rId3"/>
            <a:stretch/>
          </p:blipFill>
          <p:spPr>
            <a:xfrm>
              <a:off x="1432080" y="4937040"/>
              <a:ext cx="6359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47920" y="4952880"/>
              <a:ext cx="632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RNA (not protein) is genetic material of some 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2124000" cy="14288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3" name="TextBox 11"/>
          <p:cNvSpPr/>
          <p:nvPr/>
        </p:nvSpPr>
        <p:spPr>
          <a:xfrm>
            <a:off x="7086600" y="457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6C35-8174-45C4-86F4-00342DD01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467080" cy="27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Rectangle 5"/>
          <p:cNvSpPr/>
          <p:nvPr/>
        </p:nvSpPr>
        <p:spPr>
          <a:xfrm>
            <a:off x="685800" y="838080"/>
            <a:ext cx="723888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hargaff’s Rules 1949-1953, evidence for DNA as                   genet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04920" y="4648320"/>
            <a:ext cx="7848360" cy="16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ed many DNAs and subjected products to chromatographic 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sults:                </a:t>
            </a:r>
            <a:r>
              <a:rPr b="0" lang="en-US" sz="1800" spc="-1" strike="noStrike">
                <a:solidFill>
                  <a:srgbClr val="c00000"/>
                </a:solidFill>
                <a:latin typeface="Cambria"/>
              </a:rPr>
              <a:t>A = T, C =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A + G = C + T (purine = pyrimid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A + T does not equal C +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Members of a species similar but different species vary in AT/CG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238880" y="457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1598-3F44-447B-A143-907433F52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58760" y="853920"/>
            <a:ext cx="894888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Lecture 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8AD8-80DE-41A3-9FE6-248B83117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erminolog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arly experiments that led to the discover of DNA as the genetic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ellular components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Next time lec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3 Characteristics of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“The Genetic Material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 stable form containing information about cell form and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ust replicate accu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ble to change/evol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44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which component of chromosomes was the genetic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53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how DNA could encode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39F-365F-4C4C-910E-6A5AA88F2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Early Stu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eginning with the earliest observations concerning heredity, genetic material was assumed to ex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the 1940s proteins were considered by geneticists to be the best candidate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y abundant in cells and did nifty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cleic acids were similar, and just a couple of nucleotides connected to each oth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4" descr="stick-man-thinking-clip-art.jpg"/>
          <p:cNvPicPr/>
          <p:nvPr/>
        </p:nvPicPr>
        <p:blipFill>
          <a:blip r:embed="rId1"/>
          <a:stretch/>
        </p:blipFill>
        <p:spPr>
          <a:xfrm>
            <a:off x="1295280" y="2286000"/>
            <a:ext cx="94644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C3C4-DF9F-44B1-9CBC-5020BA244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5"/>
          <p:cNvSpPr/>
          <p:nvPr/>
        </p:nvSpPr>
        <p:spPr>
          <a:xfrm>
            <a:off x="1447920" y="228600"/>
            <a:ext cx="3200400" cy="1828800"/>
          </a:xfrm>
          <a:prstGeom prst="cloudCallout">
            <a:avLst>
              <a:gd name="adj1" fmla="val -38324"/>
              <a:gd name="adj2" fmla="val 80634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Phoebus Levene proposed a tetranucleotide structure </a:t>
            </a:r>
            <a:r>
              <a:rPr b="0" lang="ar-SA" sz="1800" spc="-1" strike="noStrike">
                <a:solidFill>
                  <a:srgbClr val="0000ff"/>
                </a:solidFill>
                <a:latin typeface="Cambria"/>
                <a:ea typeface="Arial"/>
              </a:rPr>
              <a:t>!!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for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80880" y="3809880"/>
            <a:ext cx="83822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e though that a DNA molecule contained only four units, each unit contain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hosphate-sugar-bas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-in order- linked together in a repeated manner, i.e. a tetranucleot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urthermore, he considered such a simple sequence could not allow DNA any role in coding for an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s was later to be proved wrong by Charga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Tetranucleotide_.png"/>
          <p:cNvPicPr/>
          <p:nvPr/>
        </p:nvPicPr>
        <p:blipFill>
          <a:blip r:embed="rId2"/>
          <a:stretch/>
        </p:blipFill>
        <p:spPr>
          <a:xfrm>
            <a:off x="4800600" y="1066680"/>
            <a:ext cx="2705040" cy="2619360"/>
          </a:xfrm>
          <a:prstGeom prst="rect">
            <a:avLst/>
          </a:prstGeom>
          <a:ln w="1908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was widely thought that DNA was organized into repeating "tetranucleotides" in a way that could not carry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oteins, on the other hand, had 20 different amino acids and could have lots of var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ost geneticists focused on “transmission genetics” and passively accepted proteins as being the likely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Exclamation-mark.jpg"/>
          <p:cNvPicPr/>
          <p:nvPr/>
        </p:nvPicPr>
        <p:blipFill>
          <a:blip r:embed="rId1"/>
          <a:stretch/>
        </p:blipFill>
        <p:spPr>
          <a:xfrm>
            <a:off x="4724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B2A3-2507-40B9-ABA2-B27CFCCA5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09680" y="2743200"/>
            <a:ext cx="4496040" cy="1523880"/>
          </a:xfrm>
          <a:prstGeom prst="rect">
            <a:avLst/>
          </a:prstGeom>
          <a:solidFill>
            <a:srgbClr val="d9d9d9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oward The Real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62120" y="1066680"/>
            <a:ext cx="190476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Griffith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6324480" y="518148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Tobacco Mosaic Virus (TMV)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6400800" y="11430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Avery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609480" y="52578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Hershey-Chase Bacteriophag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457200" y="6858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5867280" y="8380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228600" y="47242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5715000" y="48006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imagesCAJNDZEQ.jpg"/>
          <p:cNvPicPr/>
          <p:nvPr/>
        </p:nvPicPr>
        <p:blipFill>
          <a:blip r:embed="rId1"/>
          <a:stretch/>
        </p:blipFill>
        <p:spPr>
          <a:xfrm>
            <a:off x="6248520" y="289548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2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First Real Break-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Frederick Griffith’s Transformation Experi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7BE-1405-4027-A572-A9744208F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8600" y="2209680"/>
            <a:ext cx="3962520" cy="2667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concluded that the type II-R had been "transformed" into the lethal III-S strain by a "transforming factor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hypothesized that the transforming factor was a </a:t>
            </a:r>
            <a:r>
              <a:rPr b="0" i="1" lang="en-US" sz="1800" spc="-1" strike="noStrike">
                <a:solidFill>
                  <a:srgbClr val="0000ff"/>
                </a:solidFill>
                <a:latin typeface="Cambria"/>
              </a:rPr>
              <a:t>“IIIS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” prote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48320" y="1619280"/>
            <a:ext cx="3919320" cy="485928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Oval 9"/>
          <p:cNvSpPr/>
          <p:nvPr/>
        </p:nvSpPr>
        <p:spPr>
          <a:xfrm>
            <a:off x="152280" y="1676520"/>
            <a:ext cx="106704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315200" y="457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B03-0726-4C6C-A483-22B8BEDB0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04920" y="5334120"/>
            <a:ext cx="80769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When DNA was destroyed, the transforming activity was lost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but when DNA was left intact, the transforming activity surv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" y="46483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886360" cy="363996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6"/>
          <p:cNvSpPr/>
          <p:nvPr/>
        </p:nvSpPr>
        <p:spPr>
          <a:xfrm>
            <a:off x="723888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0:45:37Z</dcterms:created>
  <dc:creator>saba</dc:creator>
  <dc:description/>
  <dc:language>en-US</dc:language>
  <cp:lastModifiedBy>Sooad</cp:lastModifiedBy>
  <dcterms:modified xsi:type="dcterms:W3CDTF">2012-08-02T14:38:43Z</dcterms:modified>
  <cp:revision>151</cp:revision>
  <dc:subject/>
  <dc:title>Molecular Biology BCH 361</dc:title>
</cp:coreProperties>
</file>