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1FB-4DAE-4FB4-8A7F-B61F07B4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37E6-E548-4DE6-98B3-C54C9731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7DB-8386-44F0-8012-D67E5589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372-F57F-4A6C-A135-5D14DC8F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DAB-D040-4A80-ACF1-F26B7B75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6FA-50C2-4238-B4AF-34307BE4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F44-A80C-41B5-96EC-3951514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0DF7-3085-444C-86FE-CC0D309A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A20-5624-4946-9BCE-B54BD22F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B74-8763-42C4-84A3-2160E83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A03-C2C7-484C-A254-8065FD84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E53-39E3-408E-95F4-44BCA351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8F92-D74E-4C81-AEB6-747ED9D90A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16AA-1843-48B0-A56D-E5CDE071E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77724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mbria"/>
                <a:ea typeface="Arial"/>
              </a:rPr>
              <a:t>Introduction -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30A7-DBE2-439B-837F-DCB8DE459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52280" y="5715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BCH 361/ Section: 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molecular%20biology%20major.jpg"/>
          <p:cNvPicPr/>
          <p:nvPr/>
        </p:nvPicPr>
        <p:blipFill>
          <a:blip r:embed="rId1"/>
          <a:stretch/>
        </p:blipFill>
        <p:spPr>
          <a:xfrm>
            <a:off x="228600" y="228600"/>
            <a:ext cx="2470320" cy="1736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564-52F9-4D25-88A4-5255441FB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627720" cy="38098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3" name="Right Arrow 5"/>
          <p:cNvSpPr/>
          <p:nvPr/>
        </p:nvSpPr>
        <p:spPr>
          <a:xfrm>
            <a:off x="3886200" y="3505320"/>
            <a:ext cx="838080" cy="3808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922560" cy="28958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7"/>
          <p:cNvSpPr/>
          <p:nvPr/>
        </p:nvSpPr>
        <p:spPr>
          <a:xfrm>
            <a:off x="380880" y="5715000"/>
            <a:ext cx="7543800" cy="914400"/>
          </a:xfrm>
          <a:prstGeom prst="rect">
            <a:avLst/>
          </a:prstGeom>
          <a:solidFill>
            <a:srgbClr val="e6b9b8"/>
          </a:solidFill>
          <a:ln w="255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When DNA was destroyed, the transforming activity was l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but when DNA was left intact, the transforming activity surv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val 10"/>
          <p:cNvSpPr/>
          <p:nvPr/>
        </p:nvSpPr>
        <p:spPr>
          <a:xfrm>
            <a:off x="7238880" y="5181480"/>
            <a:ext cx="1067040" cy="838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723888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4314960" cy="23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&#10;TA0206.jpg                                                     00003E63_x000b_Macho Drive                    B62D9425:"/>
          <p:cNvPicPr/>
          <p:nvPr/>
        </p:nvPicPr>
        <p:blipFill>
          <a:blip r:embed="rId1"/>
          <a:srcRect l="0" t="0" r="0" b="2597"/>
          <a:stretch/>
        </p:blipFill>
        <p:spPr>
          <a:xfrm>
            <a:off x="4952880" y="1746360"/>
            <a:ext cx="4003920" cy="433368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1" name="Title 1"/>
          <p:cNvSpPr/>
          <p:nvPr/>
        </p:nvSpPr>
        <p:spPr>
          <a:xfrm>
            <a:off x="45720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Hershey-Chase Bacteriophag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2895480"/>
            <a:ext cx="4495680" cy="2438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Because DNA and not protein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entered the cell, then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DNA must be the heritable material </a:t>
            </a:r>
            <a:r>
              <a:rPr b="0" lang="en-GB" sz="1800" spc="-1" strike="noStrike">
                <a:solidFill>
                  <a:srgbClr val="0000ff"/>
                </a:solidFill>
                <a:latin typeface="Cambria"/>
              </a:rPr>
              <a:t>(i.e., responsible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for the function and reproduction of ph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A.H. received Nobel Prize in 1969 for this &amp; othe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304920" y="21337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315200" y="380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457200" y="685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- </a:t>
            </a: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Gierer &amp; Schramm (TMV) Experi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62120" y="5791320"/>
            <a:ext cx="7772400" cy="838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Gierer &amp; Schramm 1956/Fraenkel-Conrat &amp; Singer 19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Used 2 viral strains to demonstrate RNA is the genetic material of T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673"/>
          <a:stretch/>
        </p:blipFill>
        <p:spPr>
          <a:xfrm>
            <a:off x="2057400" y="1981080"/>
            <a:ext cx="5824440" cy="3505320"/>
          </a:xfrm>
          <a:prstGeom prst="rect">
            <a:avLst/>
          </a:prstGeom>
          <a:ln w="1260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Rectangle 10"/>
          <p:cNvSpPr/>
          <p:nvPr/>
        </p:nvSpPr>
        <p:spPr>
          <a:xfrm>
            <a:off x="2365200" y="457200"/>
            <a:ext cx="423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RNA as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1219320" y="16765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7238880" y="380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0000"/>
                </a:solidFill>
                <a:latin typeface="Cambria"/>
              </a:rPr>
              <a:t>In 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5458-05FE-433E-B004-98CA4961A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Rectangle 4"/>
          <p:cNvGrpSpPr/>
          <p:nvPr/>
        </p:nvGrpSpPr>
        <p:grpSpPr>
          <a:xfrm>
            <a:off x="1432080" y="2266920"/>
            <a:ext cx="6359400" cy="647640"/>
            <a:chOff x="1432080" y="2266920"/>
            <a:chExt cx="6359400" cy="647640"/>
          </a:xfrm>
        </p:grpSpPr>
        <p:pic>
          <p:nvPicPr>
            <p:cNvPr id="114" name="Rectangle 4" descr=""/>
            <p:cNvPicPr/>
            <p:nvPr/>
          </p:nvPicPr>
          <p:blipFill>
            <a:blip r:embed="rId1"/>
            <a:stretch/>
          </p:blipFill>
          <p:spPr>
            <a:xfrm>
              <a:off x="1432080" y="22669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447920" y="22860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RNA) is transforming ag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ectangle 5"/>
          <p:cNvGrpSpPr/>
          <p:nvPr/>
        </p:nvGrpSpPr>
        <p:grpSpPr>
          <a:xfrm>
            <a:off x="1432080" y="3638520"/>
            <a:ext cx="6359400" cy="647640"/>
            <a:chOff x="1432080" y="3638520"/>
            <a:chExt cx="6359400" cy="647640"/>
          </a:xfrm>
        </p:grpSpPr>
        <p:pic>
          <p:nvPicPr>
            <p:cNvPr id="117" name="Rectangle 5" descr=""/>
            <p:cNvPicPr/>
            <p:nvPr/>
          </p:nvPicPr>
          <p:blipFill>
            <a:blip r:embed="rId2"/>
            <a:stretch/>
          </p:blipFill>
          <p:spPr>
            <a:xfrm>
              <a:off x="1432080" y="3638520"/>
              <a:ext cx="6359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447920" y="3657600"/>
              <a:ext cx="6324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DNA (not protein) is the genetic mater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ectangle 7"/>
          <p:cNvGrpSpPr/>
          <p:nvPr/>
        </p:nvGrpSpPr>
        <p:grpSpPr>
          <a:xfrm>
            <a:off x="1432080" y="4937040"/>
            <a:ext cx="6359400" cy="646200"/>
            <a:chOff x="1432080" y="4937040"/>
            <a:chExt cx="6359400" cy="646200"/>
          </a:xfrm>
        </p:grpSpPr>
        <p:pic>
          <p:nvPicPr>
            <p:cNvPr id="120" name="Rectangle 7" descr=""/>
            <p:cNvPicPr/>
            <p:nvPr/>
          </p:nvPicPr>
          <p:blipFill>
            <a:blip r:embed="rId3"/>
            <a:stretch/>
          </p:blipFill>
          <p:spPr>
            <a:xfrm>
              <a:off x="1432080" y="4937040"/>
              <a:ext cx="6359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447920" y="4952880"/>
              <a:ext cx="632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ambria"/>
                </a:rPr>
                <a:t>RNA (not protein) is genetic material of some viru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457200" y="380880"/>
            <a:ext cx="2124000" cy="142884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3" name="TextBox 11"/>
          <p:cNvSpPr/>
          <p:nvPr/>
        </p:nvSpPr>
        <p:spPr>
          <a:xfrm>
            <a:off x="7086600" y="457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68D8-7EBC-4480-AC3D-7CDF90F54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29000" y="1828800"/>
            <a:ext cx="2467080" cy="274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Rectangle 5"/>
          <p:cNvSpPr/>
          <p:nvPr/>
        </p:nvSpPr>
        <p:spPr>
          <a:xfrm>
            <a:off x="685800" y="838080"/>
            <a:ext cx="723888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hargaff’s Rules 1949-1953, evidence for DNA as                   genet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04920" y="4648320"/>
            <a:ext cx="7848360" cy="16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igested many DNAs and subjected products to chromatographic 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Results:                </a:t>
            </a:r>
            <a:r>
              <a:rPr b="0" lang="en-US" sz="1800" spc="-1" strike="noStrike">
                <a:solidFill>
                  <a:srgbClr val="c00000"/>
                </a:solidFill>
                <a:latin typeface="Cambria"/>
              </a:rPr>
              <a:t>A = T, C =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A + G = C + T (purine = pyrimid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Cambria"/>
                <a:ea typeface="Arial"/>
              </a:rPr>
              <a:t>A + T does not equal C +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Members of a species similar but different species vary in AT/C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7238880" y="457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0087-081E-48EB-950B-2F4AB2AAD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158760" y="853920"/>
            <a:ext cx="894888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Lecture 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096-9ED8-4615-A164-056A3C356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Terminolog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Early experiments that led to the discover of DNA as the genetic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cellular components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Next time lec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3 Characteristics of</a:t>
            </a:r>
            <a:br>
              <a:rPr sz="3600"/>
            </a:b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“The Genetic Material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 stable form containing information about cell form and fun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ust replicate accu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ust be able to change/evol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44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which component of chromosomes was the genetic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1953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it was not known how DNA could encode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73C3-1119-4D4D-B30F-62557E25B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Early Stu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Beginning with the earliest observations concerning heredity, genetic material was assumed to ex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til the 1940s proteins were considered by geneticists to be the best candidate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Very abundant in cells and did nifty th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ucleic acids were similar, and just a couple of nucleotides connected to each oth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4" descr="stick-man-thinking-clip-art.jpg"/>
          <p:cNvPicPr/>
          <p:nvPr/>
        </p:nvPicPr>
        <p:blipFill>
          <a:blip r:embed="rId1"/>
          <a:stretch/>
        </p:blipFill>
        <p:spPr>
          <a:xfrm>
            <a:off x="1295280" y="2286000"/>
            <a:ext cx="94644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5085-8CBA-4539-9E7C-A57F56BD1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5"/>
          <p:cNvSpPr/>
          <p:nvPr/>
        </p:nvSpPr>
        <p:spPr>
          <a:xfrm>
            <a:off x="1447920" y="228600"/>
            <a:ext cx="3200400" cy="1828800"/>
          </a:xfrm>
          <a:prstGeom prst="cloudCallout">
            <a:avLst>
              <a:gd name="adj1" fmla="val -38324"/>
              <a:gd name="adj2" fmla="val 80634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Phoebus Levene proposed a tetranucleotide structure </a:t>
            </a:r>
            <a:r>
              <a:rPr b="0" lang="ar-SA" sz="1800" spc="-1" strike="noStrike">
                <a:solidFill>
                  <a:srgbClr val="0000ff"/>
                </a:solidFill>
                <a:latin typeface="Cambria"/>
                <a:ea typeface="Arial"/>
              </a:rPr>
              <a:t>!!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for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380880" y="3809880"/>
            <a:ext cx="838224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He though that a DNA molecule contained only four units, each unit contain </a:t>
            </a:r>
            <a:r>
              <a:rPr b="0" lang="en-GB" sz="1800" spc="-1" strike="noStrike">
                <a:solidFill>
                  <a:srgbClr val="000000"/>
                </a:solidFill>
                <a:latin typeface="Cambria"/>
              </a:rPr>
              <a:t>phosphate-sugar-base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-in order- linked together in a repeated manner, i.e. a tetranucleoti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urthermore, he considered such a simple sequence could not allow DNA any role in coding for an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s was later to be proved wrong by Charg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Tetranucleotide_.png"/>
          <p:cNvPicPr/>
          <p:nvPr/>
        </p:nvPicPr>
        <p:blipFill>
          <a:blip r:embed="rId2"/>
          <a:stretch/>
        </p:blipFill>
        <p:spPr>
          <a:xfrm>
            <a:off x="4800600" y="1066680"/>
            <a:ext cx="2705040" cy="2619360"/>
          </a:xfrm>
          <a:prstGeom prst="rect">
            <a:avLst/>
          </a:prstGeom>
          <a:ln w="19080">
            <a:solidFill>
              <a:srgbClr val="4f81b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TextBox 8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So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t was widely thought that DNA was organized into repeating "tetranucleotides" in a way that could not carry genetic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Proteins, on the other hand, had 20 different amino acids and could have lots of var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Most geneticists focused on “transmission genetics” and passively accepted proteins as being the likely genetic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Exclamation-mark.jpg"/>
          <p:cNvPicPr/>
          <p:nvPr/>
        </p:nvPicPr>
        <p:blipFill>
          <a:blip r:embed="rId1"/>
          <a:stretch/>
        </p:blipFill>
        <p:spPr>
          <a:xfrm>
            <a:off x="47242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430B-10D8-4F7C-A877-524FDEFE3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209680" y="2743200"/>
            <a:ext cx="4496040" cy="1523880"/>
          </a:xfrm>
          <a:prstGeom prst="rect">
            <a:avLst/>
          </a:prstGeom>
          <a:solidFill>
            <a:srgbClr val="d9d9d9"/>
          </a:solidFill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Toward The Real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62120" y="1066680"/>
            <a:ext cx="190476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Griffith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6324480" y="518148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Tobacco Mosaic Virus (TMV)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6400800" y="11430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Avery’s Transformation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609480" y="5257800"/>
            <a:ext cx="190512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mbria"/>
                <a:ea typeface="Arial"/>
              </a:rPr>
              <a:t>Hershey-Chase Bacteriophage Experi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1"/>
          <p:cNvSpPr/>
          <p:nvPr/>
        </p:nvSpPr>
        <p:spPr>
          <a:xfrm>
            <a:off x="457200" y="6858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5867280" y="8380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228600" y="4724280"/>
            <a:ext cx="914400" cy="609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5715000" y="4800600"/>
            <a:ext cx="914400" cy="609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19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imagesCAJNDZEQ.jpg"/>
          <p:cNvPicPr/>
          <p:nvPr/>
        </p:nvPicPr>
        <p:blipFill>
          <a:blip r:embed="rId1"/>
          <a:stretch/>
        </p:blipFill>
        <p:spPr>
          <a:xfrm>
            <a:off x="6248520" y="2895480"/>
            <a:ext cx="1465200" cy="1828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2"/>
          <p:cNvSpPr/>
          <p:nvPr/>
        </p:nvSpPr>
        <p:spPr>
          <a:xfrm>
            <a:off x="7086600" y="533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First Real Break-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mbria"/>
              </a:rPr>
              <a:t>Frederick Griffith’s Transformation Experi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A962-77F9-4316-8DAE-6DED0972B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28600" y="2209680"/>
            <a:ext cx="3962520" cy="2667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concluded that the type II-R had been "transformed" into the lethal III-S strain by a "transforming factor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Griffith hypothesized that the transforming factor was a </a:t>
            </a:r>
            <a:r>
              <a:rPr b="0" i="1" lang="en-US" sz="1800" spc="-1" strike="noStrike">
                <a:solidFill>
                  <a:srgbClr val="0000ff"/>
                </a:solidFill>
                <a:latin typeface="Cambria"/>
              </a:rPr>
              <a:t>“IIIS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</a:rPr>
              <a:t>” prote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648320" y="1619280"/>
            <a:ext cx="3919320" cy="4859280"/>
          </a:xfrm>
          <a:prstGeom prst="rect">
            <a:avLst/>
          </a:prstGeom>
          <a:ln w="9360">
            <a:solidFill>
              <a:srgbClr val="17375e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Oval 9"/>
          <p:cNvSpPr/>
          <p:nvPr/>
        </p:nvSpPr>
        <p:spPr>
          <a:xfrm>
            <a:off x="152280" y="1676520"/>
            <a:ext cx="106704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315200" y="457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Cambria"/>
              </a:rPr>
              <a:t>Continue…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c00000"/>
                </a:solidFill>
                <a:latin typeface="Cambria"/>
              </a:rPr>
              <a:t>Avery’s Transformation Experiment</a:t>
            </a:r>
            <a:r>
              <a:rPr b="0" i="1" lang="en-US" sz="3200" spc="-1" strike="noStrike">
                <a:solidFill>
                  <a:srgbClr val="c000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0B84-663B-4A1B-B29F-DFE83B8C8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04920" y="5334120"/>
            <a:ext cx="80769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When DNA was destroyed, the transforming activity was lost</a:t>
            </a: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mbria"/>
                <a:ea typeface="Arial"/>
              </a:rPr>
              <a:t>but when DNA was left intact, the transforming activity surv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" y="4648320"/>
            <a:ext cx="1066680" cy="838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5886360" cy="3639960"/>
          </a:xfrm>
          <a:prstGeom prst="rect">
            <a:avLst/>
          </a:prstGeom>
          <a:ln w="9360">
            <a:solidFill>
              <a:srgbClr val="37609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TextBox 6"/>
          <p:cNvSpPr/>
          <p:nvPr/>
        </p:nvSpPr>
        <p:spPr>
          <a:xfrm>
            <a:off x="723888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Lecture no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20:45:37Z</dcterms:created>
  <dc:creator>saba</dc:creator>
  <dc:description/>
  <dc:language>en-US</dc:language>
  <cp:lastModifiedBy>Sooad</cp:lastModifiedBy>
  <dcterms:modified xsi:type="dcterms:W3CDTF">2012-08-02T14:38:43Z</dcterms:modified>
  <cp:revision>151</cp:revision>
  <dc:subject/>
  <dc:title>Molecular Biology BCH 361</dc:title>
</cp:coreProperties>
</file>