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0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4680" y="676080"/>
            <a:ext cx="4510080" cy="338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80D-D8DB-4D5E-8D6B-A924F4E9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fehd.gov.hk/safefood/gmf/index1.html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FCB-0A31-4A25-8376-A67DB7CBB7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4BED-B288-47D2-AC9E-6570C74BE9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5D15-4625-4A59-8DEF-5ACF957CA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1E28-6CE6-4D80-A263-C7FBE4FB8C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C313-9DE8-4311-9A34-5702D3FDD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B3EE-2F47-4686-A0EB-1D8F2B995F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3ADD-467A-4520-BB7F-18F3B9CDB2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C5F2-6D31-4618-A767-907641645D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639A-294E-4BE6-B58F-E86C7853CF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03F8-B1B2-4C95-8D19-1EE38C7579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7E27-7777-4461-9D64-D9BE9A085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BAA6-74B4-4072-AC60-A2459CC8A5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0" y="4284720"/>
            <a:ext cx="68580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M food is one that has sequences of DNA from another organism inserted into its genome in order to get a desired phenotype.   The definition of GM foods may also include foods that have an a deleted gene, foods such as cheese that are made from enzymes that are from a genetically modified organism, and foods such as beef that have been fed genetically modified fe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A93C-3003-4F33-A975-9EBFDF89D1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4FBE-7CDA-4E03-929C-5BC84A809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69C6-3EE7-459F-B1B7-83622C379E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5E35-FD52-4C24-AB83-F708CE5A0C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37D2-C564-4E72-B03A-CB3FC5DB10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5142-31C0-4F1C-9C42-AD4DFC0446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tionally, plants and animals were selectively mated in order to get desired phenotypes.  This took many generations to improve organisms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4FD4-1755-4D18-98D2-05DBEE3A28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49A8-C7F8-4E05-9C64-020B20A2E8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Notes to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eachers can show the list of approved GM food in website of Food and Environment Hygiene Department, HK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ea typeface="PMingLiU"/>
                <a:hlinkClick r:id="rId1"/>
              </a:rPr>
              <a:t>http://www.fehd.gov.hk/safefood/gmf/index1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43C-D4DD-4488-AA96-317DEF8955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0" y="428472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nents that make up DNA are the same in all organisms.  The sequence of these components is the “ recipe” for the proteins synthesized by different organisms.  Proteins are responsible for the characteristics exhibited by life forms.  By taking the DNA sequence that codes for a protein responsible for a desirable characteristic and putting it into the DNA (Genome) of another organism; the desired characteristic will be expressed.  The new sequence will begin to make the intended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7151-5D1C-45F4-B2F7-4AB82ECFAA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D2DB-A3B7-40C6-8589-027CD7A0CE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example is insect resistant corn.  The bacteri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illus turingien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gene that directs the synthesis of a protein that is toxic to some insects and benign 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B28-26F1-4723-B80C-58719FD0DF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C77-1E1F-44D8-AE88-7802D788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C6D-5661-4F78-8F6A-F5DA3983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0DF-1460-4A0F-9F8A-CA23DA96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6E6-E1A1-4E18-BCA0-0A759A8D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4988-4405-446A-879A-2881A8BA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062C-85B0-49F9-9B9D-2561DD73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4EAA-F08A-465F-A50E-AF5D7F59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0BF2-90C1-4081-812F-A75A1D8C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3609-C77E-44E5-97CD-BF3E33E4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B37B-9601-44ED-B9B5-F261696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FCCA-A47E-4D38-A024-C9012F3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C50-D8EB-498E-B662-70DF732C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7976-8772-4237-9203-A3834E9A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0B5C-2796-4BC5-810A-F19C72B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3414-9C03-4985-8922-D4E9F9F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DFCD-42E7-42FB-96A5-1062DB53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2C86-22E7-4E0E-8F70-3B5F549F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3AE-E534-4119-9690-574047B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F92-C1FE-4C75-A563-47E3BA96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96B-566D-4940-BC9B-C514D77E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435-FD12-4D7A-BB73-3AE84E0B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994-0E26-4C47-90C1-8C5B9053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C5C-181C-4B70-A697-7F622026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EAB-FD5A-4133-89DC-0C732B42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B228-2ADB-4D10-9538-6EB6ABD534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385F-DB4D-4C40-BA31-BBA216AF81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Genetically Modified Foods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99"/>
              </a:buClr>
              <a:buSzPct val="70000"/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A vector can carry DNA.  The vector can be a pellet from a gene gun.  Viruses and bacteria also can be utilized to transfe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030" descr="http://www.accessexcellence.org/AB/GG/inserting.gif"/>
          <p:cNvPicPr/>
          <p:nvPr/>
        </p:nvPicPr>
        <p:blipFill>
          <a:blip r:embed="rId1"/>
          <a:srcRect l="0" t="0" r="0" b="5246"/>
          <a:stretch/>
        </p:blipFill>
        <p:spPr>
          <a:xfrm>
            <a:off x="4952880" y="1905120"/>
            <a:ext cx="395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C:\Users\Dr. Satyendra Singh\2009\Courses\2010\EM-2010\gmo-traits.jpg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ole of GM Foods in 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ery important for developing countries/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By 2050</a:t>
            </a:r>
            <a:r>
              <a:rPr b="0" lang="en-US" sz="2400" spc="-1" strike="noStrike">
                <a:solidFill>
                  <a:srgbClr val="2929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pop. 9b </a:t>
            </a:r>
            <a:r>
              <a:rPr b="0" lang="en-US" sz="2400" spc="-1" strike="noStrike">
                <a:solidFill>
                  <a:srgbClr val="2929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 food strategy for next 20 y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Need more food, as such hunger and star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3m deaths/year in Africa solely relating to hun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3 options: aid/food, money/funds, provide GM food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M food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Rapid, accurate,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yield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↓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labo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shelf-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2" descr="C:\Users\Dr. Satyendra Singh\2009\Courses\2010\EM-2010\gmo_tomatoes.jpg"/>
          <p:cNvPicPr/>
          <p:nvPr/>
        </p:nvPicPr>
        <p:blipFill>
          <a:blip r:embed="rId1"/>
          <a:stretch/>
        </p:blipFill>
        <p:spPr>
          <a:xfrm>
            <a:off x="2590920" y="411480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ff"/>
                </a:solidFill>
                <a:latin typeface="Tahoma"/>
              </a:rPr>
              <a:t>Advantages of GM 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est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Crop loss due to insets </a:t>
            </a:r>
            <a:r>
              <a:rPr b="0" lang="en-US" sz="2400" spc="-1" strike="noStrike">
                <a:solidFill>
                  <a:srgbClr val="2929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 financial loss to far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So, farmers use tons of pesticides/fertilizers ann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GM eliminates pesticides and thus ↓ cost of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sease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Viruses, fungi, bacteria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plant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crops resistance to these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d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ff"/>
                </a:solidFill>
                <a:latin typeface="Tahoma"/>
              </a:rPr>
              <a:t>Frost can destroy sensitive seed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Antifreeze gene from cold fish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tobacco and potato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cff"/>
                </a:solidFill>
                <a:latin typeface="Tahoma"/>
              </a:rPr>
              <a:t>Advantages of GM Fo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rought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More population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↑ land for housing, ↓ land for far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Land unsuited for plant cultivation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Africa, dess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crops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grow in draughts or ↑ salt-content soil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Single crop (rice) cannot give all the nutrition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Lack vitamin A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blindness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common in 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food: golden rice has Vitamin A (beta-carote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food: with enhanced iron is underway, Europ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harmaceutic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Edible vaccines in tomatoes and potato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Easier to ship, store, administer than traditional inj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riticism of GM Organism/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5" descr="C:\Users\Dr. Satyendra Singh\2009\Courses\2010\EM-2010\logo-no-gmo.gif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riticism of GM 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vironmental haz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Unintended harm to other org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Difficult to design toxin </a:t>
            </a:r>
            <a:r>
              <a:rPr b="0" lang="en-US" sz="20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 kills crop-damaging pests, not other ins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Reduced effectiveness of pestici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Develops resistance </a:t>
            </a:r>
            <a:r>
              <a:rPr b="0" lang="en-US" sz="20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 DD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ene transfer to non-target 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Cross-bree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Transfer of herbicide resistance from crops to wee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The “superweeds” will then have herbicide tolerance as wel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Create buffer z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ahoma"/>
              </a:rPr>
              <a:t>Criticism of GM 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uman health ri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Allergen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We already have allergies to peanuts and other food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Introducing gene may create more allerg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Unknown effects on human 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However, proposal to introduce a gene from Brazil nuts into Soyabeans was abando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 the whole, with the exception of possible allergenicity, scientists believe that GM foods do not present a risk to human healt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ahoma"/>
              </a:rPr>
              <a:t>Criticism of GM Fo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conomic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Lengthy and costly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May be paten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a0aff"/>
                </a:solidFill>
                <a:latin typeface="Tahoma"/>
              </a:rPr>
              <a:t>Monsanto, Novartis, Dow, DuPont hold patents for GM cro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a0aff"/>
                </a:solidFill>
                <a:latin typeface="Tahoma"/>
              </a:rPr>
              <a:t>Make substantial profit by exporting it to 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Farmers from developing countries/EM cannot aff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More gap between rich and po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ther inven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iscouraged/sto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Suicide gene tech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Only one growing per sea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Next time would produce sterile seeds that do not germi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overnments and GM Foods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3" name="Picture 2" descr="C:\Users\Dr. Satyendra Singh\2009\Courses\2010\EM-2010\gmo-map.jpg"/>
          <p:cNvPicPr/>
          <p:nvPr/>
        </p:nvPicPr>
        <p:blipFill>
          <a:blip r:embed="rId1"/>
          <a:stretch/>
        </p:blipFill>
        <p:spPr>
          <a:xfrm>
            <a:off x="304920" y="1482840"/>
            <a:ext cx="8548560" cy="53751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3362760" y="495288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2009: 25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a Genetically Modified (GM) Food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Foods that contain an added gene sequenc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Foods that have a deleted gene sequenc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Animal products from animals fed GM feed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Products produced by GM organism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ahoma"/>
              </a:rPr>
              <a:t>Governments and GM Fo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urope: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Anti-GM protests (Austria, France, Hunga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Japan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GM testing is mandatory. Customers for organi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SA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FDA </a:t>
            </a:r>
            <a:r>
              <a:rPr b="0" lang="en-US" sz="24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 GM foods are substantially equivalent to natural food, so not subject to FDA regu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GRAS </a:t>
            </a:r>
            <a:r>
              <a:rPr b="0" lang="en-US" sz="20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 Generally Recognized As Sa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dia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No policy yet </a:t>
            </a:r>
            <a:r>
              <a:rPr b="0" lang="en-US" sz="24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 for GM </a:t>
            </a:r>
            <a:r>
              <a:rPr b="0" lang="en-US" sz="24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 ↓ pov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azil</a:t>
            </a:r>
            <a:r>
              <a:rPr b="0" lang="en-US" sz="2800" spc="-1" strike="noStrike">
                <a:solidFill>
                  <a:srgbClr val="0a0aff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Some states have banned GM cr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Smuggle to compete with grain-exporting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frica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EU opposes the use of GM in Af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S. Africa, Sudan, Zimbabwe have GM laws; Kenya  Act </a:t>
            </a:r>
            <a:r>
              <a:rPr b="0" lang="en-US" sz="20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Tahoma"/>
              </a:rPr>
              <a:t>Argentina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: Indiffe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New Zealand: NO GM Foods grown her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M Food Label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 need to label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same wrt to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urope and Japan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Manda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% contamination of unmodified products with GM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mers have the right the know the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consumers decide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ut no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d sales, so processors do not sell GM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 has disguised policy of protectio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nada and US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Volu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datory for Non-GM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consumers decide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ore cho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Homework Assignmen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How do you feel about GM foods?  Are they beneficial or harmfu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Compare and contrast articles of your choi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ahoma"/>
              </a:rPr>
              <a:t>Write a short report on your views about GM foo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ossible Risks </a:t>
            </a:r>
            <a:br>
              <a:rPr sz="4800"/>
            </a:b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of GM Food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nsects might develop resistance to pesticide-producing GM cro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rbicide-tolerant crops may cross-pollinate weeds, resulting in "superweeds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corn"/>
          <p:cNvPicPr/>
          <p:nvPr/>
        </p:nvPicPr>
        <p:blipFill>
          <a:blip r:embed="rId1"/>
          <a:stretch/>
        </p:blipFill>
        <p:spPr>
          <a:xfrm>
            <a:off x="5257800" y="198108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ossible Risks </a:t>
            </a:r>
            <a:br>
              <a:rPr sz="4800"/>
            </a:b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for GM Food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ertain gene products may be allergens, thus causing harm to human h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There may be unintended harm to wildlife and beneficial insec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915080" y="2806560"/>
            <a:ext cx="3695400" cy="2463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4940280" y="5249880"/>
            <a:ext cx="30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 courtesy of T. W. Davies, Cal. Acad. of Sciences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Why are foods  genetically modified?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3e1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Genetic engineering offers a rapid and precise method of altering organisms as compared to traditional methods that are slow and inaccur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971800" y="18288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Veget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Tomat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Potat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Che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M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34"/>
          <p:cNvSpPr/>
          <p:nvPr/>
        </p:nvSpPr>
        <p:spPr>
          <a:xfrm>
            <a:off x="762120" y="5719680"/>
            <a:ext cx="7467480" cy="86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PMingLiU"/>
              </a:rPr>
              <a:t>Their genes are usually modified  to make the crops pest or herbicide re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79"/>
                </a:solidFill>
                <a:latin typeface="Arial Unicode MS"/>
                <a:ea typeface="Arial Unicode MS"/>
              </a:rPr>
              <a:t>Examples of GM f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167E-F5BE-4D73-843E-47B57ADFE7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3" descr="j0387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Examples of GM f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1994: Flavr Savr</a:t>
            </a:r>
            <a:r>
              <a:rPr b="0" lang="en-US" sz="2800" spc="-1" strike="noStrike" baseline="30000">
                <a:solidFill>
                  <a:srgbClr val="c00000"/>
                </a:solidFill>
                <a:latin typeface="Times New Roman"/>
              </a:rPr>
              <a:t>©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tom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990720" y="2209680"/>
            <a:ext cx="66294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mic Sans MS"/>
                <a:ea typeface="PMingLiU"/>
              </a:rPr>
              <a:t>–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PMingLiU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PMingLiU"/>
              </a:rPr>
              <a:t>the first approved GM food produ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187200" indent="-18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PMingLiU"/>
              </a:rPr>
              <a:t>- tomato genes are usually modified to delay         ripening and softe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is genetic modification possible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ahoma"/>
              </a:rPr>
              <a:t>The components of DNA are the same in all organisms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ahoma"/>
              </a:rPr>
              <a:t>Sequences that code for proteins can be moved from one organism to anot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828800" y="2286000"/>
            <a:ext cx="5257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ccff"/>
                </a:solidFill>
                <a:latin typeface="Tahoma"/>
              </a:rPr>
              <a:t>Its quite simple,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ccff"/>
                </a:solidFill>
                <a:latin typeface="Tahoma"/>
              </a:rPr>
              <a:t>REALLY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14400" y="2286000"/>
            <a:ext cx="79246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Find an organism with the desired tra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Isolate the gene sequence that codes for the desired tra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Insert the gene sequence into the genome of the plant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Rectangle 10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028"/>
          <p:cNvSpPr/>
          <p:nvPr/>
        </p:nvSpPr>
        <p:spPr>
          <a:xfrm>
            <a:off x="1600200" y="1981080"/>
            <a:ext cx="6858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126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Tahoma"/>
              </a:rPr>
              <a:t>Allow the genetically altered     cell to grow into a plan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126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Tahoma"/>
              </a:rPr>
              <a:t>Allow the plant to propagat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03:46:05Z</dcterms:created>
  <dc:creator>Melissa L. Greene</dc:creator>
  <dc:description/>
  <dc:language>en-US</dc:language>
  <cp:lastModifiedBy>win7</cp:lastModifiedBy>
  <cp:lastPrinted>2001-11-02T22:56:19Z</cp:lastPrinted>
  <dcterms:modified xsi:type="dcterms:W3CDTF">2013-05-11T17:27:44Z</dcterms:modified>
  <cp:revision>44</cp:revision>
  <dc:subject/>
  <dc:title>Genetically Modified Fo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