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0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4680" y="676080"/>
            <a:ext cx="4510080" cy="338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814-4CAB-429D-A262-271D7D71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fehd.gov.hk/safefood/gmf/index1.html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7BA6-A10C-4320-9156-2A2874C7D0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93C3-C5A7-46DE-838D-6AB160FB48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50A-48B2-436F-9E96-AAB69D02D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554-7EAE-41A0-A1F6-008A367A8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8B9C-42BE-4BAA-AD4A-A9BA83987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67E-51E9-4150-BAA1-8181E1F13A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E7D-AD23-4075-9665-F2AB930FE7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F1D5-EBF1-4A77-81D5-106D307CA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26C-5879-4B21-9D52-325291E1A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1636-9C2C-46CA-B445-94914C968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F37-B03F-4223-90C4-6C605E22B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A02E-7BF0-48C4-BD2F-FA7CABEAE6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0" y="4284720"/>
            <a:ext cx="68580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M food is one that has sequences of DNA from another organism inserted into its genome in order to get a desired phenotype.   The definition of GM foods may also include foods that have an a deleted gene, foods such as cheese that are made from enzymes that are from a genetically modified organism, and foods such as beef that have been fed genetically modified fe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F35-EF72-493D-BF1A-264E751861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D1A-BF53-4956-80F4-6318F3EB48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C1D-2F20-41F5-AAC6-6D6DEDC910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0D21-FBCA-414C-A427-02FB5CC5E4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006-6215-42BD-AC38-44686E2F02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53E-3888-4A4B-ABD7-3ACE967F24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tionally, plants and animals were selectively mated in order to get desired phenotypes.  This took many generations to improve organisms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A9FE-92B8-4C8E-81FC-F67429E13D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914-9863-4871-9C20-CAEBBCCDE4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Notes to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eachers can show the list of approved GM food in website of Food and Environment Hygiene Department, HK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ea typeface="PMingLiU"/>
                <a:hlinkClick r:id="rId1"/>
              </a:rPr>
              <a:t>http://www.fehd.gov.hk/safefood/gmf/index1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4DED-5C73-427D-86E6-952CC37FA8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0" y="428472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s that make up DNA are the same in all organisms.  The sequence of these components is the “ recipe” for the proteins synthesized by different organisms.  Proteins are responsible for the characteristics exhibited by life forms.  By taking the DNA sequence that codes for a protein responsible for a desirable characteristic and putting it into the DNA (Genome) of another organism; the desired characteristic will be expressed.  The new sequence will begin to make the intended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404B-2358-45DE-93CC-048FFB368F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5E8B-CB4C-4A51-9BEC-162EB66C67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example is insect resistant corn.  The bacteri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illus turingien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gene that directs the synthesis of a protein that is toxic to some insects and benign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57088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3D6-C81A-4BA5-9677-7FEEA62013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7644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284720"/>
            <a:ext cx="50292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039-B4C4-4C43-BFCD-8DE4DE18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A58-4897-4648-8309-7C6C657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D40-A0A8-4790-A5D6-E1226140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302-8222-4970-B94A-81DBF7BD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B789-36C4-41F8-8ED9-802DA391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ABF8-A443-42A7-BE23-B9B48D6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EE37-633D-40BA-86C0-1B15C2F2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7422-6AE8-44F3-B85D-FC0F013B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2397-ADF3-49BA-9969-BA6F46B9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36D1-0942-4BD1-84A1-DB09CBE1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8E97-5E8B-4E2C-AF39-552549C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9F3-80CF-478F-84B2-43C691F7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4473-F982-4A92-A72F-EA9E337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D358-6D4B-4558-9F58-AB9ED49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6F2F-3B87-4783-B95F-0C7126F9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ACA-76F4-4810-B334-287D7B8D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90F8-FEFE-4E07-BA05-ACE50FF4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47A-1CA3-4ED0-9F6A-C8EC4B9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3DC-B65B-4E14-A2B2-C0CF1DEB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FED-0D68-47FB-8C6E-A39FD036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A8A-36C5-4D42-96F2-19A23CA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E99-B984-4C85-B326-A14AA02F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CC8-61C2-46F0-948C-445A152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A40-8B01-4982-921B-B626D10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3FC9-B278-431B-AF8A-361CF25B11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A9C7-52CB-4A1B-BA50-0DEC904D80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Genetically Modified Foods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99"/>
              </a:buClr>
              <a:buSzPct val="70000"/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A vector can carry DNA.  The vector can be a pellet from a gene gun.  Viruses and bacteria also can be utilized to transfe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030" descr="http://www.accessexcellence.org/AB/GG/inserting.gif"/>
          <p:cNvPicPr/>
          <p:nvPr/>
        </p:nvPicPr>
        <p:blipFill>
          <a:blip r:embed="rId1"/>
          <a:srcRect l="0" t="0" r="0" b="5246"/>
          <a:stretch/>
        </p:blipFill>
        <p:spPr>
          <a:xfrm>
            <a:off x="4952880" y="1905120"/>
            <a:ext cx="395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C:\Users\Dr. Satyendra Singh\2009\Courses\2010\EM-2010\gmo-traits.jpg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ole of GM Foods in 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ery important for developing countries/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By 2050</a:t>
            </a:r>
            <a:r>
              <a:rPr b="0" lang="en-US" sz="2400" spc="-1" strike="noStrike">
                <a:solidFill>
                  <a:srgbClr val="2929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pop. 9b </a:t>
            </a:r>
            <a:r>
              <a:rPr b="0" lang="en-US" sz="2400" spc="-1" strike="noStrike">
                <a:solidFill>
                  <a:srgbClr val="2929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 food strategy for next 20 y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Need more food, as such hunger and star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3m deaths/year in Africa solely relating to hun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3 options: aid/food, money/funds, provide GM food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M food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Rapid, accurate,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yield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↓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labo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shelf-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2" descr="C:\Users\Dr. Satyendra Singh\2009\Courses\2010\EM-2010\gmo_tomatoes.jpg"/>
          <p:cNvPicPr/>
          <p:nvPr/>
        </p:nvPicPr>
        <p:blipFill>
          <a:blip r:embed="rId1"/>
          <a:stretch/>
        </p:blipFill>
        <p:spPr>
          <a:xfrm>
            <a:off x="2590920" y="411480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ff"/>
                </a:solidFill>
                <a:latin typeface="Tahoma"/>
              </a:rPr>
              <a:t>Advantages of GM 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est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Crop loss due to insets </a:t>
            </a:r>
            <a:r>
              <a:rPr b="0" lang="en-US" sz="2400" spc="-1" strike="noStrike">
                <a:solidFill>
                  <a:srgbClr val="2929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 financial loss to far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So, farmers use tons of pesticides/fertilizers ann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Tahoma"/>
              </a:rPr>
              <a:t>GM eliminates pesticides and thus ↓ cost of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sease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Viruses, fungi, bacteria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plant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crops resistance to these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ld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ff"/>
                </a:solidFill>
                <a:latin typeface="Tahoma"/>
              </a:rPr>
              <a:t>Frost can destroy sensitive seed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Antifreeze gene from cold fish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tobacco and potato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cff"/>
                </a:solidFill>
                <a:latin typeface="Tahoma"/>
              </a:rPr>
              <a:t>Advantages of GM Fo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rought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More population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↑ land for housing, ↓ land for far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Land unsuited for plant cultivation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Africa, dess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crops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grow in draughts or ↑ salt-content soil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Single crop (rice) cannot give all the nutrition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Lack vitamin A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blindness </a:t>
            </a:r>
            <a:r>
              <a:rPr b="0" lang="en-US" sz="24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 common in 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food: golden rice has Vitamin A (beta-carote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M food: with enhanced iron is underway, Europ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harmaceutic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Edible vaccines in tomatoes and potato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Easier to ship, store, administer than traditional inj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riticism of GM Organism/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5" descr="C:\Users\Dr. Satyendra Singh\2009\Courses\2010\EM-2010\logo-no-gmo.gif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riticism of GM 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vironmental haz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Unintended harm to other org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Difficult to design toxin </a:t>
            </a:r>
            <a:r>
              <a:rPr b="0" lang="en-US" sz="20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 kills crop-damaging pests, not other ins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Reduced effectiveness of pestici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Develops resistance </a:t>
            </a:r>
            <a:r>
              <a:rPr b="0" lang="en-US" sz="2000" spc="-1" strike="noStrike">
                <a:solidFill>
                  <a:srgbClr val="5c5c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 DD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Gene transfer to non-target 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Cross-bree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Transfer of herbicide resistance from crops to wee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ff"/>
                </a:solidFill>
                <a:latin typeface="Tahoma"/>
              </a:rPr>
              <a:t>The “superweeds” will then have herbicide tolerance as wel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ff"/>
                </a:solidFill>
                <a:latin typeface="Tahoma"/>
              </a:rPr>
              <a:t>Create buffer z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ahoma"/>
              </a:rPr>
              <a:t>Criticism of GM Food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uman health ri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Allergen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We already have allergies to peanuts and other food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Introducing gene may create more allerg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Unknown effects on human 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However, proposal to introduce a gene from Brazil nuts into Soyabeans was abando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 the whole, with the exception of possible allergenicity, scientists believe that GM foods do not present a risk to human healt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ahoma"/>
              </a:rPr>
              <a:t>Criticism of GM Fo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conomic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Lengthy and costly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May be paten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Tahoma"/>
              </a:rPr>
              <a:t>Monsanto, Novartis, Dow, DuPont hold patents for GM cr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Tahoma"/>
              </a:rPr>
              <a:t>Make substantial profit by exporting it to 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Farmers from developing countries/EM cannot aff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More gap between rich and po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ther inven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iscouraged/sto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Suicide gene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Only one growing per sea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Next time would produce sterile seeds that do not germi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overnments and GM Foods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3" name="Picture 2" descr="C:\Users\Dr. Satyendra Singh\2009\Courses\2010\EM-2010\gmo-map.jpg"/>
          <p:cNvPicPr/>
          <p:nvPr/>
        </p:nvPicPr>
        <p:blipFill>
          <a:blip r:embed="rId1"/>
          <a:stretch/>
        </p:blipFill>
        <p:spPr>
          <a:xfrm>
            <a:off x="304920" y="1482840"/>
            <a:ext cx="8548560" cy="53751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3362760" y="495288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2009: 25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a Genetically Modified (GM) Food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Foods that contain an added gene sequenc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Foods that have a deleted gene sequenc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Animal products from animals fed GM fee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79"/>
                </a:solidFill>
                <a:latin typeface="Tahoma"/>
              </a:rPr>
              <a:t>Products produced by GM organism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ahoma"/>
              </a:rPr>
              <a:t>Governments and GM Fo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urope: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Anti-GM protests (Austria, France, Hunga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Japan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GM testing is mandatory. Customers for organi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SA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FDA </a:t>
            </a:r>
            <a:r>
              <a:rPr b="0" lang="en-US" sz="24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 GM foods are substantially equivalent to natural food, so not subject to FDA regu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GRAS </a:t>
            </a:r>
            <a:r>
              <a:rPr b="0" lang="en-US" sz="20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 Generally Recognized As Sa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ia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No policy yet </a:t>
            </a:r>
            <a:r>
              <a:rPr b="0" lang="en-US" sz="24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 for GM </a:t>
            </a:r>
            <a:r>
              <a:rPr b="0" lang="en-US" sz="24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 ↓ pov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azil</a:t>
            </a:r>
            <a:r>
              <a:rPr b="0" lang="en-US" sz="2800" spc="-1" strike="noStrike">
                <a:solidFill>
                  <a:srgbClr val="0a0a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Some states have banned GM cr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Smuggle to compete with grain-exporting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frica: 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EU opposes the use of GM in Af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S. Africa, Sudan, Zimbabwe have GM laws; Kenya  Act </a:t>
            </a:r>
            <a:r>
              <a:rPr b="0" lang="en-US" sz="2000" spc="-1" strike="noStrike">
                <a:solidFill>
                  <a:srgbClr val="0a0a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a0aff"/>
                </a:solidFill>
                <a:latin typeface="Tahoma"/>
              </a:rPr>
              <a:t>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Tahoma"/>
              </a:rPr>
              <a:t>Argentina</a:t>
            </a: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: Indiffe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Tahoma"/>
              </a:rPr>
              <a:t>New Zealand: NO GM Foods grown her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M Food Label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need to label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same wrt to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urope and Japan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Manda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% contamination of unmodified products with GM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mers have the right the know the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consumers decide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t no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d sales, so processors do not sell GM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 has disguised policy of protectio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nada and US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Volu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datory for Non-GM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consumers decide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re cho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Homework Assignmen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How do you feel about GM foods?  Are they beneficial or harmfu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Compare and contrast articles of your choi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ahoma"/>
              </a:rPr>
              <a:t>Write a short report on your views about GM foo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ossible Risks </a:t>
            </a:r>
            <a:br>
              <a:rPr sz="4800"/>
            </a:b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of GM Food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nsects might develop resistance to pesticide-producing GM cro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rbicide-tolerant crops may cross-pollinate weeds, resulting in "superweeds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corn"/>
          <p:cNvPicPr/>
          <p:nvPr/>
        </p:nvPicPr>
        <p:blipFill>
          <a:blip r:embed="rId1"/>
          <a:stretch/>
        </p:blipFill>
        <p:spPr>
          <a:xfrm>
            <a:off x="5257800" y="198108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ossible Risks </a:t>
            </a:r>
            <a:br>
              <a:rPr sz="4800"/>
            </a:b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for GM Food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ertain gene products may be allergens, thus causing harm to human h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There may be unintended harm to wildlife and beneficial insec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915080" y="2806560"/>
            <a:ext cx="3695400" cy="2463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4940280" y="5249880"/>
            <a:ext cx="30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 courtesy of T. W. Davies, Cal. Acad. of Sciences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Why are foods  genetically modified?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3e1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Genetic engineering offers a rapid and precise method of altering organisms as compared to traditional methods that are slow and inaccur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971800" y="18288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Veget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Tomat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Potat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Ch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 2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79"/>
                </a:solidFill>
                <a:latin typeface="Tahoma"/>
              </a:rPr>
              <a:t>M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762120" y="5719680"/>
            <a:ext cx="7467480" cy="86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PMingLiU"/>
              </a:rPr>
              <a:t>Their genes are usually modified  to make the crops pest or herbicide re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79"/>
                </a:solidFill>
                <a:latin typeface="Arial Unicode MS"/>
                <a:ea typeface="Arial Unicode MS"/>
              </a:rPr>
              <a:t>Examples of GM f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5A1-5F23-4E9F-8AF7-2F5A5B3258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3" descr="j0387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Examples of GM f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1994: Flavr Savr</a:t>
            </a:r>
            <a:r>
              <a:rPr b="0" lang="en-US" sz="2800" spc="-1" strike="noStrike" baseline="30000">
                <a:solidFill>
                  <a:srgbClr val="c00000"/>
                </a:solidFill>
                <a:latin typeface="Times New Roman"/>
              </a:rPr>
              <a:t>©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tom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990720" y="2209680"/>
            <a:ext cx="6629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mic Sans MS"/>
                <a:ea typeface="PMingLiU"/>
              </a:rPr>
              <a:t>–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PMingLiU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PMingLiU"/>
              </a:rPr>
              <a:t>the first approved GM food produ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87200" indent="-18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PMingLiU"/>
              </a:rPr>
              <a:t>- tomato genes are usually modified to delay         ripening and softe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is genetic modification possible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ahoma"/>
              </a:rPr>
              <a:t>The components of DNA are the same in all organisms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ahoma"/>
              </a:rPr>
              <a:t>Sequences that code for proteins can be moved from one organism to anot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828800" y="2286000"/>
            <a:ext cx="5257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ccff"/>
                </a:solidFill>
                <a:latin typeface="Tahoma"/>
              </a:rPr>
              <a:t>Its quite simple,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ccff"/>
                </a:solidFill>
                <a:latin typeface="Tahoma"/>
              </a:rPr>
              <a:t>REALLY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14400" y="2286000"/>
            <a:ext cx="79246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Find an organism with the desired tra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Isolate the gene sequence that codes for the desired tra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Insert the gene sequence into the genome of the plant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How can DNA be moved from one organism to another?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Rectangle 10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028"/>
          <p:cNvSpPr/>
          <p:nvPr/>
        </p:nvSpPr>
        <p:spPr>
          <a:xfrm>
            <a:off x="1600200" y="1981080"/>
            <a:ext cx="6858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126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Tahoma"/>
              </a:rPr>
              <a:t>Allow the genetically altered     cell to grow into a plan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126"/>
              </a:spcBef>
              <a:buClr>
                <a:srgbClr val="66cc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Tahoma"/>
              </a:rPr>
              <a:t>Allow the plant to propagat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03:46:05Z</dcterms:created>
  <dc:creator>Melissa L. Greene</dc:creator>
  <dc:description/>
  <dc:language>en-US</dc:language>
  <cp:lastModifiedBy>win7</cp:lastModifiedBy>
  <cp:lastPrinted>2001-11-02T22:56:19Z</cp:lastPrinted>
  <dcterms:modified xsi:type="dcterms:W3CDTF">2013-05-11T17:27:44Z</dcterms:modified>
  <cp:revision>44</cp:revision>
  <dc:subject/>
  <dc:title>Genetically Modified Fo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