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5.jpeg" ContentType="image/jpeg"/>
  <Override PartName="/ppt/media/image13.jpeg" ContentType="image/jpeg"/>
  <Override PartName="/ppt/media/image23.png" ContentType="image/png"/>
  <Override PartName="/ppt/media/image4.png" ContentType="image/png"/>
  <Override PartName="/ppt/media/image3.png" ContentType="image/png"/>
  <Override PartName="/ppt/media/image24.png" ContentType="image/png"/>
  <Override PartName="/ppt/media/image22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5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EB12E-CA9A-455A-B67D-65E03D6B3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A17C2-0A9F-447E-AD99-F3CFAD9FF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23937-1AD5-4EAD-AC23-D465403C7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A661B-5148-46FF-A0F8-5509B0A3C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4DD44-D800-4FD5-81AE-BEA8B3263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0C1E1-C3E7-431B-926C-C9AAEBB30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835A0-20AC-4074-AEC2-78348285C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AB3DA-A70C-4D8E-BB29-0A54DD434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88512-E97A-426E-86DE-931FD0513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7D8F3-CFBA-46DA-98EB-A8DC7B34E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C1514-4B1C-4632-B538-E63E164FF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B8AA3-C81F-4FE6-BF4A-4BBC6AFBB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E428B-EFDC-4DED-8932-211935CEE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81245-F0D7-431E-A125-6C5C1A84F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7CBA6-037E-405C-92C0-B042C2568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C9ED7-1222-4984-BC5B-F890E6FE4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BBA9C-2D18-4C4F-A3DA-FF87C2307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E87E2-9178-4717-98C1-F7BF18F69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E8D33-C2B5-4BA9-B1F4-A5A1F9741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EE411-8FB6-48BA-8223-347DFCECE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45B72-B06A-4CEC-B895-D5ABE3051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4EB81-466D-4FF1-A9E8-FF764275C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A57BE-2F40-4264-8B08-6AD9CEE5E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96743-26FA-4F21-9445-057BD80F2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DBDB7-3C52-4A15-9BEE-E199941D73DA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0BE08-A09D-4536-83AA-EE82CE911FF1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03352-C831-471D-A3F5-C4F1B18C299F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42BD1-B89F-419B-8C7D-B5E3B9A0EE0B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2.png"/><Relationship Id="rId8" Type="http://schemas.openxmlformats.org/officeDocument/2006/relationships/image" Target="../media/image22.png"/><Relationship Id="rId9" Type="http://schemas.openxmlformats.org/officeDocument/2006/relationships/image" Target="../media/image21.png"/><Relationship Id="rId10" Type="http://schemas.openxmlformats.org/officeDocument/2006/relationships/image" Target="../media/image22.png"/><Relationship Id="rId11" Type="http://schemas.openxmlformats.org/officeDocument/2006/relationships/image" Target="../media/image21.png"/><Relationship Id="rId12" Type="http://schemas.openxmlformats.org/officeDocument/2006/relationships/image" Target="../media/image22.png"/><Relationship Id="rId13" Type="http://schemas.openxmlformats.org/officeDocument/2006/relationships/image" Target="../media/image21.png"/><Relationship Id="rId14" Type="http://schemas.openxmlformats.org/officeDocument/2006/relationships/image" Target="../media/image21.png"/><Relationship Id="rId15" Type="http://schemas.openxmlformats.org/officeDocument/2006/relationships/image" Target="../media/image21.png"/><Relationship Id="rId16" Type="http://schemas.openxmlformats.org/officeDocument/2006/relationships/image" Target="../media/image21.png"/><Relationship Id="rId17" Type="http://schemas.openxmlformats.org/officeDocument/2006/relationships/image" Target="../media/image21.png"/><Relationship Id="rId18" Type="http://schemas.openxmlformats.org/officeDocument/2006/relationships/image" Target="../media/image22.png"/><Relationship Id="rId19" Type="http://schemas.openxmlformats.org/officeDocument/2006/relationships/image" Target="../media/image22.png"/><Relationship Id="rId20" Type="http://schemas.openxmlformats.org/officeDocument/2006/relationships/image" Target="../media/image22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2.png"/><Relationship Id="rId24" Type="http://schemas.openxmlformats.org/officeDocument/2006/relationships/image" Target="../media/image22.png"/><Relationship Id="rId25" Type="http://schemas.openxmlformats.org/officeDocument/2006/relationships/image" Target="../media/image22.png"/><Relationship Id="rId2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349000"/>
            <a:ext cx="77724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Goudy Stout"/>
              </a:rPr>
              <a:t>Genetic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3" name=""/>
          <p:cNvGrpSpPr/>
          <p:nvPr/>
        </p:nvGrpSpPr>
        <p:grpSpPr>
          <a:xfrm>
            <a:off x="380880" y="228600"/>
            <a:ext cx="9448560" cy="3863160"/>
            <a:chOff x="380880" y="228600"/>
            <a:chExt cx="9448560" cy="3863160"/>
          </a:xfrm>
        </p:grpSpPr>
        <p:sp>
          <p:nvSpPr>
            <p:cNvPr id="194" name=""/>
            <p:cNvSpPr/>
            <p:nvPr/>
          </p:nvSpPr>
          <p:spPr>
            <a:xfrm>
              <a:off x="380880" y="228600"/>
              <a:ext cx="94485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5" name=""/>
            <p:cNvGrpSpPr/>
            <p:nvPr/>
          </p:nvGrpSpPr>
          <p:grpSpPr>
            <a:xfrm>
              <a:off x="380880" y="228600"/>
              <a:ext cx="5904720" cy="3863160"/>
              <a:chOff x="380880" y="228600"/>
              <a:chExt cx="5904720" cy="3863160"/>
            </a:xfrm>
          </p:grpSpPr>
          <p:sp>
            <p:nvSpPr>
              <p:cNvPr id="196" name=""/>
              <p:cNvSpPr/>
              <p:nvPr/>
            </p:nvSpPr>
            <p:spPr>
              <a:xfrm>
                <a:off x="380880" y="228600"/>
                <a:ext cx="5904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Verdana"/>
                  </a:rPr>
                  <a:t>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0880" y="1567080"/>
                <a:ext cx="5904720" cy="252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8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11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GB" sz="8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98" name="" descr=" "/>
          <p:cNvPicPr/>
          <p:nvPr/>
        </p:nvPicPr>
        <p:blipFill>
          <a:blip r:embed="rId2"/>
          <a:srcRect l="0" t="0" r="0" b="46672"/>
          <a:stretch/>
        </p:blipFill>
        <p:spPr>
          <a:xfrm>
            <a:off x="928800" y="4800600"/>
            <a:ext cx="7315200" cy="182880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304920" y="260280"/>
            <a:ext cx="8610480" cy="1557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 person with Rh- blood can </a:t>
            </a:r>
            <a:r>
              <a:rPr b="0" i="1" lang="en-GB" sz="2400" spc="-1" strike="noStrike">
                <a:solidFill>
                  <a:srgbClr val="000000"/>
                </a:solidFill>
                <a:latin typeface="Verdana"/>
              </a:rPr>
              <a:t>develop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Rh antibodies in the blood plasma if he or she receives blood from a person with Rh+ blood, </a:t>
            </a: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whose Rh antigens can trigger the production of Rh antibodies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 "/>
          <p:cNvPicPr/>
          <p:nvPr/>
        </p:nvPicPr>
        <p:blipFill>
          <a:blip r:embed="rId3"/>
          <a:srcRect l="0" t="53353" r="0" b="0"/>
          <a:stretch/>
        </p:blipFill>
        <p:spPr>
          <a:xfrm>
            <a:off x="785880" y="1905120"/>
            <a:ext cx="7315200" cy="160020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527040" y="3657600"/>
            <a:ext cx="8077320" cy="825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 person with Rh+ blood can receive blood from a person with Rh- blood without any probl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0" y="228600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The ABO Blood Group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730520" y="3139920"/>
            <a:ext cx="568296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                                                                                                                       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400"/>
            </a:b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  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Laboratory  Determination of the ABO System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8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                                                                     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1903320" y="3186000"/>
            <a:ext cx="5349960" cy="2509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1981080" y="4572000"/>
            <a:ext cx="5349960" cy="2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1085760" y="1461960"/>
            <a:ext cx="6972480" cy="434340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sp>
        <p:nvSpPr>
          <p:cNvPr id="207" name=""/>
          <p:cNvSpPr/>
          <p:nvPr/>
        </p:nvSpPr>
        <p:spPr>
          <a:xfrm>
            <a:off x="3780000" y="692280"/>
            <a:ext cx="1296720" cy="368280"/>
          </a:xfrm>
          <a:prstGeom prst="rect">
            <a:avLst/>
          </a:prstGeom>
          <a:solidFill>
            <a:srgbClr val="99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( 1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" descr=""/>
          <p:cNvPicPr/>
          <p:nvPr/>
        </p:nvPicPr>
        <p:blipFill>
          <a:blip r:embed="rId2"/>
          <a:stretch/>
        </p:blipFill>
        <p:spPr>
          <a:xfrm>
            <a:off x="979560" y="1649520"/>
            <a:ext cx="7480080" cy="372420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sp>
        <p:nvSpPr>
          <p:cNvPr id="209" name=""/>
          <p:cNvSpPr/>
          <p:nvPr/>
        </p:nvSpPr>
        <p:spPr>
          <a:xfrm>
            <a:off x="3780000" y="692280"/>
            <a:ext cx="1296720" cy="368280"/>
          </a:xfrm>
          <a:prstGeom prst="rect">
            <a:avLst/>
          </a:prstGeom>
          <a:solidFill>
            <a:srgbClr val="99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( 2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1338120" y="1490760"/>
            <a:ext cx="6467760" cy="387648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sp>
        <p:nvSpPr>
          <p:cNvPr id="211" name=""/>
          <p:cNvSpPr/>
          <p:nvPr/>
        </p:nvSpPr>
        <p:spPr>
          <a:xfrm>
            <a:off x="3780000" y="692280"/>
            <a:ext cx="1296720" cy="368280"/>
          </a:xfrm>
          <a:prstGeom prst="rect">
            <a:avLst/>
          </a:prstGeom>
          <a:solidFill>
            <a:srgbClr val="99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( 3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219240" y="1779480"/>
            <a:ext cx="8705520" cy="445788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sp>
        <p:nvSpPr>
          <p:cNvPr id="213" name=""/>
          <p:cNvSpPr/>
          <p:nvPr/>
        </p:nvSpPr>
        <p:spPr>
          <a:xfrm>
            <a:off x="3780000" y="820800"/>
            <a:ext cx="1296720" cy="368280"/>
          </a:xfrm>
          <a:prstGeom prst="rect">
            <a:avLst/>
          </a:prstGeom>
          <a:solidFill>
            <a:srgbClr val="99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( 4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1181160" y="1536840"/>
            <a:ext cx="6781680" cy="462888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sp>
        <p:nvSpPr>
          <p:cNvPr id="215" name=""/>
          <p:cNvSpPr/>
          <p:nvPr/>
        </p:nvSpPr>
        <p:spPr>
          <a:xfrm>
            <a:off x="3780000" y="749160"/>
            <a:ext cx="1296720" cy="368280"/>
          </a:xfrm>
          <a:prstGeom prst="rect">
            <a:avLst/>
          </a:prstGeom>
          <a:solidFill>
            <a:srgbClr val="99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( 5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6" name=""/>
          <p:cNvGrpSpPr/>
          <p:nvPr/>
        </p:nvGrpSpPr>
        <p:grpSpPr>
          <a:xfrm>
            <a:off x="179280" y="1106640"/>
            <a:ext cx="8828280" cy="4410000"/>
            <a:chOff x="179280" y="1106640"/>
            <a:chExt cx="8828280" cy="4410000"/>
          </a:xfrm>
        </p:grpSpPr>
        <p:grpSp>
          <p:nvGrpSpPr>
            <p:cNvPr id="217" name=""/>
            <p:cNvGrpSpPr/>
            <p:nvPr/>
          </p:nvGrpSpPr>
          <p:grpSpPr>
            <a:xfrm>
              <a:off x="179280" y="1106640"/>
              <a:ext cx="8828280" cy="4410000"/>
              <a:chOff x="179280" y="1106640"/>
              <a:chExt cx="8828280" cy="4410000"/>
            </a:xfrm>
          </p:grpSpPr>
          <p:sp>
            <p:nvSpPr>
              <p:cNvPr id="218" name=""/>
              <p:cNvSpPr/>
              <p:nvPr/>
            </p:nvSpPr>
            <p:spPr>
              <a:xfrm>
                <a:off x="7380360" y="1125360"/>
                <a:ext cx="1512720" cy="574920"/>
              </a:xfrm>
              <a:prstGeom prst="rect">
                <a:avLst/>
              </a:prstGeom>
              <a:solidFill>
                <a:srgbClr val="cce8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19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79280" y="1700280"/>
                <a:ext cx="5313600" cy="3319560"/>
              </a:xfrm>
              <a:prstGeom prst="rect">
                <a:avLst/>
              </a:prstGeom>
              <a:ln w="9360">
                <a:solidFill>
                  <a:srgbClr val="333399"/>
                </a:solidFill>
                <a:miter/>
              </a:ln>
            </p:spPr>
          </p:pic>
          <p:pic>
            <p:nvPicPr>
              <p:cNvPr id="220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4716360" y="1106640"/>
                <a:ext cx="4291200" cy="4410000"/>
              </a:xfrm>
              <a:prstGeom prst="rect">
                <a:avLst/>
              </a:prstGeom>
              <a:ln w="9360">
                <a:solidFill>
                  <a:srgbClr val="000099"/>
                </a:solidFill>
                <a:miter/>
              </a:ln>
            </p:spPr>
          </p:pic>
        </p:grpSp>
        <p:sp>
          <p:nvSpPr>
            <p:cNvPr id="221" name=""/>
            <p:cNvSpPr/>
            <p:nvPr/>
          </p:nvSpPr>
          <p:spPr>
            <a:xfrm>
              <a:off x="7236000" y="1268280"/>
              <a:ext cx="1512720" cy="505080"/>
            </a:xfrm>
            <a:prstGeom prst="rect">
              <a:avLst/>
            </a:prstGeom>
            <a:solidFill>
              <a:srgbClr val="d3eb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" descr=""/>
          <p:cNvPicPr/>
          <p:nvPr/>
        </p:nvPicPr>
        <p:blipFill>
          <a:blip r:embed="rId2"/>
          <a:stretch/>
        </p:blipFill>
        <p:spPr>
          <a:xfrm>
            <a:off x="380880" y="1670040"/>
            <a:ext cx="8382240" cy="463860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sp>
        <p:nvSpPr>
          <p:cNvPr id="223" name=""/>
          <p:cNvSpPr/>
          <p:nvPr/>
        </p:nvSpPr>
        <p:spPr>
          <a:xfrm>
            <a:off x="3780000" y="692280"/>
            <a:ext cx="1296720" cy="368280"/>
          </a:xfrm>
          <a:prstGeom prst="rect">
            <a:avLst/>
          </a:prstGeom>
          <a:solidFill>
            <a:srgbClr val="99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( 6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414360" y="1488960"/>
            <a:ext cx="8315280" cy="481968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sp>
        <p:nvSpPr>
          <p:cNvPr id="225" name=""/>
          <p:cNvSpPr/>
          <p:nvPr/>
        </p:nvSpPr>
        <p:spPr>
          <a:xfrm>
            <a:off x="3780000" y="692280"/>
            <a:ext cx="1296720" cy="368280"/>
          </a:xfrm>
          <a:prstGeom prst="rect">
            <a:avLst/>
          </a:prstGeom>
          <a:solidFill>
            <a:srgbClr val="99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( 7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229392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The Blood Group System</a:t>
            </a:r>
            <a:r>
              <a:rPr b="1" lang="cy-GB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768320" y="3147840"/>
            <a:ext cx="560736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15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                                                                                                                       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 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nheritance and Genetics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1925640" y="3193920"/>
            <a:ext cx="5349960" cy="2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299880" y="1590840"/>
            <a:ext cx="8544240" cy="479088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sp>
        <p:nvSpPr>
          <p:cNvPr id="227" name=""/>
          <p:cNvSpPr/>
          <p:nvPr/>
        </p:nvSpPr>
        <p:spPr>
          <a:xfrm>
            <a:off x="3780000" y="692280"/>
            <a:ext cx="1296720" cy="368280"/>
          </a:xfrm>
          <a:prstGeom prst="rect">
            <a:avLst/>
          </a:prstGeom>
          <a:solidFill>
            <a:srgbClr val="99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( 8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247680" y="1628640"/>
            <a:ext cx="8648640" cy="475308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sp>
        <p:nvSpPr>
          <p:cNvPr id="229" name=""/>
          <p:cNvSpPr/>
          <p:nvPr/>
        </p:nvSpPr>
        <p:spPr>
          <a:xfrm>
            <a:off x="3780000" y="692280"/>
            <a:ext cx="1296720" cy="368280"/>
          </a:xfrm>
          <a:prstGeom prst="rect">
            <a:avLst/>
          </a:prstGeom>
          <a:solidFill>
            <a:srgbClr val="99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( 9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252360" y="1546200"/>
            <a:ext cx="8639280" cy="476244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sp>
        <p:nvSpPr>
          <p:cNvPr id="231" name=""/>
          <p:cNvSpPr/>
          <p:nvPr/>
        </p:nvSpPr>
        <p:spPr>
          <a:xfrm>
            <a:off x="3780000" y="692280"/>
            <a:ext cx="1296720" cy="368280"/>
          </a:xfrm>
          <a:prstGeom prst="rect">
            <a:avLst/>
          </a:prstGeom>
          <a:solidFill>
            <a:srgbClr val="99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( 10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285840" y="1628640"/>
            <a:ext cx="8572320" cy="474372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sp>
        <p:nvSpPr>
          <p:cNvPr id="233" name=""/>
          <p:cNvSpPr/>
          <p:nvPr/>
        </p:nvSpPr>
        <p:spPr>
          <a:xfrm>
            <a:off x="3780000" y="692280"/>
            <a:ext cx="1296720" cy="368280"/>
          </a:xfrm>
          <a:prstGeom prst="rect">
            <a:avLst/>
          </a:prstGeom>
          <a:solidFill>
            <a:srgbClr val="99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( 11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2"/>
          <a:stretch/>
        </p:blipFill>
        <p:spPr>
          <a:xfrm>
            <a:off x="285840" y="1628640"/>
            <a:ext cx="8572320" cy="474372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sp>
        <p:nvSpPr>
          <p:cNvPr id="235" name=""/>
          <p:cNvSpPr/>
          <p:nvPr/>
        </p:nvSpPr>
        <p:spPr>
          <a:xfrm>
            <a:off x="3276720" y="5716440"/>
            <a:ext cx="2663640" cy="368280"/>
          </a:xfrm>
          <a:prstGeom prst="rect">
            <a:avLst/>
          </a:prstGeom>
          <a:solidFill>
            <a:srgbClr val="99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Blood group: O + 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287280" y="1125360"/>
            <a:ext cx="8748720" cy="392292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7" name=""/>
          <p:cNvGrpSpPr/>
          <p:nvPr/>
        </p:nvGrpSpPr>
        <p:grpSpPr>
          <a:xfrm>
            <a:off x="1692360" y="333360"/>
            <a:ext cx="5832360" cy="6145200"/>
            <a:chOff x="1692360" y="333360"/>
            <a:chExt cx="5832360" cy="6145200"/>
          </a:xfrm>
        </p:grpSpPr>
        <p:sp>
          <p:nvSpPr>
            <p:cNvPr id="238" name=""/>
            <p:cNvSpPr/>
            <p:nvPr/>
          </p:nvSpPr>
          <p:spPr>
            <a:xfrm>
              <a:off x="5878440" y="5827680"/>
              <a:ext cx="1645920" cy="6508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800080"/>
                  </a:solidFill>
                  <a:latin typeface="Arial"/>
                  <a:ea typeface="Arial"/>
                </a:rPr>
                <a:t>O</a:t>
              </a:r>
              <a:r>
                <a:rPr b="0" lang="en-US" sz="2800" spc="-1" strike="noStrike" baseline="80000">
                  <a:solidFill>
                    <a:srgbClr val="800080"/>
                  </a:solidFill>
                  <a:latin typeface="Arial"/>
                  <a:ea typeface="Arial"/>
                </a:rPr>
                <a:t>_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511520" y="5827680"/>
              <a:ext cx="1366560" cy="65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070080" y="5827680"/>
              <a:ext cx="1441080" cy="65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692360" y="5827680"/>
              <a:ext cx="1377720" cy="65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878440" y="5178600"/>
              <a:ext cx="1645920" cy="6490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800080"/>
                  </a:solidFill>
                  <a:latin typeface="Arial"/>
                  <a:ea typeface="Arial"/>
                </a:rPr>
                <a:t>O</a:t>
              </a:r>
              <a:r>
                <a:rPr b="0" lang="en-US" sz="2800" spc="-1" strike="noStrike" baseline="40000">
                  <a:solidFill>
                    <a:srgbClr val="800080"/>
                  </a:solidFill>
                  <a:latin typeface="Arial"/>
                  <a:ea typeface="Arial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511520" y="5178600"/>
              <a:ext cx="1366560" cy="64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070080" y="5178600"/>
              <a:ext cx="1441080" cy="64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692360" y="5178600"/>
              <a:ext cx="1377720" cy="64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878440" y="4527720"/>
              <a:ext cx="1645920" cy="6508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800080"/>
                  </a:solidFill>
                  <a:latin typeface="Arial"/>
                  <a:ea typeface="Arial"/>
                </a:rPr>
                <a:t>AB</a:t>
              </a:r>
              <a:r>
                <a:rPr b="0" lang="en-US" sz="2800" spc="-1" strike="noStrike" baseline="80000">
                  <a:solidFill>
                    <a:srgbClr val="800080"/>
                  </a:solidFill>
                  <a:latin typeface="Arial"/>
                  <a:ea typeface="Arial"/>
                </a:rPr>
                <a:t>_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511520" y="4527720"/>
              <a:ext cx="1366560" cy="65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070080" y="4527720"/>
              <a:ext cx="1441080" cy="65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692360" y="4527720"/>
              <a:ext cx="1377720" cy="65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878440" y="3878280"/>
              <a:ext cx="1645920" cy="64944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800080"/>
                  </a:solidFill>
                  <a:latin typeface="Arial"/>
                  <a:ea typeface="Arial"/>
                </a:rPr>
                <a:t>AB</a:t>
              </a:r>
              <a:r>
                <a:rPr b="0" lang="en-US" sz="2800" spc="-1" strike="noStrike" baseline="40000">
                  <a:solidFill>
                    <a:srgbClr val="800080"/>
                  </a:solidFill>
                  <a:latin typeface="Arial"/>
                  <a:ea typeface="Arial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511520" y="3878280"/>
              <a:ext cx="1366560" cy="64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070080" y="3878280"/>
              <a:ext cx="1441080" cy="64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692360" y="3878280"/>
              <a:ext cx="1377720" cy="64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878440" y="3227400"/>
              <a:ext cx="1645920" cy="6508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800080"/>
                  </a:solidFill>
                  <a:latin typeface="Arial"/>
                  <a:ea typeface="Arial"/>
                </a:rPr>
                <a:t>B</a:t>
              </a:r>
              <a:r>
                <a:rPr b="0" lang="en-US" sz="2800" spc="-1" strike="noStrike" baseline="80000">
                  <a:solidFill>
                    <a:srgbClr val="800080"/>
                  </a:solidFill>
                  <a:latin typeface="Arial"/>
                  <a:ea typeface="Arial"/>
                </a:rPr>
                <a:t>_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511520" y="3227400"/>
              <a:ext cx="1366560" cy="65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070080" y="3227400"/>
              <a:ext cx="1441080" cy="65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692360" y="3227400"/>
              <a:ext cx="1377720" cy="65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8440" y="2577960"/>
              <a:ext cx="1645920" cy="64944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800080"/>
                  </a:solidFill>
                  <a:latin typeface="Arial"/>
                  <a:ea typeface="Arial"/>
                </a:rPr>
                <a:t>B</a:t>
              </a:r>
              <a:r>
                <a:rPr b="0" lang="en-US" sz="2800" spc="-1" strike="noStrike" baseline="40000">
                  <a:solidFill>
                    <a:srgbClr val="800080"/>
                  </a:solidFill>
                  <a:latin typeface="Arial"/>
                  <a:ea typeface="Arial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511520" y="2577960"/>
              <a:ext cx="1366560" cy="64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070080" y="2577960"/>
              <a:ext cx="1441080" cy="64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692360" y="2577960"/>
              <a:ext cx="1377720" cy="64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878440" y="1927080"/>
              <a:ext cx="1645920" cy="6508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800080"/>
                  </a:solidFill>
                  <a:latin typeface="Arial"/>
                  <a:ea typeface="Arial"/>
                </a:rPr>
                <a:t>A</a:t>
              </a:r>
              <a:r>
                <a:rPr b="0" lang="en-US" sz="2800" spc="-1" strike="noStrike" baseline="80000">
                  <a:solidFill>
                    <a:srgbClr val="800080"/>
                  </a:solidFill>
                  <a:latin typeface="Arial"/>
                  <a:ea typeface="Arial"/>
                </a:rPr>
                <a:t>_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511520" y="1927080"/>
              <a:ext cx="1366560" cy="65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070080" y="1927080"/>
              <a:ext cx="1441080" cy="65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692360" y="1927080"/>
              <a:ext cx="1377720" cy="65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878440" y="1278000"/>
              <a:ext cx="1645920" cy="6490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800080"/>
                  </a:solidFill>
                  <a:latin typeface="Arial"/>
                  <a:ea typeface="Arial"/>
                </a:rPr>
                <a:t>A</a:t>
              </a:r>
              <a:r>
                <a:rPr b="0" lang="en-US" sz="2800" spc="-1" strike="noStrike" baseline="40000">
                  <a:solidFill>
                    <a:srgbClr val="800080"/>
                  </a:solidFill>
                  <a:latin typeface="Arial"/>
                  <a:ea typeface="Arial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511520" y="1278000"/>
              <a:ext cx="1366560" cy="64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070080" y="1278000"/>
              <a:ext cx="1441080" cy="64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692360" y="1278000"/>
              <a:ext cx="1377720" cy="64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878440" y="333360"/>
              <a:ext cx="1645920" cy="94464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Blood typ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511520" y="333360"/>
              <a:ext cx="1366560" cy="94464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Anti-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070080" y="333360"/>
              <a:ext cx="1441080" cy="94464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Anti-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692360" y="333360"/>
              <a:ext cx="1377720" cy="94464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Anti-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692360" y="333360"/>
              <a:ext cx="583236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692360" y="1278000"/>
              <a:ext cx="5832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692360" y="1927080"/>
              <a:ext cx="5832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692360" y="2577960"/>
              <a:ext cx="5832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692360" y="3227400"/>
              <a:ext cx="5832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692360" y="3878280"/>
              <a:ext cx="5832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692360" y="4527720"/>
              <a:ext cx="5832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692360" y="5178600"/>
              <a:ext cx="5832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692360" y="5827680"/>
              <a:ext cx="5832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692360" y="6478560"/>
              <a:ext cx="583236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1692360" y="333360"/>
              <a:ext cx="0" cy="61452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070080" y="333360"/>
              <a:ext cx="0" cy="6145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511520" y="333360"/>
              <a:ext cx="0" cy="6145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878440" y="333360"/>
              <a:ext cx="0" cy="6145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524720" y="333360"/>
              <a:ext cx="0" cy="61452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89" name="Picture 9" descr="antibpos"/>
            <p:cNvPicPr/>
            <p:nvPr/>
          </p:nvPicPr>
          <p:blipFill>
            <a:blip r:embed="rId2"/>
            <a:stretch/>
          </p:blipFill>
          <p:spPr>
            <a:xfrm>
              <a:off x="2004840" y="1301760"/>
              <a:ext cx="850680" cy="66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0" name="Picture 9" descr="antibpos"/>
            <p:cNvPicPr/>
            <p:nvPr/>
          </p:nvPicPr>
          <p:blipFill>
            <a:blip r:embed="rId3"/>
            <a:stretch/>
          </p:blipFill>
          <p:spPr>
            <a:xfrm>
              <a:off x="4802040" y="1268280"/>
              <a:ext cx="850680" cy="660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1" name="Picture 9" descr="antibpos"/>
            <p:cNvPicPr/>
            <p:nvPr/>
          </p:nvPicPr>
          <p:blipFill>
            <a:blip r:embed="rId4"/>
            <a:stretch/>
          </p:blipFill>
          <p:spPr>
            <a:xfrm>
              <a:off x="2004840" y="1938240"/>
              <a:ext cx="850680" cy="660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2" name="Picture 9" descr="antibpos"/>
            <p:cNvPicPr/>
            <p:nvPr/>
          </p:nvPicPr>
          <p:blipFill>
            <a:blip r:embed="rId5"/>
            <a:stretch/>
          </p:blipFill>
          <p:spPr>
            <a:xfrm>
              <a:off x="3352680" y="2598840"/>
              <a:ext cx="850680" cy="66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3" name="Picture 8" descr="antibneg"/>
            <p:cNvPicPr/>
            <p:nvPr/>
          </p:nvPicPr>
          <p:blipFill>
            <a:blip r:embed="rId6"/>
            <a:stretch/>
          </p:blipFill>
          <p:spPr>
            <a:xfrm>
              <a:off x="3371760" y="1301760"/>
              <a:ext cx="837720" cy="673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4" name="Picture 8" descr="antibneg"/>
            <p:cNvPicPr/>
            <p:nvPr/>
          </p:nvPicPr>
          <p:blipFill>
            <a:blip r:embed="rId7"/>
            <a:stretch/>
          </p:blipFill>
          <p:spPr>
            <a:xfrm>
              <a:off x="3371760" y="1949400"/>
              <a:ext cx="837720" cy="673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5" name="Picture 8" descr="antibneg"/>
            <p:cNvPicPr/>
            <p:nvPr/>
          </p:nvPicPr>
          <p:blipFill>
            <a:blip r:embed="rId8"/>
            <a:stretch/>
          </p:blipFill>
          <p:spPr>
            <a:xfrm>
              <a:off x="2016000" y="2573280"/>
              <a:ext cx="837720" cy="673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6" name="Picture 9" descr="antibpos"/>
            <p:cNvPicPr/>
            <p:nvPr/>
          </p:nvPicPr>
          <p:blipFill>
            <a:blip r:embed="rId9"/>
            <a:stretch/>
          </p:blipFill>
          <p:spPr>
            <a:xfrm>
              <a:off x="4789440" y="2565360"/>
              <a:ext cx="850320" cy="660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7" name="Picture 8" descr="antibneg"/>
            <p:cNvPicPr/>
            <p:nvPr/>
          </p:nvPicPr>
          <p:blipFill>
            <a:blip r:embed="rId10"/>
            <a:stretch/>
          </p:blipFill>
          <p:spPr>
            <a:xfrm>
              <a:off x="2016000" y="3220920"/>
              <a:ext cx="837720" cy="673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8" name="Picture 9" descr="antibpos"/>
            <p:cNvPicPr/>
            <p:nvPr/>
          </p:nvPicPr>
          <p:blipFill>
            <a:blip r:embed="rId11"/>
            <a:stretch/>
          </p:blipFill>
          <p:spPr>
            <a:xfrm>
              <a:off x="3351240" y="3233880"/>
              <a:ext cx="850320" cy="66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9" name="Picture 8" descr="antibneg"/>
            <p:cNvPicPr/>
            <p:nvPr/>
          </p:nvPicPr>
          <p:blipFill>
            <a:blip r:embed="rId12"/>
            <a:stretch/>
          </p:blipFill>
          <p:spPr>
            <a:xfrm>
              <a:off x="4798800" y="3187800"/>
              <a:ext cx="838080" cy="67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0" name="Picture 9" descr="antibpos"/>
            <p:cNvPicPr/>
            <p:nvPr/>
          </p:nvPicPr>
          <p:blipFill>
            <a:blip r:embed="rId13"/>
            <a:stretch/>
          </p:blipFill>
          <p:spPr>
            <a:xfrm>
              <a:off x="3359160" y="3860640"/>
              <a:ext cx="850320" cy="660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1" name="Picture 9" descr="antibpos"/>
            <p:cNvPicPr/>
            <p:nvPr/>
          </p:nvPicPr>
          <p:blipFill>
            <a:blip r:embed="rId14"/>
            <a:stretch/>
          </p:blipFill>
          <p:spPr>
            <a:xfrm>
              <a:off x="2004840" y="3881520"/>
              <a:ext cx="850680" cy="66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2" name="Picture 9" descr="antibpos"/>
            <p:cNvPicPr/>
            <p:nvPr/>
          </p:nvPicPr>
          <p:blipFill>
            <a:blip r:embed="rId15"/>
            <a:stretch/>
          </p:blipFill>
          <p:spPr>
            <a:xfrm>
              <a:off x="4789440" y="3848040"/>
              <a:ext cx="850320" cy="660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9" descr="antibpos"/>
            <p:cNvPicPr/>
            <p:nvPr/>
          </p:nvPicPr>
          <p:blipFill>
            <a:blip r:embed="rId16"/>
            <a:stretch/>
          </p:blipFill>
          <p:spPr>
            <a:xfrm>
              <a:off x="3359160" y="4510080"/>
              <a:ext cx="850320" cy="66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9" descr="antibpos"/>
            <p:cNvPicPr/>
            <p:nvPr/>
          </p:nvPicPr>
          <p:blipFill>
            <a:blip r:embed="rId17"/>
            <a:stretch/>
          </p:blipFill>
          <p:spPr>
            <a:xfrm>
              <a:off x="2004840" y="4530600"/>
              <a:ext cx="850680" cy="660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5" name="Picture 8" descr="antibneg"/>
            <p:cNvPicPr/>
            <p:nvPr/>
          </p:nvPicPr>
          <p:blipFill>
            <a:blip r:embed="rId18"/>
            <a:stretch/>
          </p:blipFill>
          <p:spPr>
            <a:xfrm>
              <a:off x="4802040" y="4508640"/>
              <a:ext cx="837720" cy="67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6" name="Picture 8" descr="antibneg"/>
            <p:cNvPicPr/>
            <p:nvPr/>
          </p:nvPicPr>
          <p:blipFill>
            <a:blip r:embed="rId19"/>
            <a:stretch/>
          </p:blipFill>
          <p:spPr>
            <a:xfrm>
              <a:off x="2006640" y="5165640"/>
              <a:ext cx="837720" cy="673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7" name="Picture 8" descr="antibneg"/>
            <p:cNvPicPr/>
            <p:nvPr/>
          </p:nvPicPr>
          <p:blipFill>
            <a:blip r:embed="rId20"/>
            <a:stretch/>
          </p:blipFill>
          <p:spPr>
            <a:xfrm>
              <a:off x="3371760" y="5143680"/>
              <a:ext cx="837720" cy="67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8" name="Picture 9" descr="antibpos"/>
            <p:cNvPicPr/>
            <p:nvPr/>
          </p:nvPicPr>
          <p:blipFill>
            <a:blip r:embed="rId21"/>
            <a:stretch/>
          </p:blipFill>
          <p:spPr>
            <a:xfrm>
              <a:off x="4800600" y="5099040"/>
              <a:ext cx="850320" cy="66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9" name="Picture 8" descr="antibneg"/>
            <p:cNvPicPr/>
            <p:nvPr/>
          </p:nvPicPr>
          <p:blipFill>
            <a:blip r:embed="rId22"/>
            <a:stretch/>
          </p:blipFill>
          <p:spPr>
            <a:xfrm>
              <a:off x="2008080" y="5780160"/>
              <a:ext cx="837720" cy="673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0" name="Picture 8" descr="antibneg"/>
            <p:cNvPicPr/>
            <p:nvPr/>
          </p:nvPicPr>
          <p:blipFill>
            <a:blip r:embed="rId23"/>
            <a:stretch/>
          </p:blipFill>
          <p:spPr>
            <a:xfrm>
              <a:off x="3373200" y="5757840"/>
              <a:ext cx="838080" cy="673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1" name="Picture 8" descr="antibneg"/>
            <p:cNvPicPr/>
            <p:nvPr/>
          </p:nvPicPr>
          <p:blipFill>
            <a:blip r:embed="rId24"/>
            <a:stretch/>
          </p:blipFill>
          <p:spPr>
            <a:xfrm>
              <a:off x="4802040" y="5734080"/>
              <a:ext cx="837720" cy="673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2" name="Picture 8" descr="antibneg"/>
            <p:cNvPicPr/>
            <p:nvPr/>
          </p:nvPicPr>
          <p:blipFill>
            <a:blip r:embed="rId25"/>
            <a:stretch/>
          </p:blipFill>
          <p:spPr>
            <a:xfrm>
              <a:off x="4814640" y="1916280"/>
              <a:ext cx="838080" cy="6728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" descr=""/>
          <p:cNvPicPr/>
          <p:nvPr/>
        </p:nvPicPr>
        <p:blipFill>
          <a:blip r:embed="rId2"/>
          <a:srcRect l="25939" t="46173" r="27436" b="44806"/>
          <a:stretch/>
        </p:blipFill>
        <p:spPr>
          <a:xfrm>
            <a:off x="762120" y="3581280"/>
            <a:ext cx="7924680" cy="1067040"/>
          </a:xfrm>
          <a:prstGeom prst="rect">
            <a:avLst/>
          </a:prstGeom>
          <a:ln w="0">
            <a:noFill/>
          </a:ln>
        </p:spPr>
      </p:pic>
      <p:sp>
        <p:nvSpPr>
          <p:cNvPr id="314" name=""/>
          <p:cNvSpPr/>
          <p:nvPr/>
        </p:nvSpPr>
        <p:spPr>
          <a:xfrm>
            <a:off x="914400" y="533520"/>
            <a:ext cx="69343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914400" y="533520"/>
            <a:ext cx="3346560" cy="14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40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260960" y="533520"/>
            <a:ext cx="241200" cy="14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4260960" y="1940040"/>
            <a:ext cx="241200" cy="13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971640" y="1940040"/>
            <a:ext cx="7561080" cy="13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ccording to above blood grouping systems, you can belong to either of following 8 blood grou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9" name=""/>
          <p:cNvGrpSpPr/>
          <p:nvPr/>
        </p:nvGrpSpPr>
        <p:grpSpPr>
          <a:xfrm>
            <a:off x="849240" y="476280"/>
            <a:ext cx="7467480" cy="960120"/>
            <a:chOff x="849240" y="476280"/>
            <a:chExt cx="7467480" cy="960120"/>
          </a:xfrm>
        </p:grpSpPr>
        <p:sp>
          <p:nvSpPr>
            <p:cNvPr id="320" name=""/>
            <p:cNvSpPr/>
            <p:nvPr/>
          </p:nvSpPr>
          <p:spPr>
            <a:xfrm>
              <a:off x="849240" y="476280"/>
              <a:ext cx="74674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849240" y="476280"/>
              <a:ext cx="7467480" cy="9601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0000"/>
                  </a:solidFill>
                  <a:latin typeface="Verdana"/>
                </a:rPr>
                <a:t>Do you know which blood group you belong to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" descr=""/>
          <p:cNvPicPr/>
          <p:nvPr/>
        </p:nvPicPr>
        <p:blipFill>
          <a:blip r:embed="rId2"/>
          <a:stretch/>
        </p:blipFill>
        <p:spPr>
          <a:xfrm>
            <a:off x="1143000" y="857160"/>
            <a:ext cx="6858000" cy="5143680"/>
          </a:xfrm>
          <a:prstGeom prst="rect">
            <a:avLst/>
          </a:prstGeom>
          <a:ln w="57240">
            <a:solidFill>
              <a:srgbClr val="0000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3" name=""/>
          <p:cNvGrpSpPr/>
          <p:nvPr/>
        </p:nvGrpSpPr>
        <p:grpSpPr>
          <a:xfrm>
            <a:off x="380880" y="228600"/>
            <a:ext cx="8305560" cy="4265640"/>
            <a:chOff x="380880" y="228600"/>
            <a:chExt cx="8305560" cy="4265640"/>
          </a:xfrm>
        </p:grpSpPr>
        <p:sp>
          <p:nvSpPr>
            <p:cNvPr id="324" name=""/>
            <p:cNvSpPr/>
            <p:nvPr/>
          </p:nvSpPr>
          <p:spPr>
            <a:xfrm>
              <a:off x="380880" y="228600"/>
              <a:ext cx="83055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5" name=""/>
            <p:cNvGrpSpPr/>
            <p:nvPr/>
          </p:nvGrpSpPr>
          <p:grpSpPr>
            <a:xfrm>
              <a:off x="380880" y="228600"/>
              <a:ext cx="8303760" cy="4265640"/>
              <a:chOff x="380880" y="228600"/>
              <a:chExt cx="8303760" cy="4265640"/>
            </a:xfrm>
          </p:grpSpPr>
          <p:sp>
            <p:nvSpPr>
              <p:cNvPr id="326" name=""/>
              <p:cNvSpPr/>
              <p:nvPr/>
            </p:nvSpPr>
            <p:spPr>
              <a:xfrm>
                <a:off x="380880" y="228600"/>
                <a:ext cx="2281680" cy="1526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2662560" y="228600"/>
                <a:ext cx="315360" cy="1526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2978280" y="228600"/>
                <a:ext cx="5706000" cy="1526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8684280" y="228600"/>
                <a:ext cx="360" cy="1526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30" name=""/>
              <p:cNvGrpSpPr/>
              <p:nvPr/>
            </p:nvGrpSpPr>
            <p:grpSpPr>
              <a:xfrm>
                <a:off x="380880" y="1754640"/>
                <a:ext cx="2076120" cy="2739600"/>
                <a:chOff x="380880" y="1754640"/>
                <a:chExt cx="2076120" cy="2739600"/>
              </a:xfrm>
            </p:grpSpPr>
            <p:sp>
              <p:nvSpPr>
                <p:cNvPr id="331" name=""/>
                <p:cNvSpPr/>
                <p:nvPr/>
              </p:nvSpPr>
              <p:spPr>
                <a:xfrm>
                  <a:off x="380880" y="1754640"/>
                  <a:ext cx="20761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32" name=""/>
                <p:cNvGrpSpPr/>
                <p:nvPr/>
              </p:nvGrpSpPr>
              <p:grpSpPr>
                <a:xfrm>
                  <a:off x="380880" y="1754640"/>
                  <a:ext cx="2075760" cy="2739600"/>
                  <a:chOff x="380880" y="1754640"/>
                  <a:chExt cx="2075760" cy="2739600"/>
                </a:xfrm>
              </p:grpSpPr>
              <p:sp>
                <p:nvSpPr>
                  <p:cNvPr id="333" name=""/>
                  <p:cNvSpPr/>
                  <p:nvPr/>
                </p:nvSpPr>
                <p:spPr>
                  <a:xfrm>
                    <a:off x="380880" y="1754640"/>
                    <a:ext cx="2075760" cy="1495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                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4" name=""/>
                  <p:cNvSpPr/>
                  <p:nvPr/>
                </p:nvSpPr>
                <p:spPr>
                  <a:xfrm>
                    <a:off x="380880" y="3250440"/>
                    <a:ext cx="2075760" cy="1243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2000" spc="-1" strike="noStrike">
                        <a:solidFill>
                          <a:srgbClr val="000000"/>
                        </a:solidFill>
                        <a:latin typeface="Verdana"/>
                      </a:rPr>
                      <a:t> 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pic>
        <p:nvPicPr>
          <p:cNvPr id="335" name="" descr=" "/>
          <p:cNvPicPr/>
          <p:nvPr/>
        </p:nvPicPr>
        <p:blipFill>
          <a:blip r:embed="rId2"/>
          <a:stretch/>
        </p:blipFill>
        <p:spPr>
          <a:xfrm>
            <a:off x="4724280" y="1911240"/>
            <a:ext cx="3961080" cy="403884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304920" y="2209680"/>
            <a:ext cx="4343400" cy="19227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People with blood group O are called 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Verdana"/>
              </a:rPr>
              <a:t>"</a:t>
            </a:r>
            <a:r>
              <a:rPr b="1" lang="en-GB" sz="2400" spc="-1" strike="noStrike" u="sng">
                <a:solidFill>
                  <a:srgbClr val="ff0000"/>
                </a:solidFill>
                <a:uFillTx/>
                <a:latin typeface="Verdana"/>
              </a:rPr>
              <a:t>universal donors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Verdana"/>
              </a:rPr>
              <a:t>"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and people with blood group AB are called "</a:t>
            </a:r>
            <a:r>
              <a:rPr b="1" lang="en-GB" sz="2400" spc="-1" strike="noStrike" u="sng">
                <a:solidFill>
                  <a:srgbClr val="009900"/>
                </a:solidFill>
                <a:uFillTx/>
                <a:latin typeface="Verdana"/>
              </a:rPr>
              <a:t>universal receivers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."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900000" y="533520"/>
            <a:ext cx="7507440" cy="82548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  <a:ea typeface="Arial"/>
              </a:rPr>
              <a:t>Blood transfusions – who can receive blood from</a:t>
            </a:r>
            <a:br>
              <a:rPr sz="2400"/>
            </a:br>
            <a:r>
              <a:rPr b="1" lang="en-GB" sz="2400" spc="-1" strike="noStrike">
                <a:solidFill>
                  <a:srgbClr val="ff0000"/>
                </a:solidFill>
                <a:latin typeface="Arial"/>
                <a:ea typeface="Arial"/>
              </a:rPr>
              <a:t>who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 "/>
          <p:cNvPicPr/>
          <p:nvPr/>
        </p:nvPicPr>
        <p:blipFill>
          <a:blip r:embed="rId2"/>
          <a:stretch/>
        </p:blipFill>
        <p:spPr>
          <a:xfrm>
            <a:off x="457200" y="609480"/>
            <a:ext cx="3094200" cy="41148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3657600" y="2133720"/>
            <a:ext cx="5181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ccording to the AB</a:t>
            </a:r>
            <a:r>
              <a:rPr b="0" lang="cy-GB" sz="2400" spc="-1" strike="noStrike">
                <a:solidFill>
                  <a:srgbClr val="000000"/>
                </a:solidFill>
                <a:latin typeface="Verdana"/>
              </a:rPr>
              <a:t>O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blood typing system there are four different kinds of blood types: 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741480" y="1295280"/>
            <a:ext cx="4993200" cy="52056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  <a:ea typeface="Arial"/>
              </a:rPr>
              <a:t>AB</a:t>
            </a:r>
            <a:r>
              <a:rPr b="1" lang="cy-GB" sz="2800" spc="-1" strike="noStrike">
                <a:solidFill>
                  <a:srgbClr val="ff0000"/>
                </a:solidFill>
                <a:latin typeface="Arial"/>
                <a:ea typeface="Arial"/>
              </a:rPr>
              <a:t>O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  <a:ea typeface="Arial"/>
              </a:rPr>
              <a:t> blood grouping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00720" y="3692520"/>
            <a:ext cx="2952720" cy="459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, B, AB or O (nul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"/>
          <p:cNvGrpSpPr/>
          <p:nvPr/>
        </p:nvGrpSpPr>
        <p:grpSpPr>
          <a:xfrm>
            <a:off x="380880" y="549360"/>
            <a:ext cx="8458200" cy="5610240"/>
            <a:chOff x="380880" y="549360"/>
            <a:chExt cx="8458200" cy="5610240"/>
          </a:xfrm>
        </p:grpSpPr>
        <p:sp>
          <p:nvSpPr>
            <p:cNvPr id="91" name=""/>
            <p:cNvSpPr/>
            <p:nvPr/>
          </p:nvSpPr>
          <p:spPr>
            <a:xfrm>
              <a:off x="533520" y="1600200"/>
              <a:ext cx="830556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The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ABO gene is autosoma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The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ABO gene 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locus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is located on the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chromosom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80880" y="5334120"/>
              <a:ext cx="8439120" cy="8254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Each person has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two copies of genes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 coding for their ABO blood group </a:t>
              </a:r>
              <a:r>
                <a:rPr b="1" lang="en-GB" sz="2400" spc="-1" strike="noStrike">
                  <a:solidFill>
                    <a:srgbClr val="00cc00"/>
                  </a:solidFill>
                  <a:latin typeface="Times New Roman"/>
                </a:rPr>
                <a:t>(one maternal and one paternal in origin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57200" y="3429000"/>
              <a:ext cx="7859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 and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 blood groups </a:t>
              </a:r>
              <a:r>
                <a:rPr b="0" lang="cy-GB" sz="2400" spc="-1" strike="noStrike">
                  <a:solidFill>
                    <a:srgbClr val="000000"/>
                  </a:solidFill>
                  <a:latin typeface="Times New Roman"/>
                </a:rPr>
                <a:t>are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dominant 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over the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 blood grou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57200" y="4191120"/>
              <a:ext cx="55548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A 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and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 B 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group genes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cy-GB" sz="2400" spc="-1" strike="noStrike">
                  <a:solidFill>
                    <a:srgbClr val="000000"/>
                  </a:solidFill>
                  <a:latin typeface="Times New Roman"/>
                </a:rPr>
                <a:t>are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GB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co-domina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143080" y="549360"/>
              <a:ext cx="4876920" cy="6858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235240" y="609480"/>
              <a:ext cx="4709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0000"/>
                  </a:solidFill>
                  <a:latin typeface="Times New Roman"/>
                </a:rPr>
                <a:t>ABO inheritance and genetic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308720" y="2349360"/>
              <a:ext cx="432000" cy="360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79704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gglutinogens (Antigen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684360" y="1836720"/>
            <a:ext cx="7920000" cy="46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914400" y="685800"/>
            <a:ext cx="73152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" name=""/>
          <p:cNvGrpSpPr/>
          <p:nvPr/>
        </p:nvGrpSpPr>
        <p:grpSpPr>
          <a:xfrm>
            <a:off x="196920" y="404640"/>
            <a:ext cx="8696160" cy="5970600"/>
            <a:chOff x="196920" y="404640"/>
            <a:chExt cx="8696160" cy="5970600"/>
          </a:xfrm>
        </p:grpSpPr>
        <p:sp>
          <p:nvSpPr>
            <p:cNvPr id="102" name=""/>
            <p:cNvSpPr/>
            <p:nvPr/>
          </p:nvSpPr>
          <p:spPr>
            <a:xfrm>
              <a:off x="196920" y="404640"/>
              <a:ext cx="8696160" cy="198360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000099"/>
                  </a:solidFill>
                  <a:latin typeface="Times New Roman"/>
                </a:rPr>
                <a:t>The ABO blood group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The table shows the four </a:t>
              </a:r>
              <a:r>
                <a:rPr b="1" lang="en-GB" sz="2400" spc="-1" strike="noStrike">
                  <a:solidFill>
                    <a:srgbClr val="00cc00"/>
                  </a:solidFill>
                  <a:latin typeface="Times New Roman"/>
                </a:rPr>
                <a:t>ABO phenotypes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 ("blood groups") present in the human population and the </a:t>
              </a:r>
              <a:r>
                <a:rPr b="1" lang="en-GB" sz="2400" spc="-1" strike="noStrike">
                  <a:solidFill>
                    <a:srgbClr val="ff0000"/>
                  </a:solidFill>
                  <a:latin typeface="Times New Roman"/>
                </a:rPr>
                <a:t>genotypes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 that give rise to them.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5800" y="2565360"/>
              <a:ext cx="7772400" cy="38098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685800" y="2565360"/>
              <a:ext cx="7772040" cy="3781440"/>
              <a:chOff x="685800" y="2565360"/>
              <a:chExt cx="7772040" cy="378144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709200" y="2583000"/>
                <a:ext cx="7724160" cy="3746520"/>
                <a:chOff x="709200" y="2583000"/>
                <a:chExt cx="7724160" cy="3746520"/>
              </a:xfrm>
            </p:grpSpPr>
            <p:grpSp>
              <p:nvGrpSpPr>
                <p:cNvPr id="106" name=""/>
                <p:cNvGrpSpPr/>
                <p:nvPr/>
              </p:nvGrpSpPr>
              <p:grpSpPr>
                <a:xfrm>
                  <a:off x="709200" y="2583000"/>
                  <a:ext cx="1071000" cy="1917720"/>
                  <a:chOff x="709200" y="2583000"/>
                  <a:chExt cx="1071000" cy="1917720"/>
                </a:xfrm>
              </p:grpSpPr>
              <p:sp>
                <p:nvSpPr>
                  <p:cNvPr id="107" name=""/>
                  <p:cNvSpPr/>
                  <p:nvPr/>
                </p:nvSpPr>
                <p:spPr>
                  <a:xfrm>
                    <a:off x="709200" y="2583000"/>
                    <a:ext cx="1071000" cy="1917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4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Blood Group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>
                    <a:off x="709200" y="2583000"/>
                    <a:ext cx="1071000" cy="19177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9" name=""/>
                <p:cNvGrpSpPr/>
                <p:nvPr/>
              </p:nvGrpSpPr>
              <p:grpSpPr>
                <a:xfrm>
                  <a:off x="1780560" y="2583000"/>
                  <a:ext cx="1606320" cy="1917720"/>
                  <a:chOff x="1780560" y="2583000"/>
                  <a:chExt cx="1606320" cy="1917720"/>
                </a:xfrm>
              </p:grpSpPr>
              <p:sp>
                <p:nvSpPr>
                  <p:cNvPr id="110" name=""/>
                  <p:cNvSpPr/>
                  <p:nvPr/>
                </p:nvSpPr>
                <p:spPr>
                  <a:xfrm>
                    <a:off x="1780560" y="2583000"/>
                    <a:ext cx="1606320" cy="1917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Antigens on RBCs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>
                    <a:off x="1780560" y="2583000"/>
                    <a:ext cx="1606320" cy="19177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2" name=""/>
                <p:cNvGrpSpPr/>
                <p:nvPr/>
              </p:nvGrpSpPr>
              <p:grpSpPr>
                <a:xfrm>
                  <a:off x="3387240" y="2583000"/>
                  <a:ext cx="3213720" cy="1917720"/>
                  <a:chOff x="3387240" y="2583000"/>
                  <a:chExt cx="3213720" cy="1917720"/>
                </a:xfrm>
              </p:grpSpPr>
              <p:sp>
                <p:nvSpPr>
                  <p:cNvPr id="113" name=""/>
                  <p:cNvSpPr/>
                  <p:nvPr/>
                </p:nvSpPr>
                <p:spPr>
                  <a:xfrm>
                    <a:off x="3387240" y="2583000"/>
                    <a:ext cx="3213720" cy="1917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Antibodies in Serum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"/>
                  <p:cNvSpPr/>
                  <p:nvPr/>
                </p:nvSpPr>
                <p:spPr>
                  <a:xfrm>
                    <a:off x="3387240" y="2583000"/>
                    <a:ext cx="3213720" cy="19177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5" name=""/>
                <p:cNvGrpSpPr/>
                <p:nvPr/>
              </p:nvGrpSpPr>
              <p:grpSpPr>
                <a:xfrm>
                  <a:off x="6601680" y="2583000"/>
                  <a:ext cx="1831680" cy="1917720"/>
                  <a:chOff x="6601680" y="2583000"/>
                  <a:chExt cx="1831680" cy="1917720"/>
                </a:xfrm>
              </p:grpSpPr>
              <p:sp>
                <p:nvSpPr>
                  <p:cNvPr id="116" name=""/>
                  <p:cNvSpPr/>
                  <p:nvPr/>
                </p:nvSpPr>
                <p:spPr>
                  <a:xfrm>
                    <a:off x="6601680" y="2583000"/>
                    <a:ext cx="1831680" cy="1917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4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Genotypes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"/>
                  <p:cNvSpPr/>
                  <p:nvPr/>
                </p:nvSpPr>
                <p:spPr>
                  <a:xfrm>
                    <a:off x="6601680" y="2583000"/>
                    <a:ext cx="1831680" cy="19177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"/>
                <p:cNvGrpSpPr/>
                <p:nvPr/>
              </p:nvGrpSpPr>
              <p:grpSpPr>
                <a:xfrm>
                  <a:off x="709200" y="4500720"/>
                  <a:ext cx="1071000" cy="457200"/>
                  <a:chOff x="709200" y="4500720"/>
                  <a:chExt cx="1071000" cy="457200"/>
                </a:xfrm>
              </p:grpSpPr>
              <p:sp>
                <p:nvSpPr>
                  <p:cNvPr id="119" name=""/>
                  <p:cNvSpPr/>
                  <p:nvPr/>
                </p:nvSpPr>
                <p:spPr>
                  <a:xfrm>
                    <a:off x="709200" y="4500720"/>
                    <a:ext cx="1071000" cy="457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A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"/>
                  <p:cNvSpPr/>
                  <p:nvPr/>
                </p:nvSpPr>
                <p:spPr>
                  <a:xfrm>
                    <a:off x="709200" y="4500720"/>
                    <a:ext cx="1071000" cy="4572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1" name=""/>
                <p:cNvGrpSpPr/>
                <p:nvPr/>
              </p:nvGrpSpPr>
              <p:grpSpPr>
                <a:xfrm>
                  <a:off x="1780560" y="4500720"/>
                  <a:ext cx="1606320" cy="457200"/>
                  <a:chOff x="1780560" y="4500720"/>
                  <a:chExt cx="1606320" cy="457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1780560" y="4500720"/>
                    <a:ext cx="1606320" cy="457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A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1780560" y="4500720"/>
                    <a:ext cx="1606320" cy="4572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4" name=""/>
                <p:cNvGrpSpPr/>
                <p:nvPr/>
              </p:nvGrpSpPr>
              <p:grpSpPr>
                <a:xfrm>
                  <a:off x="3387240" y="4500720"/>
                  <a:ext cx="3213720" cy="457200"/>
                  <a:chOff x="3387240" y="4500720"/>
                  <a:chExt cx="3213720" cy="457200"/>
                </a:xfrm>
              </p:grpSpPr>
              <p:sp>
                <p:nvSpPr>
                  <p:cNvPr id="125" name=""/>
                  <p:cNvSpPr/>
                  <p:nvPr/>
                </p:nvSpPr>
                <p:spPr>
                  <a:xfrm>
                    <a:off x="3387240" y="4500720"/>
                    <a:ext cx="3213720" cy="457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Anti-B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"/>
                  <p:cNvSpPr/>
                  <p:nvPr/>
                </p:nvSpPr>
                <p:spPr>
                  <a:xfrm>
                    <a:off x="3387240" y="4500720"/>
                    <a:ext cx="3213720" cy="4572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7" name=""/>
                <p:cNvGrpSpPr/>
                <p:nvPr/>
              </p:nvGrpSpPr>
              <p:grpSpPr>
                <a:xfrm>
                  <a:off x="6601680" y="4500720"/>
                  <a:ext cx="1831680" cy="457200"/>
                  <a:chOff x="6601680" y="4500720"/>
                  <a:chExt cx="1831680" cy="457200"/>
                </a:xfrm>
              </p:grpSpPr>
              <p:sp>
                <p:nvSpPr>
                  <p:cNvPr id="128" name=""/>
                  <p:cNvSpPr/>
                  <p:nvPr/>
                </p:nvSpPr>
                <p:spPr>
                  <a:xfrm>
                    <a:off x="6601680" y="4500720"/>
                    <a:ext cx="1831680" cy="457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GB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I</a:t>
                    </a:r>
                    <a:r>
                      <a:rPr b="1" i="1" lang="en-GB" sz="2400" spc="-1" strike="noStrike" baseline="40000">
                        <a:solidFill>
                          <a:srgbClr val="000000"/>
                        </a:solidFill>
                        <a:latin typeface="Times New Roman"/>
                      </a:rPr>
                      <a:t>A</a:t>
                    </a:r>
                    <a:r>
                      <a:rPr b="1" i="1" lang="en-GB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I</a:t>
                    </a:r>
                    <a:r>
                      <a:rPr b="1" i="1" lang="en-GB" sz="2400" spc="-1" strike="noStrike" baseline="40000">
                        <a:solidFill>
                          <a:srgbClr val="000000"/>
                        </a:solidFill>
                        <a:latin typeface="Times New Roman"/>
                      </a:rPr>
                      <a:t>A</a:t>
                    </a:r>
                    <a:r>
                      <a:rPr b="1" lang="en-GB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 or </a:t>
                    </a:r>
                    <a:r>
                      <a:rPr b="1" i="1" lang="en-GB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I</a:t>
                    </a:r>
                    <a:r>
                      <a:rPr b="1" i="1" lang="en-GB" sz="2400" spc="-1" strike="noStrike" baseline="40000">
                        <a:solidFill>
                          <a:srgbClr val="000000"/>
                        </a:solidFill>
                        <a:latin typeface="Times New Roman"/>
                      </a:rPr>
                      <a:t>A</a:t>
                    </a:r>
                    <a:r>
                      <a:rPr b="1" i="1" lang="en-GB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i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" name=""/>
                  <p:cNvSpPr/>
                  <p:nvPr/>
                </p:nvSpPr>
                <p:spPr>
                  <a:xfrm>
                    <a:off x="6601680" y="4500720"/>
                    <a:ext cx="1831680" cy="4572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0" name=""/>
                <p:cNvGrpSpPr/>
                <p:nvPr/>
              </p:nvGrpSpPr>
              <p:grpSpPr>
                <a:xfrm>
                  <a:off x="709200" y="4957920"/>
                  <a:ext cx="1071000" cy="457200"/>
                  <a:chOff x="709200" y="4957920"/>
                  <a:chExt cx="1071000" cy="457200"/>
                </a:xfrm>
              </p:grpSpPr>
              <p:sp>
                <p:nvSpPr>
                  <p:cNvPr id="131" name=""/>
                  <p:cNvSpPr/>
                  <p:nvPr/>
                </p:nvSpPr>
                <p:spPr>
                  <a:xfrm>
                    <a:off x="709200" y="4957920"/>
                    <a:ext cx="1071000" cy="457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B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"/>
                  <p:cNvSpPr/>
                  <p:nvPr/>
                </p:nvSpPr>
                <p:spPr>
                  <a:xfrm>
                    <a:off x="709200" y="4957920"/>
                    <a:ext cx="1071000" cy="4572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3" name=""/>
                <p:cNvGrpSpPr/>
                <p:nvPr/>
              </p:nvGrpSpPr>
              <p:grpSpPr>
                <a:xfrm>
                  <a:off x="1780560" y="4957920"/>
                  <a:ext cx="1606320" cy="457200"/>
                  <a:chOff x="1780560" y="4957920"/>
                  <a:chExt cx="1606320" cy="457200"/>
                </a:xfrm>
              </p:grpSpPr>
              <p:sp>
                <p:nvSpPr>
                  <p:cNvPr id="134" name=""/>
                  <p:cNvSpPr/>
                  <p:nvPr/>
                </p:nvSpPr>
                <p:spPr>
                  <a:xfrm>
                    <a:off x="1780560" y="4957920"/>
                    <a:ext cx="1606320" cy="457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B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"/>
                  <p:cNvSpPr/>
                  <p:nvPr/>
                </p:nvSpPr>
                <p:spPr>
                  <a:xfrm>
                    <a:off x="1780560" y="4957920"/>
                    <a:ext cx="1606320" cy="4572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6" name=""/>
                <p:cNvGrpSpPr/>
                <p:nvPr/>
              </p:nvGrpSpPr>
              <p:grpSpPr>
                <a:xfrm>
                  <a:off x="3387240" y="4957920"/>
                  <a:ext cx="3213720" cy="457200"/>
                  <a:chOff x="3387240" y="4957920"/>
                  <a:chExt cx="3213720" cy="457200"/>
                </a:xfrm>
              </p:grpSpPr>
              <p:sp>
                <p:nvSpPr>
                  <p:cNvPr id="137" name=""/>
                  <p:cNvSpPr/>
                  <p:nvPr/>
                </p:nvSpPr>
                <p:spPr>
                  <a:xfrm>
                    <a:off x="3387240" y="4957920"/>
                    <a:ext cx="3213720" cy="457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Anti-A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"/>
                  <p:cNvSpPr/>
                  <p:nvPr/>
                </p:nvSpPr>
                <p:spPr>
                  <a:xfrm>
                    <a:off x="3387240" y="4957920"/>
                    <a:ext cx="3213720" cy="4572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9" name=""/>
                <p:cNvGrpSpPr/>
                <p:nvPr/>
              </p:nvGrpSpPr>
              <p:grpSpPr>
                <a:xfrm>
                  <a:off x="6601680" y="4957920"/>
                  <a:ext cx="1831680" cy="457200"/>
                  <a:chOff x="6601680" y="4957920"/>
                  <a:chExt cx="1831680" cy="457200"/>
                </a:xfrm>
              </p:grpSpPr>
              <p:sp>
                <p:nvSpPr>
                  <p:cNvPr id="140" name=""/>
                  <p:cNvSpPr/>
                  <p:nvPr/>
                </p:nvSpPr>
                <p:spPr>
                  <a:xfrm>
                    <a:off x="6601680" y="4957920"/>
                    <a:ext cx="1831680" cy="457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GB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I</a:t>
                    </a:r>
                    <a:r>
                      <a:rPr b="1" i="1" lang="en-GB" sz="2400" spc="-1" strike="noStrike" baseline="40000">
                        <a:solidFill>
                          <a:srgbClr val="000000"/>
                        </a:solidFill>
                        <a:latin typeface="Times New Roman"/>
                      </a:rPr>
                      <a:t>B</a:t>
                    </a:r>
                    <a:r>
                      <a:rPr b="1" i="1" lang="en-GB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I</a:t>
                    </a:r>
                    <a:r>
                      <a:rPr b="1" i="1" lang="en-GB" sz="2400" spc="-1" strike="noStrike" baseline="40000">
                        <a:solidFill>
                          <a:srgbClr val="000000"/>
                        </a:solidFill>
                        <a:latin typeface="Times New Roman"/>
                      </a:rPr>
                      <a:t>B</a:t>
                    </a:r>
                    <a:r>
                      <a:rPr b="1" lang="en-GB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 or </a:t>
                    </a:r>
                    <a:r>
                      <a:rPr b="1" i="1" lang="en-GB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I</a:t>
                    </a:r>
                    <a:r>
                      <a:rPr b="1" i="1" lang="en-GB" sz="2400" spc="-1" strike="noStrike" baseline="40000">
                        <a:solidFill>
                          <a:srgbClr val="000000"/>
                        </a:solidFill>
                        <a:latin typeface="Times New Roman"/>
                      </a:rPr>
                      <a:t>B</a:t>
                    </a:r>
                    <a:r>
                      <a:rPr b="1" i="1" lang="en-GB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i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"/>
                  <p:cNvSpPr/>
                  <p:nvPr/>
                </p:nvSpPr>
                <p:spPr>
                  <a:xfrm>
                    <a:off x="6601680" y="4957920"/>
                    <a:ext cx="1831680" cy="4572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2" name=""/>
                <p:cNvGrpSpPr/>
                <p:nvPr/>
              </p:nvGrpSpPr>
              <p:grpSpPr>
                <a:xfrm>
                  <a:off x="709200" y="5415120"/>
                  <a:ext cx="1071000" cy="457200"/>
                  <a:chOff x="709200" y="5415120"/>
                  <a:chExt cx="1071000" cy="457200"/>
                </a:xfrm>
              </p:grpSpPr>
              <p:sp>
                <p:nvSpPr>
                  <p:cNvPr id="143" name=""/>
                  <p:cNvSpPr/>
                  <p:nvPr/>
                </p:nvSpPr>
                <p:spPr>
                  <a:xfrm>
                    <a:off x="709200" y="5415120"/>
                    <a:ext cx="1071000" cy="457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AB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"/>
                  <p:cNvSpPr/>
                  <p:nvPr/>
                </p:nvSpPr>
                <p:spPr>
                  <a:xfrm>
                    <a:off x="709200" y="5415120"/>
                    <a:ext cx="1071000" cy="4572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5" name=""/>
                <p:cNvGrpSpPr/>
                <p:nvPr/>
              </p:nvGrpSpPr>
              <p:grpSpPr>
                <a:xfrm>
                  <a:off x="1780560" y="5415120"/>
                  <a:ext cx="1606320" cy="457200"/>
                  <a:chOff x="1780560" y="5415120"/>
                  <a:chExt cx="1606320" cy="457200"/>
                </a:xfrm>
              </p:grpSpPr>
              <p:sp>
                <p:nvSpPr>
                  <p:cNvPr id="146" name=""/>
                  <p:cNvSpPr/>
                  <p:nvPr/>
                </p:nvSpPr>
                <p:spPr>
                  <a:xfrm>
                    <a:off x="1780560" y="5415120"/>
                    <a:ext cx="1606320" cy="457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A</a:t>
                    </a:r>
                    <a:r>
                      <a:rPr b="0" lang="en-GB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 and </a:t>
                    </a:r>
                    <a:r>
                      <a:rPr b="1" lang="en-GB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B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"/>
                  <p:cNvSpPr/>
                  <p:nvPr/>
                </p:nvSpPr>
                <p:spPr>
                  <a:xfrm>
                    <a:off x="1780560" y="5415120"/>
                    <a:ext cx="1606320" cy="4572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8" name=""/>
                <p:cNvGrpSpPr/>
                <p:nvPr/>
              </p:nvGrpSpPr>
              <p:grpSpPr>
                <a:xfrm>
                  <a:off x="3387240" y="5415120"/>
                  <a:ext cx="3213720" cy="457200"/>
                  <a:chOff x="3387240" y="5415120"/>
                  <a:chExt cx="3213720" cy="457200"/>
                </a:xfrm>
              </p:grpSpPr>
              <p:sp>
                <p:nvSpPr>
                  <p:cNvPr id="149" name=""/>
                  <p:cNvSpPr/>
                  <p:nvPr/>
                </p:nvSpPr>
                <p:spPr>
                  <a:xfrm>
                    <a:off x="3387240" y="5415120"/>
                    <a:ext cx="3213720" cy="457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Neither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" name=""/>
                  <p:cNvSpPr/>
                  <p:nvPr/>
                </p:nvSpPr>
                <p:spPr>
                  <a:xfrm>
                    <a:off x="3387240" y="5415120"/>
                    <a:ext cx="3213720" cy="4572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1" name=""/>
                <p:cNvGrpSpPr/>
                <p:nvPr/>
              </p:nvGrpSpPr>
              <p:grpSpPr>
                <a:xfrm>
                  <a:off x="6601680" y="5415120"/>
                  <a:ext cx="1831680" cy="457200"/>
                  <a:chOff x="6601680" y="5415120"/>
                  <a:chExt cx="1831680" cy="457200"/>
                </a:xfrm>
              </p:grpSpPr>
              <p:sp>
                <p:nvSpPr>
                  <p:cNvPr id="152" name=""/>
                  <p:cNvSpPr/>
                  <p:nvPr/>
                </p:nvSpPr>
                <p:spPr>
                  <a:xfrm>
                    <a:off x="6601680" y="5415120"/>
                    <a:ext cx="1831680" cy="457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GB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I</a:t>
                    </a:r>
                    <a:r>
                      <a:rPr b="1" i="1" lang="en-GB" sz="2400" spc="-1" strike="noStrike" baseline="40000">
                        <a:solidFill>
                          <a:srgbClr val="000000"/>
                        </a:solidFill>
                        <a:latin typeface="Times New Roman"/>
                      </a:rPr>
                      <a:t>A</a:t>
                    </a:r>
                    <a:r>
                      <a:rPr b="1" i="1" lang="en-GB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I</a:t>
                    </a:r>
                    <a:r>
                      <a:rPr b="1" i="1" lang="en-GB" sz="2400" spc="-1" strike="noStrike" baseline="40000">
                        <a:solidFill>
                          <a:srgbClr val="000000"/>
                        </a:solidFill>
                        <a:latin typeface="Times New Roman"/>
                      </a:rPr>
                      <a:t>B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"/>
                  <p:cNvSpPr/>
                  <p:nvPr/>
                </p:nvSpPr>
                <p:spPr>
                  <a:xfrm>
                    <a:off x="6601680" y="5415120"/>
                    <a:ext cx="1831680" cy="4572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4" name=""/>
                <p:cNvGrpSpPr/>
                <p:nvPr/>
              </p:nvGrpSpPr>
              <p:grpSpPr>
                <a:xfrm>
                  <a:off x="709200" y="5872320"/>
                  <a:ext cx="1071000" cy="457200"/>
                  <a:chOff x="709200" y="5872320"/>
                  <a:chExt cx="1071000" cy="457200"/>
                </a:xfrm>
              </p:grpSpPr>
              <p:sp>
                <p:nvSpPr>
                  <p:cNvPr id="155" name=""/>
                  <p:cNvSpPr/>
                  <p:nvPr/>
                </p:nvSpPr>
                <p:spPr>
                  <a:xfrm>
                    <a:off x="709200" y="5872320"/>
                    <a:ext cx="1071000" cy="457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O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" name=""/>
                  <p:cNvSpPr/>
                  <p:nvPr/>
                </p:nvSpPr>
                <p:spPr>
                  <a:xfrm>
                    <a:off x="709200" y="5872320"/>
                    <a:ext cx="1071000" cy="4572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7" name=""/>
                <p:cNvGrpSpPr/>
                <p:nvPr/>
              </p:nvGrpSpPr>
              <p:grpSpPr>
                <a:xfrm>
                  <a:off x="1780560" y="5872320"/>
                  <a:ext cx="1606320" cy="457200"/>
                  <a:chOff x="1780560" y="5872320"/>
                  <a:chExt cx="1606320" cy="457200"/>
                </a:xfrm>
              </p:grpSpPr>
              <p:sp>
                <p:nvSpPr>
                  <p:cNvPr id="158" name=""/>
                  <p:cNvSpPr/>
                  <p:nvPr/>
                </p:nvSpPr>
                <p:spPr>
                  <a:xfrm>
                    <a:off x="1780560" y="5872320"/>
                    <a:ext cx="1606320" cy="457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Neither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" name=""/>
                  <p:cNvSpPr/>
                  <p:nvPr/>
                </p:nvSpPr>
                <p:spPr>
                  <a:xfrm>
                    <a:off x="1780560" y="5872320"/>
                    <a:ext cx="1606320" cy="4572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0" name=""/>
                <p:cNvGrpSpPr/>
                <p:nvPr/>
              </p:nvGrpSpPr>
              <p:grpSpPr>
                <a:xfrm>
                  <a:off x="3387240" y="5872320"/>
                  <a:ext cx="3213720" cy="457200"/>
                  <a:chOff x="3387240" y="5872320"/>
                  <a:chExt cx="3213720" cy="457200"/>
                </a:xfrm>
              </p:grpSpPr>
              <p:sp>
                <p:nvSpPr>
                  <p:cNvPr id="161" name=""/>
                  <p:cNvSpPr/>
                  <p:nvPr/>
                </p:nvSpPr>
                <p:spPr>
                  <a:xfrm>
                    <a:off x="3387240" y="5872320"/>
                    <a:ext cx="3213720" cy="457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GB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Anti-A and anti-B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" name=""/>
                  <p:cNvSpPr/>
                  <p:nvPr/>
                </p:nvSpPr>
                <p:spPr>
                  <a:xfrm>
                    <a:off x="3387240" y="5872320"/>
                    <a:ext cx="3213720" cy="4572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3" name=""/>
                <p:cNvGrpSpPr/>
                <p:nvPr/>
              </p:nvGrpSpPr>
              <p:grpSpPr>
                <a:xfrm>
                  <a:off x="6601680" y="5872320"/>
                  <a:ext cx="1831680" cy="457200"/>
                  <a:chOff x="6601680" y="5872320"/>
                  <a:chExt cx="1831680" cy="457200"/>
                </a:xfrm>
              </p:grpSpPr>
              <p:sp>
                <p:nvSpPr>
                  <p:cNvPr id="164" name=""/>
                  <p:cNvSpPr/>
                  <p:nvPr/>
                </p:nvSpPr>
                <p:spPr>
                  <a:xfrm>
                    <a:off x="6601680" y="5872320"/>
                    <a:ext cx="1831680" cy="457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GB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ii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" name=""/>
                  <p:cNvSpPr/>
                  <p:nvPr/>
                </p:nvSpPr>
                <p:spPr>
                  <a:xfrm>
                    <a:off x="6601680" y="5872320"/>
                    <a:ext cx="1831680" cy="4572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66" name=""/>
              <p:cNvSpPr/>
              <p:nvPr/>
            </p:nvSpPr>
            <p:spPr>
              <a:xfrm>
                <a:off x="685800" y="2565360"/>
                <a:ext cx="7772040" cy="3781440"/>
              </a:xfrm>
              <a:prstGeom prst="rect">
                <a:avLst/>
              </a:prstGeom>
              <a:noFill/>
              <a:ln w="3492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7" name=""/>
            <p:cNvSpPr/>
            <p:nvPr/>
          </p:nvSpPr>
          <p:spPr>
            <a:xfrm rot="617400">
              <a:off x="6710400" y="4365360"/>
              <a:ext cx="719280" cy="115092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rot="617400">
              <a:off x="7738560" y="4365360"/>
              <a:ext cx="578160" cy="115092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748560" y="402732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333399"/>
                  </a:solidFill>
                  <a:latin typeface="Arial"/>
                </a:rPr>
                <a:t>hom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667640" y="402120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333399"/>
                  </a:solidFill>
                  <a:latin typeface="Arial"/>
                </a:rPr>
                <a:t>hetr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457200" y="1447920"/>
            <a:ext cx="82296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There's another antigen to be considered : the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Rh antige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br>
              <a:rPr sz="2400"/>
            </a:b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Some of us have it, some of us don't. </a:t>
            </a:r>
            <a:br>
              <a:rPr sz="2400"/>
            </a:b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If it is present, the blood is RhD positive, if not it's RhD negative. </a:t>
            </a:r>
            <a:br>
              <a:rPr sz="2400"/>
            </a:b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So, for example, some people in group A will have it, and will therefore be classed as A+ (or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A positiv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). </a:t>
            </a:r>
            <a:br>
              <a:rPr sz="2400"/>
            </a:b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While the ones that don't, are A- (or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A negativ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). </a:t>
            </a:r>
            <a:br>
              <a:rPr sz="2400"/>
            </a:b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And so it goes for groups B, AB and 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689200" y="457200"/>
            <a:ext cx="4114800" cy="838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802240" y="662040"/>
            <a:ext cx="3855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d40139"/>
                </a:solidFill>
                <a:latin typeface="Arial"/>
                <a:ea typeface="Arial"/>
              </a:rPr>
              <a:t>The Rhesus (Rh) System </a:t>
            </a:r>
            <a:br>
              <a:rPr sz="2400"/>
            </a:br>
            <a:r>
              <a:rPr b="0" lang="en-GB" sz="2400" spc="-1" strike="noStrike">
                <a:solidFill>
                  <a:srgbClr val="d40139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4" name=""/>
          <p:cNvGrpSpPr/>
          <p:nvPr/>
        </p:nvGrpSpPr>
        <p:grpSpPr>
          <a:xfrm>
            <a:off x="0" y="609480"/>
            <a:ext cx="9144000" cy="5181480"/>
            <a:chOff x="0" y="609480"/>
            <a:chExt cx="9144000" cy="5181480"/>
          </a:xfrm>
        </p:grpSpPr>
        <p:sp>
          <p:nvSpPr>
            <p:cNvPr id="175" name=""/>
            <p:cNvSpPr/>
            <p:nvPr/>
          </p:nvSpPr>
          <p:spPr>
            <a:xfrm>
              <a:off x="0" y="233208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6" name=""/>
            <p:cNvGrpSpPr/>
            <p:nvPr/>
          </p:nvGrpSpPr>
          <p:grpSpPr>
            <a:xfrm>
              <a:off x="1676520" y="2209680"/>
              <a:ext cx="5122440" cy="3581280"/>
              <a:chOff x="1676520" y="2209680"/>
              <a:chExt cx="5122440" cy="3581280"/>
            </a:xfrm>
          </p:grpSpPr>
          <p:sp>
            <p:nvSpPr>
              <p:cNvPr id="177" name=""/>
              <p:cNvSpPr/>
              <p:nvPr/>
            </p:nvSpPr>
            <p:spPr>
              <a:xfrm>
                <a:off x="1676520" y="2209680"/>
                <a:ext cx="1927440" cy="134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333399"/>
                    </a:solidFill>
                    <a:latin typeface="Times New Roman"/>
                  </a:rPr>
                  <a:t>Blood</a:t>
                </a:r>
                <a:br>
                  <a:rPr sz="2400"/>
                </a:br>
                <a:r>
                  <a:rPr b="1" lang="en-GB" sz="2400" spc="-1" strike="noStrike">
                    <a:solidFill>
                      <a:srgbClr val="333399"/>
                    </a:solidFill>
                    <a:latin typeface="Times New Roman"/>
                  </a:rPr>
                  <a:t>Type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3603960" y="2209680"/>
                <a:ext cx="1597320" cy="134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333399"/>
                    </a:solidFill>
                    <a:latin typeface="Times New Roman"/>
                  </a:rPr>
                  <a:t>Genotype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5201640" y="2209680"/>
                <a:ext cx="1597320" cy="134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333399"/>
                    </a:solidFill>
                    <a:latin typeface="Times New Roman"/>
                  </a:rPr>
                  <a:t>Alleles</a:t>
                </a:r>
                <a:br>
                  <a:rPr sz="2400"/>
                </a:br>
                <a:r>
                  <a:rPr b="1" lang="en-GB" sz="2400" spc="-1" strike="noStrike">
                    <a:solidFill>
                      <a:srgbClr val="333399"/>
                    </a:solidFill>
                    <a:latin typeface="Times New Roman"/>
                  </a:rPr>
                  <a:t>Produced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1676520" y="3551760"/>
                <a:ext cx="1927440" cy="149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0000"/>
                    </a:solidFill>
                    <a:latin typeface="Times New Roman"/>
                  </a:rPr>
                  <a:t>Rh positive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3603960" y="3551760"/>
                <a:ext cx="1597320" cy="74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0000"/>
                    </a:solidFill>
                    <a:latin typeface="Times New Roman"/>
                  </a:rPr>
                  <a:t>RR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5201640" y="3551760"/>
                <a:ext cx="1597320" cy="74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3603960" y="4298040"/>
                <a:ext cx="1597320" cy="74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0000"/>
                    </a:solidFill>
                    <a:latin typeface="Times New Roman"/>
                  </a:rPr>
                  <a:t>Rr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5201640" y="4298040"/>
                <a:ext cx="1597320" cy="74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 or </a:t>
                </a:r>
                <a:r>
                  <a:rPr b="1" lang="en-GB" sz="24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1676520" y="5044680"/>
                <a:ext cx="1927440" cy="74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0000"/>
                    </a:solidFill>
                    <a:latin typeface="Times New Roman"/>
                  </a:rPr>
                  <a:t>Rh negative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3603960" y="5044680"/>
                <a:ext cx="1597320" cy="74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0000"/>
                    </a:solidFill>
                    <a:latin typeface="Times New Roman"/>
                  </a:rPr>
                  <a:t>rr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5201640" y="5044680"/>
                <a:ext cx="1597320" cy="74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8" name=""/>
            <p:cNvSpPr/>
            <p:nvPr/>
          </p:nvSpPr>
          <p:spPr>
            <a:xfrm>
              <a:off x="380880" y="609480"/>
              <a:ext cx="7620120" cy="52056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0000"/>
                  </a:solidFill>
                  <a:latin typeface="Times New Roman"/>
                </a:rPr>
                <a:t>Rh Blood Group and Rh Incompatibilit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9" name=""/>
            <p:cNvGrpSpPr/>
            <p:nvPr/>
          </p:nvGrpSpPr>
          <p:grpSpPr>
            <a:xfrm>
              <a:off x="1241280" y="1484280"/>
              <a:ext cx="5707080" cy="720360"/>
              <a:chOff x="1241280" y="1484280"/>
              <a:chExt cx="5707080" cy="720360"/>
            </a:xfrm>
          </p:grpSpPr>
          <p:sp>
            <p:nvSpPr>
              <p:cNvPr id="190" name=""/>
              <p:cNvSpPr/>
              <p:nvPr/>
            </p:nvSpPr>
            <p:spPr>
              <a:xfrm>
                <a:off x="1241280" y="1484280"/>
                <a:ext cx="570708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1241280" y="1484280"/>
                <a:ext cx="5707080" cy="720360"/>
              </a:xfrm>
              <a:prstGeom prst="rect">
                <a:avLst/>
              </a:pr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Verdana"/>
                  </a:rPr>
                  <a:t>A person with </a:t>
                </a:r>
                <a:r>
                  <a:rPr b="0" lang="en-GB" sz="2000" spc="-1" strike="noStrike">
                    <a:solidFill>
                      <a:srgbClr val="ff0000"/>
                    </a:solidFill>
                    <a:latin typeface="Verdana"/>
                  </a:rPr>
                  <a:t>Rh-</a:t>
                </a:r>
                <a:r>
                  <a:rPr b="0" lang="en-GB" sz="2000" spc="-1" strike="noStrike">
                    <a:solidFill>
                      <a:srgbClr val="000000"/>
                    </a:solidFill>
                    <a:latin typeface="Verdana"/>
                  </a:rPr>
                  <a:t> blood does </a:t>
                </a:r>
                <a:r>
                  <a:rPr b="0" lang="en-GB" sz="2000" spc="-1" strike="noStrike">
                    <a:solidFill>
                      <a:srgbClr val="ff0000"/>
                    </a:solidFill>
                    <a:latin typeface="Verdana"/>
                  </a:rPr>
                  <a:t>not</a:t>
                </a:r>
                <a:r>
                  <a:rPr b="0" lang="en-GB" sz="2000" spc="-1" strike="noStrike">
                    <a:solidFill>
                      <a:srgbClr val="000000"/>
                    </a:solidFill>
                    <a:latin typeface="Verdana"/>
                  </a:rPr>
                  <a:t> have Rh </a:t>
                </a:r>
                <a:r>
                  <a:rPr b="0" lang="en-GB" sz="2000" spc="-1" strike="noStrike">
                    <a:solidFill>
                      <a:srgbClr val="ff0000"/>
                    </a:solidFill>
                    <a:latin typeface="Verdana"/>
                  </a:rPr>
                  <a:t>antibodies</a:t>
                </a:r>
                <a:r>
                  <a:rPr b="0" lang="en-GB" sz="2000" spc="-1" strike="noStrike">
                    <a:solidFill>
                      <a:srgbClr val="000000"/>
                    </a:solidFill>
                    <a:latin typeface="Verdana"/>
                  </a:rPr>
                  <a:t> naturally in the blood plasma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2" name=""/>
            <p:cNvSpPr/>
            <p:nvPr/>
          </p:nvSpPr>
          <p:spPr>
            <a:xfrm>
              <a:off x="1828800" y="5029200"/>
              <a:ext cx="4648320" cy="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1T17:42:46Z</dcterms:created>
  <dc:creator>khale</dc:creator>
  <dc:description/>
  <dc:language>en-US</dc:language>
  <cp:lastModifiedBy>خالد</cp:lastModifiedBy>
  <dcterms:modified xsi:type="dcterms:W3CDTF">2013-04-02T05:05:09Z</dcterms:modified>
  <cp:revision>21</cp:revision>
  <dc:subject/>
  <dc:title>Genetics</dc:title>
</cp:coreProperties>
</file>