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DC8-ECF1-4B30-B38A-2B6E7097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652-E633-436A-93B0-A56998AD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0F4-3102-452F-B6FA-FD2B65BB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A77-9BFC-4942-92FA-7377EE0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3C5C-DAA2-44E4-B5DA-14012905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D52E-7913-4019-9E0F-8A3AD999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C308-FB93-4E06-9D21-25F7751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69CC-6ABD-4D3B-928E-39C94BD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6A5A-2512-44AF-BB99-EAFBAD1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B4B-1E26-434B-8D08-660D682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A663-C918-4255-88ED-E25F5A3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882-B9A1-4DE4-996B-A580A63C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464D-8137-479A-B698-EF49FD0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4FBD-0718-4194-839E-74BE943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857-EDBD-456A-B409-57C502D5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B410-6035-4D2C-9007-FB380D55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8635-CD06-49C9-9494-F73DB31C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4FF-D53D-4AA2-AA33-A9C08EC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D62-B8C9-4C5F-95D7-E9E5B0C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98E-7B15-406C-941B-CFB55F59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C24-180D-40AE-82A9-5BB73066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FAC-83C0-444D-B541-9A8A462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C90-BEC2-44C3-BDC9-1E412CF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B76-6E2C-464A-9199-E351E908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6F20-F46D-4E22-AD09-A41C94E402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FD35-C490-48EF-8E14-7A03A63952B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0CAC-234C-4617-B890-FCC20CD45B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8931-1CF0-4786-8D87-6BD6CC0712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oudy Stout"/>
              </a:rPr>
              <a:t>Genet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80880" y="228600"/>
            <a:ext cx="9448560" cy="3863160"/>
            <a:chOff x="380880" y="228600"/>
            <a:chExt cx="9448560" cy="3863160"/>
          </a:xfrm>
        </p:grpSpPr>
        <p:sp>
          <p:nvSpPr>
            <p:cNvPr id="194" name=""/>
            <p:cNvSpPr/>
            <p:nvPr/>
          </p:nvSpPr>
          <p:spPr>
            <a:xfrm>
              <a:off x="380880" y="228600"/>
              <a:ext cx="9448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0880" y="228600"/>
              <a:ext cx="5904720" cy="3863160"/>
              <a:chOff x="380880" y="228600"/>
              <a:chExt cx="5904720" cy="38631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0880" y="228600"/>
                <a:ext cx="59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880" y="1567080"/>
                <a:ext cx="5904720" cy="25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" descr=" "/>
          <p:cNvPicPr/>
          <p:nvPr/>
        </p:nvPicPr>
        <p:blipFill>
          <a:blip r:embed="rId2"/>
          <a:srcRect l="0" t="0" r="0" b="46672"/>
          <a:stretch/>
        </p:blipFill>
        <p:spPr>
          <a:xfrm>
            <a:off x="928800" y="48006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4920" y="260280"/>
            <a:ext cx="86104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person with Rh- blood can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evelo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h antibodies in the blood plasma if he or she receives blood from a person with Rh+ blood,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whose Rh antigens can trigger the production of Rh antibodi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 "/>
          <p:cNvPicPr/>
          <p:nvPr/>
        </p:nvPicPr>
        <p:blipFill>
          <a:blip r:embed="rId3"/>
          <a:srcRect l="0" t="53353" r="0" b="0"/>
          <a:stretch/>
        </p:blipFill>
        <p:spPr>
          <a:xfrm>
            <a:off x="785880" y="1905120"/>
            <a:ext cx="7315200" cy="1600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7040" y="3657600"/>
            <a:ext cx="8077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person with Rh+ blood can receive blood from a person with Rh- blood without any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BO Blood Grou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30520" y="3139920"/>
            <a:ext cx="5682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boratory  Determination of the ABO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03320" y="3186000"/>
            <a:ext cx="5349960" cy="25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53499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85760" y="1461960"/>
            <a:ext cx="6972480" cy="4343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79560" y="1649520"/>
            <a:ext cx="7480080" cy="3724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338120" y="1490760"/>
            <a:ext cx="6467760" cy="3876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19240" y="1779480"/>
            <a:ext cx="8705520" cy="4457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780000" y="82080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4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81160" y="1536840"/>
            <a:ext cx="6781680" cy="4628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780000" y="74916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79280" y="1106640"/>
            <a:ext cx="8828280" cy="4410000"/>
            <a:chOff x="179280" y="1106640"/>
            <a:chExt cx="8828280" cy="4410000"/>
          </a:xfrm>
        </p:grpSpPr>
        <p:grpSp>
          <p:nvGrpSpPr>
            <p:cNvPr id="217" name=""/>
            <p:cNvGrpSpPr/>
            <p:nvPr/>
          </p:nvGrpSpPr>
          <p:grpSpPr>
            <a:xfrm>
              <a:off x="179280" y="1106640"/>
              <a:ext cx="8828280" cy="4410000"/>
              <a:chOff x="179280" y="1106640"/>
              <a:chExt cx="8828280" cy="44100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80360" y="1125360"/>
                <a:ext cx="1512720" cy="574920"/>
              </a:xfrm>
              <a:prstGeom prst="rect">
                <a:avLst/>
              </a:prstGeom>
              <a:solidFill>
                <a:srgbClr val="c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700280"/>
                <a:ext cx="5313600" cy="3319560"/>
              </a:xfrm>
              <a:prstGeom prst="rect">
                <a:avLst/>
              </a:prstGeom>
              <a:ln w="9360">
                <a:solidFill>
                  <a:srgbClr val="333399"/>
                </a:solidFill>
                <a:miter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6360" y="1106640"/>
                <a:ext cx="4291200" cy="4410000"/>
              </a:xfrm>
              <a:prstGeom prst="rect">
                <a:avLst/>
              </a:prstGeom>
              <a:ln w="9360">
                <a:solidFill>
                  <a:srgbClr val="000099"/>
                </a:solidFill>
                <a:miter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7236000" y="1268280"/>
              <a:ext cx="1512720" cy="50508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80880" y="1670040"/>
            <a:ext cx="8382240" cy="463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6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14360" y="1488960"/>
            <a:ext cx="8315280" cy="481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9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Blood Group System</a:t>
            </a:r>
            <a:r>
              <a:rPr b="1" lang="cy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8320" y="3147840"/>
            <a:ext cx="5607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heritance and Genet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25640" y="3193920"/>
            <a:ext cx="53499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99880" y="1590840"/>
            <a:ext cx="8544240" cy="4790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47680" y="1628640"/>
            <a:ext cx="864864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2360" y="1546200"/>
            <a:ext cx="8639280" cy="4762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85840" y="1628640"/>
            <a:ext cx="8572320" cy="4743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1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5840" y="1628640"/>
            <a:ext cx="8572320" cy="4743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3276720" y="5716440"/>
            <a:ext cx="266364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od group: O + 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7280" y="1125360"/>
            <a:ext cx="8748720" cy="3922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692360" y="333360"/>
            <a:ext cx="5832360" cy="6145200"/>
            <a:chOff x="1692360" y="333360"/>
            <a:chExt cx="5832360" cy="6145200"/>
          </a:xfrm>
        </p:grpSpPr>
        <p:sp>
          <p:nvSpPr>
            <p:cNvPr id="238" name=""/>
            <p:cNvSpPr/>
            <p:nvPr/>
          </p:nvSpPr>
          <p:spPr>
            <a:xfrm>
              <a:off x="5878440" y="582768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O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11520" y="582768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70080" y="582768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2360" y="582768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78440" y="5178600"/>
              <a:ext cx="1645920" cy="64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O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11520" y="5178600"/>
              <a:ext cx="13665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70080" y="5178600"/>
              <a:ext cx="14410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92360" y="5178600"/>
              <a:ext cx="1377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78440" y="452772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B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11520" y="452772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70080" y="452772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92360" y="452772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78440" y="3878280"/>
              <a:ext cx="1645920" cy="649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B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11520" y="3878280"/>
              <a:ext cx="13665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70080" y="3878280"/>
              <a:ext cx="14410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92360" y="3878280"/>
              <a:ext cx="1377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78440" y="322740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B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11520" y="322740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70080" y="322740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92360" y="322740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8440" y="2577960"/>
              <a:ext cx="1645920" cy="649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B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11520" y="2577960"/>
              <a:ext cx="13665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70080" y="2577960"/>
              <a:ext cx="14410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2360" y="2577960"/>
              <a:ext cx="1377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78440" y="192708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11520" y="192708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70080" y="192708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2360" y="192708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8440" y="1278000"/>
              <a:ext cx="1645920" cy="64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11520" y="1278000"/>
              <a:ext cx="13665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70080" y="1278000"/>
              <a:ext cx="14410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1278000"/>
              <a:ext cx="1377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78440" y="333360"/>
              <a:ext cx="164592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od ty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11520" y="333360"/>
              <a:ext cx="136656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-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70080" y="333360"/>
              <a:ext cx="144108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-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2360" y="333360"/>
              <a:ext cx="137772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-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92360" y="333360"/>
              <a:ext cx="5832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127800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2360" y="192708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92360" y="257796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92360" y="322740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2360" y="387828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2360" y="452772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2360" y="517860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2360" y="582768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2360" y="6478560"/>
              <a:ext cx="5832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92360" y="333360"/>
              <a:ext cx="0" cy="6145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70080" y="333360"/>
              <a:ext cx="0" cy="61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11520" y="333360"/>
              <a:ext cx="0" cy="61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78440" y="333360"/>
              <a:ext cx="0" cy="61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24720" y="333360"/>
              <a:ext cx="0" cy="6145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9" descr="antibpos"/>
            <p:cNvPicPr/>
            <p:nvPr/>
          </p:nvPicPr>
          <p:blipFill>
            <a:blip r:embed="rId2"/>
            <a:stretch/>
          </p:blipFill>
          <p:spPr>
            <a:xfrm>
              <a:off x="2004840" y="1301760"/>
              <a:ext cx="8506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9" descr="antibpos"/>
            <p:cNvPicPr/>
            <p:nvPr/>
          </p:nvPicPr>
          <p:blipFill>
            <a:blip r:embed="rId3"/>
            <a:stretch/>
          </p:blipFill>
          <p:spPr>
            <a:xfrm>
              <a:off x="4802040" y="1268280"/>
              <a:ext cx="85068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9" descr="antibpos"/>
            <p:cNvPicPr/>
            <p:nvPr/>
          </p:nvPicPr>
          <p:blipFill>
            <a:blip r:embed="rId4"/>
            <a:stretch/>
          </p:blipFill>
          <p:spPr>
            <a:xfrm>
              <a:off x="2004840" y="1938240"/>
              <a:ext cx="85068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9" descr="antibpos"/>
            <p:cNvPicPr/>
            <p:nvPr/>
          </p:nvPicPr>
          <p:blipFill>
            <a:blip r:embed="rId5"/>
            <a:stretch/>
          </p:blipFill>
          <p:spPr>
            <a:xfrm>
              <a:off x="3352680" y="2598840"/>
              <a:ext cx="8506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8" descr="antibneg"/>
            <p:cNvPicPr/>
            <p:nvPr/>
          </p:nvPicPr>
          <p:blipFill>
            <a:blip r:embed="rId6"/>
            <a:stretch/>
          </p:blipFill>
          <p:spPr>
            <a:xfrm>
              <a:off x="3371760" y="130176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antibneg"/>
            <p:cNvPicPr/>
            <p:nvPr/>
          </p:nvPicPr>
          <p:blipFill>
            <a:blip r:embed="rId7"/>
            <a:stretch/>
          </p:blipFill>
          <p:spPr>
            <a:xfrm>
              <a:off x="3371760" y="194940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antibneg"/>
            <p:cNvPicPr/>
            <p:nvPr/>
          </p:nvPicPr>
          <p:blipFill>
            <a:blip r:embed="rId8"/>
            <a:stretch/>
          </p:blipFill>
          <p:spPr>
            <a:xfrm>
              <a:off x="2016000" y="257328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9" descr="antibpos"/>
            <p:cNvPicPr/>
            <p:nvPr/>
          </p:nvPicPr>
          <p:blipFill>
            <a:blip r:embed="rId9"/>
            <a:stretch/>
          </p:blipFill>
          <p:spPr>
            <a:xfrm>
              <a:off x="4789440" y="2565360"/>
              <a:ext cx="8503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" descr="antibneg"/>
            <p:cNvPicPr/>
            <p:nvPr/>
          </p:nvPicPr>
          <p:blipFill>
            <a:blip r:embed="rId10"/>
            <a:stretch/>
          </p:blipFill>
          <p:spPr>
            <a:xfrm>
              <a:off x="2016000" y="322092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antibpos"/>
            <p:cNvPicPr/>
            <p:nvPr/>
          </p:nvPicPr>
          <p:blipFill>
            <a:blip r:embed="rId11"/>
            <a:stretch/>
          </p:blipFill>
          <p:spPr>
            <a:xfrm>
              <a:off x="3351240" y="3233880"/>
              <a:ext cx="8503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" descr="antibneg"/>
            <p:cNvPicPr/>
            <p:nvPr/>
          </p:nvPicPr>
          <p:blipFill>
            <a:blip r:embed="rId12"/>
            <a:stretch/>
          </p:blipFill>
          <p:spPr>
            <a:xfrm>
              <a:off x="4798800" y="3187800"/>
              <a:ext cx="83808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9" descr="antibpos"/>
            <p:cNvPicPr/>
            <p:nvPr/>
          </p:nvPicPr>
          <p:blipFill>
            <a:blip r:embed="rId13"/>
            <a:stretch/>
          </p:blipFill>
          <p:spPr>
            <a:xfrm>
              <a:off x="3359160" y="3860640"/>
              <a:ext cx="8503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antibpos"/>
            <p:cNvPicPr/>
            <p:nvPr/>
          </p:nvPicPr>
          <p:blipFill>
            <a:blip r:embed="rId14"/>
            <a:stretch/>
          </p:blipFill>
          <p:spPr>
            <a:xfrm>
              <a:off x="2004840" y="3881520"/>
              <a:ext cx="8506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" descr="antibpos"/>
            <p:cNvPicPr/>
            <p:nvPr/>
          </p:nvPicPr>
          <p:blipFill>
            <a:blip r:embed="rId15"/>
            <a:stretch/>
          </p:blipFill>
          <p:spPr>
            <a:xfrm>
              <a:off x="4789440" y="3848040"/>
              <a:ext cx="8503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" descr="antibpos"/>
            <p:cNvPicPr/>
            <p:nvPr/>
          </p:nvPicPr>
          <p:blipFill>
            <a:blip r:embed="rId16"/>
            <a:stretch/>
          </p:blipFill>
          <p:spPr>
            <a:xfrm>
              <a:off x="3359160" y="4510080"/>
              <a:ext cx="8503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9" descr="antibpos"/>
            <p:cNvPicPr/>
            <p:nvPr/>
          </p:nvPicPr>
          <p:blipFill>
            <a:blip r:embed="rId17"/>
            <a:stretch/>
          </p:blipFill>
          <p:spPr>
            <a:xfrm>
              <a:off x="2004840" y="4530600"/>
              <a:ext cx="85068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8" descr="antibneg"/>
            <p:cNvPicPr/>
            <p:nvPr/>
          </p:nvPicPr>
          <p:blipFill>
            <a:blip r:embed="rId18"/>
            <a:stretch/>
          </p:blipFill>
          <p:spPr>
            <a:xfrm>
              <a:off x="4802040" y="4508640"/>
              <a:ext cx="837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8" descr="antibneg"/>
            <p:cNvPicPr/>
            <p:nvPr/>
          </p:nvPicPr>
          <p:blipFill>
            <a:blip r:embed="rId19"/>
            <a:stretch/>
          </p:blipFill>
          <p:spPr>
            <a:xfrm>
              <a:off x="2006640" y="516564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8" descr="antibneg"/>
            <p:cNvPicPr/>
            <p:nvPr/>
          </p:nvPicPr>
          <p:blipFill>
            <a:blip r:embed="rId20"/>
            <a:stretch/>
          </p:blipFill>
          <p:spPr>
            <a:xfrm>
              <a:off x="3371760" y="5143680"/>
              <a:ext cx="837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9" descr="antibpos"/>
            <p:cNvPicPr/>
            <p:nvPr/>
          </p:nvPicPr>
          <p:blipFill>
            <a:blip r:embed="rId21"/>
            <a:stretch/>
          </p:blipFill>
          <p:spPr>
            <a:xfrm>
              <a:off x="4800600" y="5099040"/>
              <a:ext cx="8503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antibneg"/>
            <p:cNvPicPr/>
            <p:nvPr/>
          </p:nvPicPr>
          <p:blipFill>
            <a:blip r:embed="rId22"/>
            <a:stretch/>
          </p:blipFill>
          <p:spPr>
            <a:xfrm>
              <a:off x="2008080" y="578016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8" descr="antibneg"/>
            <p:cNvPicPr/>
            <p:nvPr/>
          </p:nvPicPr>
          <p:blipFill>
            <a:blip r:embed="rId23"/>
            <a:stretch/>
          </p:blipFill>
          <p:spPr>
            <a:xfrm>
              <a:off x="3373200" y="5757840"/>
              <a:ext cx="83808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8" descr="antibneg"/>
            <p:cNvPicPr/>
            <p:nvPr/>
          </p:nvPicPr>
          <p:blipFill>
            <a:blip r:embed="rId24"/>
            <a:stretch/>
          </p:blipFill>
          <p:spPr>
            <a:xfrm>
              <a:off x="4802040" y="573408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8" descr="antibneg"/>
            <p:cNvPicPr/>
            <p:nvPr/>
          </p:nvPicPr>
          <p:blipFill>
            <a:blip r:embed="rId25"/>
            <a:stretch/>
          </p:blipFill>
          <p:spPr>
            <a:xfrm>
              <a:off x="4814640" y="1916280"/>
              <a:ext cx="83808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rcRect l="25939" t="46173" r="27436" b="44806"/>
          <a:stretch/>
        </p:blipFill>
        <p:spPr>
          <a:xfrm>
            <a:off x="762120" y="3581280"/>
            <a:ext cx="7924680" cy="10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533520"/>
            <a:ext cx="693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533520"/>
            <a:ext cx="33465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0960" y="533520"/>
            <a:ext cx="241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0960" y="1940040"/>
            <a:ext cx="2412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1940040"/>
            <a:ext cx="75610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rding to above blood grouping systems, you can belong to either of following 8 blood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49240" y="476280"/>
            <a:ext cx="7467480" cy="960120"/>
            <a:chOff x="849240" y="476280"/>
            <a:chExt cx="7467480" cy="960120"/>
          </a:xfrm>
        </p:grpSpPr>
        <p:sp>
          <p:nvSpPr>
            <p:cNvPr id="320" name=""/>
            <p:cNvSpPr/>
            <p:nvPr/>
          </p:nvSpPr>
          <p:spPr>
            <a:xfrm>
              <a:off x="849240" y="476280"/>
              <a:ext cx="7467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9240" y="476280"/>
              <a:ext cx="7467480" cy="9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Verdana"/>
                </a:rPr>
                <a:t>Do you know which blood group you belong t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80880" y="228600"/>
            <a:ext cx="8305560" cy="4265640"/>
            <a:chOff x="380880" y="228600"/>
            <a:chExt cx="8305560" cy="4265640"/>
          </a:xfrm>
        </p:grpSpPr>
        <p:sp>
          <p:nvSpPr>
            <p:cNvPr id="324" name=""/>
            <p:cNvSpPr/>
            <p:nvPr/>
          </p:nvSpPr>
          <p:spPr>
            <a:xfrm>
              <a:off x="380880" y="228600"/>
              <a:ext cx="8305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80880" y="228600"/>
              <a:ext cx="8303760" cy="4265640"/>
              <a:chOff x="380880" y="228600"/>
              <a:chExt cx="8303760" cy="4265640"/>
            </a:xfrm>
          </p:grpSpPr>
          <p:sp>
            <p:nvSpPr>
              <p:cNvPr id="326" name=""/>
              <p:cNvSpPr/>
              <p:nvPr/>
            </p:nvSpPr>
            <p:spPr>
              <a:xfrm>
                <a:off x="380880" y="228600"/>
                <a:ext cx="228168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62560" y="228600"/>
                <a:ext cx="31536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78280" y="228600"/>
                <a:ext cx="570600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84280" y="228600"/>
                <a:ext cx="36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380880" y="1754640"/>
                <a:ext cx="2076120" cy="2739600"/>
                <a:chOff x="380880" y="1754640"/>
                <a:chExt cx="2076120" cy="27396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80880" y="1754640"/>
                  <a:ext cx="2076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380880" y="1754640"/>
                  <a:ext cx="2075760" cy="2739600"/>
                  <a:chOff x="380880" y="1754640"/>
                  <a:chExt cx="2075760" cy="27396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380880" y="1754640"/>
                    <a:ext cx="2075760" cy="149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             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80880" y="3250440"/>
                    <a:ext cx="2075760" cy="124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35" name="" descr=" "/>
          <p:cNvPicPr/>
          <p:nvPr/>
        </p:nvPicPr>
        <p:blipFill>
          <a:blip r:embed="rId2"/>
          <a:stretch/>
        </p:blipFill>
        <p:spPr>
          <a:xfrm>
            <a:off x="4724280" y="1911240"/>
            <a:ext cx="3961080" cy="4038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04920" y="2209680"/>
            <a:ext cx="43434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eople with blood group O are 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"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Verdana"/>
              </a:rPr>
              <a:t>universal donor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"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d people with blood group AB are called "</a:t>
            </a:r>
            <a:r>
              <a:rPr b="1" lang="en-GB" sz="2400" spc="-1" strike="noStrike" u="sng">
                <a:solidFill>
                  <a:srgbClr val="009900"/>
                </a:solidFill>
                <a:uFillTx/>
                <a:latin typeface="Verdana"/>
              </a:rPr>
              <a:t>universal receiver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533520"/>
            <a:ext cx="7507440" cy="825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Blood transfusions – who can receive blood from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h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 "/>
          <p:cNvPicPr/>
          <p:nvPr/>
        </p:nvPicPr>
        <p:blipFill>
          <a:blip r:embed="rId2"/>
          <a:stretch/>
        </p:blipFill>
        <p:spPr>
          <a:xfrm>
            <a:off x="457200" y="609480"/>
            <a:ext cx="30942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57600" y="213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rding to the AB</a:t>
            </a:r>
            <a:r>
              <a:rPr b="0" lang="cy-GB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lood typing system there are four different kinds of blood types: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1480" y="1295280"/>
            <a:ext cx="4993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AB</a:t>
            </a:r>
            <a:r>
              <a:rPr b="1" lang="cy-GB" sz="28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 blood group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3692520"/>
            <a:ext cx="2952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, B, AB or O (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880" y="549360"/>
            <a:ext cx="8458200" cy="5610240"/>
            <a:chOff x="380880" y="549360"/>
            <a:chExt cx="8458200" cy="5610240"/>
          </a:xfrm>
        </p:grpSpPr>
        <p:sp>
          <p:nvSpPr>
            <p:cNvPr id="91" name=""/>
            <p:cNvSpPr/>
            <p:nvPr/>
          </p:nvSpPr>
          <p:spPr>
            <a:xfrm>
              <a:off x="533520" y="1600200"/>
              <a:ext cx="830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BO gene is autoso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BO gene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cu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s located on 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hromos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5334120"/>
              <a:ext cx="843912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ach person has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copies of gene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coding for their ABO blood group </a:t>
              </a:r>
              <a:r>
                <a:rPr b="1" lang="en-GB" sz="2400" spc="-1" strike="noStrike">
                  <a:solidFill>
                    <a:srgbClr val="00cc00"/>
                  </a:solidFill>
                  <a:latin typeface="Times New Roman"/>
                </a:rPr>
                <a:t>(one maternal and one paternal in orig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3429000"/>
              <a:ext cx="785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and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blood groups </a:t>
              </a:r>
              <a:r>
                <a:rPr b="0" lang="cy-GB" sz="2400" spc="-1" strike="noStrike">
                  <a:solidFill>
                    <a:srgbClr val="000000"/>
                  </a:solidFill>
                  <a:latin typeface="Times New Roman"/>
                </a:rPr>
                <a:t>ar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ominan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ver 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blood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4191120"/>
              <a:ext cx="555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B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roup gene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y-GB" sz="24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-domin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43080" y="549360"/>
              <a:ext cx="48769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609480"/>
              <a:ext cx="47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</a:rPr>
                <a:t>ABO inheritance and gene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08720" y="2349360"/>
              <a:ext cx="432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70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lutinogens (Antige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1836720"/>
            <a:ext cx="7920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96920" y="404640"/>
            <a:ext cx="8696160" cy="5970600"/>
            <a:chOff x="196920" y="404640"/>
            <a:chExt cx="8696160" cy="5970600"/>
          </a:xfrm>
        </p:grpSpPr>
        <p:sp>
          <p:nvSpPr>
            <p:cNvPr id="102" name=""/>
            <p:cNvSpPr/>
            <p:nvPr/>
          </p:nvSpPr>
          <p:spPr>
            <a:xfrm>
              <a:off x="196920" y="404640"/>
              <a:ext cx="8696160" cy="1983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Times New Roman"/>
                </a:rPr>
                <a:t>The ABO blood grou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table shows the four </a:t>
              </a:r>
              <a:r>
                <a:rPr b="1" lang="en-GB" sz="2400" spc="-1" strike="noStrike">
                  <a:solidFill>
                    <a:srgbClr val="00cc00"/>
                  </a:solidFill>
                  <a:latin typeface="Times New Roman"/>
                </a:rPr>
                <a:t>ABO phenotype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("blood groups") present in the human population and the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genotype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hat give rise to them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2565360"/>
              <a:ext cx="7772400" cy="3809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5800" y="2565360"/>
              <a:ext cx="7772040" cy="3781440"/>
              <a:chOff x="685800" y="2565360"/>
              <a:chExt cx="7772040" cy="37814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09200" y="2583000"/>
                <a:ext cx="7724160" cy="3746520"/>
                <a:chOff x="709200" y="2583000"/>
                <a:chExt cx="7724160" cy="374652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709200" y="2583000"/>
                  <a:ext cx="1071000" cy="1917720"/>
                  <a:chOff x="709200" y="2583000"/>
                  <a:chExt cx="1071000" cy="191772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709200" y="2583000"/>
                    <a:ext cx="107100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Blood Grou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09200" y="2583000"/>
                    <a:ext cx="107100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1780560" y="2583000"/>
                  <a:ext cx="1606320" cy="1917720"/>
                  <a:chOff x="1780560" y="2583000"/>
                  <a:chExt cx="1606320" cy="191772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1780560" y="2583000"/>
                    <a:ext cx="160632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gens on RBC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780560" y="2583000"/>
                    <a:ext cx="160632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387240" y="2583000"/>
                  <a:ext cx="3213720" cy="1917720"/>
                  <a:chOff x="3387240" y="2583000"/>
                  <a:chExt cx="3213720" cy="19177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387240" y="2583000"/>
                    <a:ext cx="321372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bodies in Ser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387240" y="2583000"/>
                    <a:ext cx="321372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6601680" y="2583000"/>
                  <a:ext cx="1831680" cy="1917720"/>
                  <a:chOff x="6601680" y="2583000"/>
                  <a:chExt cx="1831680" cy="191772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601680" y="2583000"/>
                    <a:ext cx="183168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Genotyp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601680" y="2583000"/>
                    <a:ext cx="183168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09200" y="4500720"/>
                  <a:ext cx="1071000" cy="457200"/>
                  <a:chOff x="709200" y="4500720"/>
                  <a:chExt cx="1071000" cy="4572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709200" y="45007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09200" y="45007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1780560" y="4500720"/>
                  <a:ext cx="1606320" cy="457200"/>
                  <a:chOff x="1780560" y="4500720"/>
                  <a:chExt cx="1606320" cy="457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1780560" y="45007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780560" y="45007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3387240" y="4500720"/>
                  <a:ext cx="3213720" cy="457200"/>
                  <a:chOff x="3387240" y="4500720"/>
                  <a:chExt cx="3213720" cy="4572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387240" y="45007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-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387240" y="45007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601680" y="4500720"/>
                  <a:ext cx="1831680" cy="457200"/>
                  <a:chOff x="6601680" y="4500720"/>
                  <a:chExt cx="1831680" cy="4572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6601680" y="45007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or 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601680" y="45007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09200" y="4957920"/>
                  <a:ext cx="1071000" cy="457200"/>
                  <a:chOff x="709200" y="4957920"/>
                  <a:chExt cx="1071000" cy="4572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09200" y="49579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09200" y="49579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1780560" y="4957920"/>
                  <a:ext cx="1606320" cy="457200"/>
                  <a:chOff x="1780560" y="4957920"/>
                  <a:chExt cx="1606320" cy="4572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1780560" y="49579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780560" y="49579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3387240" y="4957920"/>
                  <a:ext cx="3213720" cy="457200"/>
                  <a:chOff x="3387240" y="4957920"/>
                  <a:chExt cx="3213720" cy="4572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3387240" y="49579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-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387240" y="49579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01680" y="4957920"/>
                  <a:ext cx="1831680" cy="457200"/>
                  <a:chOff x="6601680" y="4957920"/>
                  <a:chExt cx="1831680" cy="4572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601680" y="49579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or 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601680" y="49579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09200" y="5415120"/>
                  <a:ext cx="1071000" cy="457200"/>
                  <a:chOff x="709200" y="5415120"/>
                  <a:chExt cx="1071000" cy="4572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709200" y="54151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09200" y="54151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1780560" y="5415120"/>
                  <a:ext cx="1606320" cy="457200"/>
                  <a:chOff x="1780560" y="5415120"/>
                  <a:chExt cx="1606320" cy="4572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780560" y="54151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and </a:t>
                    </a: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780560" y="54151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387240" y="5415120"/>
                  <a:ext cx="3213720" cy="457200"/>
                  <a:chOff x="3387240" y="5415120"/>
                  <a:chExt cx="3213720" cy="457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387240" y="54151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eith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387240" y="54151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601680" y="5415120"/>
                  <a:ext cx="1831680" cy="457200"/>
                  <a:chOff x="6601680" y="5415120"/>
                  <a:chExt cx="1831680" cy="457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6601680" y="54151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601680" y="54151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09200" y="5872320"/>
                  <a:ext cx="1071000" cy="457200"/>
                  <a:chOff x="709200" y="5872320"/>
                  <a:chExt cx="1071000" cy="4572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709200" y="58723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09200" y="58723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780560" y="5872320"/>
                  <a:ext cx="1606320" cy="457200"/>
                  <a:chOff x="1780560" y="5872320"/>
                  <a:chExt cx="1606320" cy="4572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780560" y="58723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eith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780560" y="58723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3387240" y="5872320"/>
                  <a:ext cx="3213720" cy="457200"/>
                  <a:chOff x="3387240" y="5872320"/>
                  <a:chExt cx="3213720" cy="4572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3387240" y="58723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-A and anti-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387240" y="58723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601680" y="5872320"/>
                  <a:ext cx="1831680" cy="457200"/>
                  <a:chOff x="6601680" y="5872320"/>
                  <a:chExt cx="1831680" cy="4572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6601680" y="58723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01680" y="58723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85800" y="2565360"/>
                <a:ext cx="7772040" cy="3781440"/>
              </a:xfrm>
              <a:prstGeom prst="rect">
                <a:avLst/>
              </a:prstGeom>
              <a:noFill/>
              <a:ln w="3492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rot="617400">
              <a:off x="6710400" y="4365360"/>
              <a:ext cx="719280" cy="1150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17400">
              <a:off x="7738560" y="4365360"/>
              <a:ext cx="578160" cy="1150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48560" y="4027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Arial"/>
                </a:rPr>
                <a:t>ho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67640" y="4021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Arial"/>
                </a:rPr>
                <a:t>het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4479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's another antigen to be considered :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h antig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 of us have it, some of us don't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present, the blood is RhD positive, if not it's RhD negative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, for example, some people in group A will have it, and will therefore be classed as A+ (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osi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le the ones that don't, are A- (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neg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 so it goes for groups B, AB and 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89200" y="457200"/>
            <a:ext cx="41148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02240" y="662040"/>
            <a:ext cx="38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40139"/>
                </a:solidFill>
                <a:latin typeface="Arial"/>
                <a:ea typeface="Arial"/>
              </a:rPr>
              <a:t>The Rhesus (Rh) System </a:t>
            </a:r>
            <a:br>
              <a:rPr sz="2400"/>
            </a:br>
            <a:r>
              <a:rPr b="0" lang="en-GB" sz="2400" spc="-1" strike="noStrike">
                <a:solidFill>
                  <a:srgbClr val="d4013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609480"/>
            <a:ext cx="9144000" cy="5181480"/>
            <a:chOff x="0" y="609480"/>
            <a:chExt cx="9144000" cy="5181480"/>
          </a:xfrm>
        </p:grpSpPr>
        <p:sp>
          <p:nvSpPr>
            <p:cNvPr id="175" name=""/>
            <p:cNvSpPr/>
            <p:nvPr/>
          </p:nvSpPr>
          <p:spPr>
            <a:xfrm>
              <a:off x="0" y="2332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76520" y="2209680"/>
              <a:ext cx="5122440" cy="3581280"/>
              <a:chOff x="1676520" y="2209680"/>
              <a:chExt cx="5122440" cy="358128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520" y="2209680"/>
                <a:ext cx="192744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Blood</a:t>
                </a:r>
                <a:br>
                  <a:rPr sz="2400"/>
                </a:b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Typ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03960" y="2209680"/>
                <a:ext cx="1597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Genotyp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01640" y="2209680"/>
                <a:ext cx="1597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Alleles</a:t>
                </a:r>
                <a:br>
                  <a:rPr sz="2400"/>
                </a:b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Produce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6520" y="3551760"/>
                <a:ext cx="1927440" cy="149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h positiv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03960" y="355176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01640" y="355176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03960" y="429804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01640" y="429804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or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76520" y="5044680"/>
                <a:ext cx="192744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h negativ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3960" y="504468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01640" y="504468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80880" y="609480"/>
              <a:ext cx="7620120" cy="520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</a:rPr>
                <a:t>Rh Blood Group and Rh Incompat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241280" y="1484280"/>
              <a:ext cx="5707080" cy="720360"/>
              <a:chOff x="1241280" y="1484280"/>
              <a:chExt cx="5707080" cy="720360"/>
            </a:xfrm>
          </p:grpSpPr>
          <p:sp>
            <p:nvSpPr>
              <p:cNvPr id="190" name=""/>
              <p:cNvSpPr/>
              <p:nvPr/>
            </p:nvSpPr>
            <p:spPr>
              <a:xfrm>
                <a:off x="1241280" y="1484280"/>
                <a:ext cx="5707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41280" y="1484280"/>
                <a:ext cx="5707080" cy="72036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A person with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Verdana"/>
                  </a:rPr>
                  <a:t>Rh-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blood does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Verdana"/>
                  </a:rPr>
                  <a:t>not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have Rh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Verdana"/>
                  </a:rPr>
                  <a:t>antibodies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naturally in the blood plas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828800" y="5029200"/>
              <a:ext cx="46483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42:46Z</dcterms:created>
  <dc:creator>khale</dc:creator>
  <dc:description/>
  <dc:language>en-US</dc:language>
  <cp:lastModifiedBy>خالد</cp:lastModifiedBy>
  <dcterms:modified xsi:type="dcterms:W3CDTF">2013-04-02T05:05:09Z</dcterms:modified>
  <cp:revision>21</cp:revision>
  <dc:subject/>
  <dc:title>Genetics</dc:title>
</cp:coreProperties>
</file>