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6516-D253-4D83-8921-A02BC0E11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CF75-0688-4F68-9D82-7771661CB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5840" y="4347720"/>
            <a:ext cx="5026320" cy="385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F50B-A0C6-4029-83D3-23756B79F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5840" y="4347720"/>
            <a:ext cx="5026320" cy="385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8687-4DFC-4325-9109-6532E6AE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838F-B61F-40E3-B4A8-5650461E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3164-E96A-4A43-BF43-76CE4724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843-12DC-421C-8603-FF5F78F0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56A-835A-40ED-822F-0CDB74CE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4279-8631-4180-8A89-16104423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6742-A402-446D-8F7D-7BFB1023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9CB0-409D-48FB-A179-D0BC1828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764E-2344-4B08-98EF-A8D0400C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C819-BA67-49A9-8E28-549D35DA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1A99-73B7-4305-B8FC-98637D14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EF96-0BDB-4C82-BE0D-27B1A2EB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E2DB-3598-4680-9887-F1942E523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61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mbria"/>
                <a:ea typeface="Arial"/>
              </a:rPr>
              <a:t>The genome of prokaryotes and eukaryotes- nuclear and extranuclear genetic orga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285840" y="304920"/>
            <a:ext cx="24573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ndalus"/>
                <a:ea typeface="Andalus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80880" y="1600200"/>
            <a:ext cx="5715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Perpetua"/>
              </a:rPr>
              <a:t>Eukary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genome of yeast cells cont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1.35x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Perpetua"/>
              </a:rPr>
              <a:t>7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base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 small fraction of the total DNA encodes prote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Perpetua"/>
                <a:ea typeface="Arial"/>
              </a:rPr>
              <a:t>Many repeats of non-coding 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ll chromosomes are contained in a membrane bound nucle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Perpetua"/>
                <a:ea typeface="Arial"/>
              </a:rPr>
              <a:t>DNA is divided between two or more chromosomes</a:t>
            </a:r>
            <a:r>
              <a:rPr b="0" lang="en-US" sz="2000" spc="-1" strike="noStrike">
                <a:solidFill>
                  <a:srgbClr val="009900"/>
                </a:solidFill>
                <a:latin typeface="Perpetua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A set of five histon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Perpetua"/>
                <a:ea typeface="Arial"/>
              </a:rPr>
              <a:t>DNA packaging and gene expression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bactcell"/>
          <p:cNvPicPr/>
          <p:nvPr/>
        </p:nvPicPr>
        <p:blipFill>
          <a:blip r:embed="rId1"/>
          <a:stretch/>
        </p:blipFill>
        <p:spPr>
          <a:xfrm>
            <a:off x="5943600" y="1447920"/>
            <a:ext cx="2816280" cy="1793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5_6"/>
          <p:cNvPicPr/>
          <p:nvPr/>
        </p:nvPicPr>
        <p:blipFill>
          <a:blip r:embed="rId2"/>
          <a:stretch/>
        </p:blipFill>
        <p:spPr>
          <a:xfrm>
            <a:off x="5943600" y="3657600"/>
            <a:ext cx="2859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2824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e study of chromosomes, their structure and their inheritance is known as </a:t>
            </a:r>
            <a:r>
              <a:rPr b="0" i="1" lang="en-US" sz="2600" spc="-1" strike="noStrike">
                <a:solidFill>
                  <a:srgbClr val="00b050"/>
                </a:solidFill>
                <a:latin typeface="Cambria"/>
              </a:rPr>
              <a:t>Cytogenetics</a:t>
            </a:r>
            <a:r>
              <a:rPr b="0" lang="en-US" sz="2600" spc="-1" strike="noStrike">
                <a:solidFill>
                  <a:srgbClr val="00b05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Each species has a characteristic number of chromosomes and this is known as </a:t>
            </a:r>
            <a:r>
              <a:rPr b="0" i="1" lang="en-US" sz="2600" spc="-1" strike="noStrike">
                <a:solidFill>
                  <a:srgbClr val="00b050"/>
                </a:solidFill>
                <a:latin typeface="Cambria"/>
              </a:rPr>
              <a:t>karyotyp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514600" y="5334120"/>
            <a:ext cx="1905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2514600" y="53341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mbria"/>
              </a:rPr>
              <a:t>Karyoty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33520" y="3429000"/>
            <a:ext cx="3429000" cy="24382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Bacteria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ruit fly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Garden Pea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            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Yeast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rog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2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at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648320" y="3429000"/>
            <a:ext cx="3429000" cy="24922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ox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              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ouse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Rat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               4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Rabbit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4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uman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4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hicken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7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ndalus"/>
                <a:ea typeface="Andalus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Prior to 1950's it was believed that humans had 48 chromosomes but in 1956 it was confirmed that each human cell has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46 chromosomes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(Tjio and Levan, 195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n the chromosomes the genes are situated in a linear ord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Each gene has a precise position or </a:t>
            </a:r>
            <a:r>
              <a:rPr b="0" i="1" lang="en-US" sz="2200" spc="-1" strike="noStrike">
                <a:solidFill>
                  <a:srgbClr val="0070c0"/>
                </a:solidFill>
                <a:latin typeface="Cambria"/>
              </a:rPr>
              <a:t>locus</a:t>
            </a:r>
            <a:r>
              <a:rPr b="0" lang="en-US" sz="2200" spc="-1" strike="noStrike">
                <a:solidFill>
                  <a:srgbClr val="0070c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Arial"/>
              </a:rPr>
              <a:t>The size of </a:t>
            </a:r>
            <a:r>
              <a:rPr b="0" lang="en-US" sz="2200" spc="-1" strike="noStrike">
                <a:solidFill>
                  <a:srgbClr val="0070c0"/>
                </a:solidFill>
                <a:latin typeface="Cambria"/>
                <a:ea typeface="Arial"/>
              </a:rPr>
              <a:t>bacterial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Arial"/>
              </a:rPr>
              <a:t> chromosomes ranges from </a:t>
            </a:r>
            <a:r>
              <a:rPr b="0" lang="en-US" sz="2200" spc="-1" strike="noStrike">
                <a:solidFill>
                  <a:srgbClr val="009900"/>
                </a:solidFill>
                <a:latin typeface="Cambria"/>
                <a:ea typeface="Arial"/>
              </a:rPr>
              <a:t>0.6 -10 Mbp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Arial"/>
              </a:rPr>
              <a:t>, and the size of </a:t>
            </a:r>
            <a:r>
              <a:rPr b="0" lang="en-US" sz="2200" spc="-1" strike="noStrike">
                <a:solidFill>
                  <a:srgbClr val="0070c0"/>
                </a:solidFill>
                <a:latin typeface="Cambria"/>
                <a:ea typeface="Arial"/>
              </a:rPr>
              <a:t>Archael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Arial"/>
              </a:rPr>
              <a:t> range from </a:t>
            </a:r>
            <a:r>
              <a:rPr b="0" lang="en-US" sz="2200" spc="-1" strike="noStrike">
                <a:solidFill>
                  <a:srgbClr val="009900"/>
                </a:solidFill>
                <a:latin typeface="Cambria"/>
                <a:ea typeface="Arial"/>
              </a:rPr>
              <a:t>0.5 - 5.8 Mbp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Arial"/>
              </a:rPr>
              <a:t>, whereas </a:t>
            </a:r>
            <a:r>
              <a:rPr b="0" lang="en-US" sz="2200" spc="-1" strike="noStrike">
                <a:solidFill>
                  <a:srgbClr val="0070c0"/>
                </a:solidFill>
                <a:latin typeface="Cambria"/>
                <a:ea typeface="Arial"/>
              </a:rPr>
              <a:t>Eukaryotic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Arial"/>
              </a:rPr>
              <a:t> chromosomes range from </a:t>
            </a:r>
            <a:r>
              <a:rPr b="0" lang="en-US" sz="2200" spc="-1" strike="noStrike">
                <a:solidFill>
                  <a:srgbClr val="009900"/>
                </a:solidFill>
                <a:latin typeface="Cambria"/>
                <a:ea typeface="Arial"/>
              </a:rPr>
              <a:t>2.9 - 4,000 Mbp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mbria"/>
              </a:rPr>
              <a:t>Eukaryotic Gen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5791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u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itochond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Plasmids (in yeast and plant chloroplas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33520" y="0"/>
            <a:ext cx="8381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t0.gstatic.com/images?q=tbn:ANd9GcRuzoNGep5xbIS-DcFm61QJiVTgAiLd8E-uNS3D0_C00YaOkLO_wA"/>
          <p:cNvPicPr/>
          <p:nvPr/>
        </p:nvPicPr>
        <p:blipFill>
          <a:blip r:embed="rId1"/>
          <a:stretch/>
        </p:blipFill>
        <p:spPr>
          <a:xfrm>
            <a:off x="5410080" y="3657600"/>
            <a:ext cx="3397320" cy="259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Picture 4" descr="http://www2.le.ac.uk/departments/emfpu/genetics/explained/images/Cell_pic.gif"/>
          <p:cNvPicPr/>
          <p:nvPr/>
        </p:nvPicPr>
        <p:blipFill>
          <a:blip r:embed="rId2"/>
          <a:stretch/>
        </p:blipFill>
        <p:spPr>
          <a:xfrm>
            <a:off x="1295280" y="3657600"/>
            <a:ext cx="3687840" cy="259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0" name="Straight Connector 7"/>
          <p:cNvSpPr/>
          <p:nvPr/>
        </p:nvSpPr>
        <p:spPr>
          <a:xfrm>
            <a:off x="3962520" y="4343400"/>
            <a:ext cx="236196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t0.gstatic.com/images?q=tbn:ANd9GcTqa2usk66lCpLPYD7c8r0E6oFprTdKDaEE7W7kFH6zvdOcFS2W"/>
          <p:cNvPicPr/>
          <p:nvPr/>
        </p:nvPicPr>
        <p:blipFill>
          <a:blip r:embed="rId3"/>
          <a:stretch/>
        </p:blipFill>
        <p:spPr>
          <a:xfrm>
            <a:off x="5867280" y="914400"/>
            <a:ext cx="2481480" cy="220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ndalus"/>
                <a:ea typeface="Andalus"/>
              </a:rPr>
              <a:t>Human Genome: General Information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Genetic material in humans is stored in two organelles: </a:t>
            </a:r>
            <a:r>
              <a:rPr b="0" lang="en-US" sz="2400" spc="-1" strike="noStrike">
                <a:solidFill>
                  <a:srgbClr val="00b050"/>
                </a:solidFill>
                <a:latin typeface="Perpetua"/>
                <a:ea typeface="Arial"/>
              </a:rPr>
              <a:t>nucleu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(about 3200 Mbp) and </a:t>
            </a:r>
            <a:r>
              <a:rPr b="0" lang="en-US" sz="2400" spc="-1" strike="noStrike">
                <a:solidFill>
                  <a:srgbClr val="00b050"/>
                </a:solidFill>
                <a:latin typeface="Perpetua"/>
                <a:ea typeface="Arial"/>
              </a:rPr>
              <a:t>mitochondria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(16.6 kb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Human chromosomes are not of equal sizes; the smallest, chromosome 21, and the largest, chromosome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Only a very small amount of human DNA is responsible for the differences among humans, indeed among all organis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http://carolguze.com/images/chromosomes/IdiotGram.gif"/>
          <p:cNvPicPr/>
          <p:nvPr/>
        </p:nvPicPr>
        <p:blipFill>
          <a:blip r:embed="rId1"/>
          <a:stretch/>
        </p:blipFill>
        <p:spPr>
          <a:xfrm>
            <a:off x="5580000" y="2781360"/>
            <a:ext cx="3213000" cy="267660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ndalus"/>
                <a:ea typeface="Andalus"/>
              </a:rPr>
              <a:t>Number of genes in the human gen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Number of genes at least 100,00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HOWEVER, the number of protein‐encoding genes is only ~20,000 to 25,00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Comic Sans MS"/>
                <a:ea typeface="Arial"/>
              </a:rPr>
              <a:t>How can we explain th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Down Arrow 3"/>
          <p:cNvSpPr/>
          <p:nvPr/>
        </p:nvSpPr>
        <p:spPr>
          <a:xfrm>
            <a:off x="1547640" y="2781360"/>
            <a:ext cx="287640" cy="934920"/>
          </a:xfrm>
          <a:prstGeom prst="downArrow">
            <a:avLst>
              <a:gd name="adj1" fmla="val 50000"/>
              <a:gd name="adj2" fmla="val 49943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4788000" y="3213000"/>
            <a:ext cx="3852720" cy="288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0" t="2780" r="0" b="8355"/>
          <a:stretch/>
        </p:blipFill>
        <p:spPr>
          <a:xfrm>
            <a:off x="685800" y="1143000"/>
            <a:ext cx="6629400" cy="480060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0" name="Picture 4" descr="http://t1.gstatic.com/images?q=tbn:ANd9GcTwQysgydJZfeqeLXFWnbVJLkM1F1zLCNnoUSRWTIXtyCisX1Q-"/>
          <p:cNvPicPr/>
          <p:nvPr/>
        </p:nvPicPr>
        <p:blipFill>
          <a:blip r:embed="rId2"/>
          <a:stretch/>
        </p:blipFill>
        <p:spPr>
          <a:xfrm>
            <a:off x="5791320" y="380880"/>
            <a:ext cx="3027240" cy="202896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1" name="TextBox 7"/>
          <p:cNvSpPr/>
          <p:nvPr/>
        </p:nvSpPr>
        <p:spPr>
          <a:xfrm>
            <a:off x="304920" y="1522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Bradley Hand ITC"/>
                <a:ea typeface="Andalus"/>
              </a:rPr>
              <a:t>Lecture no.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Mitochondrial DN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Mitochondrial DNA is a single double stranded circular molecu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There are several copies in each mitochondrion and there are many mitochondria in each of your cel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Mitochondrial DNA is similar to prokaryotic DNA. There are no histones or any other protein associated with mt DN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12120" indent="-312120" algn="just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The genes contain no introns. Maternal inherit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Because it is in a highly oxidizing environment it has a much higher rate of mutations than nuclear DN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The genes in mt DNA code for mitochondrial ribosomes and transfer RNA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Some genes code for polypeptide subunits of the electron transport chain common to all mitochond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877080" cy="5244840"/>
          </a:xfrm>
          <a:prstGeom prst="rect">
            <a:avLst/>
          </a:prstGeom>
          <a:ln cap="sq" w="38160">
            <a:solidFill>
              <a:srgbClr val="0000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ndalus"/>
                <a:ea typeface="Andalus"/>
              </a:rPr>
              <a:t>Genes: Genetic Information on Chromosom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5148360" y="2133720"/>
            <a:ext cx="3779640" cy="343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7" name="TextBox 6"/>
          <p:cNvSpPr/>
          <p:nvPr/>
        </p:nvSpPr>
        <p:spPr>
          <a:xfrm>
            <a:off x="250920" y="1989000"/>
            <a:ext cx="475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</a:rPr>
              <a:t>One gene : one enzyme hypothesis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mmarizes that a gene is a stretch of DNA coding for one or more isoforms of a single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</a:rPr>
              <a:t>One gene : one polypeptide hypothesis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 gene is responsible for the production of a single polypept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</a:rPr>
              <a:t>Many genes: one prote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.g. Hemoglobin requires different globin g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ndalus"/>
                <a:ea typeface="Andalus"/>
              </a:rPr>
              <a:t>Genomics, Genetics and Biochemist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752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Perpetua"/>
                <a:ea typeface="Arial"/>
              </a:rPr>
              <a:t>Genetics: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 study of inherited phenotyp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Perpetua"/>
                <a:ea typeface="Arial"/>
              </a:rPr>
              <a:t>Genomics: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study of geno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Perpetua"/>
                <a:ea typeface="Arial"/>
              </a:rPr>
              <a:t>Biochemistry: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  <a:ea typeface="Arial"/>
              </a:rPr>
              <a:t> study of the chemistry of living organisms and/or ce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rush Script MT"/>
              </a:rPr>
              <a:t>Next l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880" y="2285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Brush Script MT"/>
              </a:rPr>
              <a:t>Chromosomes structure and cell cyc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ndalus"/>
                <a:ea typeface="Andalus"/>
              </a:rPr>
              <a:t>Genomes and Genom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The word “genome,” coined by German botanist Hans Winkler in 1920, was derived simply by combining </a:t>
            </a:r>
            <a:r>
              <a:rPr b="1" i="1" lang="en-US" sz="2400" spc="-1" strike="noStrike">
                <a:solidFill>
                  <a:srgbClr val="00b050"/>
                </a:solidFill>
                <a:latin typeface="Perpetua"/>
                <a:ea typeface="Arial"/>
              </a:rPr>
              <a:t>gen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and the final syllable of </a:t>
            </a:r>
            <a:r>
              <a:rPr b="1" i="1" lang="en-US" sz="2400" spc="-1" strike="noStrike">
                <a:solidFill>
                  <a:srgbClr val="00b050"/>
                </a:solidFill>
                <a:latin typeface="Perpetua"/>
                <a:ea typeface="Arial"/>
              </a:rPr>
              <a:t>chromosome</a:t>
            </a:r>
            <a:r>
              <a:rPr b="1" lang="en-US" sz="2400" spc="-1" strike="noStrike">
                <a:solidFill>
                  <a:srgbClr val="00b050"/>
                </a:solidFill>
                <a:latin typeface="Perpetua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If not specified, “genome” usually refers to the </a:t>
            </a:r>
            <a:r>
              <a:rPr b="0" lang="en-US" sz="2400" spc="-1" strike="noStrike">
                <a:solidFill>
                  <a:srgbClr val="0070c0"/>
                </a:solidFill>
                <a:latin typeface="Perpetua"/>
                <a:ea typeface="Arial"/>
              </a:rPr>
              <a:t>nuclear genom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An organism’s 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Arial"/>
              </a:rPr>
              <a:t>genom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is defined as the complete </a:t>
            </a:r>
            <a:r>
              <a:rPr b="0" lang="en-US" sz="2400" spc="-1" strike="noStrike">
                <a:solidFill>
                  <a:srgbClr val="c00000"/>
                </a:solidFill>
                <a:latin typeface="Perpetua"/>
                <a:ea typeface="Arial"/>
              </a:rPr>
              <a:t>haploid genetic complement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of a typical c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The genetic content of the organelles in the cell,  is not considered part of the nuclear geno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In diploid organisms, sequence variations exist between the two copies of each chromosome present in a cel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The genome is the </a:t>
            </a:r>
            <a:r>
              <a:rPr b="0" lang="en-US" sz="2400" spc="-1" strike="noStrike">
                <a:solidFill>
                  <a:srgbClr val="c00000"/>
                </a:solidFill>
                <a:latin typeface="Perpetua"/>
                <a:ea typeface="Arial"/>
              </a:rPr>
              <a:t>ultimate source of information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about an organis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0912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Monotype Corsiva"/>
              </a:rPr>
              <a:t>   </a:t>
            </a:r>
            <a:r>
              <a:rPr b="0" lang="en-US" sz="3600" spc="-1" strike="noStrike">
                <a:solidFill>
                  <a:srgbClr val="c00000"/>
                </a:solidFill>
                <a:latin typeface="Monotype Corsiva"/>
              </a:rPr>
              <a:t>"Genes"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are units of genetic information present on the DNA in the chromosomes and chromati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Monotype Corsiva"/>
              </a:rPr>
              <a:t>    </a:t>
            </a:r>
            <a:r>
              <a:rPr b="0" lang="en-US" sz="3600" spc="-1" strike="noStrike">
                <a:solidFill>
                  <a:srgbClr val="c00000"/>
                </a:solidFill>
                <a:latin typeface="Monotype Corsiva"/>
              </a:rPr>
              <a:t>" Genome"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is all the DNA contained in an organism or a cell, which includes the chromosomes plus the DNA in mitochondria (and DNA in the chloroplasts of plant cells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reminder1.png"/>
          <p:cNvPicPr/>
          <p:nvPr/>
        </p:nvPicPr>
        <p:blipFill>
          <a:blip r:embed="rId1"/>
          <a:stretch/>
        </p:blipFill>
        <p:spPr>
          <a:xfrm>
            <a:off x="152280" y="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ndalus"/>
                <a:ea typeface="Andalus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The number of genomes sequenced in their entirety is now in the thousands and includes organisms ranging from bacteria to mamma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The first complete genome to be sequenced was that of the bacterium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Haemophilus influenza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, in 1995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The first eukaryotic genome sequence, that of the yeast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Saccharomyces cerevisia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, followed in 1996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The genome sequence for the bacterium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Escherichia coli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 became available in 1997 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Arial"/>
              </a:rPr>
              <a:t>The much larger effort directed at the human genome was also accelerating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rokaryotes and Eukaryotes gen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828800"/>
          <a:ext cx="8229600" cy="3633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b050"/>
                          </a:solidFill>
                          <a:latin typeface="Perpetua"/>
                        </a:rPr>
                        <a:t>Prokaryot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b050"/>
                          </a:solidFill>
                          <a:latin typeface="Perpetua"/>
                        </a:rPr>
                        <a:t>Eukaryot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ingle c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ingle or multi c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o nucle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ucle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One piece of circular D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hromos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o mRNA post transcriptional modif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Exons/Introns splic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Prokaryotic and Eukaryotic Cells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Cambria"/>
              </a:rPr>
              <a:t>Chromosomal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28600" y="1828800"/>
            <a:ext cx="5257800" cy="41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genome of E.coli contains amount of 4X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Perpetua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base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&gt; 90% of DNA encode prote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Lacks a membrane-bound nucleu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Perpetua"/>
                <a:ea typeface="Arial"/>
              </a:rPr>
              <a:t>Circular DNA and supercoiled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Histones not pres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bactcell"/>
          <p:cNvPicPr/>
          <p:nvPr/>
        </p:nvPicPr>
        <p:blipFill>
          <a:blip r:embed="rId1"/>
          <a:stretch/>
        </p:blipFill>
        <p:spPr>
          <a:xfrm>
            <a:off x="5603760" y="1447920"/>
            <a:ext cx="2775240" cy="167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5_6"/>
          <p:cNvPicPr/>
          <p:nvPr/>
        </p:nvPicPr>
        <p:blipFill>
          <a:blip r:embed="rId2"/>
          <a:stretch/>
        </p:blipFill>
        <p:spPr>
          <a:xfrm>
            <a:off x="5715000" y="3887640"/>
            <a:ext cx="285444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380880" y="0"/>
            <a:ext cx="8382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1920" y="1219320"/>
            <a:ext cx="5410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Prokaryotic genomes generally contain one large circular piece of DNA referred to as a </a:t>
            </a:r>
            <a:r>
              <a:rPr b="0" lang="en-US" sz="2400" spc="-1" strike="noStrike">
                <a:solidFill>
                  <a:srgbClr val="00b050"/>
                </a:solidFill>
                <a:latin typeface="Perpetua"/>
                <a:ea typeface="Arial"/>
              </a:rPr>
              <a:t>"chromosome"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(not a true chromosome in the eukaryotic sense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Some bacteria have linear "chromosomes"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Many bacteria have small circular DNA structures called </a:t>
            </a:r>
            <a:r>
              <a:rPr b="0" lang="en-US" sz="2400" spc="-1" strike="noStrike">
                <a:solidFill>
                  <a:srgbClr val="c00000"/>
                </a:solidFill>
                <a:latin typeface="Perpetua"/>
                <a:ea typeface="Arial"/>
              </a:rPr>
              <a:t>plasmid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which can be swapped between neighbors and across bacterial spec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Continu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t3.gstatic.com/images?q=tbn:ANd9GcTFnTETSVeryCZX3XNSTCW8ImCqOZXUO4M7Dwhzh_qSA5_FlU1-"/>
          <p:cNvPicPr/>
          <p:nvPr/>
        </p:nvPicPr>
        <p:blipFill>
          <a:blip r:embed="rId1"/>
          <a:srcRect l="0" t="0" r="0" b="20004"/>
          <a:stretch/>
        </p:blipFill>
        <p:spPr>
          <a:xfrm>
            <a:off x="5791320" y="3276720"/>
            <a:ext cx="3036600" cy="1828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Picture 6" descr="http://t3.gstatic.com/images?q=tbn:ANd9GcSmaGwKwLFqbEoHZMK6A_qxsOfk8JIpHO3bxxqmm23gUttk3Z58"/>
          <p:cNvPicPr/>
          <p:nvPr/>
        </p:nvPicPr>
        <p:blipFill>
          <a:blip r:embed="rId2"/>
          <a:stretch/>
        </p:blipFill>
        <p:spPr>
          <a:xfrm>
            <a:off x="6324480" y="1219320"/>
            <a:ext cx="22352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228600" y="0"/>
            <a:ext cx="4952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28600" y="1523520"/>
            <a:ext cx="5486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The term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plasmi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was first introduced by the American molecular biologist Joshua Lederberg in 195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A </a:t>
            </a:r>
            <a:r>
              <a:rPr b="1" lang="en-US" sz="2400" spc="-1" strike="noStrike">
                <a:solidFill>
                  <a:srgbClr val="00b050"/>
                </a:solidFill>
                <a:latin typeface="Perpetua"/>
                <a:ea typeface="Arial"/>
              </a:rPr>
              <a:t>plasmi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is separate from, and can replicate independently of, the chromosomal 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Plasmid size varies from 1 to over 1,000 (kbp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mbria"/>
              </a:rPr>
              <a:t>Plasmi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http://t0.gstatic.com/images?q=tbn:ANd9GcTbLys9nrycMdN6kKeIQZC0W9QusiJInqPuYDEPMPVN0fm7Vg-6GmZij98jMQ"/>
          <p:cNvPicPr/>
          <p:nvPr/>
        </p:nvPicPr>
        <p:blipFill>
          <a:blip r:embed="rId1"/>
          <a:stretch/>
        </p:blipFill>
        <p:spPr>
          <a:xfrm>
            <a:off x="6004080" y="1908000"/>
            <a:ext cx="279216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8:59:45Z</dcterms:created>
  <dc:creator>User</dc:creator>
  <dc:description/>
  <dc:language>en-US</dc:language>
  <cp:lastModifiedBy>Administrator</cp:lastModifiedBy>
  <dcterms:modified xsi:type="dcterms:W3CDTF">2013-05-14T05:49:23Z</dcterms:modified>
  <cp:revision>26</cp:revision>
  <dc:subject/>
  <dc:title>The genome of prokaryotes and eukaryotes- nuclear and extranuclear genetic organization</dc:title>
</cp:coreProperties>
</file>