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236-FC2C-48E5-8E2E-16EC2F59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23A-357D-461E-B402-B747A7DD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E64-E45B-46E6-825F-C206DEE0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8CF-D91B-41A3-AC33-07626FD4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85B8-F0ED-4E6C-A9A1-E7FD9483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308A-4C2E-4CE1-A43C-9888F710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4F35-01B9-48CA-8D73-F2FB65D1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0A15-0749-4765-B301-6347C505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302B-95D4-4C70-A637-93475927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AEFF-F559-4598-AFC7-D98B0E55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8A7F-C8B7-4D67-A6B5-462D14DB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F0D-D3E2-4C86-9FDB-10080BC8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66FB-B1C1-45C2-A9C0-FCF2035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3A49-FA5D-4253-A619-8132B880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6C4E-0990-4199-BD56-2E8B0CED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9454-EFD1-4019-9580-46E82944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CEE6-DE7A-42D0-9A7A-D01D6012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A4F2A-C934-4CAA-B4E3-EA1F929F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9DA21-F70B-42A7-B45A-CF017C6C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9468-0D43-491F-8DE1-EF976A90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0D150-BF2C-464B-ABB6-8C4877F7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A9D1-F30A-4AB8-8344-EA3EF85C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A02-B70E-4A0E-93B1-9D90198E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0CD1-E1DC-4592-8C70-2A4DBFDB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8BC7-43D4-43A6-9FD1-E1548545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7D656-347B-4FAF-84B4-8761DF5B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BDC2-3CFE-48C1-9ADF-72E12265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18EF-BBE1-4BA0-89F2-510F2D81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FD2B-CDF5-4EFA-B3AC-D5960C96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BAE66-CB6B-4C44-AC63-354A72B3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F4E0-2F16-4EF1-8AFB-24310B19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B5B87-D4C6-40CB-B0F8-823CA171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72DF2-C383-472C-B8EC-BEAE7604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706-A2CE-479D-B965-6E3DC975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1D774-680D-4540-AFB7-9C8D7FC3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E8886-1F53-4E96-B2FA-4757605A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53423-11E1-4D61-9DA9-FBA591D8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3B79E-A1BC-4026-9895-67FF6A6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61BEF-906A-4FFA-A826-F660B05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51C7-D936-4751-AAF7-8A9F14E4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1AEB-6373-4D01-A1EE-4B7879CA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52FE-0120-4547-9604-0025BBA9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422AF-56DC-4A66-B875-02189B2F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40F1A-6992-40EB-97A4-DFAEC585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950-FB2E-490D-970A-466D1CCF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626F-2ECA-4EBF-80D6-3107C1DE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7CD37-3BD8-4882-BE7D-72112010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9AD83-79CB-4B0F-90F5-50B7DB75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FBEE-2CED-403D-B50C-3E8A46E3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F3C0C-A0A1-4CF5-8F4A-CF78DDB2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56A0-2699-4688-87D2-680D517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488A8-58D2-4503-AE94-DB09E576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0F907-2A15-442D-A585-7B47817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07F6E-3539-451C-A2CA-25841718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8E11-EFB3-410C-9BA5-92EC5516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C23-630D-45D7-9922-EDB5A537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71F55-75F4-401E-857D-629AAF8B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5E2CD-9EFA-4B16-B5DF-206F3BF9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4C8D3-BF3C-49D7-8560-DDF76E95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BF79D-B7CF-4C02-9CBC-E4730B46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60228-FE2A-4E3C-9FEB-626D6605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A21C-9049-46B2-A227-24DCFA4D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47CDE-CDB9-4042-AC5B-7F3B665C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77D21-374A-4530-A899-A0D6DCB2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5670D-8740-46A5-8FB7-43BFB28E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2EC2C-59CC-44A7-8603-28E90E1B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34A-BE7B-432E-9FF5-E52803F9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D4B82-2F89-4872-9087-E08A62AA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E38BB-37CF-4EBB-9FDC-24B0CBAF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841F6-6D9B-42CD-B1D3-FB360E80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5589B-5565-4F9D-B931-425AE4DD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233CA-033D-4D69-AF96-68F18556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6F1C0-1E36-48A9-8A32-CF030E3A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1B2D4-3827-45FF-A0BD-0A5F0A9D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D64A-7D45-4291-A2A7-C6B50BAD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47D67-B871-4858-959E-849BF868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48E28-A649-44E3-B73B-8DFB0956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3D0-7261-4A38-9095-E5136B96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0818A-6570-4B41-B164-A1F8E246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37C5A-BA63-4B5D-9A4E-966D3893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0B10F-18E3-4FBC-B9AA-031D08CB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C0F84-D26B-4253-9575-DFCC4CE9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50CAC-6E24-4720-8FAC-A6C35366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BE31-CFED-432B-9BBC-81E0644C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B130-7024-4E42-AC3F-7014D961CF2C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B3D7-1944-48F0-B998-EE378C5341C2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BEFF-E9E2-430B-85E3-AA98A8EF7CC1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52C6-CF64-42EC-AB8C-5046A44BA81B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C8CA-715E-42DB-ACB9-F5EC1B0488D9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20C5-2895-477E-B4B3-424591BD6471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154E-4737-4A61-B987-CE2450961601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920" y="533520"/>
            <a:ext cx="7213680" cy="28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72314"/>
                </a:solidFill>
                <a:latin typeface="comic"/>
              </a:rPr>
              <a:t>Gestalt psychotherapy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692360" y="4005360"/>
            <a:ext cx="6480000" cy="1101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654c"/>
                </a:solidFill>
                <a:latin typeface="Comic Sans MS"/>
              </a:rPr>
              <a:t>Presented by: Noor Al-Modihes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654c"/>
                </a:solidFill>
                <a:latin typeface="Comic Sans MS"/>
              </a:rPr>
              <a:t>Dr. Mayada Banaja te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3.integrating polaritie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need for homeostasis viewed people &amp;their world either good or ba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important is integrating body &amp; min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4.Integrating figures &amp; grou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the world around us is groun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920"/>
            <a:ext cx="749952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Ego boundar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definition in relation to environment (in relation to situation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Awaren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Awareness is a form of experience that may be loosely defined as being in touch with one's own existence, with 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what i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is aware knows what he does &amp; how he does it, that he has alternatives and that he chooses to be he 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its best , non-verbal knowing what is happening 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HERE &amp;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f awareness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d59988"/>
                </a:solidFill>
                <a:latin typeface="Comic Sans MS"/>
              </a:rPr>
              <a:t>exercise</a:t>
            </a:r>
            <a:endParaRPr b="0" lang="en-US" sz="11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4" name="عنصر نائب للمحتوى 3" descr="DailyExercise.png"/>
          <p:cNvPicPr/>
          <p:nvPr/>
        </p:nvPicPr>
        <p:blipFill>
          <a:blip r:embed="rId1"/>
          <a:stretch/>
        </p:blipFill>
        <p:spPr>
          <a:xfrm>
            <a:off x="1403280" y="1496880"/>
            <a:ext cx="69850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7.Responsibili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accepting responsibility for our own lives , people must make their own choices rather than allowing othe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22223"/>
                </a:solidFill>
                <a:latin typeface="comic"/>
              </a:rPr>
              <a:t>Theraputic alliance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I-tho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lationshi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th fully present in here &amp;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Paradoxical principle of chan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change occur when one becomes what he is &amp; not when he tries to become what he is no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servation without judg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en &amp; help to find own wa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Assessment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diagnosi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 of how he is behaving now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ent in proce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ents relational pattern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eld condi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Client in proces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odied process : description in room including movement , voice…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ort system; his setting in room &amp; confide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lief system ; introjects , meaning of circumstances.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59988"/>
                </a:solidFill>
                <a:latin typeface="comic"/>
              </a:rPr>
              <a:t>Client relational patter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cribe his way in relating to you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e any transferential respon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59988"/>
                </a:solidFill>
                <a:latin typeface="comic"/>
              </a:rPr>
              <a:t>Field conditions</a:t>
            </a:r>
            <a:r>
              <a:rPr b="1" lang="en-US" sz="3600" spc="-1" strike="noStrike">
                <a:solidFill>
                  <a:srgbClr val="d59988"/>
                </a:solidFill>
                <a:latin typeface="Gill Sans MT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ultural factors,race…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in conclusion 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, Gestalt diagnosi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an understanding or assessment of all ways that client makes meaning or contact with his worl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tory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rpo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concep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ills in Gestal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ess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atment phas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Treatment phases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Beginning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allian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ogic rel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ultural differen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ing for special conditio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Clearing the grou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ject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finished busines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f-expre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riment with new behavio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Existential encount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-owning lost parts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ve &amp; mov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f-limiting core belief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ve with courage of uncertain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iritual mea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Integration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-organize with new insigh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ove relational cont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 to communit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pting anxiety with new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ponsibility for choic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Ending ;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ss of re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-cycling of 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elebrating what achie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pting things not achie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ning for future cri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654c"/>
                </a:solidFill>
                <a:latin typeface="comic"/>
              </a:rPr>
              <a:t>Experimenting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ing emerging figure or the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ggesting:  (safe emergency) , has right to refu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ing amount of challeng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difficult start with emo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ind of suppo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situ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U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: convey non judgmental attitude to experiment &amp; avoid being  invest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o right outco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language carefully by emphasis on stat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what, how BUT never why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9988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d59988"/>
                </a:solidFill>
                <a:latin typeface="Comic Sans MS"/>
              </a:rPr>
              <a:t>I’ statement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esent ten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Large Group exercise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4" name="عنصر نائب للمحتوى 3" descr="brain_exercise_000.jpg"/>
          <p:cNvPicPr/>
          <p:nvPr/>
        </p:nvPicPr>
        <p:blipFill>
          <a:blip r:embed="rId1"/>
          <a:stretch/>
        </p:blipFill>
        <p:spPr>
          <a:xfrm>
            <a:off x="1619280" y="1628640"/>
            <a:ext cx="655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Unfinished business</a:t>
            </a:r>
            <a:r>
              <a:rPr b="0" lang="en-US" sz="4300" spc="-1" strike="noStrike">
                <a:solidFill>
                  <a:srgbClr val="572314"/>
                </a:solidFill>
                <a:latin typeface="comic"/>
              </a:rPr>
              <a:t>;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raumatic events not achieved resolution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Need great awareness with  enough suppor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xamining the impasse ---reactivate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race clearest memory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here is the maximum energy 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Encourage to bring feelings,thougths…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dentify interruption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comic"/>
              </a:rPr>
              <a:t>Who is Gestalt ?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76000" y="1773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, what's the meaning 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4" name="صورة 3" descr="gestalt-logo.gif"/>
          <p:cNvPicPr/>
          <p:nvPr/>
        </p:nvPicPr>
        <p:blipFill>
          <a:blip r:embed="rId1"/>
          <a:stretch/>
        </p:blipFill>
        <p:spPr>
          <a:xfrm>
            <a:off x="4356000" y="1844640"/>
            <a:ext cx="13240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imagin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ing with introjects : identify opposite polarity, two chair &amp; role-play…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Dreams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yal road to integr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existential messeng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jections of some aspects of dreamer, or relation with therapis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o present it in present for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a real story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ress it non verbally( body posture ,  moving…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tell dream from other perspective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dialogues bet. Characters in dre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different outco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it a message about therapis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Fantasy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people more awar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 to be more productiv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 projections or aspects of pers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ourage people to be part of drea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Ending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sks for ending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ise awareness , remind what brought him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knowledge &amp; celebrate what has been achieved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knowledge what hasn’t achieved ye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eed bac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Conducting reviews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iginal contrac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 if relevant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 issues emerg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aspects helped hi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change in contrac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fer f\u at least after 3-6 month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Summary</a:t>
            </a:r>
            <a:r>
              <a:rPr b="0" lang="en-US" sz="4300" spc="-1" strike="noStrike">
                <a:solidFill>
                  <a:srgbClr val="d59988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stalt focuses on unification &amp; wholeness of a person through feeling, senses &amp; fantasi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awareness yields personality changes by means of problem solving &amp; identifying impass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 here &amp; now experimental modality which is a process for individual to be in touch with him self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&amp; past important BUT their significance is in relation to their influence on pres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quiry by how , what </a:t>
            </a:r>
            <a:r>
              <a:rPr b="0" lang="en-US" sz="3200" spc="-1" strike="noStrike">
                <a:solidFill>
                  <a:srgbClr val="d59988"/>
                </a:solidFill>
                <a:latin typeface="Comic Sans MS"/>
              </a:rPr>
              <a:t>&amp; NEV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when client assume responsibility for what they feel &amp; think (the greatest valu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9988"/>
                </a:solidFill>
                <a:latin typeface="comic"/>
              </a:rPr>
              <a:t>Gestalt modality specify that person passes through 5 levels of neurosis</a:t>
            </a:r>
            <a:r>
              <a:rPr b="0" lang="en-US" sz="2800" spc="-1" strike="noStrike">
                <a:solidFill>
                  <a:srgbClr val="d59988"/>
                </a:solidFill>
                <a:latin typeface="comic"/>
              </a:rPr>
              <a:t>:</a:t>
            </a:r>
            <a:br>
              <a:rPr sz="39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Phony lay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not being them selv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Phobic lev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fear of seeing who one really i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Impasse lev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; stuck in dependency position where he seek for others to make decis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17b7c"/>
                </a:solidFill>
                <a:uFillTx/>
                <a:latin typeface="Comic Sans MS"/>
              </a:rPr>
              <a:t>Gestal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; Frederick (Fritz) and Laura Perls in the 1940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ems to be more “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anima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than mere form or object, implying a sort of "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reaching ou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to its environ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d7e2"/>
                </a:solidFill>
                <a:latin typeface="Gill Sans MT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Implosive le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ccept responsibility &amp; develop courage to face their personal defenses as they come close to real selves ( full awarenes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d7e2"/>
                </a:solidFill>
                <a:latin typeface="Comic Sans MS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Explosive  lev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etting go of the false image the individual has creat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promotes in dependence rather than dependence on therapist &amp; the most provocative technique is Empty Chai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2" name="عنصر نائب للمحتوى 9" descr="139464371395888566.jpg"/>
          <p:cNvPicPr/>
          <p:nvPr/>
        </p:nvPicPr>
        <p:blipFill>
          <a:blip r:embed="rId1"/>
          <a:stretch/>
        </p:blipFill>
        <p:spPr>
          <a:xfrm>
            <a:off x="971640" y="0"/>
            <a:ext cx="817236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03" name="مربع نص 10"/>
          <p:cNvSpPr/>
          <p:nvPr/>
        </p:nvSpPr>
        <p:spPr>
          <a:xfrm>
            <a:off x="1547640" y="1989000"/>
            <a:ext cx="669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37f26"/>
                </a:solidFill>
                <a:latin typeface="Lucida Calligraphy"/>
              </a:rPr>
              <a:t>Thank you</a:t>
            </a:r>
            <a:r>
              <a:rPr b="0" lang="en-US" sz="8000" spc="-1" strike="noStrike">
                <a:solidFill>
                  <a:srgbClr val="637f26"/>
                </a:solidFill>
                <a:latin typeface="Lucida Calligraphy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of an "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” a sort of "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between me and that "other," and a sort of connection that draws me into that "dialogue.“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esentation of a "</a:t>
            </a: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Gestal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suggests the involvement of my perception and awareness in an act of identification of reality.  A Gestalt can thus be identified as a kind of </a:t>
            </a:r>
            <a:r>
              <a:rPr b="0" i="1" lang="en-US" sz="3200" spc="-1" strike="noStrike">
                <a:solidFill>
                  <a:srgbClr val="e17b7c"/>
                </a:solidFill>
                <a:latin typeface="Comic Sans MS"/>
              </a:rPr>
              <a:t>knowledg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654c"/>
                </a:solidFill>
                <a:latin typeface="Comic Sans MS"/>
              </a:rPr>
              <a:t>Gesta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is A structured entity that is more than &amp; different from its parts. It is the foreground figure that stands out from its ground, it exists”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654c"/>
                </a:solidFill>
                <a:latin typeface="Comic Sans MS"/>
              </a:rPr>
              <a:t>                                        </a:t>
            </a:r>
            <a:r>
              <a:rPr b="0" i="1" lang="en-US" sz="3200" spc="-1" strike="noStrike">
                <a:solidFill>
                  <a:srgbClr val="c0654c"/>
                </a:solidFill>
                <a:latin typeface="Comic Sans MS"/>
              </a:rPr>
              <a:t>Laura Perl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compasses existential &amp; person-centere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s awareness in </a:t>
            </a:r>
            <a:r>
              <a:rPr b="0" lang="en-US" sz="3200" spc="-1" strike="noStrike" u="sng">
                <a:solidFill>
                  <a:srgbClr val="c0654c"/>
                </a:solidFill>
                <a:uFillTx/>
                <a:latin typeface="Comic Sans MS"/>
              </a:rPr>
              <a:t>HERE &amp; NOW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pres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eceive more attention than past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oring &amp; experiencing </a:t>
            </a:r>
            <a:r>
              <a:rPr b="0" lang="en-US" sz="3200" spc="-1" strike="noStrike">
                <a:solidFill>
                  <a:srgbClr val="c0654c"/>
                </a:solidFill>
                <a:latin typeface="Comic Sans MS"/>
              </a:rPr>
              <a:t>emo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integral to treatmen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17b7c"/>
                </a:solidFill>
                <a:latin typeface="comic"/>
              </a:rPr>
              <a:t>Purpose</a:t>
            </a:r>
            <a:r>
              <a:rPr b="0" lang="en-US" sz="4300" spc="-1" strike="noStrike">
                <a:solidFill>
                  <a:srgbClr val="e17b7c"/>
                </a:solidFill>
                <a:latin typeface="comic"/>
              </a:rPr>
              <a:t>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help people got aware about those neglected parts &amp; restore wholeness, integration &amp; balance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922223"/>
                </a:solidFill>
                <a:latin typeface="comic"/>
              </a:rPr>
              <a:t>Important theoretical concepts</a:t>
            </a:r>
            <a:r>
              <a:rPr b="0" lang="en-US" sz="3900" spc="-1" strike="noStrike">
                <a:solidFill>
                  <a:srgbClr val="922223"/>
                </a:solidFill>
                <a:latin typeface="Gill Sans MT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76360" y="17730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View of humankin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people are basically good &amp; had capacity to cope with their lives BUT !! At times need hel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17b7c"/>
                </a:solidFill>
                <a:latin typeface="Comic Sans MS"/>
              </a:rPr>
              <a:t>Wholeness &amp; integr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we are not a summation of parts BUT !! coordin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22:58:05Z</dcterms:created>
  <dc:creator>user</dc:creator>
  <dc:description/>
  <dc:language>en-US</dc:language>
  <cp:lastModifiedBy>user</cp:lastModifiedBy>
  <dcterms:modified xsi:type="dcterms:W3CDTF">2011-01-19T03:10:05Z</dcterms:modified>
  <cp:revision>41</cp:revision>
  <dc:subject/>
  <dc:title>Gestalt psychotherapy</dc:title>
</cp:coreProperties>
</file>