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5C0-3CA2-4FF7-A6C3-4B086BF6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66C-4C16-4716-AE44-BF92A839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A64-41AC-4F8B-9884-5B853DB7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A04-CBF9-41CA-9768-5852685B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5BF0-6043-4923-B896-EEFF5E3C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A680-6E03-427E-A542-9E792D04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37BE-62F0-447F-A230-31D39E1D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8192-D0A2-4FCF-A266-154FDCCC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C2D7-D7EE-445F-8BA7-87A9C4E1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E75B-920C-4CE8-B508-F4B39B0B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B0D3-8B43-4CB2-AFD2-B6A6E9F3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406-807A-402E-BD6B-31B02B11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3E03-3950-4F21-B6FA-2B9A0881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9C9C-059A-457A-AD00-38B5FF63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114B-759E-4D61-B1E5-DFEED1F4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83B0-5A57-44EF-867A-8D5BC904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349B-C19C-4265-A892-BC9204EF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342A-1547-442C-BC6C-C097769D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E120-69F9-4E41-8767-18E740A0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8E61-619A-4A6D-8502-FE8A187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511F-AE5A-4578-9193-4606E905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3EC8-7C18-4CCE-BF68-3915ABDE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49E9-6481-47BD-9F5B-DA8C3A88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9C22-94B2-419A-9CFD-C9EE6751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09A6-FBCC-471B-ACE3-DF60D57D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AF19-E6E8-474E-863A-12396FF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2F6C-4F4F-4CF5-BAC5-26437BC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14C4-B7C0-4E56-A1C2-5691DFFC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B5F4-C333-4CBD-A8F5-C70FDDB4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4493-43B0-4B1E-9E87-AFF8AC90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C1F03-3E12-4007-82C8-B447B4FE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CBA10-EEFE-406A-8085-DC6FD3F0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94FE-1CFA-4FEA-B3CC-E644C3C3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AA2-3DA9-4BA2-9BAD-908CEBC1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87AC-0E1B-4BDF-A1D1-2362A8D1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86BF-0ADE-42DF-AB6C-D1C20F9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0181-DEB8-4EA2-8F25-443E388D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6273D-7EFB-43AC-BD8F-D00652D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1752-0E3C-4FBE-B6D4-7E622EB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DE51-4918-4E46-959A-0A7E4434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31C71-79FF-4016-A756-01B0251E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06EEA-2650-4368-A8D3-58E47A07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D01D-1290-416B-8E58-6E6F3EBC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5441C-44C4-4221-81CF-120B25FC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624-65C2-40A6-B7EF-C7996E3D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8D3BB-260B-47B2-9596-5E37DB52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70B5C-891B-4C93-8FFC-101EA59F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269B-E31D-47CE-A8ED-41F6D051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8720F-E4BD-40BE-8E76-1E8D3733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82E73-2EC7-4047-837C-4C385AEA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EA487-C436-49A2-BCCB-ED63B94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7266-2C3B-417A-8315-1795CD11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3A784-DABC-47C4-B00A-61D21FF9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A70F5-F788-4BC7-977E-15BEAB2B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DDCA6-4906-444C-BBF3-02A4A412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4F7-D417-4CDA-A525-D66ADD71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C11B8-A347-4B46-AF16-36730498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F3E0B-1971-48A2-8DB6-9FF21B4B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B9DEE-5B4C-405B-B657-2718C5F5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C878F-3B9C-4BAF-B261-0525DE1C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FF544-E955-4F99-9E59-C17D5B64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AB5BD-86F6-4CFD-B1B6-E4F2C652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1A7A4-1A6F-4A34-847D-1E4E743C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90AE7-05F5-4C2F-87BC-218F0589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E3D2-DC54-4C31-854A-6D0B3B8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4A3A9-2D2C-4A01-9B4F-32E68285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787-7E45-42AE-BFFA-E3C5AD6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A9F8-780C-4045-8AF9-2A2F7930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3D4C-AB9B-4278-98BB-6B2134A4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1998-00D5-4191-8247-0A6984C9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27DC4-3F3F-455E-9DEA-E230740F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05459-0F37-4975-A680-79D7846F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E6B0-FECF-4011-9E09-1C759B85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0D5E-DB17-4FFE-8558-E1E4EEAE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A2432-E831-4D7B-B8FB-7C11F9E4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8A91-D278-41E6-8638-0EBB7762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19E10-D425-4783-BA9B-44A3A71E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232-2EE6-4F5F-A8B0-BA2CD3E0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F0C72-593D-4ADE-87B1-54C5354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006DC-1975-45FC-8245-D27B07E3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C17E6-D357-4E2E-9BB0-11869D46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94FE5-7836-4291-9547-59C08110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36DF5-F446-4DB3-B3EE-B08D141F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854-2B9C-416C-A3AE-830086F8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4A1E-AEC4-42C9-B4C4-B03E3BEA06FB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BD8A-AD0A-4BD4-96F0-C642B818B5F3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D14F-037C-468F-B723-312E057486F1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D4D4-827B-411C-BA5B-CA111DA2D76F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9513-A217-4ED5-BE97-0B1E48E34AEC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4CD3-9608-4FF8-9D54-536EF53A9C5D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E7D8-5A55-478F-A84A-15E5FC82F3C3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920" y="533520"/>
            <a:ext cx="7213680" cy="28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comic"/>
              </a:rPr>
              <a:t>Gestalt psychotherapy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692360" y="4005360"/>
            <a:ext cx="6480000" cy="1101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654c"/>
                </a:solidFill>
                <a:latin typeface="Comic Sans MS"/>
              </a:rPr>
              <a:t>Presented by: Noor Al-Modihe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654c"/>
                </a:solidFill>
                <a:latin typeface="Comic Sans MS"/>
              </a:rPr>
              <a:t>Dr. Mayada Banaja te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3.integrating polaritie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need for homeostasis viewed people &amp;their world either good or b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important is integrating body &amp; min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4.Integrating figures &amp; gr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world around us is groun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920"/>
            <a:ext cx="74995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Ego boundar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definition in relation to environment (in relation to situation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Awaren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Awareness is a form of experience that may be loosely defined as being in touch with one's own existence, with 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what i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is aware knows what he does &amp; how he does it, that he has alternatives and that he chooses to be he 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its best , non-verbal knowing what is happening 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HERE &amp;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f awareness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d59988"/>
                </a:solidFill>
                <a:latin typeface="Comic Sans MS"/>
              </a:rPr>
              <a:t>exercise</a:t>
            </a:r>
            <a:endParaRPr b="0" lang="en-US" sz="11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4" name="عنصر نائب للمحتوى 3" descr="DailyExercise.png"/>
          <p:cNvPicPr/>
          <p:nvPr/>
        </p:nvPicPr>
        <p:blipFill>
          <a:blip r:embed="rId1"/>
          <a:stretch/>
        </p:blipFill>
        <p:spPr>
          <a:xfrm>
            <a:off x="1403280" y="1496880"/>
            <a:ext cx="69850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7.Responsi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accepting responsibility for our own lives , people must make their own choices rather than allowing othe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22223"/>
                </a:solidFill>
                <a:latin typeface="comic"/>
              </a:rPr>
              <a:t>Theraputic alliance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I-tho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lationshi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fully present in here &amp;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Paradoxical principle of chan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change occur when one becomes what he is &amp; not when he tries to become what he is n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ation without judg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en &amp; help to find own 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Assessment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diagnos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 of how he is behaving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ent in proce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ents relational patter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eld condi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Client in proces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odied process : description in room including movement , voice…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 system; his setting in room &amp; confid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lief system ; introjects , meaning of circumstances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59988"/>
                </a:solidFill>
                <a:latin typeface="comic"/>
              </a:rPr>
              <a:t>Client relational patter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 his way in relating to you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 any transferential respon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59988"/>
                </a:solidFill>
                <a:latin typeface="comic"/>
              </a:rPr>
              <a:t>Field conditions</a:t>
            </a:r>
            <a:r>
              <a:rPr b="1" lang="en-US" sz="3600" spc="-1" strike="noStrike">
                <a:solidFill>
                  <a:srgbClr val="d59988"/>
                </a:solidFill>
                <a:latin typeface="Gill Sans MT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ltural factors,race…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in conclusion 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, Gestalt diagnosi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 understanding or assessment of all ways that client makes meaning or contact with his worl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tory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po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concep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ills in Gestal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ess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atment ph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Treatment phases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Beginning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allia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ogic rel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ltural differen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ing for special condi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Clearing the grou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jec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finished busine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f-expre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ment with new behavi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Existential encount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-owning lost parts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ve &amp; mov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f-limiting core belief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ve with courage of uncertain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ritual mea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Integration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-organize with new ins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 relational cont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 to communi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pting anxiety with new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ponsibility for choi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Ending 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s of re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-cycling of 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ebrating what achie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pting things not achie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ing for future cri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654c"/>
                </a:solidFill>
                <a:latin typeface="comic"/>
              </a:rPr>
              <a:t>Experimenting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ing emerging figure or the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ggesting:  (safe emergency) , has right to refu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ing amount of challeng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difficult start with emo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ind of suppo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situ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U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convey non judgmental attitude to experiment &amp; avoid being  invest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o right outco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anguage carefully by emphasis on stat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what, how BUT never wh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d59988"/>
                </a:solidFill>
                <a:latin typeface="Comic Sans MS"/>
              </a:rPr>
              <a:t>I’ statement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esent ten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Large Group exercise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4" name="عنصر نائب للمحتوى 3" descr="brain_exercise_000.jpg"/>
          <p:cNvPicPr/>
          <p:nvPr/>
        </p:nvPicPr>
        <p:blipFill>
          <a:blip r:embed="rId1"/>
          <a:stretch/>
        </p:blipFill>
        <p:spPr>
          <a:xfrm>
            <a:off x="1619280" y="1628640"/>
            <a:ext cx="655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Unfinished business</a:t>
            </a:r>
            <a:r>
              <a:rPr b="0" lang="en-US" sz="4300" spc="-1" strike="noStrike">
                <a:solidFill>
                  <a:srgbClr val="572314"/>
                </a:solidFill>
                <a:latin typeface="comic"/>
              </a:rPr>
              <a:t>;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raumatic events not achieved resolutio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eed great awareness with  enough suppor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xamining the impasse ---reactivat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race clearest memory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here is the maximum energy 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ncourage to bring feelings,thougths…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dentify interruption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mic"/>
              </a:rPr>
              <a:t>Who is Gestalt ?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76000" y="1773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, what's the meaning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4" name="صورة 3" descr="gestalt-logo.gif"/>
          <p:cNvPicPr/>
          <p:nvPr/>
        </p:nvPicPr>
        <p:blipFill>
          <a:blip r:embed="rId1"/>
          <a:stretch/>
        </p:blipFill>
        <p:spPr>
          <a:xfrm>
            <a:off x="4356000" y="1844640"/>
            <a:ext cx="13240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imagin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introjects : identify opposite polarity, two chair &amp; role-play…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Dreams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yal road to integr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existential messeng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jections of some aspects of dreamer, or relation with therapis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o present it in present for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a real story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it non verbally( body posture ,  moving…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tell dream from other perspective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dialogues bet. Characters in dre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different outco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it a message about therapis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Fantasy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people more awar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 to be more productiv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 projections or aspects of pers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ourage people to be part of dre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Ending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ks for ending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ise awareness , remind what brought him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knowledge &amp; celebrate what has been achieved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knowledge what hasn’t achieved ye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ed bac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Conducting reviews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iginal contrac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 if relevant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 issues emerg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spects helped hi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change in contrac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er f\u at least after 3-6 month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Summary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stalt focuses on unification &amp; wholeness of a person through feeling, senses &amp; fantasi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awareness yields personality changes by means of problem solving &amp; identifying impass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here &amp; now experimental modality which is a process for individual to be in touch with him self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&amp; past important BUT their significance is in relation to their influence on pres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quiry by how , what </a:t>
            </a:r>
            <a:r>
              <a:rPr b="0" lang="en-US" sz="3200" spc="-1" strike="noStrike">
                <a:solidFill>
                  <a:srgbClr val="d59988"/>
                </a:solidFill>
                <a:latin typeface="Comic Sans MS"/>
              </a:rPr>
              <a:t>&amp; NEV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when client assume responsibility for what they feel &amp; think (the greatest valu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9988"/>
                </a:solidFill>
                <a:latin typeface="comic"/>
              </a:rPr>
              <a:t>Gestalt modality specify that person passes through 5 levels of neurosis</a:t>
            </a:r>
            <a:r>
              <a:rPr b="0" lang="en-US" sz="2800" spc="-1" strike="noStrike">
                <a:solidFill>
                  <a:srgbClr val="d59988"/>
                </a:solidFill>
                <a:latin typeface="comic"/>
              </a:rPr>
              <a:t>: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Phony lay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not being them selv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Phobic lev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fear of seeing who one really 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Impasse lev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stuck in dependency position where he seek for others to make decis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17b7c"/>
                </a:solidFill>
                <a:uFillTx/>
                <a:latin typeface="Comic Sans MS"/>
              </a:rPr>
              <a:t>Gestal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; Frederick (Fritz) and Laura Perls in the 1940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ms to be more “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anim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than mere form or object, implying a sort of "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reaching ou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to its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d7e2"/>
                </a:solidFill>
                <a:latin typeface="Gill Sans MT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Implosive le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ccept responsibility &amp; develop courage to face their personal defenses as they come close to real selves ( full awarenes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d7e2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Explosive  lev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etting go of the false image the individual has cre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promotes in dependence rather than dependence on therapist &amp; the most provocative technique is Empty Chai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2" name="عنصر نائب للمحتوى 9" descr="139464371395888566.jpg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3" name="مربع نص 10"/>
          <p:cNvSpPr/>
          <p:nvPr/>
        </p:nvSpPr>
        <p:spPr>
          <a:xfrm>
            <a:off x="1547640" y="1989000"/>
            <a:ext cx="66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37f26"/>
                </a:solidFill>
                <a:latin typeface="Lucida Calligraphy"/>
              </a:rPr>
              <a:t>Thank you</a:t>
            </a:r>
            <a:r>
              <a:rPr b="0" lang="en-US" sz="8000" spc="-1" strike="noStrike">
                <a:solidFill>
                  <a:srgbClr val="637f26"/>
                </a:solidFill>
                <a:latin typeface="Lucida Calligraphy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of an "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” a sort of "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between me and that "other," and a sort of connection that draws me into that "dialogue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sentation of a "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Gestal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suggests the involvement of my perception and awareness in an act of identification of reality.  A Gestalt can thus be identified as a kind of </a:t>
            </a:r>
            <a:r>
              <a:rPr b="0" i="1" lang="en-US" sz="3200" spc="-1" strike="noStrike">
                <a:solidFill>
                  <a:srgbClr val="e17b7c"/>
                </a:solidFill>
                <a:latin typeface="Comic Sans MS"/>
              </a:rPr>
              <a:t>knowledg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654c"/>
                </a:solidFill>
                <a:latin typeface="Comic Sans MS"/>
              </a:rPr>
              <a:t>Gesta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is A structured entity that is more than &amp; different from its parts. It is the foreground figure that stands out from its ground, it exists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654c"/>
                </a:solidFill>
                <a:latin typeface="Comic Sans MS"/>
              </a:rPr>
              <a:t>                                        </a:t>
            </a:r>
            <a:r>
              <a:rPr b="0" i="1" lang="en-US" sz="3200" spc="-1" strike="noStrike">
                <a:solidFill>
                  <a:srgbClr val="c0654c"/>
                </a:solidFill>
                <a:latin typeface="Comic Sans MS"/>
              </a:rPr>
              <a:t>Laura Perl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compasses existential &amp; person-center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s awareness in </a:t>
            </a:r>
            <a:r>
              <a:rPr b="0" lang="en-US" sz="3200" spc="-1" strike="noStrike" u="sng">
                <a:solidFill>
                  <a:srgbClr val="c0654c"/>
                </a:solidFill>
                <a:uFillTx/>
                <a:latin typeface="Comic Sans MS"/>
              </a:rPr>
              <a:t>HERE &amp; N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ceive more attention than pas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oring &amp; experiencing </a:t>
            </a: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emo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integral to treat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17b7c"/>
                </a:solidFill>
                <a:latin typeface="comic"/>
              </a:rPr>
              <a:t>Purpose</a:t>
            </a:r>
            <a:r>
              <a:rPr b="0" lang="en-US" sz="4300" spc="-1" strike="noStrike">
                <a:solidFill>
                  <a:srgbClr val="e17b7c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help people got aware about those neglected parts &amp; restore wholeness, integration &amp; balance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922223"/>
                </a:solidFill>
                <a:latin typeface="comic"/>
              </a:rPr>
              <a:t>Important theoretical concepts</a:t>
            </a:r>
            <a:r>
              <a:rPr b="0" lang="en-US" sz="3900" spc="-1" strike="noStrike">
                <a:solidFill>
                  <a:srgbClr val="922223"/>
                </a:solidFill>
                <a:latin typeface="Gill Sans MT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76360" y="1773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View of humanki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people are basically good &amp; had capacity to cope with their lives BUT !! At times need hel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Wholeness &amp; integr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we are not a summation of parts BUT !! coordin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22:58:05Z</dcterms:created>
  <dc:creator>user</dc:creator>
  <dc:description/>
  <dc:language>en-US</dc:language>
  <cp:lastModifiedBy>user</cp:lastModifiedBy>
  <dcterms:modified xsi:type="dcterms:W3CDTF">2011-01-19T03:10:05Z</dcterms:modified>
  <cp:revision>41</cp:revision>
  <dc:subject/>
  <dc:title>Gestalt psychotherapy</dc:title>
</cp:coreProperties>
</file>