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20.jpeg" ContentType="image/jpeg"/>
  <Override PartName="/ppt/media/image12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EA6-E3A9-4D03-BEC1-A0491D6A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230-14AC-4973-9D1E-054F8C7C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E6250-CE87-4966-AA19-34750B90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CA0DF-6C7D-47E1-9E6B-6C35C28A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B184D-D405-4FB3-BCF8-0C6D87A6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4D76C-BDB5-4471-9F97-E157442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CAC8C-2AD3-4A23-8C57-129C4FB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CBF10-96CF-42F5-9132-66857E5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D444C-B92E-43A0-94CF-6F09FCD5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8B6CD-EAB0-438E-9A2A-339FE7F8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E16AD-5AFD-426C-A192-B2B1094E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94CC9-8A8D-476B-A248-641BE655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A4D-A7A6-4780-A1EE-BB451D6E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C6CA5-4DEA-4C30-8F7C-D2AEA577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E3917-E72D-457C-A3C3-704F8D0B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8944F-36AD-411E-AC6E-6957E37D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4DBD6-8D28-4B53-9C5C-9F6E418B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88BAA-2D21-4BA8-A711-03A6A3EE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00FFD-F02A-4EAD-AD89-E50F48EB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8A7B2-8D1D-459A-88EF-7BD9C2ED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6A26C-3574-4DCC-A6F3-6646E625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1400F-4403-4341-9D35-09FE21AD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1332A-BCA8-49BE-A146-43361860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DE7-973C-4560-A723-30C82708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8C1529-6274-4663-A0A6-E85079C95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2E2A3-4476-4AD6-90F9-83BA9536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46590-1FA4-4D53-A1C7-00AC0A9F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BB38A-93CD-413F-91F8-9140D1E3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118DA-F188-4E46-8FF2-B0A50817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7CA84-FF29-4808-9093-E04DB039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08AFB-832F-4158-84AD-0187AD47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569DE-7374-4D14-B636-2CF5FFA5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C8DC1-D7A1-4591-AAF0-F53D660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0618B-82D2-40ED-BAF5-F4CCA2A2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31A2-AAF1-4682-ADC2-FE582D74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05867-7A6C-4D24-A3EC-201E065A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DC3D1-C0A2-4614-B39E-D4A2774D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9FAC2-7BD2-4190-A39C-8EE5D620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AE31B-2669-487E-A084-7EA2E629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10C99-15AC-4C4B-8D1B-3A83CEED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87233-CC6B-4719-B797-2608BDFF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EEA31-646E-424A-BE76-39D47A00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63802-3B02-4C5A-93AE-C15D1A7F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972EE-6AC3-4B7C-A44E-C39C37AA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02256-4BAC-4B38-BDD8-FCE4FCEC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2B78-75B7-451C-9D73-7046AC73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E9BA0-7EA1-492D-A284-D41A6D95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FAE8C-B008-4DF4-B802-8C928F70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02172-7EE8-40BF-9E7B-91D2BCDB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75A98-D7F8-4A04-B377-28B8AFA8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39D2B-B6C9-44F8-A1A0-F481BCE3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D9D2E-EA88-4FDA-9158-D5C97EBD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8128F-9170-48B6-BB99-D7F51AEA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A8683-D5E4-40AE-9800-A9D46F1F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F6C30-DF2E-43AE-975F-55301E26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D74E0-2F1D-433C-A771-FD23B0ED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E099-F55D-42C7-883E-FECFD405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913F0-99E6-42E0-9DE5-9540773B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A5856-021D-4E6E-BF67-D051756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67E6C-9E8C-4451-A697-92AEF38A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9178F-9C3B-42C6-B95E-BD8FE20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057E7-18E1-43C4-A068-647D0486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CED288-2447-4D58-98CC-D994F440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FEF96-5BB1-4B31-B45B-AD37170B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7FAD-7F36-417C-9652-CF8755CC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0C07-AF4D-4DF6-A0B1-254436FE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28BB-0FAF-4DC4-8D43-BA84330A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53E9-1BC7-4954-A88A-54D17FA5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153-4009-4FAD-8834-9DB46DDB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33C3-29E9-45A4-B77E-64FC1829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6EEB-3BA7-447E-8660-51E06177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AC41-F545-4ADD-AE2F-0F9B68E8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3A08-FBDB-495B-8088-C5BA4CE9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261E-441D-4546-8E75-EC8DC359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35939-8237-47A9-BC96-27541C08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3A9EA-6D92-4FE2-9135-49F7C19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4782-3718-45CE-9AB7-988A23C7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914D-4773-421D-8EB8-42D6F903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D9F8-3625-4359-A3B8-B15EDD0A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B10-50AE-4A57-A290-4A94775D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C9E44-0F5A-4F0D-A809-584F0DD6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2247-E68E-47F1-9C70-4D28EB8F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170E-F7A1-4D0E-A3C2-E19C6BC1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043B-F549-442B-87A4-10236AAE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3DD2-8ABD-4BE3-8891-B8BADCB8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4FCBC-8CCC-4208-854D-4D17A494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6EF9-FA13-4B76-BD9A-5053024E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6FEBD-3A1C-4699-AC93-56B98EAD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E9A4-DB7B-40D4-85A9-33EC9971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DDCCB-2DA3-4D50-AB84-DBFC8F3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E7A-ECAF-4C07-8A3F-F75C845F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D0F8D-3539-4488-BDAC-747BF5A9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C52A-99D5-4210-B53E-5193A836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FB23-C6A3-4CF9-9CF1-89D49FD2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BF9D1-E4CF-4CEC-9C1A-6FCA1CCE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FA23-6B09-4B1C-97EF-3281D26B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1380-CC01-499D-9EC8-EDCF3422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2C85-247E-46FB-B280-1B8E8DAE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8C13-D4B6-4B81-8A09-DFB05998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F766E-82FE-4091-A500-78F47E1C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50FD8-4E89-4D89-A200-FE439F9D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6C2-E1DB-4D6E-88DF-51A1A61B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B346-3ED0-4285-957C-235EFC33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87ABB-EC62-4B42-BB65-42923312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3F0E2-F3BD-4080-8096-6E778902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07DD-3987-41F5-A596-41180AE2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124D3-46B0-422F-9B94-8882D14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D5019-E0F8-4EFE-8051-7D6FC548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C178B-86BC-4108-AD37-66129E38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62C2D-A277-447A-AA17-35EE1C05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C2AB2-B68C-481E-902E-2FAD3A1D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2F0A3-CC95-4B08-9372-BD235ED0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58F-3A5D-4D3F-A1C0-E566E729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4A152-3AD0-4245-AD9C-C661EE00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16CCD-954F-48A6-8307-7CF0AFCC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9AFB3-22CF-4885-8FAD-9E265476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8D2B-5337-4B51-AAF7-C6869CAB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2AD2E-5325-4807-9A54-389275CE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67E09-19CC-4E1F-937B-6B0E89F3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8D460-E1FC-4207-B0A0-DFE056BA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BAED7-A271-4D34-8999-07713B2C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3A2C4-3E84-464E-9B1D-67EDD791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EE66-286B-439C-AE90-EAC06F8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E43-156F-4C9F-BC28-F143809D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557D6-1F5E-41B5-9813-0F9A075C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78706-3290-4A11-BFE9-F401EC45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D92C6-D37A-48CD-B6A7-7B36CE9C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E98B4-213A-4587-96D2-6505E658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F6934-1E32-4AC2-82F5-1D6862CA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19021-8DA4-4846-B5E0-E86EB93F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9EA3-6467-4A69-8A07-49E6713F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5E94-220C-46AD-B957-6BEB6041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FD90A-E78D-4EC1-8053-EBE6E599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90AC5-44B6-4FD9-A11D-FCCC5245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617-27C5-4876-A984-859D255C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CFA53-20BA-4339-8D44-A0F2290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5F09B-2C84-499B-B508-2393DD39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418A2-D029-4F61-BDA2-8EBE99DF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4896B-5D6C-4A6E-A19D-DA5A3CD4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83BEA-D141-4B73-A7AF-C91993B2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600D0-5D3F-4205-B3AC-9BFD51C9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1F471-955D-475E-88DF-E92BBA95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DD0AD-5A1B-47CF-B9B2-D3AB8859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857B-B2F4-4CFB-BE0B-4395EA74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F3761-A227-4030-9DE0-F95CAF1C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55F-EAEA-4AB1-AF7F-D9D9FCD1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ED008-F091-4D80-A5DA-F68F479C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76F9E-51E9-489F-BFD8-17186C95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89D7B-B248-49D1-9875-3E8AE602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10C1C-12A0-4BF6-BAF8-75E9D9F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6AF61-4584-4561-B22A-DE4E5776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97DD4-5411-4E2F-BF83-F698766B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50B8F-094E-4668-B242-215799AB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14736-7B8B-4F6E-99D5-950C7F15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867FE-E994-43DE-BD4A-3C3ACCB3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A0FD8-8357-47BA-BA27-AE0F1149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9F77-2560-409E-8328-DFA311E2577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A19E-2BC2-40CC-B2E7-B029086DDBC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3116-D00A-4159-9E96-AB422C3BC5F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0EFF-1B6F-4EF8-9881-1C11932EB3D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683208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68E8-8B1E-48D1-83F0-03A650E9D855}" type="slidenum">
              <a:rPr b="0" lang="zh-CN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C424-8D2A-4CBC-A8CD-0D20C984C61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2146-4B44-4B27-9756-B9AE149A9A1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60A9-4A22-4F4E-8DC3-6777286A780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815C-0016-4F9E-ADC1-0F536BB472C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C28A-8DDF-49C5-AE02-0C4C3AFD96E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196B-EAB3-452F-8EF6-D41FFD45C39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C10E-8A96-4668-82FC-0E6D9D539B1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DDF-63ED-49F9-8446-12BB147C4A2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Glycogen Metabolis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89" name="Rectangle 3"/>
          <p:cNvGrpSpPr/>
          <p:nvPr/>
        </p:nvGrpSpPr>
        <p:grpSpPr>
          <a:xfrm>
            <a:off x="103320" y="1200240"/>
            <a:ext cx="4975200" cy="5599440"/>
            <a:chOff x="103320" y="1200240"/>
            <a:chExt cx="4975200" cy="5599440"/>
          </a:xfrm>
        </p:grpSpPr>
        <p:pic>
          <p:nvPicPr>
            <p:cNvPr id="590" name="Rectangle 3" descr=""/>
            <p:cNvPicPr/>
            <p:nvPr/>
          </p:nvPicPr>
          <p:blipFill>
            <a:blip r:embed="rId1"/>
            <a:stretch/>
          </p:blipFill>
          <p:spPr>
            <a:xfrm>
              <a:off x="103320" y="1200240"/>
              <a:ext cx="497520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152280" y="1219320"/>
              <a:ext cx="487692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Glucose‐1‐P formed by phosphorolytic cleavage of glycogen is converted into glucose‐6‐P by </a:t>
              </a: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Phosphoglucomutase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Glucose 6‐phosphate derived from glycogen can b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Used as a fuel for anaerobic or aerobic metabolism as in, for instance, muscl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Converted into free glucose in the liver and subsequently released into the blood to maintain a relatively level of blood glucos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Processed by the pentose phosphate pathway to generate NADPH or ribose in a variety of tissues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2" name="Picture 5" descr="Screen Shot 2012-03-30 at 12.14.43 PM.png"/>
          <p:cNvPicPr/>
          <p:nvPr/>
        </p:nvPicPr>
        <p:blipFill>
          <a:blip r:embed="rId2"/>
          <a:stretch/>
        </p:blipFill>
        <p:spPr>
          <a:xfrm>
            <a:off x="510552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</a:rPr>
              <a:t>Regulation of Glycogen Metabolism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94" name="Diagram 6" descr=""/>
          <p:cNvPicPr/>
          <p:nvPr/>
        </p:nvPicPr>
        <p:blipFill>
          <a:blip r:embed="rId1"/>
          <a:stretch/>
        </p:blipFill>
        <p:spPr>
          <a:xfrm>
            <a:off x="762120" y="1116000"/>
            <a:ext cx="7772400" cy="49798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Screen Shot 2012-03-30 at 12.18.19 PM.png"/>
          <p:cNvPicPr/>
          <p:nvPr/>
        </p:nvPicPr>
        <p:blipFill>
          <a:blip r:embed="rId2"/>
          <a:stretch/>
        </p:blipFill>
        <p:spPr>
          <a:xfrm>
            <a:off x="1523880" y="3886200"/>
            <a:ext cx="2590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Perpetua"/>
              </a:rPr>
              <a:t>Regulation by Covalent Modification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97" name="Diagram 4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004240" cy="3224160"/>
          </a:xfrm>
          <a:prstGeom prst="rect">
            <a:avLst/>
          </a:prstGeom>
          <a:ln w="0">
            <a:noFill/>
          </a:ln>
        </p:spPr>
      </p:pic>
      <p:sp>
        <p:nvSpPr>
          <p:cNvPr id="598" name="Straight Connector 6"/>
          <p:cNvSpPr/>
          <p:nvPr/>
        </p:nvSpPr>
        <p:spPr>
          <a:xfrm>
            <a:off x="3886200" y="2209680"/>
            <a:ext cx="1143000" cy="609840"/>
          </a:xfrm>
          <a:prstGeom prst="line">
            <a:avLst/>
          </a:prstGeom>
          <a:ln w="1260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Diagram 12" descr=""/>
          <p:cNvPicPr/>
          <p:nvPr/>
        </p:nvPicPr>
        <p:blipFill>
          <a:blip r:embed="rId2"/>
          <a:stretch/>
        </p:blipFill>
        <p:spPr>
          <a:xfrm>
            <a:off x="858960" y="3578400"/>
            <a:ext cx="760248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-38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</a:t>
            </a:r>
            <a:r>
              <a:rPr b="1" lang="en-US" sz="4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</a:t>
            </a: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01" name="Picture 7" descr="Screen Shot 2012-03-30 at 12.43.23 P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49604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8"/>
          <p:cNvSpPr/>
          <p:nvPr/>
        </p:nvSpPr>
        <p:spPr>
          <a:xfrm>
            <a:off x="6705720" y="1447920"/>
            <a:ext cx="16002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Perpetua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Perpetua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</a:t>
            </a:r>
            <a:r>
              <a:rPr b="1" lang="en-US" sz="4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</a:t>
            </a: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604" name="Picture 4" descr="Screen Shot 2012-03-30 at 12.53.47 PM.jpg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50292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6705720" y="1447920"/>
            <a:ext cx="16002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Perpetua"/>
              </a:rPr>
              <a:t>Gree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2d1f"/>
                </a:solidFill>
                <a:latin typeface="Perpetua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=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Glycogen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04920" y="4343400"/>
            <a:ext cx="807696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 rtl="1">
              <a:lnSpc>
                <a:spcPct val="95000"/>
              </a:lnSpc>
              <a:spcAft>
                <a:spcPts val="675"/>
              </a:spcAft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erpetua"/>
              </a:rPr>
              <a:t>Glycogen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is a homopolysaccharide of </a:t>
            </a:r>
            <a:r>
              <a:rPr b="1" lang="en-US" sz="1800" spc="-1" strike="noStrike">
                <a:solidFill>
                  <a:srgbClr val="000090"/>
                </a:solidFill>
                <a:latin typeface="Perpetua"/>
              </a:rPr>
              <a:t>D-glucose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residues linked by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42720" algn="just" rtl="1">
              <a:lnSpc>
                <a:spcPct val="95000"/>
              </a:lnSpc>
              <a:spcAft>
                <a:spcPts val="675"/>
              </a:spcAft>
              <a:buClr>
                <a:srgbClr val="ff66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α(1</a:t>
            </a:r>
            <a:r>
              <a:rPr b="0" lang="en-US" sz="1800" spc="-1" strike="noStrike">
                <a:solidFill>
                  <a:srgbClr val="cc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4)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glycosidic bonds, mai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342720" algn="just" rtl="1">
              <a:lnSpc>
                <a:spcPct val="95000"/>
              </a:lnSpc>
              <a:spcAft>
                <a:spcPts val="675"/>
              </a:spcAft>
              <a:buClr>
                <a:srgbClr val="ff66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α(1</a:t>
            </a:r>
            <a:r>
              <a:rPr b="0" lang="en-US" sz="1800" spc="-1" strike="noStrike">
                <a:solidFill>
                  <a:srgbClr val="cc00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cc0099"/>
                </a:solidFill>
                <a:latin typeface="Perpetua"/>
                <a:ea typeface="ＭＳ Ｐゴシック"/>
              </a:rPr>
              <a:t>6) 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glycosidic bonds, at branch points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 rtl="1">
              <a:lnSpc>
                <a:spcPct val="95000"/>
              </a:lnSpc>
              <a:spcAft>
                <a:spcPts val="675"/>
              </a:spcAft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Each branch is made of 6‐12 glucose units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 rtl="1">
              <a:lnSpc>
                <a:spcPct val="95000"/>
              </a:lnSpc>
              <a:spcAft>
                <a:spcPts val="1125"/>
              </a:spcAft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Glucose is stored as glycogen predominantly in </a:t>
            </a:r>
            <a:r>
              <a:rPr b="1" lang="en-US" sz="1800" spc="-1" strike="noStrike">
                <a:solidFill>
                  <a:srgbClr val="000099"/>
                </a:solidFill>
                <a:latin typeface="Perpetua"/>
              </a:rPr>
              <a:t>liver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Perpetua"/>
              </a:rPr>
              <a:t>muscle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cells</a:t>
            </a: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Screen Shot 2012-03-28 at 7.03.15 PM.png"/>
          <p:cNvPicPr/>
          <p:nvPr/>
        </p:nvPicPr>
        <p:blipFill>
          <a:blip r:embed="rId1"/>
          <a:stretch/>
        </p:blipFill>
        <p:spPr>
          <a:xfrm>
            <a:off x="990720" y="1523880"/>
            <a:ext cx="7086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Function of Glycogen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Liver glycogen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 algn="just" rtl="1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maintains normal blood glucose concentration especially during the early stage of fast (between meals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 algn="just" rtl="1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fter 12‐18 hours fasting, liver glycogen is deplete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Muscle glycogen</a:t>
            </a:r>
            <a:r>
              <a:rPr b="1" lang="en-US" sz="2800" spc="-1" strike="noStrike">
                <a:solidFill>
                  <a:srgbClr val="cc0099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 algn="just" rtl="1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acts as a source of energy within the muscle itself especially during muscle contraction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498240" indent="-207720" algn="just" rtl="1"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uscle glycogen is depleted after prolonged exerci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Glycogenesis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304920" y="1143000"/>
            <a:ext cx="83055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erpetua"/>
              </a:rPr>
              <a:t>Glycogenesis is the formation of glycogen in liver and musc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Perpetua"/>
              </a:rPr>
              <a:t>It occurs in the cytoso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Diagram 4" descr=""/>
          <p:cNvPicPr/>
          <p:nvPr/>
        </p:nvPicPr>
        <p:blipFill>
          <a:blip r:embed="rId1"/>
          <a:stretch/>
        </p:blipFill>
        <p:spPr>
          <a:xfrm>
            <a:off x="195120" y="1847880"/>
            <a:ext cx="8412480" cy="4906800"/>
          </a:xfrm>
          <a:prstGeom prst="rect">
            <a:avLst/>
          </a:prstGeom>
          <a:ln w="0">
            <a:noFill/>
          </a:ln>
        </p:spPr>
      </p:pic>
      <p:cxnSp>
        <p:nvCxnSpPr>
          <p:cNvPr id="565" name="Straight Arrow Connector 6"/>
          <p:cNvCxnSpPr/>
          <p:nvPr/>
        </p:nvCxnSpPr>
        <p:spPr>
          <a:xfrm>
            <a:off x="7391160" y="4876560"/>
            <a:ext cx="1143720" cy="1080"/>
          </a:xfrm>
          <a:prstGeom prst="straightConnector1">
            <a:avLst/>
          </a:prstGeom>
          <a:ln w="1908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566" name="TextBox 7"/>
          <p:cNvSpPr/>
          <p:nvPr/>
        </p:nvSpPr>
        <p:spPr>
          <a:xfrm>
            <a:off x="7162920" y="464832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</a:rPr>
              <a:t>gluconeogene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52280" y="1219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Perpetua"/>
              </a:rPr>
              <a:t>Uridine diphosphate glucose (UDP‐glucose)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s the immediate precursor for glycogen synthesi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DP‐glucose is formed from glucose‐1‐phosphate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leavage of PPi is the only energy cost for glycogen synthesis (one ~P bond per glucose residue)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Object 9"/>
          <p:cNvGraphicFramePr/>
          <p:nvPr/>
        </p:nvGraphicFramePr>
        <p:xfrm>
          <a:off x="1600200" y="2743200"/>
          <a:ext cx="541008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5410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72" name="Picture 6" descr="Screen Shot 2012-03-29 at 8.08.11 PM.png"/>
          <p:cNvPicPr/>
          <p:nvPr/>
        </p:nvPicPr>
        <p:blipFill>
          <a:blip r:embed="rId1"/>
          <a:stretch/>
        </p:blipFill>
        <p:spPr>
          <a:xfrm>
            <a:off x="228600" y="990720"/>
            <a:ext cx="4114800" cy="5181480"/>
          </a:xfrm>
          <a:prstGeom prst="rect">
            <a:avLst/>
          </a:prstGeom>
          <a:ln w="0">
            <a:noFill/>
          </a:ln>
        </p:spPr>
      </p:pic>
      <p:grpSp>
        <p:nvGrpSpPr>
          <p:cNvPr id="573" name="Rectangle 7"/>
          <p:cNvGrpSpPr/>
          <p:nvPr/>
        </p:nvGrpSpPr>
        <p:grpSpPr>
          <a:xfrm>
            <a:off x="4297320" y="1427040"/>
            <a:ext cx="4511880" cy="4357800"/>
            <a:chOff x="4297320" y="1427040"/>
            <a:chExt cx="4511880" cy="4357800"/>
          </a:xfrm>
        </p:grpSpPr>
        <p:pic>
          <p:nvPicPr>
            <p:cNvPr id="574" name="Rectangle 7" descr=""/>
            <p:cNvPicPr/>
            <p:nvPr/>
          </p:nvPicPr>
          <p:blipFill>
            <a:blip r:embed="rId2"/>
            <a:stretch/>
          </p:blipFill>
          <p:spPr>
            <a:xfrm>
              <a:off x="4297320" y="1427040"/>
              <a:ext cx="4511880" cy="43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343400" y="1447920"/>
              <a:ext cx="4419720" cy="42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Glycogenin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is an enzyme that initiates glycogen synthesis by catalyzing the  attachment of a glucose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molecule to one of its own </a:t>
              </a:r>
              <a:r>
                <a:rPr b="1" i="1" lang="en-US" sz="1800" spc="-1" strike="noStrike">
                  <a:solidFill>
                    <a:srgbClr val="cc0099"/>
                  </a:solidFill>
                  <a:latin typeface="Perpetua"/>
                </a:rPr>
                <a:t>tyrosin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residues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UDP is released as a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Glycogenin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n catalyzes </a:t>
              </a:r>
              <a:r>
                <a:rPr b="1" i="1" lang="en-US" sz="1800" spc="-1" strike="noStrike">
                  <a:solidFill>
                    <a:srgbClr val="cc0099"/>
                  </a:solidFill>
                  <a:latin typeface="Perpetua"/>
                </a:rPr>
                <a:t>glucosylation at C4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of the attached glucose (UDP‐glucose again the donor), to yield an O‐linked disaccharide with α(1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4) glycosidic linkag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is is repeated until a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short linear glucose polymer </a:t>
              </a:r>
              <a:r>
                <a:rPr b="1" lang="en-US" sz="1800" spc="-1" strike="noStrike">
                  <a:solidFill>
                    <a:srgbClr val="cc0099"/>
                  </a:solidFill>
                  <a:latin typeface="Perpetua"/>
                </a:rPr>
                <a:t>(glycogen primer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with α(1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4) glycosidic linkages is built up on Glycogenin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77" name="Rectangle 4"/>
          <p:cNvGrpSpPr/>
          <p:nvPr/>
        </p:nvGrpSpPr>
        <p:grpSpPr>
          <a:xfrm>
            <a:off x="4370400" y="1657440"/>
            <a:ext cx="4670280" cy="4702320"/>
            <a:chOff x="4370400" y="1657440"/>
            <a:chExt cx="4670280" cy="4702320"/>
          </a:xfrm>
        </p:grpSpPr>
        <p:pic>
          <p:nvPicPr>
            <p:cNvPr id="578" name="Rectangle 4" descr=""/>
            <p:cNvPicPr/>
            <p:nvPr/>
          </p:nvPicPr>
          <p:blipFill>
            <a:blip r:embed="rId1"/>
            <a:stretch/>
          </p:blipFill>
          <p:spPr>
            <a:xfrm>
              <a:off x="4370400" y="1657440"/>
              <a:ext cx="467028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419720" y="1676520"/>
              <a:ext cx="4572000" cy="46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 rtl="1">
                <a:lnSpc>
                  <a:spcPct val="100000"/>
                </a:lnSpc>
                <a:spcAft>
                  <a:spcPts val="1576"/>
                </a:spcAft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Perpetua"/>
                </a:rPr>
                <a:t>Glycogen Synthas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then catalyzes </a:t>
              </a:r>
              <a:r>
                <a:rPr b="1" lang="en-US" sz="1800" spc="-1" strike="noStrike">
                  <a:solidFill>
                    <a:srgbClr val="000099"/>
                  </a:solidFill>
                  <a:latin typeface="Perpetua"/>
                </a:rPr>
                <a:t>elong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of glycogen chains initiated by Glycogenin by transfering the glucose moiety of UDP-glucose to the hydroxyl at C4 of the terminal residue of a glycogen chain to form an 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</a:t>
              </a:r>
              <a:r>
                <a:rPr b="1" lang="en-US" sz="1800" spc="-1" strike="noStrike">
                  <a:solidFill>
                    <a:srgbClr val="000099"/>
                  </a:solidFill>
                  <a:latin typeface="Perpetua"/>
                </a:rPr>
                <a:t>(1</a:t>
              </a:r>
              <a:r>
                <a:rPr b="1" lang="en-US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0099"/>
                  </a:solidFill>
                  <a:latin typeface="Perpetua"/>
                </a:rPr>
                <a:t>4)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glycosidic linkage branches up to 11 glucose units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A </a:t>
              </a:r>
              <a:r>
                <a:rPr b="1" lang="en-US" sz="1800" spc="-1" strike="noStrike">
                  <a:solidFill>
                    <a:srgbClr val="000090"/>
                  </a:solidFill>
                  <a:latin typeface="Perpetua"/>
                </a:rPr>
                <a:t>branching enzym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ransfers a segment (minimum 6 Glc residues) from the end of a glycogen chain to the C6 hydroxyl of a glucose residue of glycogen to yield a branch with an </a:t>
              </a:r>
              <a:r>
                <a:rPr b="1" lang="en-US" sz="1800" spc="-1" strike="noStrike">
                  <a:solidFill>
                    <a:srgbClr val="000090"/>
                  </a:solidFill>
                  <a:latin typeface="Perpetua"/>
                </a:rPr>
                <a:t>α(1</a:t>
              </a:r>
              <a:r>
                <a:rPr b="1" lang="en-US" sz="1800" spc="-1" strike="noStrike">
                  <a:solidFill>
                    <a:srgbClr val="00009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90"/>
                  </a:solidFill>
                  <a:latin typeface="Perpetua"/>
                </a:rPr>
                <a:t>6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linkage. The new branches are elongated by the glycogen synthase and the process is repeated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5" descr="Screen Shot 2012-03-29 at 4.36.38 PM.jpg"/>
          <p:cNvPicPr/>
          <p:nvPr/>
        </p:nvPicPr>
        <p:blipFill>
          <a:blip r:embed="rId2"/>
          <a:stretch/>
        </p:blipFill>
        <p:spPr>
          <a:xfrm>
            <a:off x="228600" y="1219320"/>
            <a:ext cx="4191120" cy="47242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0000ff"/>
                </a:solidFill>
                <a:latin typeface="Perpetua"/>
              </a:rPr>
              <a:t>Glycogenolysis</a:t>
            </a:r>
            <a:r>
              <a:rPr b="1" lang="sv-SE" sz="4000" spc="-1" strike="noStrike">
                <a:solidFill>
                  <a:srgbClr val="0000ff"/>
                </a:solidFill>
                <a:latin typeface="Perpetua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0880" y="1341360"/>
            <a:ext cx="82296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ycogenolysis is the breakdown of glycogen into glucose (in liver) and lactic acid (in muscles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t occurs in the cytosol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Two major enzymes participate in all glycogen degradation</a:t>
            </a:r>
            <a:r>
              <a:rPr b="1" lang="en-US" sz="2400" spc="-1" strike="noStrike">
                <a:solidFill>
                  <a:srgbClr val="cc0099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Glycogen phosphor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Glycogen de-branching enzy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has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 2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ＭＳ Ｐゴシック"/>
              </a:rPr>
              <a:t>independent active sit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, consisting of residues in different segments of a single polypeptide chai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Transferase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α (1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6) glucosidase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 rtl="1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Continue</a:t>
            </a:r>
            <a:r>
              <a:rPr b="1" lang="en-US" sz="5400" spc="-1" strike="noStrike">
                <a:solidFill>
                  <a:srgbClr val="cc0099"/>
                </a:solidFill>
                <a:latin typeface="Brush Script MT Italic"/>
                <a:ea typeface="Brush Script MT Italic"/>
              </a:rPr>
              <a:t>..</a:t>
            </a: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84" name="Picture 6" descr="Screen Shot 2012-03-30 at 11.56.44 AM.png"/>
          <p:cNvPicPr/>
          <p:nvPr/>
        </p:nvPicPr>
        <p:blipFill>
          <a:blip r:embed="rId1"/>
          <a:stretch/>
        </p:blipFill>
        <p:spPr>
          <a:xfrm>
            <a:off x="152280" y="990720"/>
            <a:ext cx="4496040" cy="5333760"/>
          </a:xfrm>
          <a:prstGeom prst="rect">
            <a:avLst/>
          </a:prstGeom>
          <a:ln w="0">
            <a:noFill/>
          </a:ln>
        </p:spPr>
      </p:pic>
      <p:grpSp>
        <p:nvGrpSpPr>
          <p:cNvPr id="585" name="Rectangle 7"/>
          <p:cNvGrpSpPr/>
          <p:nvPr/>
        </p:nvGrpSpPr>
        <p:grpSpPr>
          <a:xfrm>
            <a:off x="4522680" y="743040"/>
            <a:ext cx="4591080" cy="5730840"/>
            <a:chOff x="4522680" y="743040"/>
            <a:chExt cx="4591080" cy="5730840"/>
          </a:xfrm>
        </p:grpSpPr>
        <p:pic>
          <p:nvPicPr>
            <p:cNvPr id="586" name="Rectangle 7" descr=""/>
            <p:cNvPicPr/>
            <p:nvPr/>
          </p:nvPicPr>
          <p:blipFill>
            <a:blip r:embed="rId2"/>
            <a:stretch/>
          </p:blipFill>
          <p:spPr>
            <a:xfrm>
              <a:off x="4522680" y="743040"/>
              <a:ext cx="4591080" cy="57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4572000" y="762120"/>
              <a:ext cx="4495680" cy="56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Glycogen Phosphoryl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(the key enzyme of glycogenolysis) catalyzes phosphorolytic cleavage (addition of Pi) of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α(1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4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glycosidic linkages of glycogen, releasing glucose‐1‐phosphate as reaction product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Always acts </a:t>
              </a:r>
              <a:r>
                <a:rPr b="1" lang="en-US" sz="1800" spc="-1" strike="noStrike">
                  <a:solidFill>
                    <a:srgbClr val="cc0099"/>
                  </a:solidFill>
                  <a:latin typeface="Perpetua"/>
                </a:rPr>
                <a:t>at nonreducing end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,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stops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at fourth glucose from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α (1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6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branch point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</a:t>
              </a:r>
              <a:r>
                <a:rPr b="0" lang="en-US" sz="1800" spc="-1" strike="noStrike">
                  <a:solidFill>
                    <a:srgbClr val="0000ff"/>
                  </a:solidFill>
                  <a:latin typeface="Perpetua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transfer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ransfers 3 glucose residues from a 4-residue limit branch to the end of another branch, diminishing the limit branch to a single glucose residue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 </a:t>
              </a: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α(1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ff"/>
                  </a:solidFill>
                  <a:latin typeface="Perpetua"/>
                </a:rPr>
                <a:t>6) glucosidase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n catalyzes hydrolysis of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α(1</a:t>
              </a:r>
              <a:r>
                <a:rPr b="1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6)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linkage by adding H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Perpetu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O, yielding free </a:t>
              </a:r>
              <a:r>
                <a:rPr b="1" lang="en-US" sz="1800" spc="-1" strike="noStrike" u="sng">
                  <a:solidFill>
                    <a:srgbClr val="cc0099"/>
                  </a:solidFill>
                  <a:uFillTx/>
                  <a:latin typeface="Perpetua"/>
                </a:rPr>
                <a:t>glucose</a:t>
              </a:r>
              <a:r>
                <a:rPr b="1" lang="en-US" sz="1800" spc="-1" strike="noStrike" u="sng">
                  <a:solidFill>
                    <a:srgbClr val="cc0099"/>
                  </a:solidFill>
                  <a:uFillTx/>
                  <a:latin typeface="Perpetu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buClr>
                  <a:srgbClr val="ff66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 major product of glycogen breakdown is </a:t>
              </a:r>
              <a:r>
                <a:rPr b="1" lang="en-US" sz="1800" spc="-1" strike="noStrike" u="sng">
                  <a:solidFill>
                    <a:srgbClr val="cc0099"/>
                  </a:solidFill>
                  <a:uFillTx/>
                  <a:latin typeface="Perpetua"/>
                </a:rPr>
                <a:t>glucose‐1‐phosphate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from Phosphorylase activity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30T09:56:11Z</dcterms:modified>
  <cp:revision>100</cp:revision>
  <dc:subject/>
  <dc:title>Slide 1</dc:title>
</cp:coreProperties>
</file>