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20.jpeg" ContentType="image/jpe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784-0C1A-4476-B57C-0BB79793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7D0-435A-4CB4-B4A9-97E450CF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C7CA3-76C4-46ED-9D7A-5DEDB059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AB989-AC84-4D7B-8CDE-5707B739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C97D1-0306-46B5-9C09-F0862BD8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B5017-8CF0-4CB8-A3F4-C68A1A94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67B79-A48D-4FAC-94BE-A1FB950F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312F8-BF0C-4EEE-A7AD-35BD8C45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14F6F-0A51-447D-B9B6-7B007236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3A47-EB83-423E-BA2D-215E36F8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7A803-1EAE-4B95-AF30-DA5D4506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88A57-164D-4520-BF71-B66C4B81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E1E-7256-43AD-8F63-85304F09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60CCF-2B35-4DE7-860D-C2194AAE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97947-AE2E-49A9-9EAD-1ABB2BCD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9BE91-EC84-4EC3-B478-B61696BB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A4953-9867-4F97-88B1-3AB2A6F9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A3B9E-20A6-498C-829A-B55054E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D9B9C-9F61-4098-96D6-131A2BEE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B8910-77A3-4B91-849C-B40EB8A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5DBB2-A4AA-4BBD-B731-B6B714C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A0299-75AF-4207-8E14-FBDFB3F1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27437-22C1-49E2-8F0F-887ED580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31B-0966-45CB-8268-6B27C45E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8A4C6-4AC6-451E-9B84-C4B54DF2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A0A4E-3B77-4FA1-9C7D-ACA8EEFE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A267D-6AD1-4E27-B23C-E37B336F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C8331-199D-427D-80B0-41E4952C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1C41F-F947-4772-B080-1F7BF82D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959CA-A814-4A5D-8FE0-CC3E75BC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9634B-E898-4440-A5DD-75CFD4BC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ECB51-DA50-41D5-AE34-E136AD6A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74992-8B7E-4146-A68B-5EBE1E07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1D777-1C25-4389-B8D5-1A247771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A7C3-47BF-4AE2-B25F-F4CB7669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924F4-3E19-4292-BD89-36DCC2A5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76B93-15D5-4782-918E-3BFA6F07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05E9A-8D70-408A-B6B9-B48D3D84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186B4-88B0-4CDA-8E9F-0D682D54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758A0-A909-4384-A520-C50E2D9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5F3B0-3813-4330-BE21-A8079B78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26540-7412-4116-A4D0-32B18B56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926A3-17FA-4849-87EF-9B0E29FD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EA060-AB4A-4CC0-9EF1-AA3F50D5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EA083-6A8E-46CC-92D9-D2D2849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CC5E-3124-4792-9257-2827A6F6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DECB6-5D0A-4F9F-9C9A-16ADDE04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C606F-A370-4305-8AF6-E54A10A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BEAFB-E985-4685-B7EC-9C66323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1AF8A-E094-4D3B-B782-5CE40183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12734-6578-4A08-AC54-2197E8F2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CC65F-A697-4189-BEDC-7E64F79E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14CAB-EF93-4439-AB6C-F47C81B0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4E69F-0808-4C07-B6F9-39716F7B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E1FAF-5E82-4063-8236-76A5A92B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3E938-C069-4902-AD3E-349F1091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CA48-6632-4BEC-A26D-07FBD9E0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B3988-D863-4665-982F-5BAE6BA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0B977-8BD3-4468-9EFF-7A2565C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09C59-4669-4939-9CDE-D7D792B7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9C3AD-3FF7-4B13-9A64-856DC0A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86FC7-B92A-4216-B93D-C623FEE7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0B780-06FB-488D-8154-5A7C100E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8507C-0E61-4574-A0E3-F6650B1F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BEC6-B456-4F45-85F5-500E6339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D35F-3B74-462A-B55E-4722339A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7AA6-6EE6-4D8F-B0D0-D683E853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654F-0BEE-4DED-B3D2-90D2DFD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DD9-5D1D-4768-976D-CA7E743F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FC22-22E5-46A3-A3D4-B62DDE7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1481-2B06-4AC3-AE13-22BC607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FD16-DB3B-4797-AC03-048EE723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8B6D-6E60-4049-A75F-637F0500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D87E-C525-42F7-8772-DAB3FCDD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CFC8-19DE-4219-8856-A2561DA7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19D3-ECFA-4E8C-8443-342DE58D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2906-B79B-43C0-8A6B-BCD4210F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FD3F-1594-486D-9A27-E633A923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F09C-5B08-4D67-8BE4-3C4D5BA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113-7503-4610-904D-BDA620B2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705F-7C21-499A-BDF9-F4852A81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6FAE-60E2-44BA-A4B1-F8F837A4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0179-5396-4DD9-9B76-D04888A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20B0-9AB1-426D-8F63-31BE56F9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0E9E-5DFC-488B-89DA-888186F3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488C-DAEC-43DF-A08C-93356025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5696-98D7-4539-B7CE-162DB653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1F79-7C24-4F6E-9ED5-86B15D6C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552E-2A57-4855-A143-D649BCE7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FF215-E24D-44F6-86E6-02136A0E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70D-69E8-4DEE-9C5A-922EBC17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8267-F0F1-43BE-84D4-C7DEEDD8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F250-D057-4EE5-A34E-35984D9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C7FB-7DC6-4F27-BBA9-EA240CEC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77F1-AD00-4C9F-93DE-1211D82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FB35F-610B-4676-B0FB-8D0CD84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36D4-0E86-46AD-8F56-BF25C9F9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36C8-D6FC-46EE-8224-968158E5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73D8-4C98-4B15-80B0-1F588122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B821-52A4-49CD-A521-9957713A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5D9A-568C-4AAD-8F53-6F370D04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1C3-0EAE-4BF5-BFC5-C9E07AFA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7775C-4B49-4948-AFF6-811E7BF6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09687-681F-4B23-A967-2BB47D92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205D-669C-41D2-9A1A-711B9774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8F346-D0E2-40DC-8F3F-1552A216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9048-9BFC-46DA-BE77-D51D57E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BB6B-B799-4359-B283-EBC46D4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1239-F31F-47A4-92DC-2DCD9DA1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D4592-CCF6-4A07-86C8-D0B9662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04BF6-D4C4-41E8-94AB-60B6DAAB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ABBA0-02FA-4214-B02C-F21B0DA4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336-ED34-4D97-899D-A9B8FBC2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F220-8BE3-45DF-9C6E-BD6C6859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D73A-FBBE-4438-B126-C40CE26C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9680-5C9D-4EE8-92ED-ABEB5EAD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1FDC-FEC7-4C8A-8E31-38550BD1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D25B-6D99-40A3-AA87-C7457CB8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141C-D7A0-4773-81E0-BC46E70B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1BAB-44C8-48D1-9C21-31B794B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6C796-5BEE-4795-9BEC-F3454FAD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0E7E8-A6B8-4A86-84AC-3A46415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E1B7-BA98-4D6E-9AD8-AAEB0225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C8D-EDA1-49BD-87AA-9DD73CA3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4E680-427D-4BBA-AD71-459A9F3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AEFF-4A8E-4479-83F6-47C883E2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21DF8-D8B1-4074-9244-0F53D37E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AFFA7-6A96-4846-9D5D-CFD4D234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3B92C-BA6F-4ED2-8AA8-2FBA2E38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EE1F1-DE7D-419F-9A73-A44DF440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99417-8601-494B-9AEE-76FF83F6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F735-9DE0-4745-A394-78BD7D9C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DE65B-C62A-4D95-B053-788E2483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CD4E3-29FE-4529-B6BB-4F94D38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7BC-D3F4-4D69-8C2D-0CC6311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A20AE-170F-4C80-912E-14A43AD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A5994-003B-47F3-8B0F-6374CF2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AA7B9-E20B-4D69-A97D-BA17D0E1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8EA62-D12D-417C-8494-4798826C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21341-6E61-485B-B3EA-23363F88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AC6E-3B42-4993-97B4-ABA2C8B8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DC4FF-660D-4201-AD7E-FCB2DF9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05A1-6B67-47BA-B3FA-0C70FD42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E300E-8183-4058-B2CC-624304A3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6A10-5470-4C8B-9959-C6AF904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DC8-036D-415A-A813-0F834C5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F337-822B-425D-AFFE-FB4719AB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0C9E2-B1F0-4150-AB52-A8677AE8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8826F-8FCA-4016-873A-821F5C69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B27B4-4D5D-48FD-AC71-B281D387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60662-9653-4673-9836-CAC25E3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65D3-2094-4128-B062-CB69E9E7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9C8AC-7749-4953-AACB-4ABEEAA7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0B3D1-FA8C-4865-A312-46E8BFDC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77B5C-A4DB-481A-BF8E-CA1830E1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A237D-C392-4073-8246-12B18B64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9A8A-6E71-4CDD-A5AD-2B856182CBB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AD61-5B02-4DA8-8C92-6C6823CBA4F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D4F9-D181-4AB4-B1BE-AFAC95AA2E6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E3CA-CA48-4DF3-9C3A-6E6C34A4E71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4E0C-EE6E-40CC-809E-AF14B72463AB}" type="slidenum">
              <a:rPr b="0" lang="zh-C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5BDA-EE3C-4223-8B3B-7A5C9E6CE67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3928-0A01-4538-8348-8BEE49A61A3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DE02-57D8-4F35-B351-DE7AF3EA3CA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E12-5999-4458-B282-436ED4EFC7F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5E62-0B25-4C36-A80E-B159E0BB889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48C9-86DF-4305-8DBA-5F5BEBE502D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8563-8F63-419C-807D-7E2BA8597DB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CCF8-DFDD-4C8C-B00C-B1BE84A34D7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Glycogen Metabolis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89" name="Rectangle 3"/>
          <p:cNvGrpSpPr/>
          <p:nvPr/>
        </p:nvGrpSpPr>
        <p:grpSpPr>
          <a:xfrm>
            <a:off x="103320" y="1200240"/>
            <a:ext cx="4975200" cy="5599440"/>
            <a:chOff x="103320" y="1200240"/>
            <a:chExt cx="4975200" cy="5599440"/>
          </a:xfrm>
        </p:grpSpPr>
        <p:pic>
          <p:nvPicPr>
            <p:cNvPr id="590" name="Rectangle 3" descr=""/>
            <p:cNvPicPr/>
            <p:nvPr/>
          </p:nvPicPr>
          <p:blipFill>
            <a:blip r:embed="rId1"/>
            <a:stretch/>
          </p:blipFill>
          <p:spPr>
            <a:xfrm>
              <a:off x="103320" y="1200240"/>
              <a:ext cx="497520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52280" y="1219320"/>
              <a:ext cx="48769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Glucose‐1‐P formed by phosphorolytic cleavage of glycogen is converted into glucose‐6‐P by </a:t>
              </a: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Phosphoglucomutase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Glucose 6‐phosphate derived from glycogen can b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Used as a fuel for anaerobic or aerobic metabolism as in, for instance, muscl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Converted into free glucose in the liver and subsequently released into the blood to maintain a relatively level of blood glucos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Processed by the pentose phosphate pathway to generate NADPH or ribose in a variety of tissues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2" name="Picture 5" descr="Screen Shot 2012-03-30 at 12.14.43 PM.png"/>
          <p:cNvPicPr/>
          <p:nvPr/>
        </p:nvPicPr>
        <p:blipFill>
          <a:blip r:embed="rId2"/>
          <a:stretch/>
        </p:blipFill>
        <p:spPr>
          <a:xfrm>
            <a:off x="510552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</a:rPr>
              <a:t>Regulation of Glycogen Metabolism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94" name="Diagram 6" descr=""/>
          <p:cNvPicPr/>
          <p:nvPr/>
        </p:nvPicPr>
        <p:blipFill>
          <a:blip r:embed="rId1"/>
          <a:stretch/>
        </p:blipFill>
        <p:spPr>
          <a:xfrm>
            <a:off x="762120" y="1116000"/>
            <a:ext cx="7772400" cy="4979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Screen Shot 2012-03-30 at 12.18.19 PM.png"/>
          <p:cNvPicPr/>
          <p:nvPr/>
        </p:nvPicPr>
        <p:blipFill>
          <a:blip r:embed="rId2"/>
          <a:stretch/>
        </p:blipFill>
        <p:spPr>
          <a:xfrm>
            <a:off x="1523880" y="388620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</a:rPr>
              <a:t>Regulation by Covalent Modification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97" name="Diagram 4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004240" cy="3224160"/>
          </a:xfrm>
          <a:prstGeom prst="rect">
            <a:avLst/>
          </a:prstGeom>
          <a:ln w="0">
            <a:noFill/>
          </a:ln>
        </p:spPr>
      </p:pic>
      <p:sp>
        <p:nvSpPr>
          <p:cNvPr id="598" name="Straight Connector 6"/>
          <p:cNvSpPr/>
          <p:nvPr/>
        </p:nvSpPr>
        <p:spPr>
          <a:xfrm>
            <a:off x="3886200" y="2209680"/>
            <a:ext cx="1143000" cy="60984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Diagram 12" descr=""/>
          <p:cNvPicPr/>
          <p:nvPr/>
        </p:nvPicPr>
        <p:blipFill>
          <a:blip r:embed="rId2"/>
          <a:stretch/>
        </p:blipFill>
        <p:spPr>
          <a:xfrm>
            <a:off x="858960" y="3578400"/>
            <a:ext cx="760248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-38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</a:t>
            </a:r>
            <a:r>
              <a:rPr b="1" lang="en-US" sz="4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</a:t>
            </a: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01" name="Picture 7" descr="Screen Shot 2012-03-30 at 12.43.23 P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49604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8"/>
          <p:cNvSpPr/>
          <p:nvPr/>
        </p:nvSpPr>
        <p:spPr>
          <a:xfrm>
            <a:off x="6705720" y="1447920"/>
            <a:ext cx="16002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Perpetua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Perpetua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</a:t>
            </a:r>
            <a:r>
              <a:rPr b="1" lang="en-US" sz="4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</a:t>
            </a: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04" name="Picture 4" descr="Screen Shot 2012-03-30 at 12.53.47 PM.jpg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50292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6705720" y="1447920"/>
            <a:ext cx="16002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Perpetua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Perpetua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Glycogen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04920" y="4343400"/>
            <a:ext cx="807696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 rtl="1">
              <a:lnSpc>
                <a:spcPct val="95000"/>
              </a:lnSpc>
              <a:spcAft>
                <a:spcPts val="67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erpetua"/>
              </a:rPr>
              <a:t>Glycoge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is a homopolysaccharide of </a:t>
            </a:r>
            <a:r>
              <a:rPr b="1" lang="en-US" sz="1800" spc="-1" strike="noStrike">
                <a:solidFill>
                  <a:srgbClr val="000090"/>
                </a:solidFill>
                <a:latin typeface="Perpetua"/>
              </a:rPr>
              <a:t>D-glucose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residues linked by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42720" algn="just" rtl="1">
              <a:lnSpc>
                <a:spcPct val="95000"/>
              </a:lnSpc>
              <a:spcAft>
                <a:spcPts val="675"/>
              </a:spcAft>
              <a:buClr>
                <a:srgbClr val="ff66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α(1</a:t>
            </a:r>
            <a:r>
              <a:rPr b="0" lang="en-US" sz="1800" spc="-1" strike="noStrike">
                <a:solidFill>
                  <a:srgbClr val="cc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4)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glycosidic bonds, mai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42720" algn="just" rtl="1">
              <a:lnSpc>
                <a:spcPct val="95000"/>
              </a:lnSpc>
              <a:spcAft>
                <a:spcPts val="675"/>
              </a:spcAft>
              <a:buClr>
                <a:srgbClr val="ff66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α(1</a:t>
            </a:r>
            <a:r>
              <a:rPr b="0" lang="en-US" sz="1800" spc="-1" strike="noStrike">
                <a:solidFill>
                  <a:srgbClr val="cc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6)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glycosidic bonds, at branch points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 rtl="1">
              <a:lnSpc>
                <a:spcPct val="95000"/>
              </a:lnSpc>
              <a:spcAft>
                <a:spcPts val="67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ch branch is made of 6‐12 glucose units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 rtl="1">
              <a:lnSpc>
                <a:spcPct val="95000"/>
              </a:lnSpc>
              <a:spcAft>
                <a:spcPts val="112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lucose is stored as glycogen predominantly in </a:t>
            </a:r>
            <a:r>
              <a:rPr b="1" lang="en-US" sz="1800" spc="-1" strike="noStrike">
                <a:solidFill>
                  <a:srgbClr val="000099"/>
                </a:solidFill>
                <a:latin typeface="Perpetua"/>
              </a:rPr>
              <a:t>live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Perpetua"/>
              </a:rPr>
              <a:t>muscle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cells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Screen Shot 2012-03-28 at 7.03.15 PM.png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Function of Glycogen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Liver glycogen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 algn="just" rtl="1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maintains normal blood glucose concentration especially during the early stage of fast (between meals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 algn="just" rtl="1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fter 12‐18 hours fasting, liver glycogen is deplete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Muscle glycogen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 algn="just" rtl="1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acts as a source of energy within the muscle itself especially during muscle contractio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 algn="just" rtl="1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uscle glycogen is depleted after prolonged exerci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Glycogenesis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304920" y="1143000"/>
            <a:ext cx="83055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erpetua"/>
              </a:rPr>
              <a:t>Glycogenesis is the formation of glycogen in liver and mus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erpetua"/>
              </a:rPr>
              <a:t>It occurs in the cytos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Diagram 4" descr=""/>
          <p:cNvPicPr/>
          <p:nvPr/>
        </p:nvPicPr>
        <p:blipFill>
          <a:blip r:embed="rId1"/>
          <a:stretch/>
        </p:blipFill>
        <p:spPr>
          <a:xfrm>
            <a:off x="195120" y="1847880"/>
            <a:ext cx="8412480" cy="4906800"/>
          </a:xfrm>
          <a:prstGeom prst="rect">
            <a:avLst/>
          </a:prstGeom>
          <a:ln w="0">
            <a:noFill/>
          </a:ln>
        </p:spPr>
      </p:pic>
      <p:cxnSp>
        <p:nvCxnSpPr>
          <p:cNvPr id="565" name="Straight Arrow Connector 6"/>
          <p:cNvCxnSpPr/>
          <p:nvPr/>
        </p:nvCxnSpPr>
        <p:spPr>
          <a:xfrm>
            <a:off x="7391160" y="4876560"/>
            <a:ext cx="1143720" cy="1080"/>
          </a:xfrm>
          <a:prstGeom prst="straightConnector1">
            <a:avLst/>
          </a:prstGeom>
          <a:ln w="190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566" name="TextBox 7"/>
          <p:cNvSpPr/>
          <p:nvPr/>
        </p:nvSpPr>
        <p:spPr>
          <a:xfrm>
            <a:off x="7162920" y="464832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gluconeogene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52280" y="1219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Perpetua"/>
              </a:rPr>
              <a:t>Uridine diphosphate glucose (UDP‐glucose)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the immediate precursor for glycogen synthesi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DP‐glucose is formed from glucose‐1‐phosphat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leavage of PPi is the only energy cost for glycogen synthesis (one ~P bond per glucose residue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9"/>
          <p:cNvGraphicFramePr/>
          <p:nvPr/>
        </p:nvGraphicFramePr>
        <p:xfrm>
          <a:off x="1600200" y="2743200"/>
          <a:ext cx="54100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5410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72" name="Picture 6" descr="Screen Shot 2012-03-29 at 8.08.11 PM.png"/>
          <p:cNvPicPr/>
          <p:nvPr/>
        </p:nvPicPr>
        <p:blipFill>
          <a:blip r:embed="rId1"/>
          <a:stretch/>
        </p:blipFill>
        <p:spPr>
          <a:xfrm>
            <a:off x="228600" y="990720"/>
            <a:ext cx="4114800" cy="5181480"/>
          </a:xfrm>
          <a:prstGeom prst="rect">
            <a:avLst/>
          </a:prstGeom>
          <a:ln w="0">
            <a:noFill/>
          </a:ln>
        </p:spPr>
      </p:pic>
      <p:grpSp>
        <p:nvGrpSpPr>
          <p:cNvPr id="573" name="Rectangle 7"/>
          <p:cNvGrpSpPr/>
          <p:nvPr/>
        </p:nvGrpSpPr>
        <p:grpSpPr>
          <a:xfrm>
            <a:off x="4297320" y="1427040"/>
            <a:ext cx="4511880" cy="4357800"/>
            <a:chOff x="4297320" y="1427040"/>
            <a:chExt cx="4511880" cy="4357800"/>
          </a:xfrm>
        </p:grpSpPr>
        <p:pic>
          <p:nvPicPr>
            <p:cNvPr id="574" name="Rectangle 7" descr=""/>
            <p:cNvPicPr/>
            <p:nvPr/>
          </p:nvPicPr>
          <p:blipFill>
            <a:blip r:embed="rId2"/>
            <a:stretch/>
          </p:blipFill>
          <p:spPr>
            <a:xfrm>
              <a:off x="4297320" y="1427040"/>
              <a:ext cx="451188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343400" y="1447920"/>
              <a:ext cx="4419720" cy="42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Glycogenin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is an enzyme that initiates glycogen synthesis by catalyzing the  attachment of a glucose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molecule to one of its own </a:t>
              </a:r>
              <a:r>
                <a:rPr b="1" i="1" lang="en-US" sz="1800" spc="-1" strike="noStrike">
                  <a:solidFill>
                    <a:srgbClr val="cc0099"/>
                  </a:solidFill>
                  <a:latin typeface="Perpetua"/>
                </a:rPr>
                <a:t>tyrosin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residues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UDP is released as a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Glycogenin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n catalyzes </a:t>
              </a:r>
              <a:r>
                <a:rPr b="1" i="1" lang="en-US" sz="1800" spc="-1" strike="noStrike">
                  <a:solidFill>
                    <a:srgbClr val="cc0099"/>
                  </a:solidFill>
                  <a:latin typeface="Perpetua"/>
                </a:rPr>
                <a:t>glucosylation at C4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of the attached glucose (UDP‐glucose again the donor), to yield an O‐linked disaccharide with α(1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4) glycosidic linkag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is is repeated until a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short linear glucose polymer </a:t>
              </a:r>
              <a:r>
                <a:rPr b="1" lang="en-US" sz="1800" spc="-1" strike="noStrike">
                  <a:solidFill>
                    <a:srgbClr val="cc0099"/>
                  </a:solidFill>
                  <a:latin typeface="Perpetua"/>
                </a:rPr>
                <a:t>(glycogen primer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with α(1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4) glycosidic linkages is built up on Glycogenin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77" name="Rectangle 4"/>
          <p:cNvGrpSpPr/>
          <p:nvPr/>
        </p:nvGrpSpPr>
        <p:grpSpPr>
          <a:xfrm>
            <a:off x="4370400" y="1657440"/>
            <a:ext cx="4670280" cy="4702320"/>
            <a:chOff x="4370400" y="1657440"/>
            <a:chExt cx="4670280" cy="4702320"/>
          </a:xfrm>
        </p:grpSpPr>
        <p:pic>
          <p:nvPicPr>
            <p:cNvPr id="578" name="Rectangle 4" descr=""/>
            <p:cNvPicPr/>
            <p:nvPr/>
          </p:nvPicPr>
          <p:blipFill>
            <a:blip r:embed="rId1"/>
            <a:stretch/>
          </p:blipFill>
          <p:spPr>
            <a:xfrm>
              <a:off x="4370400" y="1657440"/>
              <a:ext cx="467028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419720" y="1676520"/>
              <a:ext cx="4572000" cy="46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 rtl="1">
                <a:lnSpc>
                  <a:spcPct val="100000"/>
                </a:lnSpc>
                <a:spcAft>
                  <a:spcPts val="1576"/>
                </a:spcAft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Perpetua"/>
                </a:rPr>
                <a:t>Glycogen Synthas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then catalyzes </a:t>
              </a:r>
              <a:r>
                <a:rPr b="1" lang="en-US" sz="1800" spc="-1" strike="noStrike">
                  <a:solidFill>
                    <a:srgbClr val="000099"/>
                  </a:solidFill>
                  <a:latin typeface="Perpetua"/>
                </a:rPr>
                <a:t>elong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of glycogen chains initiated by Glycogenin by transfering the glucose moiety of UDP-glucose to the hydroxyl at C4 of the terminal residue of a glycogen chain to form an 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99"/>
                  </a:solidFill>
                  <a:latin typeface="Perpetua"/>
                </a:rPr>
                <a:t>(1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99"/>
                  </a:solidFill>
                  <a:latin typeface="Perpetua"/>
                </a:rPr>
                <a:t>4)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glycosidic linkage branches up to 11 glucose units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A </a:t>
              </a:r>
              <a:r>
                <a:rPr b="1" lang="en-US" sz="1800" spc="-1" strike="noStrike">
                  <a:solidFill>
                    <a:srgbClr val="000090"/>
                  </a:solidFill>
                  <a:latin typeface="Perpetua"/>
                </a:rPr>
                <a:t>branching enzym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ransfers a segment (minimum 6 Glc residues) from the end of a glycogen chain to the C6 hydroxyl of a glucose residue of glycogen to yield a branch with an </a:t>
              </a:r>
              <a:r>
                <a:rPr b="1" lang="en-US" sz="1800" spc="-1" strike="noStrike">
                  <a:solidFill>
                    <a:srgbClr val="000090"/>
                  </a:solidFill>
                  <a:latin typeface="Perpetua"/>
                </a:rPr>
                <a:t>α(1</a:t>
              </a:r>
              <a:r>
                <a:rPr b="1" lang="en-US" sz="1800" spc="-1" strike="noStrike">
                  <a:solidFill>
                    <a:srgbClr val="00009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90"/>
                  </a:solidFill>
                  <a:latin typeface="Perpetua"/>
                </a:rPr>
                <a:t>6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linkage. The new branches are elongated by the glycogen synthase and the process is repeated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5" descr="Screen Shot 2012-03-29 at 4.36.38 PM.jpg"/>
          <p:cNvPicPr/>
          <p:nvPr/>
        </p:nvPicPr>
        <p:blipFill>
          <a:blip r:embed="rId2"/>
          <a:stretch/>
        </p:blipFill>
        <p:spPr>
          <a:xfrm>
            <a:off x="228600" y="1219320"/>
            <a:ext cx="4191120" cy="47242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ff"/>
                </a:solidFill>
                <a:latin typeface="Perpetua"/>
              </a:rPr>
              <a:t>Glycogenolysis</a:t>
            </a:r>
            <a:r>
              <a:rPr b="1" lang="sv-SE" sz="4000" spc="-1" strike="noStrike">
                <a:solidFill>
                  <a:srgbClr val="0000ff"/>
                </a:solidFill>
                <a:latin typeface="Perpetua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0880" y="1341360"/>
            <a:ext cx="8229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ycogenolysis is the breakdown of glycogen into glucose (in liver) and lactic acid (in muscles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occurs in the cytoso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Two major enzymes participate in all glycogen degradation</a:t>
            </a: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Glycogen phosphor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Glycogen de-branching enzy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has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2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independent active sit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, consisting of residues in different segments of a single polypeptide chai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Transferase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α (1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6) glucosidase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84" name="Picture 6" descr="Screen Shot 2012-03-30 at 11.56.44 AM.png"/>
          <p:cNvPicPr/>
          <p:nvPr/>
        </p:nvPicPr>
        <p:blipFill>
          <a:blip r:embed="rId1"/>
          <a:stretch/>
        </p:blipFill>
        <p:spPr>
          <a:xfrm>
            <a:off x="152280" y="990720"/>
            <a:ext cx="4496040" cy="5333760"/>
          </a:xfrm>
          <a:prstGeom prst="rect">
            <a:avLst/>
          </a:prstGeom>
          <a:ln w="0">
            <a:noFill/>
          </a:ln>
        </p:spPr>
      </p:pic>
      <p:grpSp>
        <p:nvGrpSpPr>
          <p:cNvPr id="585" name="Rectangle 7"/>
          <p:cNvGrpSpPr/>
          <p:nvPr/>
        </p:nvGrpSpPr>
        <p:grpSpPr>
          <a:xfrm>
            <a:off x="4522680" y="743040"/>
            <a:ext cx="4591080" cy="5730840"/>
            <a:chOff x="4522680" y="743040"/>
            <a:chExt cx="4591080" cy="5730840"/>
          </a:xfrm>
        </p:grpSpPr>
        <p:pic>
          <p:nvPicPr>
            <p:cNvPr id="586" name="Rectangle 7" descr=""/>
            <p:cNvPicPr/>
            <p:nvPr/>
          </p:nvPicPr>
          <p:blipFill>
            <a:blip r:embed="rId2"/>
            <a:stretch/>
          </p:blipFill>
          <p:spPr>
            <a:xfrm>
              <a:off x="4522680" y="743040"/>
              <a:ext cx="4591080" cy="57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4572000" y="762120"/>
              <a:ext cx="44956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Glycogen Phosphory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(the key enzyme of glycogenolysis) catalyzes phosphorolytic cleavage (addition of Pi) of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α(1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4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glycosidic linkages of glycogen, releasing glucose‐1‐phosphate as reaction product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Always acts </a:t>
              </a:r>
              <a:r>
                <a:rPr b="1" lang="en-US" sz="1800" spc="-1" strike="noStrike">
                  <a:solidFill>
                    <a:srgbClr val="cc0099"/>
                  </a:solidFill>
                  <a:latin typeface="Perpetua"/>
                </a:rPr>
                <a:t>at nonreducing end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stops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at fourth glucose from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α (1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6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branch point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</a:t>
              </a:r>
              <a:r>
                <a:rPr b="0" lang="en-US" sz="1800" spc="-1" strike="noStrike">
                  <a:solidFill>
                    <a:srgbClr val="0000ff"/>
                  </a:solidFill>
                  <a:latin typeface="Perpetua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transfer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ransfers 3 glucose residues from a 4-residue limit branch to the end of another branch, diminishing the limit branch to a single glucose residu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 </a:t>
              </a: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α(1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6) glucosid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n catalyzes hydrolysis of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α(1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6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linkage by adding 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Perpetu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O, yielding free </a:t>
              </a:r>
              <a:r>
                <a:rPr b="1" lang="en-US" sz="1800" spc="-1" strike="noStrike" u="sng">
                  <a:solidFill>
                    <a:srgbClr val="cc0099"/>
                  </a:solidFill>
                  <a:uFillTx/>
                  <a:latin typeface="Perpetua"/>
                </a:rPr>
                <a:t>glucose</a:t>
              </a:r>
              <a:r>
                <a:rPr b="1" lang="en-US" sz="1800" spc="-1" strike="noStrike" u="sng">
                  <a:solidFill>
                    <a:srgbClr val="cc0099"/>
                  </a:solidFill>
                  <a:uFillTx/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 major product of glycogen breakdown is </a:t>
              </a:r>
              <a:r>
                <a:rPr b="1" lang="en-US" sz="1800" spc="-1" strike="noStrike" u="sng">
                  <a:solidFill>
                    <a:srgbClr val="cc0099"/>
                  </a:solidFill>
                  <a:uFillTx/>
                  <a:latin typeface="Perpetua"/>
                </a:rPr>
                <a:t>glucose‐1‐phosphate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from Phosphorylase activity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30T09:56:11Z</dcterms:modified>
  <cp:revision>100</cp:revision>
  <dc:subject/>
  <dc:title>Slide 1</dc:title>
</cp:coreProperties>
</file>