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F8F6-B931-4D63-B4AF-B7CDF740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681C-D915-4C13-A981-E43AA656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1901E-7EB6-4B39-871D-6EA1C0B1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907E2-3E4A-479D-BFA1-4C991DE1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24A69-F91D-4F09-ADB4-61B13A49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F24CE-08DE-49E4-9C57-6B34FB3E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BE370-3215-45AA-8CF2-20B95003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77B51-75BE-4DE7-9C74-B29ADAA3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770F1-CBA7-4387-9950-8C30C4C5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395B9-AFD0-41CE-8720-0369890A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8B8FA-A4DB-4DA6-AD21-4B9E6596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60B51-A54A-4753-BBC1-D19A7327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511B-A1A6-4616-9858-512414DA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5E2B2-89D0-45A5-AA1A-833F787C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2DAE9-91D6-45FA-B796-574CEE8B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A937B-BDC7-47C6-B62B-2577DB00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B6FCD-DF05-4484-9045-C42896C9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F1DDE-692F-4E23-A4E1-84FB828F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5A06A-EB7F-4D75-802B-91700F4E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6667C-4146-4493-ADD9-DA8AA807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40FEE-5F50-4BC8-AD50-38B227E9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D1519-3C67-4F78-9CF3-C8489233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2B8C7-3A2F-404B-94D8-810CE847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1181-DE34-4D69-A4F3-8F65AFDB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E8161-82FD-4857-8CC6-5540F0AA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6D738-B526-4639-A0F9-4FCDF345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0067C-5779-462A-B5DB-EE26E3DC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B60D3-1224-4509-B22D-6BF28A47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C3F70-E103-41CC-9D02-9BBB9410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F0D2F-271A-4FDE-A492-670A83AD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D1A30-4069-4FB1-AD75-6B34E888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61DCC-5B67-46C3-975F-87198A77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BAE50-74A1-4A82-8610-B458CAF0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10025-5A8D-4E0D-BCBC-65D1B4F4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3690-814A-4FB3-BE83-96444585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22F07-E726-4E06-A943-9C8D4D7B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A3F3C-2F9C-427D-907D-038C01D9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2FD2B-EABE-45B6-B6B0-89F4BEEE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83061-7A83-4271-975D-8AD113E4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3D05D-65B0-4192-9752-45A73883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DBC9F-5D58-423E-AE18-646E3884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B0D79-EB8D-46F3-A8AE-2494FAD2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BAD29-8527-43CB-B762-AC477B16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D0ABE-B21F-4F32-B0E9-A5B9006A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E63B1-8C3D-4B9D-BEFC-99D80C6A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B2A9-E1EB-4732-AD96-1AE1E1D7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DD495-1354-44AE-B2D9-00D42D1B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07D90-CE5B-4F00-BDFB-1D87A807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1EA09-0538-4DF2-96CC-3EC26911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7B215D-8BEF-4E42-BD84-92C14346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29C53-DAA2-4A1C-AC24-F84B0137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75DA-1FB8-4D96-971F-4974037C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E248-DB00-4BF9-879A-CD35FF52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1163-FA67-4064-AF95-4DE84541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8205-977C-4841-9A2A-0E45883D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8F55-3595-43DC-B84E-79625D69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6339-0A9F-439D-976B-5F7D7EDC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30DB-EF41-4174-8C8A-29A75BB2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9D1D-FE8A-41B7-A5D9-C8EC2167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4178-F272-4E3A-A184-2DF6BB77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426D-5423-4D35-96B0-6528D27C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7D62-B1FB-456B-91FA-421F5B17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32969-8884-4456-9A60-3D8FD790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AFA59-D9CF-4CF1-A923-BEB6E1F7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2B09F-0430-4296-A0ED-4621FE2F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5B40E-905A-458A-B5E4-FAA901E6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A6FF3-1C10-4743-BA29-C4142990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74E3-EA0C-442C-933A-BE00ECDC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7D02D-9BC4-4374-B8A3-D71979E4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151BB-8DE9-4ECA-9FF1-8E0DBBD2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CBAF3-1B63-4401-AF4A-44E6263E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DBF13-1239-42C9-81FF-57680D22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8C8AE-601C-4760-8109-0BF26340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DC400-E5AF-4932-877D-85AFB252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0C814-594F-4AD2-A51A-943A593E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89564-C90E-4EB0-BFF5-E59A0CED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5A7C4-670A-46CB-96AE-F5DC0E08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97136-E003-4F1E-906C-6032CB6E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553B-89BF-4053-959E-183AAD64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B712F-DA80-4322-9EF3-F645F1DD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885F0-24BB-4155-9C2F-0792CDDF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49940-DD27-4016-855D-9C73FDE2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CB653-1080-4E5C-A318-B32CDC73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217B5-354C-4DAF-9E41-F8D69740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EF3F8-4E74-4628-B8A1-53CD6B66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7E6FA-372F-411C-A74E-443875A1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D57A3-96BB-4C25-AA2D-712240BE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D7E21-B638-414D-9DDD-0DC0D15A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1ABB9-B8D6-4C50-9717-5865B52E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CABB-DA1E-4B3D-B59A-EA09B335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0242A-FA0A-4CA3-871A-E05DAB31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C6564-DCEA-45B5-8E3C-32D7CA53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77587-FBBB-4996-929F-2B41866D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AA3C1-072A-4AE3-9C6C-DB47B46F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062B5-76FA-4435-A061-563A9CED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26203-5569-41F1-8B52-9CE3BFD4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1B42C-6A7B-4B0B-82D1-B1A07AC5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7B764-7AF7-4891-8DFE-76F13B12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FFB45-3F0F-4142-85A0-116FAB78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71DA9-5734-4487-BEAB-9F080BFC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90C4-C3AA-47FF-B261-D9E5CDBB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E9D52-FE83-4A84-9F52-06A28F39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F5058-B842-425C-A36F-93DDE2C4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9714E-D4F3-41A8-918C-01E3ACAD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C27A5-07FE-4A8C-87D1-BD148AA0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2783B-2AF5-4AB8-8FF0-2A9D21A0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7C7D9-3124-4C05-9E93-7B495020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3E1EB-0DDB-45A8-8643-3EAE8157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160B0-072F-4098-8BF2-2075D44C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4B21F-0E78-476C-88EE-51A63CF1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7A983-3640-412D-B986-367FC142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F044-82B0-43F6-A331-43AD307B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61C99-D849-46DA-AB27-6582F94B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FDED9-2A8E-45B4-80FA-0D4ECAEC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F8EC5-A8E5-4B76-8384-9E01E713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2FE38-D73B-45FB-BF7C-BC219584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AA637-F004-412A-AF74-E935ACEE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317C6-D4CF-4368-B45E-048FD131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53C89-2F46-4BDE-9C53-62EB67F4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E77CD-7FEA-449F-B125-3CDDAC7E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DB230-D12E-42BF-A44C-B141E1E6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7C89A-BDEE-4122-8956-34AB4C21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B497-9536-4632-BBEE-C69AC5EB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BDA98-27E0-4CBF-9BA4-A1D4F1AB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14793-5452-4D10-B647-BE21A24D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BB103-138E-46A0-AB72-6D3225AC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510F8-1F7D-414C-825F-453CC02AA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56A70-AE39-4280-8D50-345583C8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16CCB-33C0-417C-A1BB-7E9933BC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4E0A2-39E2-46DB-A630-FECDF0E9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FE492-8249-4BD1-8411-C4093702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A6C85-2E0E-4F2C-B94B-54DE5D4B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BBC10-F9A3-42D6-9349-668F37B6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BAD3-8A2D-437B-A575-071FCB0D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B69B9-86CA-41B5-A7B2-D3FB008E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47706-75D3-46D6-A0D9-C74B2312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8EAFB-95FB-4530-A3AC-6C158C2C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07B24-52DC-4EDE-B6A3-A49A7294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E8FA4-F9F4-433E-95A4-DF768BC9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9D518-F6CF-43E8-B2EF-FB66C5DA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79198-4D66-4D60-8CEE-0C48E0BE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C169C-B198-40D2-8076-099457CC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D31E0-1608-4F29-A71A-A8A6639B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72074-F41C-4138-8227-AA030F5C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0C7A-F674-407D-AFCD-791D6A0529F8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3372-1489-4D71-88F6-E9813211C7A0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638F-943B-4AE1-8B5D-A9AA1049F128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7557-12F2-425A-B1F4-2B7DD9461889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A692-BDD5-49B6-8FB0-F7B861B03806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E716-8BB0-4C42-BFB8-6B420EB6648F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Rounded Rectangle 10"/>
          <p:cNvGrpSpPr/>
          <p:nvPr/>
        </p:nvGrpSpPr>
        <p:grpSpPr>
          <a:xfrm>
            <a:off x="60480" y="60480"/>
            <a:ext cx="9023040" cy="6705360"/>
            <a:chOff x="60480" y="60480"/>
            <a:chExt cx="9023040" cy="6705360"/>
          </a:xfrm>
        </p:grpSpPr>
        <p:pic>
          <p:nvPicPr>
            <p:cNvPr id="132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304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6CAD-C872-4DEE-9A6A-A6FF93D18ED0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FD19-6C6F-4C9B-90CD-2100923D1716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E66C-6F47-4B45-9C8E-ED14FF00919F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932B-EAF0-41E0-9D5E-975640B32108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A328-A534-4B15-96CF-737DE787CEB9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B6B3-E926-4D97-B65D-AD12F6B49801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Perpetua"/>
              </a:rPr>
              <a:t>Carbohydrate Metabolism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Perpetua"/>
              </a:rPr>
              <a:t>An overview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2133720" y="3962520"/>
            <a:ext cx="45720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  <a:ea typeface="Arial"/>
              </a:rPr>
              <a:t>Dr. Sooad Al-Da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  <a:ea typeface="Arial"/>
              </a:rPr>
              <a:t>Biochemistry depar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" descr="BioLogo2small"/>
          <p:cNvPicPr/>
          <p:nvPr/>
        </p:nvPicPr>
        <p:blipFill>
          <a:blip r:embed="rId1"/>
          <a:stretch/>
        </p:blipFill>
        <p:spPr>
          <a:xfrm>
            <a:off x="6781680" y="380880"/>
            <a:ext cx="1944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http://advan.physiology.org/content/29/2/128.2/F1.large.jpg"/>
          <p:cNvPicPr/>
          <p:nvPr/>
        </p:nvPicPr>
        <p:blipFill>
          <a:blip r:embed="rId1"/>
          <a:stretch/>
        </p:blipFill>
        <p:spPr>
          <a:xfrm>
            <a:off x="1523880" y="228600"/>
            <a:ext cx="622008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304920" y="1295280"/>
            <a:ext cx="8686800" cy="53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99"/>
                </a:solidFill>
                <a:latin typeface="Cambria"/>
                <a:ea typeface="Arial"/>
              </a:rPr>
              <a:t>Glycolysis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Arial"/>
              </a:rPr>
              <a:t>(a sweet splitting process) is a central pathway for the catabolism of carbohydra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Arial"/>
              </a:rPr>
              <a:t>In which the six-carbon sugars are split to three-carbon compounds with subsequent release of energy used to transform ADP to AT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en-US" sz="2600" spc="-1" strike="noStrike">
                <a:solidFill>
                  <a:srgbClr val="cc0099"/>
                </a:solidFill>
                <a:latin typeface="Cambria"/>
                <a:ea typeface="Arial"/>
              </a:rPr>
              <a:t>Glycolysis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Arial"/>
              </a:rPr>
              <a:t> can proceed under anaerobic (without oxygen) and aerobic conditio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Glycolysis, an overview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…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094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y the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glycolysis,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is the most interesting pathway for studies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s pathway is almost universal across all living organism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Is one of the ancient metabolic pathways in living cell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Box 2"/>
          <p:cNvSpPr/>
          <p:nvPr/>
        </p:nvSpPr>
        <p:spPr>
          <a:xfrm>
            <a:off x="1447920" y="5335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ambria"/>
                <a:ea typeface="Arial"/>
              </a:rPr>
              <a:t>Glycolysis, an overal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3"/>
          <p:cNvSpPr/>
          <p:nvPr/>
        </p:nvSpPr>
        <p:spPr>
          <a:xfrm>
            <a:off x="228600" y="1828800"/>
            <a:ext cx="8686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  <a:ea typeface="Arial"/>
              </a:rPr>
              <a:t>Glycolysis is a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  <a:ea typeface="Arial"/>
              </a:rPr>
              <a:t>10-step pathway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  <a:ea typeface="Arial"/>
              </a:rPr>
              <a:t>which converts glucose to 2     pyruvate molecu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  <a:ea typeface="Arial"/>
              </a:rPr>
              <a:t>The overall Glycolysis step can be written as a net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200" spc="-1" strike="noStrike">
                <a:solidFill>
                  <a:srgbClr val="cc0099"/>
                </a:solidFill>
                <a:latin typeface="Cambria"/>
                <a:ea typeface="Arial"/>
              </a:rPr>
              <a:t>Glucose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  <a:ea typeface="Arial"/>
              </a:rPr>
              <a:t> + 2x </a:t>
            </a:r>
            <a:r>
              <a:rPr b="1" lang="en-GB" sz="2200" spc="-1" strike="noStrike">
                <a:solidFill>
                  <a:srgbClr val="000000"/>
                </a:solidFill>
                <a:latin typeface="Cambria"/>
                <a:ea typeface="Arial"/>
              </a:rPr>
              <a:t>ADP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  <a:ea typeface="Arial"/>
              </a:rPr>
              <a:t> + 2x </a:t>
            </a:r>
            <a:r>
              <a:rPr b="1" lang="en-GB" sz="2200" spc="-1" strike="noStrike">
                <a:solidFill>
                  <a:srgbClr val="000000"/>
                </a:solidFill>
                <a:latin typeface="Cambria"/>
                <a:ea typeface="Arial"/>
              </a:rPr>
              <a:t>NAD</a:t>
            </a:r>
            <a:r>
              <a:rPr b="1" lang="en-GB" sz="2200" spc="-1" strike="noStrike" baseline="30000">
                <a:solidFill>
                  <a:srgbClr val="000000"/>
                </a:solidFill>
                <a:latin typeface="Cambria"/>
                <a:ea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  <a:ea typeface="Arial"/>
              </a:rPr>
              <a:t>                 2x </a:t>
            </a:r>
            <a:r>
              <a:rPr b="1" lang="en-GB" sz="2200" spc="-1" strike="noStrike">
                <a:solidFill>
                  <a:srgbClr val="000000"/>
                </a:solidFill>
                <a:latin typeface="Cambria"/>
                <a:ea typeface="Arial"/>
              </a:rPr>
              <a:t>Pyruvate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  <a:ea typeface="Arial"/>
              </a:rPr>
              <a:t> + 2x </a:t>
            </a:r>
            <a:r>
              <a:rPr b="1" lang="en-GB" sz="2200" spc="-1" strike="noStrike">
                <a:solidFill>
                  <a:srgbClr val="000000"/>
                </a:solidFill>
                <a:latin typeface="Cambria"/>
                <a:ea typeface="Arial"/>
              </a:rPr>
              <a:t>ATP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  <a:ea typeface="Arial"/>
              </a:rPr>
              <a:t> + 2x </a:t>
            </a:r>
            <a:r>
              <a:rPr b="1" lang="en-GB" sz="2200" spc="-1" strike="noStrike">
                <a:solidFill>
                  <a:srgbClr val="000000"/>
                </a:solidFill>
                <a:latin typeface="Cambria"/>
                <a:ea typeface="Arial"/>
              </a:rPr>
              <a:t>NAD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Glycolysis consists from two main ph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cc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Arial"/>
              </a:rPr>
              <a:t>First phase, energy invest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cc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Arial"/>
              </a:rPr>
              <a:t>Second phase, energy generation</a:t>
            </a:r>
            <a:r>
              <a:rPr b="0" lang="en-GB" sz="2400" spc="-1" strike="noStrike">
                <a:solidFill>
                  <a:srgbClr val="0000ff"/>
                </a:solidFill>
                <a:latin typeface="Cambria"/>
                <a:ea typeface="Arial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0" name="Straight Arrow Connector 5"/>
          <p:cNvCxnSpPr/>
          <p:nvPr/>
        </p:nvCxnSpPr>
        <p:spPr>
          <a:xfrm>
            <a:off x="3733920" y="3885840"/>
            <a:ext cx="915120" cy="1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Glycolysis pathwa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22" name="Picture 2" descr="http://upload.wikimedia.org/wikipedia/commons/thumb/a/a0/Glycolysis.svg/1024px-Glycolysis.svg.png"/>
          <p:cNvPicPr/>
          <p:nvPr/>
        </p:nvPicPr>
        <p:blipFill>
          <a:blip r:embed="rId1"/>
          <a:stretch/>
        </p:blipFill>
        <p:spPr>
          <a:xfrm>
            <a:off x="152280" y="1676520"/>
            <a:ext cx="88394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ATP Summary for Glycolysis</a:t>
            </a: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: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914400" y="2743200"/>
          <a:ext cx="7531200" cy="2895480"/>
        </p:xfrm>
        <a:graphic>
          <a:graphicData uri="http://schemas.openxmlformats.org/drawingml/2006/table">
            <a:tbl>
              <a:tblPr/>
              <a:tblGrid>
                <a:gridCol w="3886200"/>
                <a:gridCol w="36450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ATP produc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ATP consum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4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ATP (substrate level phosphorylation: 2 ATP from 1,3 DPG an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 ATP from phosphoenol pyruvate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 rowSpan="2">
                  <a:txBody>
                    <a:bodyPr lIns="19080" rIns="19080" tIns="19080" bIns="1908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(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TP from glucose to glucose-6-p and 1ATP from fructose-6-P to fructose-1,6 –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79056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6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ATP (from oxidation of 2 NADH in mitochondri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42217"/>
                          </a:solidFill>
                          <a:latin typeface="Cambria"/>
                          <a:ea typeface="Arial"/>
                        </a:rPr>
                        <a:t>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10</a:t>
                      </a:r>
                      <a:r>
                        <a:rPr b="1" lang="en-US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 -</a:t>
                      </a:r>
                      <a:r>
                        <a:rPr b="1" lang="en-US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 =</a:t>
                      </a:r>
                      <a:r>
                        <a:rPr b="1" lang="en-US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8</a:t>
                      </a:r>
                      <a:r>
                        <a:rPr b="1" lang="en-US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A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  <p:sp>
        <p:nvSpPr>
          <p:cNvPr id="525" name="Rectangle 4"/>
          <p:cNvSpPr/>
          <p:nvPr/>
        </p:nvSpPr>
        <p:spPr>
          <a:xfrm>
            <a:off x="762120" y="16002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Starting with glucose (six carbons) how many ATP are made using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  <a:ea typeface="Arial"/>
              </a:rPr>
              <a:t>aerobic glycolysi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9"/>
          <p:cNvSpPr/>
          <p:nvPr/>
        </p:nvSpPr>
        <p:spPr>
          <a:xfrm>
            <a:off x="508320" y="304920"/>
            <a:ext cx="28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  <a:ea typeface="Arial"/>
              </a:rPr>
              <a:t>Fermentation</a:t>
            </a:r>
            <a:r>
              <a:rPr b="0" lang="en-US" sz="3600" spc="-1" strike="noStrike">
                <a:solidFill>
                  <a:srgbClr val="0000ff"/>
                </a:solidFill>
                <a:latin typeface="Cambria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380880" y="1066680"/>
            <a:ext cx="87631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Arial"/>
              </a:rPr>
              <a:t>Fermentation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 Pathway, from glucose to lactat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glucose + 2 ADP + 2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mbria"/>
                <a:ea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                2 lactate + 2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Arial"/>
              </a:rPr>
              <a:t>Anaerobic catabolism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of glucose yields only 2 </a:t>
            </a:r>
            <a:r>
              <a:rPr b="0" lang="ja-JP" sz="2400" spc="-1" strike="noStrike">
                <a:solidFill>
                  <a:srgbClr val="000000"/>
                </a:solidFill>
                <a:latin typeface="Cambria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high energy</a:t>
            </a:r>
            <a:r>
              <a:rPr b="0" lang="ja-JP" sz="2400" spc="-1" strike="noStrike">
                <a:solidFill>
                  <a:srgbClr val="000000"/>
                </a:solidFill>
                <a:latin typeface="Cambria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  bonds of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Arial"/>
              </a:rPr>
              <a:t>Lactate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, in addition to being an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  <a:ea typeface="Arial"/>
              </a:rPr>
              <a:t>end-product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 of fermentation, serves as a mobile form of nutrient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Cell membranes contain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  <a:ea typeface="Arial"/>
              </a:rPr>
              <a:t>carrier proteins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that facilitate transport of lac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Straight Arrow Connector 12"/>
          <p:cNvCxnSpPr/>
          <p:nvPr/>
        </p:nvCxnSpPr>
        <p:spPr>
          <a:xfrm>
            <a:off x="4114800" y="1676160"/>
            <a:ext cx="991440" cy="1080"/>
          </a:xfrm>
          <a:prstGeom prst="straightConnector1">
            <a:avLst/>
          </a:prstGeom>
          <a:ln w="38160">
            <a:solidFill>
              <a:srgbClr val="cc0099"/>
            </a:solidFill>
            <a:miter/>
            <a:tailEnd len="med" type="arrow" w="med"/>
          </a:ln>
        </p:spPr>
      </p:cxnSp>
      <p:pic>
        <p:nvPicPr>
          <p:cNvPr id="529" name="Picture 27" descr="http://www.rpi.edu/dept/bcbp/molbiochem/MBWeb/mb1/part2/images/lactate.gif"/>
          <p:cNvPicPr/>
          <p:nvPr/>
        </p:nvPicPr>
        <p:blipFill>
          <a:blip r:embed="rId1"/>
          <a:stretch/>
        </p:blipFill>
        <p:spPr>
          <a:xfrm>
            <a:off x="5867280" y="5027760"/>
            <a:ext cx="289584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ome anaerobic organisms metabolize pyruvate to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ethanol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which is excreted as a waste product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ADH is converted to NA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mbri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in the reaction catalyzed by Alcohol Dehydrogenas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31" name="Picture 28" descr="http://www.rpi.edu/dept/bcbp/molbiochem/MBWeb/mb1/part2/images/etoh.gif"/>
          <p:cNvPicPr/>
          <p:nvPr/>
        </p:nvPicPr>
        <p:blipFill>
          <a:blip r:embed="rId1"/>
          <a:stretch/>
        </p:blipFill>
        <p:spPr>
          <a:xfrm>
            <a:off x="2743200" y="4191120"/>
            <a:ext cx="3933720" cy="16002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0" i="1" lang="en-US" sz="4000" spc="-1" strike="noStrike">
                <a:solidFill>
                  <a:srgbClr val="0000ff"/>
                </a:solidFill>
                <a:latin typeface="Cambria"/>
              </a:rPr>
              <a:t>…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ATP Summary for Glycolysis</a:t>
            </a: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: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914400" y="2743200"/>
          <a:ext cx="7772400" cy="27590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ATP produc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ATP consum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166068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4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ATP (substrate level phosphorylation: 2 ATP from 1,3 DPG an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 ATP from phosphoenol pyruvate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(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TP from glucose to glucose-6-p and 1ATP from fructose-6-P to fructose-1,6 –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42217"/>
                          </a:solidFill>
                          <a:latin typeface="Cambria"/>
                          <a:ea typeface="Arial"/>
                        </a:rPr>
                        <a:t>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 - </a:t>
                      </a:r>
                      <a:r>
                        <a:rPr b="1" lang="en-US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 = </a:t>
                      </a:r>
                      <a:r>
                        <a:rPr b="1" lang="en-US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A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535" name="Rectangle 4"/>
          <p:cNvSpPr/>
          <p:nvPr/>
        </p:nvSpPr>
        <p:spPr>
          <a:xfrm>
            <a:off x="762120" y="16002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Starting with glucose (six carbons) how many ATP are made using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  <a:ea typeface="Arial"/>
              </a:rPr>
              <a:t>anaerobic glycolysi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06:44:31Z</dcterms:created>
  <dc:creator>aalghanouchi</dc:creator>
  <dc:description/>
  <dc:language>en-US</dc:language>
  <cp:lastModifiedBy>i Mac </cp:lastModifiedBy>
  <dcterms:modified xsi:type="dcterms:W3CDTF">2012-03-05T15:52:54Z</dcterms:modified>
  <cp:revision>80</cp:revision>
  <dc:subject/>
  <dc:title>Slide 1</dc:title>
</cp:coreProperties>
</file>