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6D9-1BCD-4AF0-8EA2-EFCCDE9B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6DB-A1B7-4F1B-BE99-6EB4933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FA24B-F085-423B-97A6-6C4E10B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5DB65-03AE-4098-A209-07573A8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0E27A-396F-4713-B8AF-0D02C5F7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2EDCB-0E6E-49CE-B1DE-38ABB7F2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02C69-1D4E-44B3-B5E8-82B8B3A9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DAEB3-AD5E-4391-B685-AE1E3A49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44D8-4838-47E5-B898-C1AE9527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EAD8-D17A-4D56-9EB3-9B8AEB31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1735F-9300-419E-90BF-210A2BBF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12250-42E0-4C00-A277-75A8D896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5D5-6F37-4165-AFA7-06F99B76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82148-7B90-4374-93AF-1C9ADBA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72B84-8E79-465F-B914-0D215E3D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70DFD-E339-4850-8F4D-E17BB992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13E95-E63A-4366-B8AC-EBC1247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A866B-2DD8-4089-AC5C-502709D4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3163C-834A-47A9-9401-0557D7A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E1BB4-167A-4F23-9AB7-35E8AB4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81BAC-C126-48C9-8DBB-DC06A66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059D4-7114-4690-96D7-47A3DB8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E33CD-9376-4033-A746-1B3E2949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EB5-2EB0-4486-814E-8EF6AB51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8F2A-08E4-4885-927F-A69A5F36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255F0-185F-4209-9E4B-D043B0B8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3A174-0483-4A10-BFFD-5AAD815B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7D13F-4C93-40EE-96C0-01EC040D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46A2-C266-4D53-9862-F2780D49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DCC9-7891-4F42-B7EB-527DD89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61075-12D2-4340-925E-8E075606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8D452-C4DA-485A-BB3A-07020B6A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72357-5C3B-4E4C-B37A-2330CBC0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6459C-E527-4739-B066-49B511B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92E7-BAC4-40E5-BEBC-3AE6B8DF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C6619-1C47-4D65-9D33-65C10D7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74A32-AB1A-4FF2-BAB3-DB550A5B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1ADCA-B5A4-4D33-A926-8D5E25B4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E7E9A-782F-4E2B-BAA5-3063F40F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89A14-FF5A-43D2-A41C-21FFBAC9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C0D2A-56C5-4C83-9881-CF1B98D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7CA9D-F20A-4283-9478-F897E773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8E5BE-C2A9-4C00-9301-C3788AD1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F21F8-8E41-44A7-AF96-CFD9CA0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7A478-489D-43AA-B652-A0948A0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A4B9-0C0F-409F-8D94-2A2BFD4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C7ADC-BE2D-436A-ADDC-197C414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A0DF5-BAAE-4BF6-827A-482B7751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5556F-D914-479E-B682-A1179CE8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5FA9E-DA85-4169-9CA2-BD6A453E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BE25A-7FA2-4B63-8DD0-918DEA7B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B300-2AF4-4A3D-9632-F6F82168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F5E4-0ADE-4523-966C-DD54132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C044-FAD4-480F-8FDC-94F2601D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8288-DA7F-46D2-8D14-6B076F4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606-0990-4175-8D08-27AFD0BA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44AB-F0D3-4ED6-9A65-EC2259E3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4BE-B1D4-4EBE-9DBD-A926CDA1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7AB2-8539-413C-B298-B27C71EB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3EF1-B240-4A90-A6FD-71A0734B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654-B873-4B94-99A2-669353CF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CC0E-27C2-44F9-9110-B07CF454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CC77D-0402-4F45-9765-48D92ADE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FE7AC-D877-4CC0-A782-D11ADADB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83D3C-357C-4513-A162-73FC0E46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61B9-1E2D-48B4-9CD3-B20C6ACA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F6A71-1F81-4F26-9CA9-239E119B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536-1359-4DE6-BFF1-A0F09B7D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5F500-1755-4D65-874B-91A1E2EC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9C9D-4B48-4BDD-8DFB-95C4D6D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EE6FC-7FA4-489F-9961-9288892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D93D-4934-4948-AA7A-AD9A64B0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32C53-D50A-4546-BC96-367225E4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84AC-CC8B-498F-8A6B-AD5D96B3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0C6F-E5FD-4ED4-9347-39ECE9B9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7AC7-FF8B-4B26-8645-8E3268B1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7771-AA37-4336-BD2D-D96436C9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86252-0658-4EE0-8C34-6D22CA99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567-F984-4F4E-821F-32ACDD12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43E03-EB22-4298-BD42-C4D159B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0134-FB18-47BD-9BD6-E468229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F8C5-DE86-430D-9934-ADA31B1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5D9C-304E-4B53-9A16-1989AEB4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C2F3-16CE-4DFF-A95E-D0A84949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52819-22DC-4BB7-91F5-67F41067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6B472-D677-4965-99C8-994B6756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5AB74-5BEA-4A56-9A5D-AFB91EB9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F84D8-528E-488C-8A66-A1BCF14C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E2EC4-00D2-469A-8430-F9611ABA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067-543F-4A20-B66A-A8166808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783E-6888-44E0-9E3D-FCD95A6C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FBD68-2544-45A9-95A8-481CD4B7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BA71-D197-42E6-83EC-CAE602D1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A1664-3379-4524-AACE-A7A6EE9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A5F2C-A48F-4383-8071-3ACC21CC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901A3-0F32-4797-8137-16B01A0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D234-21A9-428D-85C2-76699D6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6E06D-7E76-4F14-9B40-AFCC5D6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AD9CE-F808-4CE7-B1BF-EEE9C8AD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643E7-BCD8-42D1-9553-B5A47A4B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375-C3AA-404B-A18B-52A892A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71A20-5609-4837-9BFA-AED7B8B8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37FED-43FA-4F29-9235-F51F8727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092A-B6A5-4298-BF8D-D3D2D941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7213-9711-4AED-8DA9-49EFF64C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72A99-D88E-47A8-9F59-D37CE6CD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0A17-BAA2-4F0A-B817-7348C0F4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57E1E-9392-4A8D-A335-1F9DC60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371B5-D0E2-469E-850A-36A7180A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F4C5-9100-4C61-9C47-76678BDB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E37B0-6508-4FBA-8801-16BD73A7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BF6-4108-4E87-B760-0F6F3B0B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16E0-2B24-467F-9295-1B4FEA88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8AF88-0D70-47B2-8929-B8C8071E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C79D4-1E3B-42C6-8340-19726BA5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EC6ED-3D43-457F-918F-C257C6D6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E034-04C6-44E0-8494-F4BA2F96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2C65A-F403-45D7-A3F1-EA29853B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655E8-ADC7-48E7-B41A-8FA1BD9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5587-8ADC-4A92-B2E6-F16A74F8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DBC86-3DA9-49E1-9441-086209E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14AB-4158-45A8-9B1C-F17C3D8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22D3-0802-4992-A3BB-00C1C2F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E3784-DACE-436B-9BCC-6F94E6E8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57D31-AD30-4C7B-9ED5-9092FD6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357B5-714C-491D-B5BF-3762B621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56E0-D6B5-40D7-A9CA-B65FCD8B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79F9B-5405-489D-9391-3C46BAAE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40DA4-2F6A-46EF-A3C4-F8B27AF5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77A8B-B65D-4390-8B1F-5B89F5D7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26F2-AD45-43C6-8E29-FE800B68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86A2-CB49-419B-B239-259FCAEF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C47F5-7AA3-421D-AD0C-FAFDA56A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3CB4-AD0C-4F36-B813-CDC62832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BD323-35AD-49EB-B260-BBB0E58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29DB-4744-493A-B28D-3D594AD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3C129-0112-4E4A-8779-FB3BEE5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90A14-B0E5-4991-88D2-8ABAB65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FCBCE-2AF1-4117-AE67-38A06213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06218-7B05-4B15-AC1F-B5B2A6A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AA0B-8B09-4FF3-AFC1-F6A81B42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2C64A-1907-4C4D-914E-145EB18F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AD7DE-794A-4810-A73F-407E426E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88DC8-A433-4D83-A945-DFDA8ED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9558-AF3C-4B55-B006-3DA6131FA402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9C7-CB2B-4452-91E6-1988DD397D95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8CA5-D6EB-4357-A4D3-A91251DD12A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71BA-5191-47C1-ADB0-96F83755BA8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EF04-163F-4E40-A853-6DE5844DEB8E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AF6F-7141-4205-A8DF-BEDDE0780256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13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4EFF-AA6A-4AAE-B2AE-AFF68F26DA63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0563-60AB-4BAD-9996-1DADFDDCE7B9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3791-D8C2-4358-882F-23364683788D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1ED2-7A9B-444C-8819-39BF69CF0B64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C425-0DC2-45E0-ADEC-1D57C15D949A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100D-CB18-488C-B535-AB2265DCF6D0}" type="slidenum">
              <a:rPr b="0" lang="en-US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Carbohydrate Metabolism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Perpetua"/>
              </a:rPr>
              <a:t>An overview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2133720" y="3962520"/>
            <a:ext cx="457200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Dr. Sooad Al-Da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Cambria"/>
                <a:ea typeface="Arial"/>
              </a:rPr>
              <a:t>Biochemistry depar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2" descr="BioLogo2small"/>
          <p:cNvPicPr/>
          <p:nvPr/>
        </p:nvPicPr>
        <p:blipFill>
          <a:blip r:embed="rId1"/>
          <a:stretch/>
        </p:blipFill>
        <p:spPr>
          <a:xfrm>
            <a:off x="6781680" y="380880"/>
            <a:ext cx="194472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http://advan.physiology.org/content/29/2/128.2/F1.large.jpg"/>
          <p:cNvPicPr/>
          <p:nvPr/>
        </p:nvPicPr>
        <p:blipFill>
          <a:blip r:embed="rId1"/>
          <a:stretch/>
        </p:blipFill>
        <p:spPr>
          <a:xfrm>
            <a:off x="1523880" y="228600"/>
            <a:ext cx="622008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1295280"/>
            <a:ext cx="868680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Arial"/>
              </a:rPr>
              <a:t>Glycolysis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(a sweet splitting process) is a central pathway for the catabolism of carbohydr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In which the six-carbon sugars are split to three-carbon compounds with subsequent release of energy used to transform ADP to AT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600" spc="-1" strike="noStrike">
                <a:solidFill>
                  <a:srgbClr val="cc0099"/>
                </a:solidFill>
                <a:latin typeface="Cambria"/>
                <a:ea typeface="Arial"/>
              </a:rPr>
              <a:t>Glycolysis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  <a:ea typeface="Arial"/>
              </a:rPr>
              <a:t> can proceed under anaerobic (without oxygen) and aerobic condi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Glycolysis, an overview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cc0099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Why the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glycolysis,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the most interesting pathway for studie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s pathway is almost universal across all living organis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s one of the ancient metabolic pathways in living cell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2"/>
          <p:cNvSpPr/>
          <p:nvPr/>
        </p:nvSpPr>
        <p:spPr>
          <a:xfrm>
            <a:off x="1447920" y="5335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ambria"/>
                <a:ea typeface="Arial"/>
              </a:rPr>
              <a:t>Glycolysis, an overal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3"/>
          <p:cNvSpPr/>
          <p:nvPr/>
        </p:nvSpPr>
        <p:spPr>
          <a:xfrm>
            <a:off x="228600" y="1828800"/>
            <a:ext cx="8686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Glycolysis is a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10-step pathway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which converts glucose to 2     pyruvat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  <a:ea typeface="Arial"/>
              </a:rPr>
              <a:t>The overall Glycolysis step can be written as a net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200" spc="-1" strike="noStrike">
                <a:solidFill>
                  <a:srgbClr val="cc0099"/>
                </a:solidFill>
                <a:latin typeface="Cambria"/>
                <a:ea typeface="Arial"/>
              </a:rPr>
              <a:t>Glucos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AD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NAD</a:t>
            </a:r>
            <a:r>
              <a:rPr b="1" lang="en-GB" sz="2200" spc="-1" strike="noStrike" baseline="30000">
                <a:solidFill>
                  <a:srgbClr val="000000"/>
                </a:solidFill>
                <a:latin typeface="Cambria"/>
                <a:ea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               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Pyruvate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ATP</a:t>
            </a:r>
            <a:r>
              <a:rPr b="0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+ 2x </a:t>
            </a: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NAD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Glycolysis consists from two main ph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irst phase, energy inves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Second phase, energy generation</a:t>
            </a:r>
            <a:r>
              <a:rPr b="0" lang="en-GB" sz="2400" spc="-1" strike="noStrike">
                <a:solidFill>
                  <a:srgbClr val="0000ff"/>
                </a:solidFill>
                <a:latin typeface="Cambria"/>
                <a:ea typeface="Arial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5"/>
          <p:cNvCxnSpPr/>
          <p:nvPr/>
        </p:nvCxnSpPr>
        <p:spPr>
          <a:xfrm>
            <a:off x="3733920" y="3885840"/>
            <a:ext cx="915120" cy="1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mbria"/>
              </a:rPr>
              <a:t>Glycolysis pathwa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22" name="Picture 2" descr="http://upload.wikimedia.org/wikipedia/commons/thumb/a/a0/Glycolysis.svg/1024px-Glycolysis.svg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914400" y="2743200"/>
          <a:ext cx="7531200" cy="2895480"/>
        </p:xfrm>
        <a:graphic>
          <a:graphicData uri="http://schemas.openxmlformats.org/drawingml/2006/table">
            <a:tbl>
              <a:tblPr/>
              <a:tblGrid>
                <a:gridCol w="3886200"/>
                <a:gridCol w="36450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pro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substrate level phosphorylation: 2 ATP from 1,3 DPG an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ATP from phosphoenol pyruvat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 from glucose to glucose-6-p and 1ATP from fructose-6-P to fructose-1,6 –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905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from oxidation of 2 NADH in mitochondr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  <a:ea typeface="Arial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10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-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=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  <p:sp>
        <p:nvSpPr>
          <p:cNvPr id="52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9"/>
          <p:cNvSpPr/>
          <p:nvPr/>
        </p:nvSpPr>
        <p:spPr>
          <a:xfrm>
            <a:off x="508320" y="304920"/>
            <a:ext cx="28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Fermentation</a:t>
            </a:r>
            <a:r>
              <a:rPr b="0" lang="en-US" sz="3600" spc="-1" strike="noStrike">
                <a:solidFill>
                  <a:srgbClr val="0000ff"/>
                </a:solidFill>
                <a:latin typeface="Cambri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380880" y="1066680"/>
            <a:ext cx="87631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Fermentation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Pathway, from glucose to lactat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glucose + 2 ADP + 2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mbria"/>
                <a:ea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              2 lactate + 2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Anaerobic catabolism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of glucose yields only 2 </a:t>
            </a:r>
            <a:r>
              <a:rPr b="0" lang="ja-JP" sz="2400" spc="-1" strike="noStrike">
                <a:solidFill>
                  <a:srgbClr val="000000"/>
                </a:solidFill>
                <a:latin typeface="Cambria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high energy</a:t>
            </a:r>
            <a:r>
              <a:rPr b="0" lang="ja-JP" sz="2400" spc="-1" strike="noStrike">
                <a:solidFill>
                  <a:srgbClr val="000000"/>
                </a:solidFill>
                <a:latin typeface="Cambria"/>
                <a:ea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 bonds of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mbria"/>
                <a:ea typeface="Arial"/>
              </a:rPr>
              <a:t>Lactate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, in addition to being a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end-product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of fermentation, serves as a mobile form of nutrien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Cell membranes contain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carrier proteins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that facilitate transport of lac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8" name="Straight Arrow Connector 12"/>
          <p:cNvCxnSpPr/>
          <p:nvPr/>
        </p:nvCxnSpPr>
        <p:spPr>
          <a:xfrm>
            <a:off x="4114800" y="1676160"/>
            <a:ext cx="991440" cy="1080"/>
          </a:xfrm>
          <a:prstGeom prst="straightConnector1">
            <a:avLst/>
          </a:prstGeom>
          <a:ln w="38160">
            <a:solidFill>
              <a:srgbClr val="cc0099"/>
            </a:solidFill>
            <a:miter/>
            <a:tailEnd len="med" type="arrow" w="med"/>
          </a:ln>
        </p:spPr>
      </p:cxnSp>
      <p:pic>
        <p:nvPicPr>
          <p:cNvPr id="529" name="Picture 27" descr="http://www.rpi.edu/dept/bcbp/molbiochem/MBWeb/mb1/part2/images/lactate.gif"/>
          <p:cNvPicPr/>
          <p:nvPr/>
        </p:nvPicPr>
        <p:blipFill>
          <a:blip r:embed="rId1"/>
          <a:stretch/>
        </p:blipFill>
        <p:spPr>
          <a:xfrm>
            <a:off x="5867280" y="5027760"/>
            <a:ext cx="2895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Some anaerobic organisms metabolize pyruvate to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</a:rPr>
              <a:t>ethanol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which is excreted as a waste product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just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NADH is converted to NA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mbri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in the reaction catalyzed by Alcohol Dehydrogena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31" name="Picture 28" descr="http://www.rpi.edu/dept/bcbp/molbiochem/MBWeb/mb1/part2/images/etoh.gif"/>
          <p:cNvPicPr/>
          <p:nvPr/>
        </p:nvPicPr>
        <p:blipFill>
          <a:blip r:embed="rId1"/>
          <a:stretch/>
        </p:blipFill>
        <p:spPr>
          <a:xfrm>
            <a:off x="2743200" y="4191120"/>
            <a:ext cx="3933720" cy="16002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Continue</a:t>
            </a:r>
            <a:r>
              <a:rPr b="0" i="1" lang="en-US" sz="4000" spc="-1" strike="noStrike">
                <a:solidFill>
                  <a:srgbClr val="0000ff"/>
                </a:solidFill>
                <a:latin typeface="Cambria"/>
              </a:rPr>
              <a:t>…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ATP Summary for Glycolysis</a:t>
            </a:r>
            <a:r>
              <a:rPr b="0" lang="en-GB" sz="3600" spc="-1" strike="noStrike">
                <a:solidFill>
                  <a:srgbClr val="0000ff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914400" y="2743200"/>
          <a:ext cx="7772400" cy="27590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produ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ATP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6606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4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ATP (substrate level phosphorylation: 2 ATP from 1,3 DPG an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ATP from phosphoenol pyruvat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(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P from glucose to glucose-6-p and 1ATP from fructose-6-P to fructose-1,6 –P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42217"/>
                          </a:solidFill>
                          <a:latin typeface="Cambria"/>
                          <a:ea typeface="Arial"/>
                        </a:rPr>
                        <a:t>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-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=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742217"/>
                          </a:solidFill>
                          <a:latin typeface="Cambria"/>
                        </a:rPr>
                        <a:t>A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535" name="Rectangle 4"/>
          <p:cNvSpPr/>
          <p:nvPr/>
        </p:nvSpPr>
        <p:spPr>
          <a:xfrm>
            <a:off x="762120" y="16002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Starting with glucose (six carbons) how many ATP are made using </a:t>
            </a:r>
            <a:r>
              <a:rPr b="0" lang="en-US" sz="2400" spc="-1" strike="noStrike">
                <a:solidFill>
                  <a:srgbClr val="cc0099"/>
                </a:solidFill>
                <a:latin typeface="Cambria"/>
                <a:ea typeface="Arial"/>
              </a:rPr>
              <a:t>anaerobic glycolysis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06:44:31Z</dcterms:created>
  <dc:creator>aalghanouchi</dc:creator>
  <dc:description/>
  <dc:language>en-US</dc:language>
  <cp:lastModifiedBy>i Mac </cp:lastModifiedBy>
  <dcterms:modified xsi:type="dcterms:W3CDTF">2012-03-05T15:52:54Z</dcterms:modified>
  <cp:revision>80</cp:revision>
  <dc:subject/>
  <dc:title>Slide 1</dc:title>
</cp:coreProperties>
</file>