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4F2-BA9C-4A1E-8418-00EB605F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F0D-E5CD-4E58-AB23-3D7A7A16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B31C1-6CA1-481C-B14E-88019781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4A654-13B5-45C9-85F4-42BDEB30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C88EC-9051-47FF-9853-27423497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A219A-CFE4-4FDF-A9F0-9AB7F785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571D5-DA8B-43A3-9C50-95D355B3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A636D-A5AB-4814-A0F7-46563EBF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EF809-3048-4AFE-ACB3-7D2BEFDB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EA5C5-6940-4BAE-9DA2-78911361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E9E26-9035-4E62-9BF0-42F5BBFC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D307B-228F-4D9E-BA3E-D67DB0C3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044-1411-4250-A320-ACBFFB1C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2E800-9FAB-4D51-A4C8-3ED340C4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06A12-6525-4E4F-88C1-C537C41D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7FDF7-8F93-498C-A985-2DB0B58A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16F96-4806-4D0D-BB81-2646A97A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A136E-07D5-4A75-8788-FA3E909B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19863-D1F6-4181-83E2-DB51386C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200FE-4D4D-45EC-9284-AF62E78F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F8AB4-B216-4A73-B457-3EB6D6A9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AD286-3157-4657-9A9A-20C2E9CC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1D3BE-30B5-43D1-B99F-03A53E70B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2C1-D9BA-45CC-9F19-25FBDBCE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CA83F-2BB3-45F8-9F7B-D25C3764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433DF-A2BC-4B16-AF98-D3C95359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8A53F-B71F-4512-A044-8CBD3F6E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CC89A-55EC-4084-9E6A-AF7633C8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87AE3-02B5-425F-9256-1725F516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B41D0-05DF-4CD1-8974-9AEEC5B3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59DD0-AA81-4DDA-BF9B-00F433A3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B3A98-4361-4FEB-997E-301DF67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A2354-3F0B-4670-9293-9659437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8542B-41F5-4976-95DB-E6A612E5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4E60-9F84-415F-9618-21F655C9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AD58C-170C-4A9C-BCB5-80B0FBB9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F9275-9FD2-40CC-AFE0-859F51C7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81F51-F6C2-4C37-8962-86B29DA2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B9B95-E554-415F-8BA1-943AFC75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A3F89-205B-46E0-AFD4-0ACABB76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6263C-F875-4BC8-A91B-F701C945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F669B-783F-4449-8139-393900D5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BB916-5666-489A-A3A2-0DA33F47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67736-E12B-4C49-9E6D-D37E56C2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9C42A-7C12-4284-9B28-9D42E1DD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1408-14A0-4C1C-8C7D-EC6CE9FE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C2B19-C71E-4DF9-BCEC-078BF979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BEF70-4E97-4747-8D8D-8366E8B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4B852-FFBA-4E54-B60E-E8715B24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09B3F-0764-4EAA-A22D-9F6ECE73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D6CDA-42E5-4235-9651-E9F1FE86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312C-8E79-4B36-A746-B4B94E8A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5F92-6EFA-4459-BC01-3128325F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6046-BEF7-460A-B009-AA505F81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316B-AE2D-4146-8428-D558CE17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D16B-2396-48D2-9218-28F2A01A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ADB-2A1F-43DD-9AFB-CEDCE52B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3B11-D098-4300-A474-C1D3A82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1AE8-B0EB-4B49-9E1C-1052321C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6166-996D-4312-8F24-00D7CB3D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4B44-2E90-4962-8776-2BCBE32C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32DF-A649-4400-9841-D0A6A814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D3D1E-2D96-4F2D-B0BD-BE9D58B0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92D6-81D6-4596-AAFD-2C52526F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7784-A22D-452B-BE26-F929C1D1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AF5DF-E046-4B12-AC64-65014F69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24D4-49F8-469B-9268-0089A363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89D0-A66C-45B5-9AF3-12AE123C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1926-6203-4BE3-B517-993E1766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3827-2EDC-44DB-933C-812D3219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ADAF2-8F95-45B3-A30B-A86798B7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FEA2-E281-4342-A45E-5A809969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1E24-8F15-4F51-8919-174114AC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02851-B661-4560-9165-F49FAEA2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DE9D8-F577-4F35-B7D2-E2AFAF66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0FA75-98C8-46FD-8FD4-891B0E59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EF47-A92C-4A88-ABB1-0C0B5094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E606-E867-4FB0-BFC0-836CAA89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A1E-85DE-4114-86C8-B6DDB3D9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824BB-B1C5-4C28-941D-5E0C6E7D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2413-E0AA-460A-B3DC-C9523AA9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E4069-8A1C-4E39-902D-0E9A844B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507F7-AC68-4EDB-B59A-F52EEF11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15CF0-1695-4EC4-95C4-798713C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AD034-88C9-48E0-813D-3F7A633B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77AA0-42D5-48C7-9D48-13C2809A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42F92-A6E0-4776-9053-5E1CE81A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6301-DF80-4346-AB9C-91153CC4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B600C-2FAB-4279-AB4B-774AA9F5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862-0EF1-4DD1-AB9A-457E8490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BB536-DAC5-4135-BFA4-04860A57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06850-1932-45F6-A5A1-17F0D736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1A608-14BF-42E6-9762-1DE5C481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708CA-7D13-4F30-92D9-C8E618E5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54CC1-904A-4085-9BC1-BB4DBD34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3A25B-5EF9-407D-B82A-23874128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81A1B-4849-42C2-9679-E724F2AA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0EE02-41D8-48F8-9D49-5429D9EA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DA721-665B-449F-88AB-C3853F1D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F0C3-CECD-4F4E-8CF0-3AA7A159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859-567F-4C58-A4B0-7E81DF7B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4EA96-7037-41CE-ADBB-628021F0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ADB16-9E78-434D-95D3-6ECF4038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2EFFF-D516-4415-B365-7A0E0823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B76C-7E08-4C27-9298-839EF92C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E31CE-0597-4098-BEFC-F5075092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2C5C8-1466-4C47-8706-85F2033D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A21B4-D71F-4AFC-B5FB-FECF628C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5A0B9-D93E-40FD-B665-E4C1CBD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4D4C9-C720-41B0-A395-527DD555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FC6F2-E89B-4478-8BCE-99C7229C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7CD-FFB1-422F-8957-7323681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C5EF8-EA79-445A-ABDE-7CF1BA32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FEA02-5C31-4CF5-8036-6250DBAF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4715A-FDD6-4C90-85ED-CF664002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40B1F-993C-44FB-B034-AACA5BB4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22EB-875E-4EEB-92F4-D98D362E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AC0A7-C80A-4D32-B5EF-755F06C1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04588-635E-4671-A994-C4659BC6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3BD1A-8D78-45E6-81E0-11E9BDC1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E982A-C7DF-4437-89A6-C9EF3BD4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0CC4A-85EF-491A-9655-2ECBF159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364-F9F1-40B2-BCFF-995C77B2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10195-61E5-4418-BB46-9B9F24AE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276C0-5137-4674-922F-20A1B42F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AAA0D-EE97-4B9C-92A7-EA8FB54C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40BAD-F5EA-4923-A057-47731F2C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8C104-9065-4096-8461-FC76437B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0A9FB-9779-4678-9039-4F8571A7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058C7-8FA8-4DAA-AB40-18C6F58D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51016-99C0-47BA-BF63-9B9C9CD7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E3565-F843-4BA9-B525-14DA0A0F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1C7A1-EA8F-48E8-8B18-A93E108F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133-A8A9-4FD8-891D-9782BD8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9DFF0-43D2-4701-AD83-981C0082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569DA-AF0E-4A3D-A668-2C6CC51F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25C81-3ED3-4DCB-B02A-02AA181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47091-32F4-41A6-ADD1-0957217A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477CD-8121-45B0-A1CF-12646304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0ECC1-6500-4DDE-9E51-B0EF2AFA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74A84-FCAF-4C71-9BD6-F3E6CDD6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6D482-80ED-4FEC-B9A9-869755CA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7C4A8-CA40-4F31-8A23-BA65C129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FE6DD-2A91-42B4-BE3E-0D2362E1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7C13-BD9F-4960-8688-CD619F04F3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E430-67FB-41BA-A38C-53DD889F700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7FB2-0459-4DFE-81F2-EDE9949C791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D02E-E864-4517-BED1-309C120127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4B2B-2968-40C0-AB74-3BB43C4ABA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DD93-E20C-4141-87F4-37ACB0ADD1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A8AB-1A42-4737-85DA-94A4B2DBBA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2199-C6A6-4AC4-A018-9FF5DE312EF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3F4D-C570-49D6-A30A-42158A35FB1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2A6A-3CB0-42DB-A5BD-E322B435C97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DC5F-83AA-4A59-8F8B-38A473555C6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FCF6-CC58-472E-960D-2AF27C8B11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Carbohydrate Metabolism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An 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ttp://advan.physiology.org/content/29/2/128.2/F1.large.jpg"/>
          <p:cNvPicPr/>
          <p:nvPr/>
        </p:nvPicPr>
        <p:blipFill>
          <a:blip r:embed="rId1"/>
          <a:stretch/>
        </p:blipFill>
        <p:spPr>
          <a:xfrm>
            <a:off x="1523880" y="228600"/>
            <a:ext cx="622008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04920" y="1295280"/>
            <a:ext cx="868680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Glycolysis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a sweet splitting process) is a central pathway for the catabolism of carbohydr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n which the six-carbon sugars are split to three-carbon compounds with subsequent release of energy used to transform ADP to A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Glycolysis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can proceed under anaerobic (without oxygen) and aerobic condi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Glycolysis, an overview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y the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glycolysis,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the most interesting pathway for studie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pathway is almost universal across all living organism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one of the ancient metabolic pathways in living cell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2"/>
          <p:cNvSpPr/>
          <p:nvPr/>
        </p:nvSpPr>
        <p:spPr>
          <a:xfrm>
            <a:off x="1447920" y="533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ambria"/>
              </a:rPr>
              <a:t>Glycolysis, an overal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228600" y="1828800"/>
            <a:ext cx="8686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Glycolysis is a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0-step pathway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hich converts glucose to 2     pyruvate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 overall Glycolysis step can be written as a net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200" spc="-1" strike="noStrike">
                <a:solidFill>
                  <a:srgbClr val="cc0099"/>
                </a:solidFill>
                <a:latin typeface="Cambria"/>
              </a:rPr>
              <a:t>Glucos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AD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NAD</a:t>
            </a:r>
            <a:r>
              <a:rPr b="1" lang="en-GB" sz="22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               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Pyruvat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AT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NAD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lycolysis consists from two main ph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First phase, energy inves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Second phase, energy generation</a:t>
            </a:r>
            <a:r>
              <a:rPr b="0" lang="en-GB" sz="2400" spc="-1" strike="noStrike">
                <a:solidFill>
                  <a:srgbClr val="0000ff"/>
                </a:solidFill>
                <a:latin typeface="Cambria"/>
                <a:ea typeface="Arial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5"/>
          <p:cNvCxnSpPr/>
          <p:nvPr/>
        </p:nvCxnSpPr>
        <p:spPr>
          <a:xfrm>
            <a:off x="3733920" y="3885840"/>
            <a:ext cx="9151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lycolysis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2" name="Picture 2" descr="http://upload.wikimedia.org/wikipedia/commons/thumb/a/a0/Glycolysis.svg/1024px-Glycolysis.svg.png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14400" y="2743200"/>
          <a:ext cx="7772400" cy="3078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 (used -) (produced 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ADH to E.T.C to FAD = 2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ep 5 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742217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2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9"/>
          <p:cNvSpPr/>
          <p:nvPr/>
        </p:nvSpPr>
        <p:spPr>
          <a:xfrm>
            <a:off x="508320" y="304920"/>
            <a:ext cx="28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Fermentation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380880" y="1066680"/>
            <a:ext cx="87631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Fermenta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athway, from glucose to lacta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glucose + 2 ADP + 2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mbria"/>
              </a:rPr>
              <a:t>i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2 lactate +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naerobic catabolism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 glucose yields only 2 “high energy”  bonds of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Lactat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in addition to being a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end-produc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f fermentation, serves as a mobile form of nutrien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 membranes contai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carrier protein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at facilitate transport of lac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Straight Arrow Connector 12"/>
          <p:cNvCxnSpPr/>
          <p:nvPr/>
        </p:nvCxnSpPr>
        <p:spPr>
          <a:xfrm>
            <a:off x="4114800" y="1676160"/>
            <a:ext cx="991440" cy="1080"/>
          </a:xfrm>
          <a:prstGeom prst="straightConnector1">
            <a:avLst/>
          </a:prstGeom>
          <a:ln w="38160">
            <a:solidFill>
              <a:srgbClr val="cc0099"/>
            </a:solidFill>
            <a:miter/>
            <a:tailEnd len="med" type="arrow" w="med"/>
          </a:ln>
        </p:spPr>
      </p:cxnSp>
      <p:pic>
        <p:nvPicPr>
          <p:cNvPr id="529" name="Picture 27" descr="http://www.rpi.edu/dept/bcbp/molbiochem/MBWeb/mb1/part2/images/lactate.gif"/>
          <p:cNvPicPr/>
          <p:nvPr/>
        </p:nvPicPr>
        <p:blipFill>
          <a:blip r:embed="rId1"/>
          <a:stretch/>
        </p:blipFill>
        <p:spPr>
          <a:xfrm>
            <a:off x="5867280" y="5027760"/>
            <a:ext cx="28958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anaerobic organisms metabolize pyruvate to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ethano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which is excreted as a waste produ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DH is converted to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n the reaction catalyzed by Alcohol Dehydrogenas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1" name="Picture 28" descr="http://www.rpi.edu/dept/bcbp/molbiochem/MBWeb/mb1/part2/images/etoh.gif"/>
          <p:cNvPicPr/>
          <p:nvPr/>
        </p:nvPicPr>
        <p:blipFill>
          <a:blip r:embed="rId1"/>
          <a:stretch/>
        </p:blipFill>
        <p:spPr>
          <a:xfrm>
            <a:off x="2743200" y="4191120"/>
            <a:ext cx="3933720" cy="16002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14400" y="2743200"/>
          <a:ext cx="7772400" cy="3078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 (used -) (produced 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DH to pyruvic acid to lactic acid, E.T.C. not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3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an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Sooad</cp:lastModifiedBy>
  <dcterms:modified xsi:type="dcterms:W3CDTF">2012-02-19T20:53:46Z</dcterms:modified>
  <cp:revision>76</cp:revision>
  <dc:subject/>
  <dc:title>Slide 1</dc:title>
</cp:coreProperties>
</file>