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38B-9B4A-4CDE-982F-A8EBB737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B08-4DF2-474F-A784-163B4F7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72280-1FBC-477D-9164-0C6CFF65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B47DD-7980-4D9D-BDDB-B858598E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69BA7-0B8D-49E3-AF16-6C3B9235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8D357-C22E-4714-AAA3-CF51E26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81D8D-1296-4C6A-ABCF-6DC0FFB5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ECCAA-71C0-48C9-A530-2ED9ECB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5639C-F3F5-4B32-812B-A18FE83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E1F05-48B0-46DC-9FC5-6CE0E221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FBC9F-CB4E-4E1F-AC32-36940D09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D7BC-2DD3-479D-BB4B-44730BA6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3DC-6037-4011-91B7-99539FC1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018A0-A54F-49B6-B86D-89EF3466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3EEEC-4E88-4683-88F8-AD6E190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A584D-EFC4-42BA-8CD4-CE0DAD9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11EEC-8D24-4784-8121-28A49BC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B6103-A921-413F-8207-3DC8A87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C9257-A0C4-427C-A836-893FCBD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9388-A49B-4930-97C7-7243A25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24593-96C7-4D5A-B0AB-A6E69766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30AF1-2E0B-471F-B9B9-4187C25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CFECF-573F-4FEC-8B40-5B0FA49C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BE8-8310-4204-BFAB-23D30BEB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F40FA-CE1F-4CA4-842E-35681F30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0A78F-39D6-4A55-A3EC-06DD1EA5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E24B0-5673-47D6-8661-E68FD2C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FD023-23D5-4CB9-BED4-FDDEE7B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D5E79-E0E6-4E84-BE73-A3267E75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D73E0-713B-4D90-9F3D-278CF066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3D5F9-4C16-471C-851B-E8A72C42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677E3-55E5-43FD-B15B-6B4581E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430A-3BB4-4EF3-A8B2-420B2CB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1B63F-02B6-4219-9AF9-3A03226B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D75-8B9F-4C88-88D5-01BD60F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F285-931A-4D7C-93A9-C1458FF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DA15-F5B0-4BA3-BBCB-DD3D8A6D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F44C-1A7A-4546-AC72-54A557CF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F1B72-85A2-49F4-BA8D-0C3BB21C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21F87-894B-4C45-A0DA-D735BFE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AFE6D-4455-4549-B75E-208E2F5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8BD86-BE8A-4A6B-8581-1C759C40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73892-5973-421D-B3F1-8D1C34D7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CF742-FCD5-4A26-B302-3EDF5250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F95C6-B0B0-4195-A6A7-6A31AD2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9032-26B5-4BF6-9EB8-15BFC3A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61454-6DE3-4BFF-8EEB-EE5FBB2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D37F4-6EE2-4F2C-A78B-4D340552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F86E5-1631-4531-A9A5-3121C63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3C445-F0ED-4F2F-95FB-DACFE8CE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83D8C-43F3-4431-83B7-8BC1477B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9AD-BF8B-49EF-A55D-AB2D28F4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8B10-9722-47E3-ACFB-A4E42DFD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F5D-F4BC-4157-B9C0-D299EB1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8EB-977F-4222-9CEF-C2318980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3C3-B2FC-4615-880F-2730B7A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5EF-F28B-440E-9BB5-F4FE367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BCE-14FF-40D2-98A5-2555EF5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3F50-3CD4-405F-9BC4-F1ABF0E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6FA3-58EB-4936-A50D-28BBCEC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F233-4833-45A1-88D6-F78AFFF4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690D-AC17-4FD2-BC59-EA8AC321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1261-465C-49AC-8A23-0484B026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5357-65F8-4D8A-828E-5B5BF61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7793-CA02-4C05-9A13-C08D6FDC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DA31-DD19-4CCD-B688-43AEFD3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A24B-5B0D-47E0-A80F-F9E505C7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C4-3BAE-4AC9-8A6B-63BE381A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02B4-DA8B-4A19-8819-2E3B1811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D32F-F2DF-4A4D-BF22-90194D3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DBB6-883A-495B-85F9-0A7A098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A6D2-567C-436D-B0DD-8F6107A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BB55-492F-4616-8C15-30856CD0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2711-CAC2-47D4-A93B-533343A7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D6C4-0DC0-4DB9-AC69-86F1F5D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D51E-D6F8-41B3-B47A-2DA6C6CC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E8DB-0692-4863-A6A6-DA85490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D545-37E8-41F1-948E-FDBC902B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AC-88AB-47B8-9B21-78E9587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48F6-6494-4373-9C7D-CA1E8E0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3AE9-EA67-4AC6-ABED-8B27B94B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AECC-9670-49CF-B9F8-2460A136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0A33-9C14-46BE-92E4-02C08A90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44E0-914C-4DBE-B190-67AF2AC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D622-BF21-4290-B6F4-3DD18E4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6759-64A8-497F-93E1-3409D5F5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0A68-59EE-450E-8788-613B0A98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99AC-0C6B-4465-9D37-D7091B57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BE36-A153-42B0-A0CD-275DD867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4EE-EF1C-418B-8168-BF7E26E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B8898-89EC-4FB1-969B-E93A6918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0C1B-198F-462C-BDB6-D2A1B21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43BE-8D98-464F-9DDE-6F1B98E0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35B7-2313-44B7-923D-6F7BBECB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7DB4-7AD6-4347-81DB-497F4FFF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C071-317D-43FD-BC44-2842989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47129-CB72-40DD-9646-95A8D88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0E61-A75A-4932-BB11-A6EFEF1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AE80-CEF6-4CF4-99A5-40D83E49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F4B6-0DFF-4EBD-AB1A-B666455D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CDB-F4EC-462E-9E30-5EC20545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CA3F0-0DA8-4244-A56A-8D2C0D31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815C-780E-43C2-A14A-9E2415B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AAEF-2C18-4DF1-B908-EDF14D67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4419-2446-4A34-A376-54F6D7FF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ED75-E96D-43C2-9231-E9CF039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9D6D-6F74-4456-B8E0-96EC222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503A-16BB-452B-8F2F-06E1D88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B33F-0457-48E2-9C7E-D5EADC59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A39B-A06C-4A94-AFF9-84607FA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8DF1-5D3B-4356-9913-07D19C2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640-55F6-4FF1-A584-60AB5841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99CD-F6E2-41A3-A222-481D88D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CACF-6E68-4F4F-8AF9-D0AB2D7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B84D-9C47-4278-9397-7CD040FB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0A24-7786-4CD3-96CF-A98A01BE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D6AA7-6AA1-49AC-AF73-9B95E8F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E400E-105E-49EC-9D17-85E41E4C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07D2-D973-4603-81C1-666CCB2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1E0B-67BB-47DA-A32F-D6AFCB7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AE78-51CC-43F3-A96E-884D800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FFF9-08ED-433D-A3F8-A2A306A1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A1F-4061-4361-B0BB-F217FAC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3516C-B3CF-46EE-9907-6933D56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6582-88E2-497B-89C0-848E3DE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3378-343D-4011-8DC4-4A4FA6D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ED78-B17D-4EAF-AD69-F3A46DF9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58C8-EE5C-4099-B38A-BA98E4C2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3BD5-785B-4E10-810E-051DD16A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8BAD-EBBE-436B-9C2F-2CDF707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E942-B4BA-4EDB-9FDA-DCFB5E16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A83D2-765D-42B8-BEF5-6188DD71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F739-B359-4091-8F04-6FBDFFCA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ADA-109A-40A3-8CA1-1772E62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848B9-7DCF-4404-A23E-DC6908B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EF80-4A97-41FB-8B30-8397583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5AF8-8833-4C8E-8C14-0B298AE6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46F3-0B72-4ABA-B3C8-3327F5E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DB4D-A888-4A1C-8B66-9FB0BB6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30108-B451-422D-9F8C-0BA94FB6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36CA-3AC5-4AC2-A347-5EEDDE8C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944CF-30D5-4ECB-B58B-161B98F0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740BA-953D-4CD8-9EEF-6C66D456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2A2FD-A5AF-4B19-BFC7-44610BD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1AF2-C577-4E07-AA8F-6398883514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418-6C1E-4400-8462-818E980A32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FB33-EE5B-48EA-A756-118EBA5E171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D89B-8411-4F48-AC01-60DC70D069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B681-E68E-423E-9D6F-FAE4FC0A6A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414-9123-40A9-ADF2-D3C0E6E3B7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132-E27E-4DF0-8345-D3428AD65C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145D-8443-4B81-9656-8BB875F014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D3E-77B0-4906-B913-CD5461943B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F49A-742B-4D58-BB05-D6ABCFCEAE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8D1C-676F-4EE0-BF21-9E88898179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64C-CB10-4CF9-BB5B-6895F81333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DH to E.T.C to FAD = 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ep 5 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742217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</a:rPr>
              <a:t>i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glucose yields only 2 “high energy”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 to pyruvic acid to lactic acid, E.T.C. not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2-19T20:53:46Z</dcterms:modified>
  <cp:revision>76</cp:revision>
  <dc:subject/>
  <dc:title>Slide 1</dc:title>
</cp:coreProperties>
</file>