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8AB-01FC-4557-9707-CD1FD60D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A04F-6A65-40AE-B101-77010F61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093DF-96A2-4371-9AEF-97E6CA8D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87393-5847-47BD-8FCA-95850D43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3222C-1CD2-40AD-A8DA-079B693A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3B691-BD12-443E-9545-8F6460DB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2442F-2FE3-49AE-B825-883226C1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A50FC-041F-4180-B323-C85086BB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250FA-05C6-4EAE-81FB-789DF86C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119C2-76B7-4A9E-9C14-14FF9E5CE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8B38B-8DDB-49AD-8DE8-3677F117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41880-38C1-4A99-8FED-BA94A3D0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492D-A67A-47A1-A33A-4CE5287F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830E6-97C5-4523-B5C9-83970FEC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E60A2-1975-468E-8497-5ADB461B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C6409-2412-47E2-B27D-471C43BA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12134-436B-4E68-8EAF-28185391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2636F-1568-4319-AC18-2D8D8040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64161-7F22-46DA-BEE6-F38516BE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16A8B-F5BC-4132-901E-C92A4AF7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9F55B-07D0-4BEC-A3BA-7F752A0C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C1B6B-8185-41DC-BFFE-C203C1BA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BEE18-D079-4BD9-9286-61D29DC8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3CB-2FDD-43F8-9D1E-104D19D0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62152-D63D-4511-AE23-461650A2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D5574-7A73-4504-A03D-E6A42BCE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282D9-7633-4CC9-9549-28C98F63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C06EC-67FE-49C8-B7CC-A4EFEAD9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6EC14-F4EB-4ABD-A505-F195D5F3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5A358-600B-481F-AEF5-AC91B202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9EFB0-D641-44F2-BFCC-F628FD70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D0AFD-3A9B-47F6-9E1B-40BF19DD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EF507-53BA-404D-A074-D2DCE844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B13A2-CF7B-401C-9124-780D04B3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13E0-B4CC-4770-92FD-FD7E2023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CA7CD-570A-49B5-9393-D6D0991F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400DD-3B2A-453C-91D2-16D68D91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59E19-61AA-4B93-AD6A-193881D5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87ECC-175A-4760-867A-ACD0C999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A3145-6DA9-4FFB-BB0D-BED0AFEE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45BF2-C1C4-4A63-B1B1-D9EDE455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35FA8-AB66-4CCE-9EE6-BD181459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19B64-F85E-4526-A811-B5AFE3B4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1E666-35B9-4D48-94BF-DA19BD5C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3DF51-A91E-4E88-91A8-BD6BF3F0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4FFB-D688-4917-8125-7EA3E988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327A2-E1AF-4A4F-A9E4-966C6E1F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077E4-42F8-4760-BED1-0337992C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80564-F562-48AF-A626-B4E2C35F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27A90-BD78-4A25-BE6F-EFC2C008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7F896-88CD-41D5-9D7E-6576F4D6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1200-6D52-49F8-83B3-0185229B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155E-DF68-40C1-AB9E-6318F2F2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6115-A001-463F-8CFC-7B4DC847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2B00-BAA9-40EE-9642-CF4A3A53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2081-3CCA-4068-B707-C8CA2122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6F48-00E6-432E-BD24-BA4484D9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1993-71AF-4A0E-ACD2-2AFFD8EE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444D-E7F7-49BF-988D-F402AE20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7113-380D-4C16-BA8E-AD0A58C2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D38C-2CFC-484A-9D1E-477A0EB0D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A64A-4640-4B55-B0B6-C9883733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4D346-C1CF-4100-9217-83E006AD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3E803-9FF4-4148-ACC7-64F1D5CC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D996-CB75-4A3C-8FE2-80881E4E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E4B94-3B7A-4986-B103-DF64DD5C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23748-531F-432C-8B4B-DE408A2A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6550-E997-4BF7-9608-7C2B8A7A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F517E-A61A-488F-8EAB-15DA3B06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301C5-87CF-48DB-8BF9-E75DEB5B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7D982-A5B8-4057-B4B2-003502B3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E72B-21E2-4611-AA11-86CC0878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8881-62B2-403B-A4A7-DB3E6C0B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BD149-DE7F-4EF5-8EB2-A8BE8F4C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3EBBF-1506-4A8E-859D-297B8757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064B7-62B2-4667-BCEF-1355DDB8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66166-44FC-4541-9411-EC8224E3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D18D2-EB78-4B91-9E25-4CE4D4B4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C9B0-26D0-4D36-9810-4A51E210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EEFA9-4A26-4BB8-B892-80C4A19F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3875A-B0E0-4194-A670-6C92AFF6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CCCBD-7821-472B-8101-F953002A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043D5-2D01-472C-8A11-BEC35319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25467-2480-4B7A-9A15-21B23F16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8EF4C-8040-4C25-94E1-FBEECA7B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7BD21-79BF-47D3-A5E8-A18FE00B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29A08-851C-4303-8512-7E164CFD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5B6A6-2215-49AA-822C-9C34D512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4FDC6-FA62-430A-94F4-F63A0FAD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F748-9596-43BE-A78C-E49182CB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493A4-62CC-4E99-A93E-7804D30B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747C6-9BB1-43A7-A067-CE0EEE5B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2F573-BAD7-4C8B-AC33-16CCDD2B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F3A80-6541-4D80-9073-A94E1EBD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4613C-39BE-4DCD-A414-08E361B9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A9194-EFC5-46C5-9BD2-9EA6BEC0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49827-081F-487F-A87C-2C528E3F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25A2D-007C-4FB4-9B12-65CF1CCE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7E1D2-99F8-4363-96DB-EFFEF827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7A3EA-33FA-44D5-8C8F-F0A710EA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150-C521-4319-BC4A-AD0BEE7A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D73ED-6D82-45B4-8F00-CAF39B35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1E416-F06D-4C7E-9EB7-85AFFA75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37323-BE4A-40DC-9C39-99B7C7B5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AC5F7-EE84-469E-8CEE-7520848B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2D4BE-3729-4232-8658-50C3311D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D8AFB-8E60-4364-ABE5-60423971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7AC61-9A2B-4FE7-AC66-DBB22E3A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BFA26-C709-485C-A7A6-D03808C2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EFC87-B6FA-479F-BE92-FFDB5E78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15F83-6293-4275-80C3-E1BAC0A1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F9F-910E-4769-86C2-8BAC871A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F0D40-DA44-4A47-973E-E68071C5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31E5B-ED35-48CE-B803-57CA5852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2F344-19FA-42CF-AAB4-2F485018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39930-37B4-489F-AFD3-B7D932DA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202A0-3859-440B-B468-02245D52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E8A51-CBC6-4192-B833-DE2AFF25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F6E79-91AD-42C5-B3AE-D8936390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5971E-7548-40AB-B68C-EFFA9289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5EA25-488D-4661-B825-6AE70F05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90E55-EE34-4130-840A-9AD054DC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E48-E502-4601-9EF0-C07BDAC1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C31D8-5722-4951-B8C9-E7E05462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CF036-B15B-4034-A38A-763F825D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E65C9-F745-49D7-B4A6-4FAE9A43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BFD19-6D0F-4628-8823-2787A2A9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5E636-7907-46BF-9721-CD39010C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9D81A-E9DF-4CA3-B5B4-D6AECBEA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A0190-5CF8-432D-9EF6-BB7950DC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F3F8A-3824-464D-A031-23FEFCEE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E5D02-2989-4F4C-B688-5E7A3590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9A283-B1E2-416C-9AA0-79589D09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B09F-E9CE-4B72-9482-60F0BB33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47C53-9005-4D98-B6D4-EA6DD368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608A6-B4BB-48ED-B549-E7E996C6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50010-9A6E-40F5-A2C9-5BC04BDA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BE702-EBDC-4028-AAFC-549B3938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4F83F-436F-4F3D-AC4A-01B60032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7333E-6434-41B3-9CE3-99256C59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F154E-B94B-4E2A-A2C9-2DE0E363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D2E37-D3D0-479E-852A-6C4ED36E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4B1AC-1196-4F1D-8F42-7CB4D2B4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40693-A683-4843-A3F6-7E393A3B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64FB-6E88-4FDF-A8F8-33BBA7BCA98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AF22-CF27-4D57-8EE8-F12C1A65BAE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6270-8664-40DA-B65D-3A7E070A8C6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19AA-1638-4450-8AA2-42C2DB9DD8E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28C9-E10A-4F9C-8D1F-D5B0C2AB4E9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B12B-4014-4669-8EE5-4FC8C6575D5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B41B-A61A-4353-AD60-FB43CE7E0DC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7C88-5CDA-459B-A38D-59B7E8F4AB1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0DCE-7D16-4197-8C73-A5FB7648236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F12C-0DDE-43CD-9800-4032A8BCC14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8B7E-65E6-4E16-B920-E13E5DE36E5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B0D5-A8D3-476F-81AD-48CA6232E91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Carbohydrate Metabolism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An overview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BioLogo2small"/>
          <p:cNvPicPr/>
          <p:nvPr/>
        </p:nvPicPr>
        <p:blipFill>
          <a:blip r:embed="rId1"/>
          <a:stretch/>
        </p:blipFill>
        <p:spPr>
          <a:xfrm>
            <a:off x="6781680" y="38088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http://advan.physiology.org/content/29/2/128.2/F1.large.jpg"/>
          <p:cNvPicPr/>
          <p:nvPr/>
        </p:nvPicPr>
        <p:blipFill>
          <a:blip r:embed="rId1"/>
          <a:stretch/>
        </p:blipFill>
        <p:spPr>
          <a:xfrm>
            <a:off x="1523880" y="228600"/>
            <a:ext cx="622008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304920" y="1295280"/>
            <a:ext cx="8686800" cy="53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99"/>
                </a:solidFill>
                <a:latin typeface="Cambria"/>
              </a:rPr>
              <a:t>Glycolysis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(a sweet splitting process) is a central pathway for the catabolism of carbohydra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In which the six-carbon sugars are split to three-carbon compounds with subsequent release of energy used to transform ADP to A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cc0099"/>
                </a:solidFill>
                <a:latin typeface="Cambria"/>
              </a:rPr>
              <a:t>Glycolysis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can proceed under anaerobic (without oxygen) and aerobic condi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Glycolysis, an overview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…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094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y the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glycolysis,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s the most interesting pathway for studies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pathway is almost universal across all living organism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s one of the ancient metabolic pathways in living cell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2"/>
          <p:cNvSpPr/>
          <p:nvPr/>
        </p:nvSpPr>
        <p:spPr>
          <a:xfrm>
            <a:off x="1447920" y="5335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ambria"/>
              </a:rPr>
              <a:t>Glycolysis, an overal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3"/>
          <p:cNvSpPr/>
          <p:nvPr/>
        </p:nvSpPr>
        <p:spPr>
          <a:xfrm>
            <a:off x="228600" y="1828800"/>
            <a:ext cx="8686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Glycolysis is a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0-step pathway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hich converts glucose to 2     pyruvate molec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he overall Glycolysis step can be written as a net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200" spc="-1" strike="noStrike">
                <a:solidFill>
                  <a:srgbClr val="cc0099"/>
                </a:solidFill>
                <a:latin typeface="Cambria"/>
              </a:rPr>
              <a:t>Glucose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ADP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NAD</a:t>
            </a:r>
            <a:r>
              <a:rPr b="1" lang="en-GB" sz="2200" spc="-1" strike="noStrike" baseline="30000">
                <a:solidFill>
                  <a:srgbClr val="000000"/>
                </a:solidFill>
                <a:latin typeface="Cambria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               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Pyruvate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ATP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NAD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lycolysis consists from two main ph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First phase, energy inves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Second phase, energy generation</a:t>
            </a:r>
            <a:r>
              <a:rPr b="0" lang="en-GB" sz="2400" spc="-1" strike="noStrike">
                <a:solidFill>
                  <a:srgbClr val="0000ff"/>
                </a:solidFill>
                <a:latin typeface="Cambria"/>
                <a:ea typeface="Arial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Straight Arrow Connector 5"/>
          <p:cNvCxnSpPr/>
          <p:nvPr/>
        </p:nvCxnSpPr>
        <p:spPr>
          <a:xfrm>
            <a:off x="3733920" y="3885840"/>
            <a:ext cx="91512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Glycolysis pathw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22" name="Picture 2" descr="http://upload.wikimedia.org/wikipedia/commons/thumb/a/a0/Glycolysis.svg/1024px-Glycolysis.svg.png"/>
          <p:cNvPicPr/>
          <p:nvPr/>
        </p:nvPicPr>
        <p:blipFill>
          <a:blip r:embed="rId1"/>
          <a:stretch/>
        </p:blipFill>
        <p:spPr>
          <a:xfrm>
            <a:off x="152280" y="1676520"/>
            <a:ext cx="88394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ATP Summary for Glycolysis</a:t>
            </a: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914400" y="2743200"/>
          <a:ext cx="7772400" cy="3078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TP (used -) (produced 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-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ADH to E.T.C to FAD = 2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ep 5 used tw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x 2 = 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used tw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x 2 = +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used tw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x 2 = +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742217"/>
                          </a:solidFill>
                          <a:latin typeface="Cambri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525" name="Rectangle 4"/>
          <p:cNvSpPr/>
          <p:nvPr/>
        </p:nvSpPr>
        <p:spPr>
          <a:xfrm>
            <a:off x="762120" y="1600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rting with glucose (six carbons) how many ATP are made using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aerobic glycolysi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9"/>
          <p:cNvSpPr/>
          <p:nvPr/>
        </p:nvSpPr>
        <p:spPr>
          <a:xfrm>
            <a:off x="508320" y="304920"/>
            <a:ext cx="28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Fermentation</a:t>
            </a:r>
            <a:r>
              <a:rPr b="0" lang="en-US" sz="3600" spc="-1" strike="noStrike">
                <a:solidFill>
                  <a:srgbClr val="0000ff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380880" y="1066680"/>
            <a:ext cx="87631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Fermentatio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Pathway, from glucose to lactat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glucose + 2 ADP + 2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mbria"/>
              </a:rPr>
              <a:t>i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�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2 lactate +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Anaerobic catabolism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of glucose yields only 2 “high energy”  bonds of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Lactat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in addition to being an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end-product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of fermentation, serves as a mobile form of nutrient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Cell membranes contain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carrier proteins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at facilitate transport of lac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Straight Arrow Connector 12"/>
          <p:cNvCxnSpPr/>
          <p:nvPr/>
        </p:nvCxnSpPr>
        <p:spPr>
          <a:xfrm>
            <a:off x="4114800" y="1676160"/>
            <a:ext cx="991440" cy="1080"/>
          </a:xfrm>
          <a:prstGeom prst="straightConnector1">
            <a:avLst/>
          </a:prstGeom>
          <a:ln w="38160">
            <a:solidFill>
              <a:srgbClr val="cc0099"/>
            </a:solidFill>
            <a:miter/>
            <a:tailEnd len="med" type="arrow" w="med"/>
          </a:ln>
        </p:spPr>
      </p:cxnSp>
      <p:pic>
        <p:nvPicPr>
          <p:cNvPr id="529" name="Picture 27" descr="http://www.rpi.edu/dept/bcbp/molbiochem/MBWeb/mb1/part2/images/lactate.gif"/>
          <p:cNvPicPr/>
          <p:nvPr/>
        </p:nvPicPr>
        <p:blipFill>
          <a:blip r:embed="rId1"/>
          <a:stretch/>
        </p:blipFill>
        <p:spPr>
          <a:xfrm>
            <a:off x="5867280" y="5027760"/>
            <a:ext cx="289584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me anaerobic organisms metabolize pyruvate to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ethanol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which is excreted as a waste produc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ADH is converted to N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n the reaction catalyzed by Alcohol Dehydrogenas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31" name="Picture 28" descr="http://www.rpi.edu/dept/bcbp/molbiochem/MBWeb/mb1/part2/images/etoh.gif"/>
          <p:cNvPicPr/>
          <p:nvPr/>
        </p:nvPicPr>
        <p:blipFill>
          <a:blip r:embed="rId1"/>
          <a:stretch/>
        </p:blipFill>
        <p:spPr>
          <a:xfrm>
            <a:off x="2743200" y="4191120"/>
            <a:ext cx="3933720" cy="16002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0000ff"/>
                </a:solidFill>
                <a:latin typeface="Cambria"/>
              </a:rPr>
              <a:t>…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ATP Summary for Glycolysis</a:t>
            </a: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914400" y="2743200"/>
          <a:ext cx="7772400" cy="3078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ATP (used -) (produced 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-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NADH to pyruvic acid to lactic acid, E.T.C. not 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6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used tw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x 2 = +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used tw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x 2 = +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535" name="Rectangle 4"/>
          <p:cNvSpPr/>
          <p:nvPr/>
        </p:nvSpPr>
        <p:spPr>
          <a:xfrm>
            <a:off x="762120" y="1600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tarting with glucose (six carbons) how many ATP are made using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anaerobic glycolysi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Sooad</cp:lastModifiedBy>
  <dcterms:modified xsi:type="dcterms:W3CDTF">2012-02-19T20:53:46Z</dcterms:modified>
  <cp:revision>76</cp:revision>
  <dc:subject/>
  <dc:title>Slide 1</dc:title>
</cp:coreProperties>
</file>