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BA3-1D9B-4889-AF09-BD2A0419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7D9-6FFB-4BBF-83C5-6708BE1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24378-EF50-4954-8CE2-7FC14DF4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6749E-F62B-4D2B-91E2-678D6A8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6ECAF-2906-40CC-933B-EC00716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B7055-5CFE-42AA-B179-CC87092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6DB6F-A11A-4D3D-BAA6-DCF612A0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C6788-50E6-42A7-ABC4-907D83E5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C16D4-7DDF-4A1F-8EAE-86EDB506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C527D-F94D-41BF-AEB5-E38A0370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46B29-24E9-47FE-B6BA-D8ADFDE3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F1D0A-5D54-4B55-8261-4FBB4AE1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95C-DAB6-4621-87A1-80E69EAF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11108-68D5-4571-AFDE-D1BD66C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0C007-9160-4721-9D4A-D65D47D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9CE5D-4A2D-4A6B-ADE1-D5B452C7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05738-3846-4D65-AC89-F4026CB5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CEF50-1DEC-40F5-AC3D-B515852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65D9F-A382-4D5C-B659-CF054AD3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A6B1F-287E-4D4B-B95E-639CB1E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6C069-304F-43C9-A025-A3BCEB0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BC29C-2B23-4078-818A-EEE27E9C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43C5F-111C-49B8-BD79-5C4D1C21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51B-2DB6-41F5-9E3C-B18285E6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EFFE3-1C85-4484-BFD6-53F76481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7232D-E0F0-472E-B653-1ED0AA1D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8EDE4-7CEB-41A3-B382-6F36FE60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45128-7E0B-416B-A9B4-A17D65F9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14C47-8CD9-4DB1-8DC8-7D56990A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1CB46-8CBE-4EC5-99A5-BF3651BB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34051-71DD-4508-A03F-177E502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B609-4B62-4707-B7B0-5E251B1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9FB93-0612-416E-A71F-EA50441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41EF8-322E-432A-8D8B-6AC599B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628B-3443-4CF4-A539-58E939C0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9D570-6C94-42C9-A4F1-DC57A04E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FBE67-8275-4DBF-8018-9101541C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24CD-8DE7-43C1-BDBA-5D04CF6C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36392-D867-47B2-B5A6-A732822B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DBAE8-EBF7-44A6-8636-40F7166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07748-AB5B-4AA5-AF24-E80AE8C4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E6FC1-956E-4E86-B76A-191AE5C9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7E3DE-B664-4B00-9158-B59271F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6F802-943D-4BC3-91D6-3ACD80CF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9CD7F-9D5B-40A4-8107-CE08BA3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EAA2-FFA1-480B-A90A-C2CB520D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7C7AC-DA80-4E87-B06A-8AC1ECF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FF7EF-6100-4DC2-AE72-37B224B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3BD38-957F-4D5C-B7FE-2C45BBB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A3F0A-0CE2-4F89-857D-4239A79E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E6398-54D1-4E58-BDF4-E6AA9F7D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8751-87AD-41EF-BE88-9A1721CD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F61B-A388-4C5D-AA95-668C09A3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8783-7026-4683-ABE3-CB77E107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B098-3FD5-492E-8AC4-DCBD14B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15DD-6FBD-4723-9433-FB957E38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21E-8465-4AD1-8520-90405253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C2B-7E8D-46E7-AFB8-CB635560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D6C9-C522-442D-B883-0278F974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052E-6F59-451D-84EF-37962722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FEF8-6F42-41BA-859D-123ADD12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9E73-7799-42A2-B17F-ACEAD9E5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8D9B-A881-4BFA-B0F3-0B6E85A7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9EDD-4568-47F7-B49D-381DE3EE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A0BD-A191-4A1D-83D2-CF824CC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18DF-5A44-4B9A-8546-267EEDE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6DEE-DD7E-47CE-8644-10F85F9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A1E-50B1-4268-9434-627269A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E64C-06AA-4DC6-92CE-0A63A29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B4DF-05BA-4358-9D24-696348C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A43B-BCB2-4A5B-B999-661EE88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5BB83-7C06-4CF4-B30A-2B10E28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4209-D8EE-4381-81B8-C47F25A7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EE83-6705-4DBD-B212-C834C70D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B931-1C89-45C3-8D29-39A32FA9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865E-FFD7-4847-A103-4F68CD06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CEC85-3BA4-4B7E-B419-4296DBB3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26E4-ED51-49D5-BA7F-CAC07842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027-97C1-430C-B9FA-87F5055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EF24-F71E-468D-893A-E8DEF1E7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0E31-AD11-487E-8DD1-015DDC62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F75E-3BC9-452D-90C7-9418763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9662-EE9B-43C3-9D33-B61A0A5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959C-2261-4541-A438-C326FB2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1AF2-56F6-4018-A4A5-8A3BC1A9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2EC34-86D8-4577-BCAA-8B6A854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0E9E-A67B-43EF-900E-7B5FFA8C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0E24-631D-4AB0-894D-A28226B7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FAF4-C3CF-4BE0-AE97-C20E44A3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85F-5A05-4725-94F8-FDF99069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F501-C198-45C6-BFE4-16C710A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F8FC-25EB-4C90-953C-95027026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8F20-9C31-4424-89D0-B3DD725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44C09-90F4-4FAD-99BD-5AF60930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5194-39FF-4A80-B132-703AF4B9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6D2E-B54F-408A-9458-F827A49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8C855-6517-46E8-8E9B-F58BBC0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ED4B-22F0-4F92-8E14-CD294BB3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EBA7-C08E-481E-AB67-BBF8496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1653A-9BD4-4DA9-85E7-51009E07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D91-EBCB-4000-B73B-DAE588A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E6AB-DD29-402E-9CD0-42A8E45F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ECED9-9EAF-42EC-AA9A-33FCEB83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82E2-0D81-499D-92A2-9074F881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0BFA-52F9-45D4-BF98-B0BB361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2D90-116A-4E39-B736-D94A6FEE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CE59-43B0-458E-883C-14ABB60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10BD8-70DD-40FB-B0E9-C045180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2C959-0A71-48B1-BC8C-3F64912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635D-EF20-4E74-A558-0CE5B4E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4BB31-68A8-42BA-8FC0-8AFC54E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825-E708-400A-B737-EAB3058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8127-9403-4516-9903-C7AC9C8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863B-963D-463E-B515-D30C0E5D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1B983-8B6E-4CDE-A8F1-BA9F56C0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E3E0E-F06D-4A51-A5B9-A82E44CC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D32F-F60A-418E-9A4F-C663A765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F30F8-FDEA-46EB-928A-C921AB54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20DA-E927-4A5E-9F1E-EE8A9ABA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FA8A-D017-46A0-B1FE-0D0677A9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CC2EE-C7EC-4BAB-B454-A32D8E17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52F6-F5B5-44C0-A8C7-FF9D7E3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855-B7EE-4625-BA98-FB01274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1B070-385D-4C6B-8044-A7E8E2A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0F90-9D8B-48F4-AF57-C85E12C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1041-BAFE-4CF1-ABA8-BC1F19D5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3215-7972-4F7D-B446-159D4DBE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FEE8A-8D59-4AFF-BC28-8811499B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D8EA-E198-4850-9D22-AD4A9EE4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C471F-85F2-4B48-AA9B-6640F769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864C9-CE23-40A0-93B1-94F7361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D720-FDFD-4B0D-AF89-733C4D41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895CF-548C-49EC-B691-E3D60CD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ADF-530C-4F1D-8B63-DDEE4A5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52133-A65D-4507-ADF5-A1E41DA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985C-D452-490E-A2C8-ED0582A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2AE2C-FC01-40C5-921E-4D3EE7D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1364-3909-452D-830D-CB57039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D994B-8E90-4E95-ADA3-76291E6A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42915-80FD-4F05-AE16-91C52BCF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5FBE-37CF-4F8B-9FC2-23A509DF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1DC01-DBA7-4994-9783-B88E2EDF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7F74-C242-4010-831E-554C19E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86FF0-60E6-4505-94C1-715FE61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05CF-F220-4AF7-9D9C-2DD715038A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C9EC-052E-4B06-9790-7AC439346D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9F03-0CAD-40CE-A426-1A5F0BA51F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588-4737-4D04-BB99-F568174A95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9EB-511B-4C81-95C7-119D442B39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7B5D-B18B-4D40-A2EC-00876D82F17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6FD-3EF7-4D83-A85B-1429CD36EEC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2C94-5E98-43BA-8212-63F0354A9D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82A9-AEA8-424C-A766-F63E4C5C3D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C87-DBC7-476A-BBC6-2C64AFD55C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B5E-06F2-4116-99E8-3F8AB0F46C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0B87-A376-4703-88C2-2DF0D368AC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Carbohydrate Metabolism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An 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advan.physiology.org/content/29/2/128.2/F1.large.jpg"/>
          <p:cNvPicPr/>
          <p:nvPr/>
        </p:nvPicPr>
        <p:blipFill>
          <a:blip r:embed="rId1"/>
          <a:stretch/>
        </p:blipFill>
        <p:spPr>
          <a:xfrm>
            <a:off x="1523880" y="228600"/>
            <a:ext cx="6220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1295280"/>
            <a:ext cx="86868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a sweet splitting process) is a central pathway for the catabolism of carbohyd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n which the six-carbon sugars are split to three-carbon compounds with subsequent release of energy used to transform ADP to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can proceed under anaerobic (without oxygen) and aerobic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lycolysis, an overview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the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glycolysis,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the most interesting pathway for studi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athway is almost universal across all living organis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one of the ancient metabolic pathways in living cell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2"/>
          <p:cNvSpPr/>
          <p:nvPr/>
        </p:nvSpPr>
        <p:spPr>
          <a:xfrm>
            <a:off x="14479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28600" y="18288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Glycolysis is a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0-step pathway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hich converts glucose to 2     pyruvat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overall Glycolysis step can be written as a net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200" spc="-1" strike="noStrike">
                <a:solidFill>
                  <a:srgbClr val="cc0099"/>
                </a:solidFill>
                <a:latin typeface="Cambria"/>
              </a:rPr>
              <a:t>Glucos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D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</a:t>
            </a:r>
            <a:r>
              <a:rPr b="1" lang="en-GB" sz="22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               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Pyruvat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T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lycolysis consists from two main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irst phase, energy inves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Second phase, energy generation</a:t>
            </a:r>
            <a:r>
              <a:rPr b="0" lang="en-GB" sz="2400" spc="-1" strike="noStrike">
                <a:solidFill>
                  <a:srgbClr val="0000ff"/>
                </a:solidFill>
                <a:latin typeface="Cambria"/>
                <a:ea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5"/>
          <p:cNvCxnSpPr/>
          <p:nvPr/>
        </p:nvCxnSpPr>
        <p:spPr>
          <a:xfrm>
            <a:off x="3733920" y="3885840"/>
            <a:ext cx="9151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lycolysis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2" name="Picture 2" descr="http://upload.wikimedia.org/wikipedia/commons/thumb/a/a0/Glycolysis.svg/1024px-Glycolysis.svg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DH to E.T.C to FAD = 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ep 5 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742217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508320" y="30492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80880" y="10666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thway, from glucose to lacta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glucose + 2 ADP + 2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mbria"/>
              </a:rPr>
              <a:t>i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2 lactate +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naerobic catabolism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 glucose yields only 2 “high energy”  bond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Lactat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in addition to being a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nd-produ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fermentation, serves as a mobile form of nutrien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membranes contai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carrier protei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at facilitate transport of la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12"/>
          <p:cNvCxnSpPr/>
          <p:nvPr/>
        </p:nvCxnSpPr>
        <p:spPr>
          <a:xfrm>
            <a:off x="4114800" y="1676160"/>
            <a:ext cx="991440" cy="108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pic>
        <p:nvPicPr>
          <p:cNvPr id="529" name="Picture 27" descr="http://www.rpi.edu/dept/bcbp/molbiochem/MBWeb/mb1/part2/images/lactate.gif"/>
          <p:cNvPicPr/>
          <p:nvPr/>
        </p:nvPicPr>
        <p:blipFill>
          <a:blip r:embed="rId1"/>
          <a:stretch/>
        </p:blipFill>
        <p:spPr>
          <a:xfrm>
            <a:off x="5867280" y="5027760"/>
            <a:ext cx="2895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anaerobic organisms metabolize pyruvate to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than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hich is excreted as a waste produ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DH is converted 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reaction catalyzed by Alcohol Dehydrogen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1" name="Picture 28" descr="http://www.rpi.edu/dept/bcbp/molbiochem/MBWeb/mb1/part2/images/etoh.gif"/>
          <p:cNvPicPr/>
          <p:nvPr/>
        </p:nvPicPr>
        <p:blipFill>
          <a:blip r:embed="rId1"/>
          <a:stretch/>
        </p:blipFill>
        <p:spPr>
          <a:xfrm>
            <a:off x="2743200" y="4191120"/>
            <a:ext cx="393372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 to pyruvic acid to lactic acid, E.T.C. not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3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n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Sooad</cp:lastModifiedBy>
  <dcterms:modified xsi:type="dcterms:W3CDTF">2012-02-19T20:53:46Z</dcterms:modified>
  <cp:revision>76</cp:revision>
  <dc:subject/>
  <dc:title>Slide 1</dc:title>
</cp:coreProperties>
</file>