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8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-360"/>
            <a:ext cx="30477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19440"/>
            <a:ext cx="30481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9019440"/>
            <a:ext cx="30477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5A85-3D9B-47E9-9FC0-BB07AC869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B852-E5E7-495F-BB0C-47ABE04A1B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2880"/>
            <a:ext cx="518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6D0-1731-4CC2-8B68-5E2234F205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040" y="4412880"/>
            <a:ext cx="518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62520" y="9019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7FF9-3F9B-41EE-A9A6-6479034745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20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158-8AD2-4084-B08C-02749E2B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C5D-4CED-4E4E-B80D-EA7B265B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F6E-65F7-46E1-82C3-64A8AEF0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F59-D22D-437B-94E8-112100B9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5AA-DDDD-4CF4-8AB1-2D612B8D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E52-F746-4B28-866E-AA554D51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1D1-D6AF-4040-BE37-A46D4AFE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DCE-4090-4F98-B768-860270EE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040-849C-4182-A1DA-319C3079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664-CE32-4219-8B1C-41A5801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4EA-BFBD-4398-8EC1-04538FB0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8EB-3F83-4119-84DD-D1BDD2EC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A8C4-E468-4A65-BC86-0F5EF2DCD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udyhplc.com/hplcterms.php" TargetMode="External"/><Relationship Id="rId2" Type="http://schemas.openxmlformats.org/officeDocument/2006/relationships/hyperlink" Target="http://www.studyhplc.com/hplcterms.php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7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HPLC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1523880" y="1371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928440"/>
            <a:ext cx="77724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ion exchan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ionary phase contains ionic groups and the mobile phase is an aqueous buff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Size Ex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is no interaction between the sample compounds and the column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 molecules elute first. Smaller molecules elute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romat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942840" y="2009880"/>
            <a:ext cx="72583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000"/>
                </a:solidFill>
                <a:uFillTx/>
                <a:latin typeface="Times New Roman"/>
              </a:rPr>
              <a:t>parameters of HPLC 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1- Qualitative analy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parameter for compound is retention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the time it takes for that specific compound to elute from the column after injec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Capacity Factor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(k’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a measure for the position of a sample peak in the chromatog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’ =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/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Selectivity Factor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c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so called separation or selectivity coefficient is defined a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/k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’ =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 u="sng" baseline="-25000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 / (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 u="sng" baseline="-25000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t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571320"/>
            <a:ext cx="77724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2- Quantitative Analysi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asurement of the amount of compound in a sample (concentr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determination of the peak he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determination of the peak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15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Resolution (R</a:t>
            </a:r>
            <a:r>
              <a:rPr b="0" lang="en-US" sz="3200" spc="-1" strike="noStrike" u="sng" baseline="-25000">
                <a:solidFill>
                  <a:srgbClr val="ffc000"/>
                </a:solidFill>
                <a:uFillTx/>
                <a:latin typeface="Arial"/>
              </a:rPr>
              <a:t>S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 column provides a quantitative measure of its ability to separate two anal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 = 2(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) / 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Theoretical Plates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(N):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number of theoretical plates characterizes the efficiency of a colum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 = 16 (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W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</a:rPr>
              <a:t>CHROMAT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tationary phas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 soli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adsorption) 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iqui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partitio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obile phas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 g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GC) o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liqui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 L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H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76520" y="205740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735000" y="10666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g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657600" y="243828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rform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124080" y="320040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Times New Roman"/>
              </a:rPr>
              <a:t>L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733920" y="35053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qui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048120" y="434340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657600" y="4572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romat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HPLC princip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99800"/>
            <a:ext cx="817236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a technique by which a mixture sample is separated into component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identification, quantification and purification of mix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stru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Picture 5" descr="Waters_HPLCSystem"/>
          <p:cNvPicPr/>
          <p:nvPr/>
        </p:nvPicPr>
        <p:blipFill>
          <a:blip r:embed="rId1"/>
          <a:stretch/>
        </p:blipFill>
        <p:spPr>
          <a:xfrm>
            <a:off x="1143000" y="2538360"/>
            <a:ext cx="7000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857160"/>
            <a:ext cx="77724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heart of a HPLC system i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lumn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column contains the particles that contains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tationary phas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mobile phase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is pumped through the column b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Solvents must b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egass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to eliminate formation of bubbles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356760"/>
            <a:ext cx="77724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ffc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Pum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role of the pumpis to force a liquid (mobile phase) through the liquid chromatograph at a specific flow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pump can deliver a constant mobile phase composi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isocrati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ich the m.ph composition remains unchanged during the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gradient) which the m.p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anged during the analysis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2. Injec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njector serves to introduce the liquid sample into the flow stream of the mobile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be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uto-sampl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here are a wide variety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tionary phases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available for HPLC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000160"/>
            <a:ext cx="701028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Normal Phase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ar stationary phase and non-polar solv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 silica g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85800" y="4143240"/>
            <a:ext cx="79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• 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Reverse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-polar stationary phase and a polar          solv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.g. silica gel -C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8:58:18Z</dcterms:created>
  <dc:creator>mhackman</dc:creator>
  <dc:description/>
  <dc:language>en-US</dc:language>
  <cp:lastModifiedBy>user</cp:lastModifiedBy>
  <cp:lastPrinted>2002-04-05T20:51:48Z</cp:lastPrinted>
  <dcterms:modified xsi:type="dcterms:W3CDTF">2012-03-21T10:18:49Z</dcterms:modified>
  <cp:revision>132</cp:revision>
  <dc:subject/>
  <dc:title>Basic Principles of HPLC</dc:title>
</cp:coreProperties>
</file>