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1944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901944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817-8A7F-450B-8A6F-9B4D0381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267-CA1B-41BB-9DAB-3C9E90597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0BD-52E7-40C4-B2B0-313E63987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F89F-955A-4E40-889E-E5E3BFA13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20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717-A0E7-482A-BB8E-BB60175D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BA4-5517-4CC0-82C6-16F3D7F6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434-BDF6-4511-99EA-EC9D70A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CB0-FB48-4E37-9F5D-54864C5D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73B-9D40-480B-8B31-A3108405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EF0-84EC-4308-A1BA-9E99D216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A0D-D438-41D8-BF2E-CC91A9FA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2FA-33BB-4281-8A83-3578AD8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0CE-C5F8-4391-9782-C72E501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061-127B-463E-8AAA-14716D8C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43E-7CE1-4FB1-89DA-FC72A63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18B-3703-4171-AF33-A6089F4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F73E-D80F-43C7-9EA1-598273A06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udyhplc.com/hplcterms.php" TargetMode="External"/><Relationship Id="rId2" Type="http://schemas.openxmlformats.org/officeDocument/2006/relationships/hyperlink" Target="http://www.studyhplc.com/hplcterms.php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7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HPLC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ion excha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ionary phase contains ionic groups and the mobile phase is an aqueous buff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Size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is no interaction between the sample compounds and the column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 molecules elute first. Smaller molecules elut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romat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42840" y="2009880"/>
            <a:ext cx="72583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Times New Roman"/>
              </a:rPr>
              <a:t>parameters of HPLC 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1- Qualitative ana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parameter for compound is retention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he time it takes for that specific compound to elute from the column after inj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Capac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k’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a measure for the position of a sample peak in the chromat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/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Selectiv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c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 called separation or selectivity coefficient is defined a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/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/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5713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2- Quantitative Analysi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ement of the amount of compound in a sample (concent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determination of the peak he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determination of the peak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Resolution (R</a:t>
            </a:r>
            <a:r>
              <a:rPr b="0" lang="en-US" sz="3200" spc="-1" strike="noStrike" u="sng" baseline="-25000">
                <a:solidFill>
                  <a:srgbClr val="ffc000"/>
                </a:solidFill>
                <a:uFillTx/>
                <a:latin typeface="Arial"/>
              </a:rPr>
              <a:t>S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column provides a quantitative measure of its ability to separate two anal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2(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) / 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Theoretical Plat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(N):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number of theoretical plates characterizes the efficiency of a colum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= 16 (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W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</a:rPr>
              <a:t>CHROMAT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ationary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sol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adsorption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artitio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obile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g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C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 L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H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76520" y="20574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735000" y="1066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57600" y="243828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rform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124080" y="320040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733920" y="35053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qu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48120" y="434340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657600" y="4572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romat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HPLC princip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99800"/>
            <a:ext cx="81723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technique by which a mixture sample is separated into component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identification, quantification and purification of mi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5" descr="Waters_HPLCSystem"/>
          <p:cNvPicPr/>
          <p:nvPr/>
        </p:nvPicPr>
        <p:blipFill>
          <a:blip r:embed="rId1"/>
          <a:stretch/>
        </p:blipFill>
        <p:spPr>
          <a:xfrm>
            <a:off x="1143000" y="2538360"/>
            <a:ext cx="7000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85716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heart of a HPLC system i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lum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column contains the particles that contain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tationary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mobile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is pumped through the column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lvents must b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gass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o eliminate formation of bubble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56760"/>
            <a:ext cx="77724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um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role of the pumpis to force a liquid (mobile phase) through the liquid chromatograph at a specific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pump can deliver a constant mobile phase composi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socrati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the m.ph composition remains unchanged during the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gradient) which the m.p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nged during the analysi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2. Inj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jector serves to introduce the liquid sample into the flow stream of the mobil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be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o-sampl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here are a wide variety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tionary phases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available for HPLC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000160"/>
            <a:ext cx="701028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Normal Phase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ar stationary phase and non-polar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85800" y="414324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• 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Revers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-polar stationary phase and a polar         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 -C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8:58:18Z</dcterms:created>
  <dc:creator>mhackman</dc:creator>
  <dc:description/>
  <dc:language>en-US</dc:language>
  <cp:lastModifiedBy>user</cp:lastModifiedBy>
  <cp:lastPrinted>2002-04-05T20:51:48Z</cp:lastPrinted>
  <dcterms:modified xsi:type="dcterms:W3CDTF">2012-03-21T10:18:49Z</dcterms:modified>
  <cp:revision>132</cp:revision>
  <dc:subject/>
  <dc:title>Basic Principles of HPLC</dc:title>
</cp:coreProperties>
</file>