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8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477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019440"/>
            <a:ext cx="3048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9019440"/>
            <a:ext cx="30477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8722-E125-4F88-85D4-C9E84A168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962520" y="9019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6E32-FC77-48AA-A2C6-B42E2C1468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412880"/>
            <a:ext cx="5181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62520" y="9019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ECF8-24D9-4A5C-BE1C-6E12900C9C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040" y="4412880"/>
            <a:ext cx="5181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62520" y="9019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7BBA-F664-4182-9D08-36EBF435E5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20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9D1-D0D1-4A33-99A1-924C55B6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56A-7E66-4264-A57C-95051B42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3B1-E502-415D-80E7-F76074AA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ADC-A214-4AF5-9EC6-E2E866F2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D8B-2B33-4516-B078-7242908C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0AB-3E8F-4CAC-A7BE-2EBD0FD9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1AA-34F1-4452-B632-0973FE91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01F-BD42-484E-8B39-2735DFCE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AC4-82E2-47BB-8CF6-5FF2302C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F67-2B0B-475C-A6DF-2C85375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5A7-4848-4038-A8F8-644B9E41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4F4-656D-44C0-AEC0-AE4D49EC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8EE8-59A2-4B77-B66F-3EC38B51D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udyhplc.com/hplcterms.php" TargetMode="External"/><Relationship Id="rId2" Type="http://schemas.openxmlformats.org/officeDocument/2006/relationships/hyperlink" Target="http://www.studyhplc.com/hplcterms.php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76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HPLC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1523880" y="1371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928440"/>
            <a:ext cx="77724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ion exchan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tionary phase contains ionic groups and the mobile phase is an aqueous buff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Size Ex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re is no interaction between the sample compounds and the column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 molecules elute first. Smaller molecules elute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romat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942840" y="2009880"/>
            <a:ext cx="72583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000"/>
                </a:solidFill>
                <a:uFillTx/>
                <a:latin typeface="Times New Roman"/>
              </a:rPr>
              <a:t>parameters of HPLC 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1- Qualitative analys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parameter for compound is retention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he time it takes for that specific compound to elute from the column after injec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500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Capacity Factor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(k’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a measure for the position of a sample peak in the chromatogr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’ = (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/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Selectivity Factor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c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so called separation or selectivity coefficient is defined a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’/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’ = (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 u="sng" baseline="-25000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 / (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 u="sng" baseline="-25000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571320"/>
            <a:ext cx="77724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2- Quantitative Analysi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asurement of the amount of compound in a sample (concentr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determination of the peak he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determination of the peak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2152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Resolution (R</a:t>
            </a:r>
            <a:r>
              <a:rPr b="0" lang="en-US" sz="3200" spc="-1" strike="noStrike" u="sng" baseline="-25000">
                <a:solidFill>
                  <a:srgbClr val="ffc000"/>
                </a:solidFill>
                <a:uFillTx/>
                <a:latin typeface="Arial"/>
              </a:rPr>
              <a:t>S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 column provides a quantitative measure of its ability to separate two anal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 = 2(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) / 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Theoretical Plates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(N):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number of theoretical plates characterizes the efficiency of a colum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= 16 (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W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imes New Roman"/>
              </a:rPr>
              <a:t>CHROMAT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tationary phas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 soli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adsorption) o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iqui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partitio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obile phas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 ga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GC) o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iqui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 L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H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76520" y="205740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Times New Roman"/>
              </a:rPr>
              <a:t>P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735000" y="106668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g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657600" y="243828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rforma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124080" y="320040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L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733920" y="35053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qui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048120" y="434340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657600" y="4572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romatograp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HPLC princip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440" y="1999800"/>
            <a:ext cx="817236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is a technique by which a mixture sample is separated into component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identification, quantification and purification of mix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stru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Picture 5" descr="Waters_HPLCSystem"/>
          <p:cNvPicPr/>
          <p:nvPr/>
        </p:nvPicPr>
        <p:blipFill>
          <a:blip r:embed="rId1"/>
          <a:stretch/>
        </p:blipFill>
        <p:spPr>
          <a:xfrm>
            <a:off x="1143000" y="2538360"/>
            <a:ext cx="7000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85716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he heart of a HPLC system is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lumn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he column contains the particles that contains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tationary phas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mobile phas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is pumped through the column b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 pu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Solvents must b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gass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o eliminate formation of bubbles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356760"/>
            <a:ext cx="77724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Pum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role of the pumpis to force a liquid (mobile phase) through the liquid chromatograph at a specific flow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pump can deliver a constant mobile phase composit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isocratic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ich the m.ph composition remains unchanged during the 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gradient) which the m.ph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anged during the analysis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2. Inj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injector serves to introduce the liquid sample into the flow stream of the mobile ph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be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to-sampl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There are a wide variety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tionary phases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available for HPLC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000160"/>
            <a:ext cx="7010280" cy="12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Normal Phase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ar stationary phase and non-polar solv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 silica g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85800" y="4143240"/>
            <a:ext cx="79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•  </a:t>
            </a: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Reverse Ph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-polar stationary phase and a polar          solv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 silica gel -C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8:58:18Z</dcterms:created>
  <dc:creator>mhackman</dc:creator>
  <dc:description/>
  <dc:language>en-US</dc:language>
  <cp:lastModifiedBy>user</cp:lastModifiedBy>
  <cp:lastPrinted>2002-04-05T20:51:48Z</cp:lastPrinted>
  <dcterms:modified xsi:type="dcterms:W3CDTF">2012-03-21T10:18:49Z</dcterms:modified>
  <cp:revision>132</cp:revision>
  <dc:subject/>
  <dc:title>Basic Principles of HPLC</dc:title>
</cp:coreProperties>
</file>