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4218-D59E-4891-96BD-F08FC4EAC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DB77-1559-4696-93D8-73B8DDD4D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EF8D-949A-4B69-9AF0-F4F435758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C2BD-7C8C-4B19-9004-1EE66B4CB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8542-9F03-4DD1-951A-B0D8F11D4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5C18-DB50-4BF7-8508-8E4288282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5643-37F1-4338-A712-2522DA509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8923-9069-4C81-AAFC-52DACAA51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A0AB-BCBA-4CD1-8862-ABA695979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77AD-4DED-4288-9BF0-B243E41B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2C5D-3414-4C95-A174-2140D54A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7494-51A8-4DB9-85B6-4DF968D9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E09A0-57A4-4FF1-9670-1049501FB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Heat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rc 5"/>
          <p:cNvSpPr/>
          <p:nvPr/>
        </p:nvSpPr>
        <p:spPr>
          <a:xfrm flipH="1" flipV="1">
            <a:off x="6400800" y="609480"/>
            <a:ext cx="2743200" cy="2286000"/>
          </a:xfrm>
          <a:custGeom>
            <a:avLst/>
            <a:gdLst>
              <a:gd name="textAreaLeft" fmla="*/ 360 w 2743200"/>
              <a:gd name="textAreaRight" fmla="*/ 2743920 w 2743200"/>
              <a:gd name="textAreaTop" fmla="*/ 360 h 2286000"/>
              <a:gd name="textAreaBottom" fmla="*/ 2286720 h 2286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solidFill>
            <a:srgbClr val="fae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6"/>
          <p:cNvSpPr/>
          <p:nvPr/>
        </p:nvSpPr>
        <p:spPr>
          <a:xfrm flipH="1">
            <a:off x="6095880" y="2438280"/>
            <a:ext cx="1067040" cy="1219320"/>
          </a:xfrm>
          <a:prstGeom prst="line">
            <a:avLst/>
          </a:prstGeom>
          <a:ln w="57240">
            <a:solidFill>
              <a:srgbClr val="fae3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7"/>
          <p:cNvSpPr/>
          <p:nvPr/>
        </p:nvSpPr>
        <p:spPr>
          <a:xfrm flipH="1">
            <a:off x="4952880" y="1523880"/>
            <a:ext cx="1447920" cy="533520"/>
          </a:xfrm>
          <a:prstGeom prst="line">
            <a:avLst/>
          </a:prstGeom>
          <a:ln w="57240">
            <a:solidFill>
              <a:srgbClr val="fae3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 flipH="1">
            <a:off x="8076960" y="2971800"/>
            <a:ext cx="228600" cy="1447920"/>
          </a:xfrm>
          <a:prstGeom prst="line">
            <a:avLst/>
          </a:prstGeom>
          <a:ln w="57240">
            <a:solidFill>
              <a:srgbClr val="fae3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5"/>
          <p:cNvSpPr/>
          <p:nvPr/>
        </p:nvSpPr>
        <p:spPr>
          <a:xfrm>
            <a:off x="228600" y="2719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6"/>
          <p:cNvSpPr/>
          <p:nvPr/>
        </p:nvSpPr>
        <p:spPr>
          <a:xfrm>
            <a:off x="0" y="2895480"/>
            <a:ext cx="396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32657"/>
                </a:solidFill>
                <a:latin typeface="Arial"/>
              </a:rPr>
              <a:t>Import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is chapter follows mainly on chapter 4 in Turcotte and Schubert textboo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Heat transfer: heat fl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0" y="17334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1: a slab of thickness l, and a temperature difference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eat flux is given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4"/>
              <p:cNvSpPr txBox="1"/>
              <p:nvPr/>
            </p:nvSpPr>
            <p:spPr>
              <a:xfrm>
                <a:off x="2514600" y="3790800"/>
                <a:ext cx="194328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k</m:t>
                    </m:r>
                    <m:f>
                      <m:num>
                        <m:r>
                          <m:t xml:space="preserve">DT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6" name="Picture 5" descr="ts_fig4-1"/>
          <p:cNvPicPr/>
          <p:nvPr/>
        </p:nvPicPr>
        <p:blipFill>
          <a:blip r:embed="rId1"/>
          <a:stretch/>
        </p:blipFill>
        <p:spPr>
          <a:xfrm>
            <a:off x="5562720" y="2324160"/>
            <a:ext cx="313668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Heat transfer: heat fl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0" y="609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2: a composite s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19"/>
          <p:cNvGrpSpPr/>
          <p:nvPr/>
        </p:nvGrpSpPr>
        <p:grpSpPr>
          <a:xfrm>
            <a:off x="5416920" y="1917720"/>
            <a:ext cx="3213360" cy="2248920"/>
            <a:chOff x="5416920" y="1917720"/>
            <a:chExt cx="3213360" cy="2248920"/>
          </a:xfrm>
        </p:grpSpPr>
        <p:sp>
          <p:nvSpPr>
            <p:cNvPr id="100" name="Rectangle 4"/>
            <p:cNvSpPr/>
            <p:nvPr/>
          </p:nvSpPr>
          <p:spPr>
            <a:xfrm>
              <a:off x="5867280" y="1917720"/>
              <a:ext cx="1447920" cy="17524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5"/>
            <p:cNvSpPr/>
            <p:nvPr/>
          </p:nvSpPr>
          <p:spPr>
            <a:xfrm>
              <a:off x="7315200" y="1917720"/>
              <a:ext cx="914400" cy="1752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6"/>
            <p:cNvSpPr/>
            <p:nvPr/>
          </p:nvSpPr>
          <p:spPr>
            <a:xfrm>
              <a:off x="6629400" y="2603520"/>
              <a:ext cx="1295280" cy="0"/>
            </a:xfrm>
            <a:prstGeom prst="line">
              <a:avLst/>
            </a:prstGeom>
            <a:ln w="38160">
              <a:solidFill>
                <a:srgbClr val="db295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7"/>
            <p:cNvSpPr/>
            <p:nvPr/>
          </p:nvSpPr>
          <p:spPr>
            <a:xfrm>
              <a:off x="6939360" y="2293920"/>
              <a:ext cx="6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b295a"/>
                  </a:solidFill>
                  <a:latin typeface="Arial"/>
                </a:rPr>
                <a:t>he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8"/>
            <p:cNvSpPr/>
            <p:nvPr/>
          </p:nvSpPr>
          <p:spPr>
            <a:xfrm>
              <a:off x="6407640" y="1932120"/>
              <a:ext cx="368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9"/>
            <p:cNvSpPr/>
            <p:nvPr/>
          </p:nvSpPr>
          <p:spPr>
            <a:xfrm>
              <a:off x="7550640" y="1932120"/>
              <a:ext cx="368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0"/>
            <p:cNvSpPr/>
            <p:nvPr/>
          </p:nvSpPr>
          <p:spPr>
            <a:xfrm>
              <a:off x="5416920" y="2617920"/>
              <a:ext cx="393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1"/>
            <p:cNvSpPr/>
            <p:nvPr/>
          </p:nvSpPr>
          <p:spPr>
            <a:xfrm>
              <a:off x="7251480" y="2603520"/>
              <a:ext cx="387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2"/>
            <p:cNvSpPr/>
            <p:nvPr/>
          </p:nvSpPr>
          <p:spPr>
            <a:xfrm>
              <a:off x="8236440" y="2617920"/>
              <a:ext cx="393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3"/>
            <p:cNvSpPr/>
            <p:nvPr/>
          </p:nvSpPr>
          <p:spPr>
            <a:xfrm>
              <a:off x="6351120" y="376092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4"/>
            <p:cNvSpPr/>
            <p:nvPr/>
          </p:nvSpPr>
          <p:spPr>
            <a:xfrm>
              <a:off x="7570440" y="376092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7"/>
            <p:cNvSpPr/>
            <p:nvPr/>
          </p:nvSpPr>
          <p:spPr>
            <a:xfrm>
              <a:off x="5867280" y="382284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8"/>
            <p:cNvSpPr/>
            <p:nvPr/>
          </p:nvSpPr>
          <p:spPr>
            <a:xfrm>
              <a:off x="7315200" y="382284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Rectangle 20"/>
          <p:cNvSpPr/>
          <p:nvPr/>
        </p:nvSpPr>
        <p:spPr>
          <a:xfrm>
            <a:off x="10440" y="1143000"/>
            <a:ext cx="28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.F. through slab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1"/>
          <p:cNvSpPr/>
          <p:nvPr/>
        </p:nvSpPr>
        <p:spPr>
          <a:xfrm>
            <a:off x="1080" y="2362320"/>
            <a:ext cx="28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.F. through slab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2"/>
          <p:cNvSpPr/>
          <p:nvPr/>
        </p:nvSpPr>
        <p:spPr>
          <a:xfrm>
            <a:off x="13320" y="3429000"/>
            <a:ext cx="413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teady-state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e 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3"/>
          <p:cNvSpPr/>
          <p:nvPr/>
        </p:nvSpPr>
        <p:spPr>
          <a:xfrm>
            <a:off x="1080" y="4452840"/>
            <a:ext cx="27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more gener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4"/>
          <p:cNvSpPr/>
          <p:nvPr/>
        </p:nvSpPr>
        <p:spPr>
          <a:xfrm>
            <a:off x="0" y="56386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e trade-off between thermal conductivity, k, and the medium thickness, L. Thus, the important quantity is L/k, often referred to as </a:t>
            </a: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thermal resist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25"/>
              <p:cNvSpPr txBox="1"/>
              <p:nvPr/>
            </p:nvSpPr>
            <p:spPr>
              <a:xfrm>
                <a:off x="3124080" y="1511280"/>
                <a:ext cx="175284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26"/>
              <p:cNvSpPr txBox="1"/>
              <p:nvPr/>
            </p:nvSpPr>
            <p:spPr>
              <a:xfrm>
                <a:off x="3173400" y="2637000"/>
                <a:ext cx="165420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27"/>
              <p:cNvSpPr txBox="1"/>
              <p:nvPr/>
            </p:nvSpPr>
            <p:spPr>
              <a:xfrm>
                <a:off x="2446200" y="3703680"/>
                <a:ext cx="316260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28"/>
              <p:cNvSpPr txBox="1"/>
              <p:nvPr/>
            </p:nvSpPr>
            <p:spPr>
              <a:xfrm>
                <a:off x="3205080" y="4648320"/>
                <a:ext cx="170352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/>
                          <m:e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Heat transfer: world-wide heat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Heat_Flow_Map"/>
          <p:cNvPicPr/>
          <p:nvPr/>
        </p:nvPicPr>
        <p:blipFill>
          <a:blip r:embed="rId1"/>
          <a:stretch/>
        </p:blipFill>
        <p:spPr>
          <a:xfrm>
            <a:off x="2133720" y="3013200"/>
            <a:ext cx="5029200" cy="3736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heat_table"/>
          <p:cNvPicPr/>
          <p:nvPr/>
        </p:nvPicPr>
        <p:blipFill>
          <a:blip r:embed="rId2"/>
          <a:stretch/>
        </p:blipFill>
        <p:spPr>
          <a:xfrm>
            <a:off x="3886200" y="685800"/>
            <a:ext cx="5257800" cy="25146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5"/>
          <p:cNvSpPr/>
          <p:nvPr/>
        </p:nvSpPr>
        <p:spPr>
          <a:xfrm>
            <a:off x="23760" y="609480"/>
            <a:ext cx="3862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est heat loss at mid-ocean ridges and lowest at old oceanic cru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emperature gradient of 20-30 K/km, and thermal conductivity of 2-3 W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heat flux is 40-90 mW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Heat transfer: measu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site_of_measurments"/>
          <p:cNvPicPr/>
          <p:nvPr/>
        </p:nvPicPr>
        <p:blipFill>
          <a:blip r:embed="rId1"/>
          <a:stretch/>
        </p:blipFill>
        <p:spPr>
          <a:xfrm>
            <a:off x="1679400" y="2057400"/>
            <a:ext cx="5783400" cy="38289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5"/>
          <p:cNvSpPr/>
          <p:nvPr/>
        </p:nvSpPr>
        <p:spPr>
          <a:xfrm>
            <a:off x="0" y="8492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 flow measurements: the global heat flow map on the previous slide is based on a compilation of individual measurements whose distribution is shown be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9360" y="5929200"/>
            <a:ext cx="913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practical reasons, the vast majority of the measurements are from continental ar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1698480" y="5576760"/>
            <a:ext cx="363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 from: www.heatflow.und.ed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Heat transfer: heat flow over stable continental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0" y="676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0" y="1981080"/>
            <a:ext cx="419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rface heat flow is strongly correlated with the surface concentration of the radioactive heat producing el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4152960" y="1460520"/>
            <a:ext cx="4762440" cy="4559400"/>
            <a:chOff x="4152960" y="1460520"/>
            <a:chExt cx="4762440" cy="4559400"/>
          </a:xfrm>
        </p:grpSpPr>
        <p:pic>
          <p:nvPicPr>
            <p:cNvPr id="135" name="Picture 5" descr="ts_fig4-11"/>
            <p:cNvPicPr/>
            <p:nvPr/>
          </p:nvPicPr>
          <p:blipFill>
            <a:blip r:embed="rId1"/>
            <a:stretch/>
          </p:blipFill>
          <p:spPr>
            <a:xfrm>
              <a:off x="4152960" y="1460520"/>
              <a:ext cx="4762440" cy="455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Line 8"/>
            <p:cNvSpPr/>
            <p:nvPr/>
          </p:nvSpPr>
          <p:spPr>
            <a:xfrm>
              <a:off x="6400800" y="2209680"/>
              <a:ext cx="7621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9"/>
            <p:cNvSpPr/>
            <p:nvPr/>
          </p:nvSpPr>
          <p:spPr>
            <a:xfrm>
              <a:off x="5812560" y="1919160"/>
              <a:ext cx="134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astern 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0"/>
            <p:cNvSpPr/>
            <p:nvPr/>
          </p:nvSpPr>
          <p:spPr>
            <a:xfrm flipH="1" flipV="1">
              <a:off x="6629040" y="3276360"/>
              <a:ext cx="22860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1"/>
            <p:cNvSpPr/>
            <p:nvPr/>
          </p:nvSpPr>
          <p:spPr>
            <a:xfrm>
              <a:off x="5933520" y="4191120"/>
              <a:ext cx="191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orway+Swed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2"/>
            <p:cNvSpPr/>
            <p:nvPr/>
          </p:nvSpPr>
          <p:spPr>
            <a:xfrm flipH="1" flipV="1">
              <a:off x="5257440" y="4419360"/>
              <a:ext cx="7621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3"/>
            <p:cNvSpPr/>
            <p:nvPr/>
          </p:nvSpPr>
          <p:spPr>
            <a:xfrm>
              <a:off x="5216760" y="5029200"/>
              <a:ext cx="163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erra Neva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Rectangle 17"/>
          <p:cNvSpPr/>
          <p:nvPr/>
        </p:nvSpPr>
        <p:spPr>
          <a:xfrm>
            <a:off x="4542480" y="626256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from Turcotte and Schubert text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Heat transfer: heat flow over stable continental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" descr="fowler_fig7-11"/>
          <p:cNvPicPr/>
          <p:nvPr/>
        </p:nvPicPr>
        <p:blipFill>
          <a:blip r:embed="rId1"/>
          <a:stretch/>
        </p:blipFill>
        <p:spPr>
          <a:xfrm>
            <a:off x="4986360" y="1282680"/>
            <a:ext cx="3776760" cy="43560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4"/>
          <p:cNvSpPr/>
          <p:nvPr/>
        </p:nvSpPr>
        <p:spPr>
          <a:xfrm>
            <a:off x="-4680" y="1362240"/>
            <a:ext cx="4348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stable continental areas, surface heat flow systematically decreases with the age of the surface ro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ter we will see that this effect can be attributed to the decrease in the crustal concentrations of the heat producing isotopes due to progressive ero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Heat transfer: heat flow over oceanic c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52560" y="1498680"/>
            <a:ext cx="909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contribution from radioactive elements in the oce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centration of the heat producing isotopes in oceanic crust is about an order of magnitude less than in continental cru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ceanic crust is about a factor of 5 thinner than the continental cru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, the contribution of heat producing elements is negligibl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Heat transfer: heat flow over oceanic c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0" y="1924200"/>
            <a:ext cx="3886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 systematic dependence of the surface heat flow on the age of the sea flo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 we will see that this can be understood as gradual coo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3886200" y="1371600"/>
            <a:ext cx="5029200" cy="4012920"/>
            <a:chOff x="3886200" y="1371600"/>
            <a:chExt cx="5029200" cy="4012920"/>
          </a:xfrm>
        </p:grpSpPr>
        <p:pic>
          <p:nvPicPr>
            <p:cNvPr id="151" name="Picture 4" descr="fowler_fig7-7"/>
            <p:cNvPicPr/>
            <p:nvPr/>
          </p:nvPicPr>
          <p:blipFill>
            <a:blip r:embed="rId1"/>
            <a:stretch/>
          </p:blipFill>
          <p:spPr>
            <a:xfrm>
              <a:off x="3886200" y="1371600"/>
              <a:ext cx="5029200" cy="401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5" descr="fowler_captions7-7"/>
            <p:cNvPicPr/>
            <p:nvPr/>
          </p:nvPicPr>
          <p:blipFill>
            <a:blip r:embed="rId2"/>
            <a:stretch/>
          </p:blipFill>
          <p:spPr>
            <a:xfrm>
              <a:off x="5638680" y="1600200"/>
              <a:ext cx="3086280" cy="1650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Heat transfer: conservation of energy in 1-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ts_fig4-6"/>
          <p:cNvPicPr/>
          <p:nvPr/>
        </p:nvPicPr>
        <p:blipFill>
          <a:blip r:embed="rId1"/>
          <a:stretch/>
        </p:blipFill>
        <p:spPr>
          <a:xfrm>
            <a:off x="4521240" y="1892160"/>
            <a:ext cx="4241880" cy="35942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5"/>
          <p:cNvSpPr/>
          <p:nvPr/>
        </p:nvSpPr>
        <p:spPr>
          <a:xfrm>
            <a:off x="0" y="1117440"/>
            <a:ext cx="4495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a slab of infinitesimal thicknes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; the heat flux out of the slab is q(y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), and the heat flux into the slab q(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t heat flow out of the slab, per unit time and per unit area of the slab's face,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6"/>
              <p:cNvSpPr txBox="1"/>
              <p:nvPr/>
            </p:nvSpPr>
            <p:spPr>
              <a:xfrm>
                <a:off x="1219320" y="4699080"/>
                <a:ext cx="190476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dy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Heat transfer: conservation of energy in 1-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9360" y="758880"/>
            <a:ext cx="913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absence of internal heat production, conservation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requires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4"/>
              <p:cNvSpPr txBox="1"/>
              <p:nvPr/>
            </p:nvSpPr>
            <p:spPr>
              <a:xfrm>
                <a:off x="3451320" y="1828800"/>
                <a:ext cx="234000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dy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Rectangle 5"/>
          <p:cNvSpPr/>
          <p:nvPr/>
        </p:nvSpPr>
        <p:spPr>
          <a:xfrm>
            <a:off x="0" y="2486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22320" y="2435400"/>
            <a:ext cx="912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is infinitesimal, we can expand q(y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) in a Taylor series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7"/>
              <p:cNvSpPr txBox="1"/>
              <p:nvPr/>
            </p:nvSpPr>
            <p:spPr>
              <a:xfrm>
                <a:off x="2268360" y="3090960"/>
                <a:ext cx="4705560" cy="79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d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dy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dy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Rectangle 8"/>
          <p:cNvSpPr/>
          <p:nvPr/>
        </p:nvSpPr>
        <p:spPr>
          <a:xfrm>
            <a:off x="0" y="41241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gnoring terms higher than the first order term, leads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9"/>
              <p:cNvSpPr txBox="1"/>
              <p:nvPr/>
            </p:nvSpPr>
            <p:spPr>
              <a:xfrm>
                <a:off x="2197080" y="4692600"/>
                <a:ext cx="484992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dy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dy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den>
                    </m:f>
                    <m:r>
                      <m:t xml:space="preserve">=</m:t>
                    </m:r>
                    <m:r>
                      <m:t xml:space="preserve">d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k</m:t>
                        </m:r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T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Rectangle 10"/>
          <p:cNvSpPr/>
          <p:nvPr/>
        </p:nvSpPr>
        <p:spPr>
          <a:xfrm>
            <a:off x="1440" y="572436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12"/>
              <p:cNvSpPr txBox="1"/>
              <p:nvPr/>
            </p:nvSpPr>
            <p:spPr>
              <a:xfrm>
                <a:off x="4114800" y="5756400"/>
                <a:ext cx="1015920" cy="79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T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Heat transfer: the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rc 3"/>
          <p:cNvSpPr/>
          <p:nvPr/>
        </p:nvSpPr>
        <p:spPr>
          <a:xfrm flipH="1" flipV="1">
            <a:off x="6400800" y="609480"/>
            <a:ext cx="2743200" cy="2286000"/>
          </a:xfrm>
          <a:custGeom>
            <a:avLst/>
            <a:gdLst>
              <a:gd name="textAreaLeft" fmla="*/ 360 w 2743200"/>
              <a:gd name="textAreaRight" fmla="*/ 2743920 w 2743200"/>
              <a:gd name="textAreaTop" fmla="*/ 360 h 2286000"/>
              <a:gd name="textAreaBottom" fmla="*/ 2286720 h 2286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solidFill>
            <a:srgbClr val="fae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 flipH="1">
            <a:off x="6095880" y="2438280"/>
            <a:ext cx="1067040" cy="1219320"/>
          </a:xfrm>
          <a:prstGeom prst="line">
            <a:avLst/>
          </a:prstGeom>
          <a:ln w="57240">
            <a:solidFill>
              <a:srgbClr val="fae3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 flipH="1">
            <a:off x="4952880" y="1523880"/>
            <a:ext cx="1447920" cy="533520"/>
          </a:xfrm>
          <a:prstGeom prst="line">
            <a:avLst/>
          </a:prstGeom>
          <a:ln w="57240">
            <a:solidFill>
              <a:srgbClr val="fae3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 flipH="1">
            <a:off x="8076960" y="2971800"/>
            <a:ext cx="228600" cy="1447920"/>
          </a:xfrm>
          <a:prstGeom prst="line">
            <a:avLst/>
          </a:prstGeom>
          <a:ln w="57240">
            <a:solidFill>
              <a:srgbClr val="fae3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962120" y="10666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rc 8"/>
          <p:cNvSpPr/>
          <p:nvPr/>
        </p:nvSpPr>
        <p:spPr>
          <a:xfrm>
            <a:off x="0" y="4267080"/>
            <a:ext cx="5334120" cy="2590920"/>
          </a:xfrm>
          <a:custGeom>
            <a:avLst/>
            <a:gdLst>
              <a:gd name="textAreaLeft" fmla="*/ 0 w 5334120"/>
              <a:gd name="textAreaRight" fmla="*/ 5334120 w 5334120"/>
              <a:gd name="textAreaTop" fmla="*/ 0 h 2590920"/>
              <a:gd name="textAreaBottom" fmla="*/ 2591280 h 25909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solidFill>
            <a:srgbClr val="80f8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382680" y="609588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3539520" y="609480"/>
            <a:ext cx="2932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u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es surface proces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o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o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4320" y="3048120"/>
            <a:ext cx="27165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Earth interi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es deep Proces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tle conv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dyna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e tecton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morph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c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2"/>
          <p:cNvSpPr/>
          <p:nvPr/>
        </p:nvSpPr>
        <p:spPr>
          <a:xfrm>
            <a:off x="2757600" y="6110280"/>
            <a:ext cx="22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thquakes: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Heat transfer: conservation of energy in 1-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0" y="2486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2"/>
          <p:cNvSpPr/>
          <p:nvPr/>
        </p:nvSpPr>
        <p:spPr>
          <a:xfrm>
            <a:off x="9360" y="797040"/>
            <a:ext cx="913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Ques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in the absence of internal heat production, how does the geotherm look lik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3"/>
          <p:cNvSpPr/>
          <p:nvPr/>
        </p:nvSpPr>
        <p:spPr>
          <a:xfrm>
            <a:off x="0" y="1996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re's nonzero net heat flow per unit area out of the slab, this heat must be generated internally in the slab. In that c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0"/>
              <p:cNvSpPr txBox="1"/>
              <p:nvPr/>
            </p:nvSpPr>
            <p:spPr>
              <a:xfrm>
                <a:off x="1944720" y="3048120"/>
                <a:ext cx="535608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dy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dy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den>
                    </m:f>
                    <m:r>
                      <m:t xml:space="preserve">=</m:t>
                    </m:r>
                    <m:r>
                      <m:t xml:space="preserve">d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k</m:t>
                        </m:r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T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dyρH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Rectangle 15"/>
          <p:cNvSpPr/>
          <p:nvPr/>
        </p:nvSpPr>
        <p:spPr>
          <a:xfrm>
            <a:off x="0" y="39654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eat production rate per unit 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: what is the source for steady-state internal heating in the Earth lithosph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Heat transfer: geoth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ts_fig4-6"/>
          <p:cNvPicPr/>
          <p:nvPr/>
        </p:nvPicPr>
        <p:blipFill>
          <a:blip r:embed="rId1"/>
          <a:stretch/>
        </p:blipFill>
        <p:spPr>
          <a:xfrm>
            <a:off x="5181480" y="1746360"/>
            <a:ext cx="3810240" cy="290196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5"/>
          <p:cNvSpPr/>
          <p:nvPr/>
        </p:nvSpPr>
        <p:spPr>
          <a:xfrm>
            <a:off x="0" y="619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result may be integrated to determine the geotherm, i.e. the temperature as a function of dep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1863720"/>
            <a:ext cx="525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after we consider a half-space, with a surface at y=0, where y is a depth coordinate increasing down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2441160" y="4680000"/>
            <a:ext cx="446472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undary condition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=-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=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Heat transfer: geoth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14040" y="619200"/>
            <a:ext cx="6066000" cy="49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ing wit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integrating once g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1st b.c. requires that: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leading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integration g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2nd b.c. requires that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k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giv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0"/>
              <p:cNvSpPr txBox="1"/>
              <p:nvPr/>
            </p:nvSpPr>
            <p:spPr>
              <a:xfrm>
                <a:off x="3693960" y="919080"/>
                <a:ext cx="185760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H</m:t>
                    </m:r>
                    <m:r>
                      <m:t xml:space="preserve">+</m:t>
                    </m:r>
                    <m:r>
                      <m:t xml:space="preserve">k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T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1"/>
              <p:cNvSpPr txBox="1"/>
              <p:nvPr/>
            </p:nvSpPr>
            <p:spPr>
              <a:xfrm>
                <a:off x="3560760" y="2133720"/>
                <a:ext cx="217188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Hy</m:t>
                    </m:r>
                    <m:r>
                      <m:rPr>
                        <m:lit/>
                        <m:nor/>
                      </m:rPr>
                      <m:t xml:space="preserve">=-</m:t>
                    </m:r>
                    <m:r>
                      <m:t xml:space="preserve">k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2"/>
              <p:cNvSpPr txBox="1"/>
              <p:nvPr/>
            </p:nvSpPr>
            <p:spPr>
              <a:xfrm>
                <a:off x="3554280" y="3276720"/>
                <a:ext cx="214812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Hy</m:t>
                    </m:r>
                    <m:r>
                      <m:rPr>
                        <m:lit/>
                        <m:nor/>
                      </m:rPr>
                      <m:t xml:space="preserve">=-</m:t>
                    </m:r>
                    <m:r>
                      <m:t xml:space="preserve">k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3"/>
              <p:cNvSpPr txBox="1"/>
              <p:nvPr/>
            </p:nvSpPr>
            <p:spPr>
              <a:xfrm>
                <a:off x="3193920" y="4267080"/>
                <a:ext cx="289584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H</m:t>
                    </m:r>
                    <m:f>
                      <m:num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-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4"/>
              <p:cNvSpPr txBox="1"/>
              <p:nvPr/>
            </p:nvSpPr>
            <p:spPr>
              <a:xfrm>
                <a:off x="3438360" y="5522760"/>
                <a:ext cx="258156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y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ρH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k</m:t>
                        </m:r>
                      </m:den>
                    </m:f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Heat transfer: the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heat-transmittance-means"/>
          <p:cNvPicPr/>
          <p:nvPr/>
        </p:nvPicPr>
        <p:blipFill>
          <a:blip r:embed="rId1"/>
          <a:stretch/>
        </p:blipFill>
        <p:spPr>
          <a:xfrm>
            <a:off x="609480" y="1914480"/>
            <a:ext cx="8001000" cy="46386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0" y="9144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mechanisms for heat transfer: conduction, convection and radi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Heat transfer: the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2880" y="1752480"/>
            <a:ext cx="180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Condu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17"/>
          <p:cNvGrpSpPr/>
          <p:nvPr/>
        </p:nvGrpSpPr>
        <p:grpSpPr>
          <a:xfrm>
            <a:off x="3763800" y="2279520"/>
            <a:ext cx="5075280" cy="3087720"/>
            <a:chOff x="3763800" y="2279520"/>
            <a:chExt cx="5075280" cy="3087720"/>
          </a:xfrm>
        </p:grpSpPr>
        <p:grpSp>
          <p:nvGrpSpPr>
            <p:cNvPr id="65" name="Group 15"/>
            <p:cNvGrpSpPr/>
            <p:nvPr/>
          </p:nvGrpSpPr>
          <p:grpSpPr>
            <a:xfrm>
              <a:off x="3763800" y="2279520"/>
              <a:ext cx="5075280" cy="3087720"/>
              <a:chOff x="3763800" y="2279520"/>
              <a:chExt cx="5075280" cy="3087720"/>
            </a:xfrm>
          </p:grpSpPr>
          <p:pic>
            <p:nvPicPr>
              <p:cNvPr id="66" name="Picture 12" descr="heat-transmittance-means"/>
              <p:cNvPicPr/>
              <p:nvPr/>
            </p:nvPicPr>
            <p:blipFill>
              <a:blip r:embed="rId1"/>
              <a:stretch/>
            </p:blipFill>
            <p:spPr>
              <a:xfrm>
                <a:off x="3908520" y="2475000"/>
                <a:ext cx="4930560" cy="2859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Freeform 13"/>
              <p:cNvSpPr/>
              <p:nvPr/>
            </p:nvSpPr>
            <p:spPr>
              <a:xfrm>
                <a:off x="3763800" y="2279520"/>
                <a:ext cx="2267280" cy="2078280"/>
              </a:xfrm>
              <a:custGeom>
                <a:avLst/>
                <a:gdLst>
                  <a:gd name="textAreaLeft" fmla="*/ 0 w 2267280"/>
                  <a:gd name="textAreaRight" fmla="*/ 2267640 w 2267280"/>
                  <a:gd name="textAreaTop" fmla="*/ 0 h 2078280"/>
                  <a:gd name="textAreaBottom" fmla="*/ 2078640 h 2078280"/>
                </a:gdLst>
                <a:ahLst/>
                <a:rect l="textAreaLeft" t="textAreaTop" r="textAreaRight" b="textAreaBottom"/>
                <a:pathLst>
                  <a:path w="1428" h="1309">
                    <a:moveTo>
                      <a:pt x="37" y="46"/>
                    </a:moveTo>
                    <a:cubicBezTo>
                      <a:pt x="55" y="43"/>
                      <a:pt x="73" y="42"/>
                      <a:pt x="91" y="37"/>
                    </a:cubicBezTo>
                    <a:cubicBezTo>
                      <a:pt x="104" y="32"/>
                      <a:pt x="114" y="20"/>
                      <a:pt x="128" y="18"/>
                    </a:cubicBezTo>
                    <a:cubicBezTo>
                      <a:pt x="187" y="7"/>
                      <a:pt x="309" y="0"/>
                      <a:pt x="309" y="0"/>
                    </a:cubicBezTo>
                    <a:cubicBezTo>
                      <a:pt x="637" y="7"/>
                      <a:pt x="954" y="37"/>
                      <a:pt x="1282" y="46"/>
                    </a:cubicBezTo>
                    <a:cubicBezTo>
                      <a:pt x="1303" y="78"/>
                      <a:pt x="1322" y="105"/>
                      <a:pt x="1355" y="127"/>
                    </a:cubicBezTo>
                    <a:cubicBezTo>
                      <a:pt x="1376" y="171"/>
                      <a:pt x="1410" y="189"/>
                      <a:pt x="1428" y="237"/>
                    </a:cubicBezTo>
                    <a:cubicBezTo>
                      <a:pt x="1419" y="329"/>
                      <a:pt x="1411" y="380"/>
                      <a:pt x="1364" y="455"/>
                    </a:cubicBezTo>
                    <a:cubicBezTo>
                      <a:pt x="1356" y="486"/>
                      <a:pt x="1355" y="499"/>
                      <a:pt x="1337" y="527"/>
                    </a:cubicBezTo>
                    <a:cubicBezTo>
                      <a:pt x="1308" y="569"/>
                      <a:pt x="1308" y="519"/>
                      <a:pt x="1282" y="600"/>
                    </a:cubicBezTo>
                    <a:cubicBezTo>
                      <a:pt x="1270" y="633"/>
                      <a:pt x="1252" y="659"/>
                      <a:pt x="1237" y="691"/>
                    </a:cubicBezTo>
                    <a:cubicBezTo>
                      <a:pt x="1218" y="727"/>
                      <a:pt x="1238" y="737"/>
                      <a:pt x="1191" y="773"/>
                    </a:cubicBezTo>
                    <a:cubicBezTo>
                      <a:pt x="1170" y="788"/>
                      <a:pt x="1148" y="802"/>
                      <a:pt x="1128" y="818"/>
                    </a:cubicBezTo>
                    <a:cubicBezTo>
                      <a:pt x="1095" y="843"/>
                      <a:pt x="1079" y="877"/>
                      <a:pt x="1046" y="900"/>
                    </a:cubicBezTo>
                    <a:cubicBezTo>
                      <a:pt x="1031" y="943"/>
                      <a:pt x="1020" y="923"/>
                      <a:pt x="991" y="955"/>
                    </a:cubicBezTo>
                    <a:cubicBezTo>
                      <a:pt x="985" y="973"/>
                      <a:pt x="979" y="991"/>
                      <a:pt x="973" y="1009"/>
                    </a:cubicBezTo>
                    <a:cubicBezTo>
                      <a:pt x="970" y="1018"/>
                      <a:pt x="964" y="1036"/>
                      <a:pt x="964" y="1036"/>
                    </a:cubicBezTo>
                    <a:cubicBezTo>
                      <a:pt x="973" y="1083"/>
                      <a:pt x="983" y="1123"/>
                      <a:pt x="1009" y="1164"/>
                    </a:cubicBezTo>
                    <a:cubicBezTo>
                      <a:pt x="1000" y="1188"/>
                      <a:pt x="990" y="1252"/>
                      <a:pt x="964" y="1273"/>
                    </a:cubicBezTo>
                    <a:cubicBezTo>
                      <a:pt x="947" y="1286"/>
                      <a:pt x="894" y="1301"/>
                      <a:pt x="873" y="1309"/>
                    </a:cubicBezTo>
                    <a:cubicBezTo>
                      <a:pt x="778" y="1290"/>
                      <a:pt x="689" y="1249"/>
                      <a:pt x="591" y="1246"/>
                    </a:cubicBezTo>
                    <a:cubicBezTo>
                      <a:pt x="436" y="1240"/>
                      <a:pt x="282" y="1239"/>
                      <a:pt x="128" y="1236"/>
                    </a:cubicBezTo>
                    <a:cubicBezTo>
                      <a:pt x="109" y="1230"/>
                      <a:pt x="83" y="1234"/>
                      <a:pt x="73" y="1218"/>
                    </a:cubicBezTo>
                    <a:cubicBezTo>
                      <a:pt x="61" y="1200"/>
                      <a:pt x="37" y="1164"/>
                      <a:pt x="37" y="1164"/>
                    </a:cubicBezTo>
                    <a:cubicBezTo>
                      <a:pt x="26" y="1130"/>
                      <a:pt x="8" y="1108"/>
                      <a:pt x="0" y="1073"/>
                    </a:cubicBezTo>
                    <a:cubicBezTo>
                      <a:pt x="10" y="731"/>
                      <a:pt x="37" y="388"/>
                      <a:pt x="37" y="4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14"/>
              <p:cNvSpPr/>
              <p:nvPr/>
            </p:nvSpPr>
            <p:spPr>
              <a:xfrm>
                <a:off x="5578560" y="4122720"/>
                <a:ext cx="2844720" cy="1244520"/>
              </a:xfrm>
              <a:custGeom>
                <a:avLst/>
                <a:gdLst>
                  <a:gd name="textAreaLeft" fmla="*/ 0 w 2844720"/>
                  <a:gd name="textAreaRight" fmla="*/ 2845080 w 2844720"/>
                  <a:gd name="textAreaTop" fmla="*/ 0 h 1244520"/>
                  <a:gd name="textAreaBottom" fmla="*/ 1244880 h 1244520"/>
                </a:gdLst>
                <a:ahLst/>
                <a:rect l="textAreaLeft" t="textAreaTop" r="textAreaRight" b="textAreaBottom"/>
                <a:pathLst>
                  <a:path w="1792" h="784">
                    <a:moveTo>
                      <a:pt x="1603" y="3"/>
                    </a:moveTo>
                    <a:cubicBezTo>
                      <a:pt x="1184" y="6"/>
                      <a:pt x="766" y="0"/>
                      <a:pt x="348" y="12"/>
                    </a:cubicBezTo>
                    <a:cubicBezTo>
                      <a:pt x="328" y="12"/>
                      <a:pt x="321" y="44"/>
                      <a:pt x="303" y="48"/>
                    </a:cubicBezTo>
                    <a:cubicBezTo>
                      <a:pt x="245" y="58"/>
                      <a:pt x="187" y="60"/>
                      <a:pt x="130" y="75"/>
                    </a:cubicBezTo>
                    <a:cubicBezTo>
                      <a:pt x="111" y="87"/>
                      <a:pt x="87" y="93"/>
                      <a:pt x="75" y="112"/>
                    </a:cubicBezTo>
                    <a:cubicBezTo>
                      <a:pt x="63" y="130"/>
                      <a:pt x="39" y="166"/>
                      <a:pt x="39" y="166"/>
                    </a:cubicBezTo>
                    <a:cubicBezTo>
                      <a:pt x="46" y="367"/>
                      <a:pt x="0" y="440"/>
                      <a:pt x="148" y="539"/>
                    </a:cubicBezTo>
                    <a:cubicBezTo>
                      <a:pt x="179" y="585"/>
                      <a:pt x="212" y="622"/>
                      <a:pt x="248" y="666"/>
                    </a:cubicBezTo>
                    <a:cubicBezTo>
                      <a:pt x="255" y="674"/>
                      <a:pt x="257" y="687"/>
                      <a:pt x="266" y="694"/>
                    </a:cubicBezTo>
                    <a:cubicBezTo>
                      <a:pt x="318" y="733"/>
                      <a:pt x="353" y="722"/>
                      <a:pt x="421" y="730"/>
                    </a:cubicBezTo>
                    <a:cubicBezTo>
                      <a:pt x="491" y="737"/>
                      <a:pt x="559" y="757"/>
                      <a:pt x="630" y="766"/>
                    </a:cubicBezTo>
                    <a:cubicBezTo>
                      <a:pt x="913" y="762"/>
                      <a:pt x="1376" y="707"/>
                      <a:pt x="1684" y="784"/>
                    </a:cubicBezTo>
                    <a:cubicBezTo>
                      <a:pt x="1792" y="749"/>
                      <a:pt x="1709" y="568"/>
                      <a:pt x="1684" y="475"/>
                    </a:cubicBezTo>
                    <a:cubicBezTo>
                      <a:pt x="1681" y="451"/>
                      <a:pt x="1676" y="427"/>
                      <a:pt x="1675" y="403"/>
                    </a:cubicBezTo>
                    <a:cubicBezTo>
                      <a:pt x="1670" y="312"/>
                      <a:pt x="1673" y="220"/>
                      <a:pt x="1666" y="130"/>
                    </a:cubicBezTo>
                    <a:cubicBezTo>
                      <a:pt x="1661" y="79"/>
                      <a:pt x="1624" y="45"/>
                      <a:pt x="1603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Freeform 16"/>
            <p:cNvSpPr/>
            <p:nvPr/>
          </p:nvSpPr>
          <p:spPr>
            <a:xfrm>
              <a:off x="5743440" y="3224160"/>
              <a:ext cx="814680" cy="515880"/>
            </a:xfrm>
            <a:custGeom>
              <a:avLst/>
              <a:gdLst>
                <a:gd name="textAreaLeft" fmla="*/ 0 w 814680"/>
                <a:gd name="textAreaRight" fmla="*/ 815040 w 814680"/>
                <a:gd name="textAreaTop" fmla="*/ 0 h 515880"/>
                <a:gd name="textAreaBottom" fmla="*/ 516240 h 515880"/>
              </a:gdLst>
              <a:ahLst/>
              <a:rect l="textAreaLeft" t="textAreaTop" r="textAreaRight" b="textAreaBottom"/>
              <a:pathLst>
                <a:path w="513" h="325">
                  <a:moveTo>
                    <a:pt x="0" y="78"/>
                  </a:moveTo>
                  <a:cubicBezTo>
                    <a:pt x="120" y="80"/>
                    <a:pt x="386" y="0"/>
                    <a:pt x="509" y="123"/>
                  </a:cubicBezTo>
                  <a:cubicBezTo>
                    <a:pt x="506" y="144"/>
                    <a:pt x="513" y="170"/>
                    <a:pt x="500" y="187"/>
                  </a:cubicBezTo>
                  <a:cubicBezTo>
                    <a:pt x="488" y="202"/>
                    <a:pt x="445" y="205"/>
                    <a:pt x="445" y="205"/>
                  </a:cubicBezTo>
                  <a:cubicBezTo>
                    <a:pt x="75" y="197"/>
                    <a:pt x="0" y="325"/>
                    <a:pt x="0" y="7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Rectangle 6"/>
          <p:cNvSpPr/>
          <p:nvPr/>
        </p:nvSpPr>
        <p:spPr>
          <a:xfrm>
            <a:off x="-4680" y="2486160"/>
            <a:ext cx="503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iffusive process wherein molecules transmit their kinetic energy to other molecules by colliding with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Heat transfer: the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2520" y="212076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Conv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0" y="2654280"/>
            <a:ext cx="4343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cess associated with the motion of the medium. When a hot material flows into a cold material, it will heat the region - and vise ver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8"/>
          <p:cNvGrpSpPr/>
          <p:nvPr/>
        </p:nvGrpSpPr>
        <p:grpSpPr>
          <a:xfrm>
            <a:off x="4648320" y="1143000"/>
            <a:ext cx="3363840" cy="5410080"/>
            <a:chOff x="4648320" y="1143000"/>
            <a:chExt cx="3363840" cy="5410080"/>
          </a:xfrm>
        </p:grpSpPr>
        <p:pic>
          <p:nvPicPr>
            <p:cNvPr id="75" name="Picture 6" descr="convection"/>
            <p:cNvPicPr/>
            <p:nvPr/>
          </p:nvPicPr>
          <p:blipFill>
            <a:blip r:embed="rId1"/>
            <a:stretch/>
          </p:blipFill>
          <p:spPr>
            <a:xfrm>
              <a:off x="4648320" y="1143000"/>
              <a:ext cx="3363840" cy="541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Rectangle 7"/>
            <p:cNvSpPr/>
            <p:nvPr/>
          </p:nvSpPr>
          <p:spPr>
            <a:xfrm>
              <a:off x="4648320" y="3809880"/>
              <a:ext cx="13716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Heat transfer: the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240" y="1714680"/>
            <a:ext cx="15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Radi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0" y="23241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ransfer of heat via electromagnetic radiation. Example - the S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8"/>
          <p:cNvGrpSpPr/>
          <p:nvPr/>
        </p:nvGrpSpPr>
        <p:grpSpPr>
          <a:xfrm>
            <a:off x="1587600" y="3467160"/>
            <a:ext cx="5956200" cy="1562040"/>
            <a:chOff x="1587600" y="3467160"/>
            <a:chExt cx="5956200" cy="1562040"/>
          </a:xfrm>
        </p:grpSpPr>
        <p:pic>
          <p:nvPicPr>
            <p:cNvPr id="81" name="Picture 6" descr="radiation"/>
            <p:cNvPicPr/>
            <p:nvPr/>
          </p:nvPicPr>
          <p:blipFill>
            <a:blip r:embed="rId1"/>
            <a:stretch/>
          </p:blipFill>
          <p:spPr>
            <a:xfrm>
              <a:off x="1587600" y="3467160"/>
              <a:ext cx="5956200" cy="15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Rectangle 7"/>
            <p:cNvSpPr/>
            <p:nvPr/>
          </p:nvSpPr>
          <p:spPr>
            <a:xfrm>
              <a:off x="4572000" y="4495680"/>
              <a:ext cx="9144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Heat transfer: the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0" y="149868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Earth, both conduction and convection are import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lithosphere, the temperature gradient is controlled mainly by cond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ction in the lithosphere does play a role 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d-ocean ridges in the form of hydrothermal ocean circ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lcanism and emplacement of magmatic bodie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Heat transfer: heat fl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0" y="6253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Heat flu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flow per unit area and per unit time of heat. It is directly proportional to the temperature gradi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dimensional </a:t>
            </a: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Fourier's la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 is the heat fl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is the coefficient of thermal con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is the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is a spatial coord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2520" y="5486400"/>
            <a:ext cx="463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Ques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why is the minus sig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5"/>
              <p:cNvSpPr txBox="1"/>
              <p:nvPr/>
            </p:nvSpPr>
            <p:spPr>
              <a:xfrm>
                <a:off x="3657600" y="2438280"/>
                <a:ext cx="182880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rPr>
                        <m:lit/>
                        <m:nor/>
                      </m:rPr>
                      <m:t xml:space="preserve">=-</m:t>
                    </m:r>
                    <m:r>
                      <m:t xml:space="preserve">k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Rectangle 6"/>
          <p:cNvSpPr/>
          <p:nvPr/>
        </p:nvSpPr>
        <p:spPr>
          <a:xfrm>
            <a:off x="360" y="5943600"/>
            <a:ext cx="48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Ques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is q a vector or a scal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Heat transfer: heat fl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0" y="131436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 is in [W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is in [W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W is read “watt”, and is equal to Joule per sec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0" y="46036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ubstance with a large value of k is a good thermal conductor, whereas a substance with a small value of k is a poor thermal conductor or a good thermal insula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5T09:13:02Z</dcterms:created>
  <dc:creator>Ziv Alon</dc:creator>
  <dc:description/>
  <dc:language>en-US</dc:language>
  <cp:lastModifiedBy>Dell</cp:lastModifiedBy>
  <dcterms:modified xsi:type="dcterms:W3CDTF">2011-10-06T01:02:32Z</dcterms:modified>
  <cp:revision>49</cp:revision>
  <dc:subject/>
  <dc:title>PowerPoint Presentation</dc:title>
</cp:coreProperties>
</file>