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83EAF-40F1-486C-A4E0-E27295F2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362808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E48E6-2962-4CCB-8E6B-BAC2764B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4536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FC3B2-03B5-43FE-BD25-48BB916E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20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0636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20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0636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E3BD4-C910-4633-ADEC-B7A1B4DC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668B-273D-4213-90B5-CB37AB96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BFA2-E1FC-42B2-B8FC-30989A23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1ABD-F950-4EA8-B67A-15766580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143E-9DF9-4175-BC72-132E2003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5232-F214-4D74-A77E-DF78C726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7702-1EC5-46AE-84AC-7735EFFC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F0D4-F32B-4A4C-AC72-2EB0A861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B1983-55B7-4A4C-8F0C-C84875EE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4536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ADA4-A03A-4654-8A74-6D5E183D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7A09-45A4-4FE5-818D-94848543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362808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A275-7EB6-4487-B5C1-E6FD2B7F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4536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19FA-371D-416D-A13C-ED94A4DD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20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0636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20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0636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2CCF-9998-4795-8CCA-3061A845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D9586-EC7F-479A-8C87-9BFFFC08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B9917-E564-4844-8E6E-463BBBEC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67078-A68B-4BCB-A83B-33A936E9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FFC39-D16F-4566-A919-2AF1D25E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114A-D205-4225-AE4E-96D3DDA9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4536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2E609-DF2C-4A41-9E48-8E44E335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18700-0D6C-42B9-8C58-E6888223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bcd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2b166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b166e"/>
                </a:solidFill>
                <a:latin typeface="Verdana"/>
              </a:rPr>
              <a:t>www.designfreebies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352320" y="6479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2b166e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995A-D00D-4873-9AB9-566C511A5B7E}" type="slidenum">
              <a:rPr b="0" lang="ar-SA" sz="1200" spc="-1" strike="noStrike">
                <a:solidFill>
                  <a:srgbClr val="2b166e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5943240" y="647964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b166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886A-6AF4-49DF-A5F8-A03EBF328AF7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28600"/>
            <a:ext cx="1219320" cy="12193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5232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b166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b166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b166e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Histology Major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346640" cy="4346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24000" y="2349360"/>
            <a:ext cx="417960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17520" y="54936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265896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Histology of Urinogenetal syste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1844640"/>
            <a:ext cx="8280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Objective: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To study the histology of the male and female reproductive gonads (testis and ovary) of the rabbit.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265896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estis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90520" y="763560"/>
            <a:ext cx="864072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258920" y="1179360"/>
            <a:ext cx="66960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71640" y="960480"/>
            <a:ext cx="712944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1332000" y="765000"/>
            <a:ext cx="6399000" cy="5702400"/>
            <a:chOff x="1332000" y="765000"/>
            <a:chExt cx="6399000" cy="5702400"/>
          </a:xfrm>
        </p:grpSpPr>
        <p:sp>
          <p:nvSpPr>
            <p:cNvPr id="148" name=""/>
            <p:cNvSpPr/>
            <p:nvPr/>
          </p:nvSpPr>
          <p:spPr>
            <a:xfrm>
              <a:off x="1981080" y="1743120"/>
              <a:ext cx="5303880" cy="806400"/>
            </a:xfrm>
            <a:custGeom>
              <a:avLst/>
              <a:gdLst/>
              <a:ahLst/>
              <a:rect l="l" t="t" r="r" b="b"/>
              <a:pathLst>
                <a:path w="3341" h="508">
                  <a:moveTo>
                    <a:pt x="1" y="492"/>
                  </a:moveTo>
                  <a:cubicBezTo>
                    <a:pt x="0" y="477"/>
                    <a:pt x="710" y="0"/>
                    <a:pt x="1707" y="20"/>
                  </a:cubicBezTo>
                  <a:cubicBezTo>
                    <a:pt x="2704" y="40"/>
                    <a:pt x="3339" y="467"/>
                    <a:pt x="3340" y="482"/>
                  </a:cubicBezTo>
                  <a:cubicBezTo>
                    <a:pt x="3341" y="496"/>
                    <a:pt x="2608" y="93"/>
                    <a:pt x="1734" y="74"/>
                  </a:cubicBezTo>
                  <a:cubicBezTo>
                    <a:pt x="860" y="54"/>
                    <a:pt x="2" y="508"/>
                    <a:pt x="1" y="492"/>
                  </a:cubicBezTo>
                  <a:close/>
                </a:path>
              </a:pathLst>
            </a:custGeom>
            <a:gradFill rotWithShape="0">
              <a:gsLst>
                <a:gs pos="0">
                  <a:srgbClr val="5bcd81"/>
                </a:gs>
                <a:gs pos="50000">
                  <a:srgbClr val="b3e7c4"/>
                </a:gs>
                <a:gs pos="100000">
                  <a:srgbClr val="5bcd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1332000" y="765000"/>
              <a:ext cx="6399000" cy="57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411280" y="105264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</a:t>
              </a:r>
              <a:endParaRPr b="0" lang="en-US" sz="36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484280"/>
            <a:ext cx="741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2072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Objective: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To study the histology of some selected parts of the: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Oesophagus, liver, testis and ovary.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23800" y="378000"/>
            <a:ext cx="8064360" cy="6041880"/>
            <a:chOff x="523800" y="378000"/>
            <a:chExt cx="8064360" cy="604188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523800" y="378000"/>
              <a:ext cx="8064360" cy="60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40520" y="985680"/>
              <a:ext cx="2447640" cy="576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62680" y="1562040"/>
              <a:ext cx="2448000" cy="1131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65600" y="2655720"/>
              <a:ext cx="2303640" cy="1150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52880" y="3794040"/>
              <a:ext cx="2448000" cy="576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37240" y="4802040"/>
              <a:ext cx="2448000" cy="576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90800" y="665280"/>
              <a:ext cx="2448000" cy="57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92160" y="5594400"/>
              <a:ext cx="2160720" cy="288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7334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5896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Ovary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50920" y="189000"/>
            <a:ext cx="8568720" cy="6408360"/>
            <a:chOff x="250920" y="189000"/>
            <a:chExt cx="8568720" cy="6408360"/>
          </a:xfrm>
        </p:grpSpPr>
        <p:grpSp>
          <p:nvGrpSpPr>
            <p:cNvPr id="165" name=""/>
            <p:cNvGrpSpPr/>
            <p:nvPr/>
          </p:nvGrpSpPr>
          <p:grpSpPr>
            <a:xfrm>
              <a:off x="250920" y="189000"/>
              <a:ext cx="8568720" cy="6408360"/>
              <a:chOff x="250920" y="189000"/>
              <a:chExt cx="8568720" cy="6408360"/>
            </a:xfrm>
          </p:grpSpPr>
          <p:sp>
            <p:nvSpPr>
              <p:cNvPr id="166" name=""/>
              <p:cNvSpPr/>
              <p:nvPr/>
            </p:nvSpPr>
            <p:spPr>
              <a:xfrm>
                <a:off x="1476000" y="1455120"/>
                <a:ext cx="6012000" cy="883440"/>
              </a:xfrm>
              <a:custGeom>
                <a:avLst/>
                <a:gdLst/>
                <a:ahLst/>
                <a:rect l="l" t="t" r="r" b="b"/>
                <a:pathLst>
                  <a:path w="3341" h="508">
                    <a:moveTo>
                      <a:pt x="1" y="492"/>
                    </a:moveTo>
                    <a:cubicBezTo>
                      <a:pt x="0" y="477"/>
                      <a:pt x="710" y="0"/>
                      <a:pt x="1707" y="20"/>
                    </a:cubicBezTo>
                    <a:cubicBezTo>
                      <a:pt x="2704" y="40"/>
                      <a:pt x="3339" y="467"/>
                      <a:pt x="3340" y="482"/>
                    </a:cubicBezTo>
                    <a:cubicBezTo>
                      <a:pt x="3341" y="496"/>
                      <a:pt x="2608" y="93"/>
                      <a:pt x="1734" y="74"/>
                    </a:cubicBezTo>
                    <a:cubicBezTo>
                      <a:pt x="860" y="54"/>
                      <a:pt x="2" y="508"/>
                      <a:pt x="1" y="49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bcd81"/>
                  </a:gs>
                  <a:gs pos="50000">
                    <a:srgbClr val="b3e7c4"/>
                  </a:gs>
                  <a:gs pos="100000">
                    <a:srgbClr val="5bcd8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pic>
            <p:nvPicPr>
              <p:cNvPr id="1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920" y="189000"/>
                <a:ext cx="8568720" cy="640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4738680" y="6143400"/>
                <a:ext cx="572040" cy="2365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35400" y="3295440"/>
                <a:ext cx="572040" cy="2365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068720" y="293760"/>
              <a:ext cx="1440000" cy="358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08360" y="2327400"/>
              <a:ext cx="129708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59560" y="2327400"/>
              <a:ext cx="129708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32720" y="260280"/>
              <a:ext cx="1942920" cy="432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1981080" y="1557360"/>
            <a:ext cx="5303880" cy="3809880"/>
            <a:chOff x="1981080" y="1557360"/>
            <a:chExt cx="5303880" cy="3809880"/>
          </a:xfrm>
        </p:grpSpPr>
        <p:sp>
          <p:nvSpPr>
            <p:cNvPr id="175" name=""/>
            <p:cNvSpPr/>
            <p:nvPr/>
          </p:nvSpPr>
          <p:spPr>
            <a:xfrm>
              <a:off x="1981080" y="1743120"/>
              <a:ext cx="5303880" cy="806400"/>
            </a:xfrm>
            <a:custGeom>
              <a:avLst/>
              <a:gdLst/>
              <a:ahLst/>
              <a:rect l="l" t="t" r="r" b="b"/>
              <a:pathLst>
                <a:path w="3341" h="508">
                  <a:moveTo>
                    <a:pt x="1" y="492"/>
                  </a:moveTo>
                  <a:cubicBezTo>
                    <a:pt x="0" y="477"/>
                    <a:pt x="710" y="0"/>
                    <a:pt x="1707" y="20"/>
                  </a:cubicBezTo>
                  <a:cubicBezTo>
                    <a:pt x="2704" y="40"/>
                    <a:pt x="3339" y="467"/>
                    <a:pt x="3340" y="482"/>
                  </a:cubicBezTo>
                  <a:cubicBezTo>
                    <a:pt x="3341" y="496"/>
                    <a:pt x="2608" y="93"/>
                    <a:pt x="1734" y="74"/>
                  </a:cubicBezTo>
                  <a:cubicBezTo>
                    <a:pt x="860" y="54"/>
                    <a:pt x="2" y="508"/>
                    <a:pt x="1" y="492"/>
                  </a:cubicBezTo>
                  <a:close/>
                </a:path>
              </a:pathLst>
            </a:custGeom>
            <a:gradFill rotWithShape="0">
              <a:gsLst>
                <a:gs pos="0">
                  <a:srgbClr val="5bcd81"/>
                </a:gs>
                <a:gs pos="50000">
                  <a:srgbClr val="b3e7c4"/>
                </a:gs>
                <a:gs pos="100000">
                  <a:srgbClr val="5bcd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2050920" y="1557360"/>
              <a:ext cx="507996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141720" y="4518000"/>
              <a:ext cx="1079280" cy="5047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56000" y="3787920"/>
              <a:ext cx="1079280" cy="5047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620120" cy="569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219400" y="885960"/>
            <a:ext cx="470520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755640" y="1052640"/>
            <a:ext cx="7473960" cy="5097240"/>
            <a:chOff x="755640" y="1052640"/>
            <a:chExt cx="7473960" cy="5097240"/>
          </a:xfrm>
        </p:grpSpPr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755640" y="1052640"/>
              <a:ext cx="7473960" cy="50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519960" y="1800000"/>
              <a:ext cx="718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18080" y="1915920"/>
              <a:ext cx="57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77770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265896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Oesophagus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84520" y="115920"/>
            <a:ext cx="6603840" cy="6611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46160" y="1662120"/>
            <a:ext cx="100800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3384720"/>
            <a:ext cx="100800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26320" y="5356080"/>
            <a:ext cx="1081080" cy="37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11320" y="5151600"/>
            <a:ext cx="11541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539640" y="907920"/>
            <a:ext cx="8058240" cy="5278680"/>
            <a:chOff x="539640" y="907920"/>
            <a:chExt cx="8058240" cy="5278680"/>
          </a:xfrm>
        </p:grpSpPr>
        <p:sp>
          <p:nvSpPr>
            <p:cNvPr id="101" name=""/>
            <p:cNvSpPr/>
            <p:nvPr/>
          </p:nvSpPr>
          <p:spPr>
            <a:xfrm>
              <a:off x="1981080" y="1743120"/>
              <a:ext cx="5303880" cy="806400"/>
            </a:xfrm>
            <a:custGeom>
              <a:avLst/>
              <a:gdLst/>
              <a:ahLst/>
              <a:rect l="l" t="t" r="r" b="b"/>
              <a:pathLst>
                <a:path w="3341" h="508">
                  <a:moveTo>
                    <a:pt x="1" y="492"/>
                  </a:moveTo>
                  <a:cubicBezTo>
                    <a:pt x="0" y="477"/>
                    <a:pt x="710" y="0"/>
                    <a:pt x="1707" y="20"/>
                  </a:cubicBezTo>
                  <a:cubicBezTo>
                    <a:pt x="2704" y="40"/>
                    <a:pt x="3339" y="467"/>
                    <a:pt x="3340" y="482"/>
                  </a:cubicBezTo>
                  <a:cubicBezTo>
                    <a:pt x="3341" y="496"/>
                    <a:pt x="2608" y="93"/>
                    <a:pt x="1734" y="74"/>
                  </a:cubicBezTo>
                  <a:cubicBezTo>
                    <a:pt x="860" y="54"/>
                    <a:pt x="2" y="508"/>
                    <a:pt x="1" y="492"/>
                  </a:cubicBezTo>
                  <a:close/>
                </a:path>
              </a:pathLst>
            </a:custGeom>
            <a:gradFill rotWithShape="0">
              <a:gsLst>
                <a:gs pos="0">
                  <a:srgbClr val="5bcd81"/>
                </a:gs>
                <a:gs pos="50000">
                  <a:srgbClr val="b3e7c4"/>
                </a:gs>
                <a:gs pos="100000">
                  <a:srgbClr val="5bcd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539640" y="907920"/>
              <a:ext cx="805824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84360" y="1916280"/>
              <a:ext cx="1366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1280" y="2565360"/>
              <a:ext cx="1366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4360" y="4005360"/>
              <a:ext cx="1366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5640" y="5734080"/>
              <a:ext cx="1800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25560" y="1225440"/>
            <a:ext cx="7318440" cy="4940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20451600">
            <a:off x="2809800" y="3284280"/>
            <a:ext cx="1474920" cy="4316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0451600">
            <a:off x="4427640" y="2758680"/>
            <a:ext cx="1474560" cy="432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20451600">
            <a:off x="1060200" y="3499920"/>
            <a:ext cx="1726920" cy="720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65896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Liver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108000" y="122400"/>
            <a:ext cx="8856720" cy="6446520"/>
            <a:chOff x="108000" y="122400"/>
            <a:chExt cx="8856720" cy="6446520"/>
          </a:xfrm>
        </p:grpSpPr>
        <p:sp>
          <p:nvSpPr>
            <p:cNvPr id="115" name=""/>
            <p:cNvSpPr/>
            <p:nvPr/>
          </p:nvSpPr>
          <p:spPr>
            <a:xfrm>
              <a:off x="1981080" y="1743120"/>
              <a:ext cx="5303880" cy="806400"/>
            </a:xfrm>
            <a:custGeom>
              <a:avLst/>
              <a:gdLst/>
              <a:ahLst/>
              <a:rect l="l" t="t" r="r" b="b"/>
              <a:pathLst>
                <a:path w="3341" h="508">
                  <a:moveTo>
                    <a:pt x="1" y="492"/>
                  </a:moveTo>
                  <a:cubicBezTo>
                    <a:pt x="0" y="477"/>
                    <a:pt x="710" y="0"/>
                    <a:pt x="1707" y="20"/>
                  </a:cubicBezTo>
                  <a:cubicBezTo>
                    <a:pt x="2704" y="40"/>
                    <a:pt x="3339" y="467"/>
                    <a:pt x="3340" y="482"/>
                  </a:cubicBezTo>
                  <a:cubicBezTo>
                    <a:pt x="3341" y="496"/>
                    <a:pt x="2608" y="93"/>
                    <a:pt x="1734" y="74"/>
                  </a:cubicBezTo>
                  <a:cubicBezTo>
                    <a:pt x="860" y="54"/>
                    <a:pt x="2" y="508"/>
                    <a:pt x="1" y="492"/>
                  </a:cubicBezTo>
                  <a:close/>
                </a:path>
              </a:pathLst>
            </a:custGeom>
            <a:gradFill rotWithShape="0">
              <a:gsLst>
                <a:gs pos="0">
                  <a:srgbClr val="5bcd81"/>
                </a:gs>
                <a:gs pos="50000">
                  <a:srgbClr val="b3e7c4"/>
                </a:gs>
                <a:gs pos="100000">
                  <a:srgbClr val="5bcd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4861080" y="189000"/>
              <a:ext cx="4103640" cy="30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50920" y="3357720"/>
              <a:ext cx="4248000" cy="31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4788000" y="3500280"/>
              <a:ext cx="408780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5"/>
            <a:stretch/>
          </p:blipFill>
          <p:spPr>
            <a:xfrm>
              <a:off x="108000" y="122400"/>
              <a:ext cx="4608360" cy="30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701880" y="2565360"/>
              <a:ext cx="503280" cy="27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b166e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48360" y="2581200"/>
              <a:ext cx="503280" cy="27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b166e"/>
                  </a:solidFill>
                  <a:latin typeface="Verdana"/>
                </a:rPr>
                <a:t>2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37080" y="3716280"/>
              <a:ext cx="503280" cy="27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b166e"/>
                  </a:solidFill>
                  <a:latin typeface="Verdana"/>
                </a:rPr>
                <a:t>3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54480" y="3730680"/>
              <a:ext cx="503280" cy="27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b166e"/>
                  </a:solidFill>
                  <a:latin typeface="Verdana"/>
                </a:rPr>
                <a:t>4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341960" cy="2903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643280" y="3573360"/>
            <a:ext cx="4341960" cy="2998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622760" y="333360"/>
            <a:ext cx="4341960" cy="2903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68360" y="3398760"/>
            <a:ext cx="391320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6:27:32Z</dcterms:created>
  <dc:creator>khale</dc:creator>
  <dc:description/>
  <dc:language>en-US</dc:language>
  <cp:lastModifiedBy>خالد</cp:lastModifiedBy>
  <dcterms:modified xsi:type="dcterms:W3CDTF">2013-03-11T07:08:32Z</dcterms:modified>
  <cp:revision>53</cp:revision>
  <dc:subject/>
  <dc:title>Organs Histology</dc:title>
</cp:coreProperties>
</file>