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png" ContentType="image/png"/>
  <Override PartName="/ppt/media/image25.jpeg" ContentType="image/jpeg"/>
  <Override PartName="/ppt/media/image2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D036-6D65-4E86-8F81-98C486411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C7510-C24E-4273-BED9-286351FD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B3622-7BAC-4C7C-AB44-7B5B5EDB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BD55E-3236-4F0B-B9BB-9C522082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8DF3-7B60-452D-9E5B-4AEE18953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04C0-3CB2-4234-A739-FF29ACD4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FB81-B4E4-44AB-8517-8B7D4DC4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8154-A213-4F22-81CF-1BB3F5CF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A65B-67F7-462D-BE23-4E000B7B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2AC-628C-47FC-B0F8-ACCA27FD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429B4-83D2-4FBE-9434-3250140F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F5C9-71BB-48F9-9D4D-1855D5E2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9AFB-5C20-4DA9-9F00-7C85056C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2F62-7BB4-4525-A027-32053D1F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9D9D-939F-4763-A63C-5EFF463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2A81A-59B9-467A-84ED-3840E40B9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020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706360" y="342900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020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706360" y="3628080"/>
            <a:ext cx="22816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7B5F-BCF0-41B5-BDE5-A4F350D38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7179-3819-4BD4-AA08-5383C590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D0706-6F92-4B2F-91BF-1493155A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82A0C-45E6-4E89-94AC-2B1417F5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B24D5-83AE-42B8-A2A6-9BAD3AAD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219C7-0602-4913-9DC8-0AF5357E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45360" y="362808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410B-A448-4A4D-95F7-56965DF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45360" y="3429000"/>
            <a:ext cx="34581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3628080"/>
            <a:ext cx="70866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82A3A-AF83-43AC-A67A-6FEB0940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bcd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cd81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bcd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32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2b166e"/>
                </a:solidFill>
                <a:latin typeface="Verdana"/>
              </a:rPr>
              <a:t>www.designfreebies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352320" y="64796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2b166e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6396-4AC6-4199-BFC5-409FF152723A}" type="slidenum">
              <a:rPr b="0" lang="ar-SA" sz="1200" spc="-1" strike="noStrike">
                <a:solidFill>
                  <a:srgbClr val="2b166e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5943240" y="6479640"/>
            <a:ext cx="2895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b166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EFFB-3CCB-4A3E-AE82-7E610C5CFC8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28600"/>
            <a:ext cx="1219320" cy="121932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65232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166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b166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166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b166e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166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istology Major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4346640" cy="43466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417960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217520" y="549360"/>
            <a:ext cx="6810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Histology of Urinogenetal syste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1844640"/>
            <a:ext cx="82803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bjectiv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To study the histology of the male and female reproductive gonads (testis and ovary) of the rabbit.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Testi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720072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90520" y="763560"/>
            <a:ext cx="86407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258920" y="1179360"/>
            <a:ext cx="6696000" cy="44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971640" y="960480"/>
            <a:ext cx="712944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1332000" y="765000"/>
            <a:ext cx="6399000" cy="5702400"/>
            <a:chOff x="1332000" y="765000"/>
            <a:chExt cx="6399000" cy="5702400"/>
          </a:xfrm>
        </p:grpSpPr>
        <p:sp>
          <p:nvSpPr>
            <p:cNvPr id="148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1332000" y="765000"/>
              <a:ext cx="6399000" cy="57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411280" y="105264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</a:t>
              </a:r>
              <a:endParaRPr b="0" lang="en-US" sz="36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484280"/>
            <a:ext cx="741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844640"/>
            <a:ext cx="82072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bjectiv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To study the histology of some selected parts of the: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en-AU" sz="2800" spc="-1" strike="noStrike">
                <a:solidFill>
                  <a:srgbClr val="ffff00"/>
                </a:solidFill>
                <a:latin typeface="Verdana"/>
              </a:rPr>
              <a:t>Oesophagus, liver, testis and ovary.</a:t>
            </a:r>
            <a:endParaRPr b="0" lang="en-US" sz="2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523800" y="378000"/>
            <a:ext cx="8064360" cy="6041880"/>
            <a:chOff x="523800" y="378000"/>
            <a:chExt cx="8064360" cy="604188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523800" y="378000"/>
              <a:ext cx="8064360" cy="60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6140520" y="985680"/>
              <a:ext cx="244764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62680" y="1562040"/>
              <a:ext cx="2448000" cy="1131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65600" y="2655720"/>
              <a:ext cx="2303640" cy="115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52880" y="3794040"/>
              <a:ext cx="244800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37240" y="4802040"/>
              <a:ext cx="2448000" cy="576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90800" y="665280"/>
              <a:ext cx="2448000" cy="57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892160" y="5594400"/>
              <a:ext cx="2160720" cy="2883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7334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Ovary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250920" y="189000"/>
            <a:ext cx="8568720" cy="6408360"/>
            <a:chOff x="250920" y="189000"/>
            <a:chExt cx="8568720" cy="6408360"/>
          </a:xfrm>
        </p:grpSpPr>
        <p:grpSp>
          <p:nvGrpSpPr>
            <p:cNvPr id="165" name=""/>
            <p:cNvGrpSpPr/>
            <p:nvPr/>
          </p:nvGrpSpPr>
          <p:grpSpPr>
            <a:xfrm>
              <a:off x="250920" y="189000"/>
              <a:ext cx="8568720" cy="6408360"/>
              <a:chOff x="250920" y="189000"/>
              <a:chExt cx="8568720" cy="6408360"/>
            </a:xfrm>
          </p:grpSpPr>
          <p:sp>
            <p:nvSpPr>
              <p:cNvPr id="166" name=""/>
              <p:cNvSpPr/>
              <p:nvPr/>
            </p:nvSpPr>
            <p:spPr>
              <a:xfrm>
                <a:off x="1476000" y="1455120"/>
                <a:ext cx="6012000" cy="883440"/>
              </a:xfrm>
              <a:custGeom>
                <a:avLst/>
                <a:gdLst/>
                <a:ahLst/>
                <a:rect l="l" t="t" r="r" b="b"/>
                <a:pathLst>
                  <a:path w="3341" h="508">
                    <a:moveTo>
                      <a:pt x="1" y="492"/>
                    </a:moveTo>
                    <a:cubicBezTo>
                      <a:pt x="0" y="477"/>
                      <a:pt x="710" y="0"/>
                      <a:pt x="1707" y="20"/>
                    </a:cubicBezTo>
                    <a:cubicBezTo>
                      <a:pt x="2704" y="40"/>
                      <a:pt x="3339" y="467"/>
                      <a:pt x="3340" y="482"/>
                    </a:cubicBezTo>
                    <a:cubicBezTo>
                      <a:pt x="3341" y="496"/>
                      <a:pt x="2608" y="93"/>
                      <a:pt x="1734" y="74"/>
                    </a:cubicBezTo>
                    <a:cubicBezTo>
                      <a:pt x="860" y="54"/>
                      <a:pt x="2" y="508"/>
                      <a:pt x="1" y="49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5bcd81"/>
                  </a:gs>
                  <a:gs pos="50000">
                    <a:srgbClr val="b3e7c4"/>
                  </a:gs>
                  <a:gs pos="100000">
                    <a:srgbClr val="5bcd8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pic>
            <p:nvPicPr>
              <p:cNvPr id="16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89000"/>
                <a:ext cx="8568720" cy="640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4738680" y="6143400"/>
                <a:ext cx="572040" cy="2365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35400" y="3295440"/>
                <a:ext cx="572040" cy="236520"/>
              </a:xfrm>
              <a:prstGeom prst="rect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4068720" y="293760"/>
              <a:ext cx="1440000" cy="358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08360" y="2327400"/>
              <a:ext cx="129708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559560" y="2327400"/>
              <a:ext cx="1297080" cy="2156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2720" y="260280"/>
              <a:ext cx="1942920" cy="432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981080" y="1557360"/>
            <a:ext cx="5303880" cy="3809880"/>
            <a:chOff x="1981080" y="1557360"/>
            <a:chExt cx="5303880" cy="3809880"/>
          </a:xfrm>
        </p:grpSpPr>
        <p:sp>
          <p:nvSpPr>
            <p:cNvPr id="175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2050920" y="1557360"/>
              <a:ext cx="507996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141720" y="4518000"/>
              <a:ext cx="107928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56000" y="3787920"/>
              <a:ext cx="1079280" cy="50472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620120" cy="569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219400" y="885960"/>
            <a:ext cx="470520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755640" y="1052640"/>
            <a:ext cx="7473960" cy="5097240"/>
            <a:chOff x="755640" y="1052640"/>
            <a:chExt cx="7473960" cy="5097240"/>
          </a:xfrm>
        </p:grpSpPr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755640" y="1052640"/>
              <a:ext cx="7473960" cy="50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6519960" y="1800000"/>
              <a:ext cx="7189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8080" y="1915920"/>
              <a:ext cx="57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77770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Oesophagus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84520" y="115920"/>
            <a:ext cx="6603840" cy="6611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46160" y="1662120"/>
            <a:ext cx="100800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3384720"/>
            <a:ext cx="1008000" cy="287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26320" y="5356080"/>
            <a:ext cx="1081080" cy="37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011320" y="5151600"/>
            <a:ext cx="1154160" cy="504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539640" y="907920"/>
            <a:ext cx="8058240" cy="5278680"/>
            <a:chOff x="539640" y="907920"/>
            <a:chExt cx="8058240" cy="5278680"/>
          </a:xfrm>
        </p:grpSpPr>
        <p:sp>
          <p:nvSpPr>
            <p:cNvPr id="101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539640" y="907920"/>
              <a:ext cx="805824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684360" y="1916280"/>
              <a:ext cx="1366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280" y="2565360"/>
              <a:ext cx="13669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4360" y="4005360"/>
              <a:ext cx="13665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5640" y="5734080"/>
              <a:ext cx="180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25560" y="1225440"/>
            <a:ext cx="7318440" cy="4940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rot="20451600">
            <a:off x="2809800" y="3284280"/>
            <a:ext cx="1474920" cy="431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451600">
            <a:off x="4427640" y="2758680"/>
            <a:ext cx="1474560" cy="432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20451600">
            <a:off x="1060200" y="3499920"/>
            <a:ext cx="1726920" cy="72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65896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Liver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108000" y="122400"/>
            <a:ext cx="8856720" cy="6446520"/>
            <a:chOff x="108000" y="122400"/>
            <a:chExt cx="8856720" cy="6446520"/>
          </a:xfrm>
        </p:grpSpPr>
        <p:sp>
          <p:nvSpPr>
            <p:cNvPr id="115" name=""/>
            <p:cNvSpPr/>
            <p:nvPr/>
          </p:nvSpPr>
          <p:spPr>
            <a:xfrm>
              <a:off x="1981080" y="1743120"/>
              <a:ext cx="5303880" cy="806400"/>
            </a:xfrm>
            <a:custGeom>
              <a:avLst/>
              <a:gdLst/>
              <a:ahLst/>
              <a:rect l="l" t="t" r="r" b="b"/>
              <a:pathLst>
                <a:path w="3341" h="508">
                  <a:moveTo>
                    <a:pt x="1" y="492"/>
                  </a:moveTo>
                  <a:cubicBezTo>
                    <a:pt x="0" y="477"/>
                    <a:pt x="710" y="0"/>
                    <a:pt x="1707" y="20"/>
                  </a:cubicBezTo>
                  <a:cubicBezTo>
                    <a:pt x="2704" y="40"/>
                    <a:pt x="3339" y="467"/>
                    <a:pt x="3340" y="482"/>
                  </a:cubicBezTo>
                  <a:cubicBezTo>
                    <a:pt x="3341" y="496"/>
                    <a:pt x="2608" y="93"/>
                    <a:pt x="1734" y="74"/>
                  </a:cubicBezTo>
                  <a:cubicBezTo>
                    <a:pt x="860" y="54"/>
                    <a:pt x="2" y="508"/>
                    <a:pt x="1" y="492"/>
                  </a:cubicBezTo>
                  <a:close/>
                </a:path>
              </a:pathLst>
            </a:custGeom>
            <a:gradFill rotWithShape="0">
              <a:gsLst>
                <a:gs pos="0">
                  <a:srgbClr val="5bcd81"/>
                </a:gs>
                <a:gs pos="50000">
                  <a:srgbClr val="b3e7c4"/>
                </a:gs>
                <a:gs pos="100000">
                  <a:srgbClr val="5bcd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861080" y="189000"/>
              <a:ext cx="4103640" cy="30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50920" y="3357720"/>
              <a:ext cx="4248000" cy="31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4788000" y="3500280"/>
              <a:ext cx="40878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5"/>
            <a:stretch/>
          </p:blipFill>
          <p:spPr>
            <a:xfrm>
              <a:off x="108000" y="122400"/>
              <a:ext cx="4608360" cy="30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701880" y="256536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8360" y="258120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2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637080" y="371628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3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54480" y="3730680"/>
              <a:ext cx="503280" cy="276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b166e"/>
                  </a:solidFill>
                  <a:latin typeface="Verdana"/>
                </a:rPr>
                <a:t>4</a:t>
              </a:r>
              <a:endParaRPr b="0" lang="en-US" sz="12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981080" y="1743120"/>
            <a:ext cx="5303880" cy="806400"/>
          </a:xfrm>
          <a:custGeom>
            <a:avLst/>
            <a:gdLst/>
            <a:ahLst/>
            <a:rect l="l" t="t" r="r" b="b"/>
            <a:pathLst>
              <a:path w="3341" h="508">
                <a:moveTo>
                  <a:pt x="1" y="492"/>
                </a:moveTo>
                <a:cubicBezTo>
                  <a:pt x="0" y="477"/>
                  <a:pt x="710" y="0"/>
                  <a:pt x="1707" y="20"/>
                </a:cubicBezTo>
                <a:cubicBezTo>
                  <a:pt x="2704" y="40"/>
                  <a:pt x="3339" y="467"/>
                  <a:pt x="3340" y="482"/>
                </a:cubicBezTo>
                <a:cubicBezTo>
                  <a:pt x="3341" y="496"/>
                  <a:pt x="2608" y="93"/>
                  <a:pt x="1734" y="74"/>
                </a:cubicBezTo>
                <a:cubicBezTo>
                  <a:pt x="860" y="54"/>
                  <a:pt x="2" y="508"/>
                  <a:pt x="1" y="492"/>
                </a:cubicBezTo>
                <a:close/>
              </a:path>
            </a:pathLst>
          </a:custGeom>
          <a:gradFill rotWithShape="0">
            <a:gsLst>
              <a:gs pos="0">
                <a:srgbClr val="5bcd81"/>
              </a:gs>
              <a:gs pos="50000">
                <a:srgbClr val="b3e7c4"/>
              </a:gs>
              <a:gs pos="100000">
                <a:srgbClr val="5bcd8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4341960" cy="29034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4643280" y="3573360"/>
            <a:ext cx="4341960" cy="2998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4622760" y="333360"/>
            <a:ext cx="4341960" cy="2903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468360" y="3398760"/>
            <a:ext cx="39132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27:32Z</dcterms:created>
  <dc:creator>khale</dc:creator>
  <dc:description/>
  <dc:language>en-US</dc:language>
  <cp:lastModifiedBy>خالد</cp:lastModifiedBy>
  <dcterms:modified xsi:type="dcterms:W3CDTF">2013-03-11T07:08:32Z</dcterms:modified>
  <cp:revision>53</cp:revision>
  <dc:subject/>
  <dc:title>Organs Histology</dc:title>
</cp:coreProperties>
</file>