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8C8-52AA-4EC7-B5C0-DCB73570E4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279-AD27-4025-89F7-C3C51840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700-7E0B-4660-91B2-4CEF08952F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31F9-0ACE-4CF1-AE16-03348757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92F-3122-4610-974E-C1530BA3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713-EA69-4B02-953F-8FBC66D3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376-4CF4-411F-8B21-3AFF82D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101-8154-4802-93F6-9A382E11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0F98-00F0-41ED-97FC-3B2CD4AB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B4C6-E59E-4B13-916C-46D493D1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7748-C0BE-42D7-A668-496A0099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422-03DF-4E8D-8097-EB9FF16B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E208-1F6B-44B5-81F2-DA9B5E9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4715-F93C-4C77-A70D-B00F844C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46B6-559E-4BD0-82DD-B78CAB6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B37-D129-4143-8095-0E1F2F13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E8D3-4D8F-4233-908B-0C1D502E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A00-96B6-4EDF-8884-A8BF343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F871-D327-472F-8CA6-0BCC7DB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8C97-E1B2-458C-A1BD-E55B59DC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AE89-6BB9-4F1B-B959-AE9F2A18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8E6-BF1F-4312-95F6-D7BF3AB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765-EA61-4FD8-9B69-6306EBBF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BDF-D809-4AB6-86DE-A90A7F9F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679-50C7-4B47-AE44-9965174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3F6-4E43-4054-AAB4-024B431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F35-6625-4205-A3C5-18C0C84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875-3ECD-4B5C-BC6C-F7B5138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D6ED-017D-4F5B-9349-BFC58157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6FD-B613-4536-8383-FCC975C13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uck" TargetMode="External"/><Relationship Id="rId2" Type="http://schemas.openxmlformats.org/officeDocument/2006/relationships/hyperlink" Target="http://en.wikipedia.org/wiki/Rabbit" TargetMode="External"/><Relationship Id="rId3" Type="http://schemas.openxmlformats.org/officeDocument/2006/relationships/hyperlink" Target="http://en.wikipedia.org/wiki/Ambiguous_image" TargetMode="External"/><Relationship Id="rId4" Type="http://schemas.openxmlformats.org/officeDocument/2006/relationships/hyperlink" Target="file://upload.wikimedia.org/wikipedia/commons/4/45/Duck-Rabbit_illusion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radley Hand ITC"/>
              </a:rPr>
              <a:t>How to read a scientific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Sooad K. Al-Da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iochemistry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t3.gstatic.com/images?q=tbn:ANd9GcQ74IpY82gp3Uccxo_nWx1tRE_NGragbVzScS2nHw_DkQuLG7AX"/>
          <p:cNvPicPr/>
          <p:nvPr/>
        </p:nvPicPr>
        <p:blipFill>
          <a:blip r:embed="rId1"/>
          <a:stretch/>
        </p:blipFill>
        <p:spPr>
          <a:xfrm>
            <a:off x="609480" y="380880"/>
            <a:ext cx="2562480" cy="178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t3.gstatic.com/images?q=tbn:ANd9GcTwIZvlLMnADPvBKa3BzOxsGw8nRBSkMyznXnb2K21xMG4-SHkMJPBusng"/>
          <p:cNvPicPr/>
          <p:nvPr/>
        </p:nvPicPr>
        <p:blipFill>
          <a:blip r:embed="rId2"/>
          <a:stretch/>
        </p:blipFill>
        <p:spPr>
          <a:xfrm>
            <a:off x="7010280" y="3673440"/>
            <a:ext cx="14097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skimm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gical flow of papers goes straight from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scu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interpretation of the find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63360" y="-635040"/>
            <a:ext cx="914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360" y="-635040"/>
            <a:ext cx="914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www.dreamstime.com/cartoon-lamp-thumb16049222.jpg"/>
          <p:cNvPicPr/>
          <p:nvPr/>
        </p:nvPicPr>
        <p:blipFill>
          <a:blip r:embed="rId4"/>
          <a:stretch/>
        </p:blipFill>
        <p:spPr>
          <a:xfrm>
            <a:off x="5713560" y="5410080"/>
            <a:ext cx="10126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Cloud Callout 6"/>
          <p:cNvSpPr/>
          <p:nvPr/>
        </p:nvSpPr>
        <p:spPr>
          <a:xfrm>
            <a:off x="5715000" y="3505320"/>
            <a:ext cx="3276720" cy="1752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324480" y="37339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only easy to do if the paper is organized prope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How to approach the introducti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 a blank piece of pap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ake no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raw fig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efine vocabul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s the hypothesis being tes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are the basic conclu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63360" y="-10396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6"/>
          <a:stretch/>
        </p:blipFill>
        <p:spPr>
          <a:xfrm>
            <a:off x="6529320" y="3041640"/>
            <a:ext cx="25178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How to read the resul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the fig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no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each experiment/ figure you should be able to expla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basic proced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question it sought to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conclu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tic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6"/>
          <a:stretch/>
        </p:blipFill>
        <p:spPr>
          <a:xfrm>
            <a:off x="5716440" y="3143160"/>
            <a:ext cx="3427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How to read a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Take notes and answer these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conclusions do the authors draw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Opinion/ interpret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cribe for yourself why these data signific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Does it contribute to knowledge or correct error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t3.gstatic.com/images?q=tbn:ANd9GcSs4y1GtJAkSYMgH_5-pok3sDKVM4jI55S1Uht6JlyRjW4Nutbu"/>
          <p:cNvPicPr/>
          <p:nvPr/>
        </p:nvPicPr>
        <p:blipFill>
          <a:blip r:embed="rId1"/>
          <a:stretch/>
        </p:blipFill>
        <p:spPr>
          <a:xfrm>
            <a:off x="7170840" y="4857840"/>
            <a:ext cx="197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w, you may be tired of this pap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relax ye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energy for the overall reflection and critic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t3.gstatic.com/images?q=tbn:ANd9GcRiwv1y0kqAhvfiZ6i9cIlVZVNw47UgC2e8-ScC3nP44AUUa0qzr2Fng_Ae"/>
          <p:cNvPicPr/>
          <p:nvPr/>
        </p:nvPicPr>
        <p:blipFill>
          <a:blip r:embed="rId1"/>
          <a:stretch/>
        </p:blipFill>
        <p:spPr>
          <a:xfrm>
            <a:off x="5541840" y="2176560"/>
            <a:ext cx="18766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you agree with the authors’ rationale for setting up the experiments as they di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they perform the experiments appropriatel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re there enough experiments to support the major find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you see trends/patterns in their dat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you agree with the author’s conclusion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further questions do you have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might you suggest they do n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Reflection and Crit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4.bp.blogspot.com/_1sl8KOfrg0E/TKvWqn27QDI/AAAAAAAAAN0/GcecV0WN-HE/s1600/after-much-discussion.jpg"/>
          <p:cNvPicPr/>
          <p:nvPr/>
        </p:nvPicPr>
        <p:blipFill>
          <a:blip r:embed="rId1"/>
          <a:stretch/>
        </p:blipFill>
        <p:spPr>
          <a:xfrm>
            <a:off x="5943600" y="4724280"/>
            <a:ext cx="32004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Reading a scientific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ggle with the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not passive rea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ighlighter, underline text, scribble comments or questions on it, make n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first you don’t understand, read and re-read, spiraling in on centr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loud Callout 3"/>
          <p:cNvSpPr/>
          <p:nvPr/>
        </p:nvSpPr>
        <p:spPr>
          <a:xfrm>
            <a:off x="6019920" y="3429000"/>
            <a:ext cx="2743200" cy="2133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477120" y="36576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adley Hand ITC"/>
              </a:rPr>
              <a:t>DO NOT highlight whole sentences or para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dreamstime.com/cartoon-lamp-thumb16049222.jpg"/>
          <p:cNvPicPr/>
          <p:nvPr/>
        </p:nvPicPr>
        <p:blipFill>
          <a:blip r:embed="rId4"/>
          <a:stretch/>
        </p:blipFill>
        <p:spPr>
          <a:xfrm>
            <a:off x="5791320" y="5410080"/>
            <a:ext cx="101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et into question-asking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used to doing peer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because it’s published, doesn’t mean it’s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-p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6894360" y="4095720"/>
            <a:ext cx="19083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ove beyond the text of the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lk to other people about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commenta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ult, dictionaries, textbook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ine links to references, fig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ends to clarify things you don’t underst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Inner circle business people talk meet in a social media network speech bubble Stock Photo - 8002515"/>
          <p:cNvPicPr/>
          <p:nvPr/>
        </p:nvPicPr>
        <p:blipFill>
          <a:blip r:embed="rId4"/>
          <a:stretch/>
        </p:blipFill>
        <p:spPr>
          <a:xfrm>
            <a:off x="5846760" y="450720"/>
            <a:ext cx="30956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2952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n't give yourself very much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may seem counter-intuitive, but one of the best ways to break down barriers to reading a heavy paper is to sit down twenty minutes before some other appointment absolutely determined to "figure out what this paper's about" within the twenty minu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loud Callout 4"/>
          <p:cNvSpPr/>
          <p:nvPr/>
        </p:nvSpPr>
        <p:spPr>
          <a:xfrm>
            <a:off x="6248520" y="3733920"/>
            <a:ext cx="2743200" cy="213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Just do it; you 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will figure it out.  And after that, coming back to the paper later is ea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www.dreamstime.com/cartoon-lamp-thumb16049222.jpg"/>
          <p:cNvPicPr/>
          <p:nvPr/>
        </p:nvPicPr>
        <p:blipFill>
          <a:blip r:embed="rId2"/>
          <a:stretch/>
        </p:blipFill>
        <p:spPr>
          <a:xfrm>
            <a:off x="6172200" y="5638680"/>
            <a:ext cx="8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762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papers are the heart of the science     commu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ssential to learn how to read a paper quickly but insight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…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therw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lh3.ggpht.com/--0ggXxozzDY/Svo7PY2fDyI/AAAAAAAAADU/qUjUC3Go6Sk/3D%252520Character%252520%25252818%252529.jpg"/>
          <p:cNvPicPr/>
          <p:nvPr/>
        </p:nvPicPr>
        <p:blipFill>
          <a:blip r:embed="rId3"/>
          <a:stretch/>
        </p:blipFill>
        <p:spPr>
          <a:xfrm>
            <a:off x="762120" y="4114800"/>
            <a:ext cx="3047760" cy="22860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2463840" cy="2209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be afraid to a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onstru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o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be afraid to criticize (constructively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Template for Taking Notes on Research Article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4378320" cy="6220080"/>
          </a:xfrm>
          <a:prstGeom prst="rect">
            <a:avLst/>
          </a:prstGeom>
          <a:ln w="0">
            <a:noFill/>
          </a:ln>
        </p:spPr>
      </p:pic>
      <p:sp>
        <p:nvSpPr>
          <p:cNvPr id="157" name="Right Arrow Callout 5"/>
          <p:cNvSpPr/>
          <p:nvPr/>
        </p:nvSpPr>
        <p:spPr>
          <a:xfrm>
            <a:off x="228600" y="2514600"/>
            <a:ext cx="2819520" cy="22860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radley Hand ITC"/>
              </a:rPr>
              <a:t>Easy access for late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adley Hand ITC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3352680" y="0"/>
            <a:ext cx="5245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The famous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  <a:hlinkClick r:id="rId1"/>
              </a:rPr>
              <a:t>duck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-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  <a:hlinkClick r:id="rId2"/>
              </a:rPr>
              <a:t>rabbit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  <a:hlinkClick r:id="rId3"/>
              </a:rPr>
              <a:t>ambiguous image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File:Duck-Rabbit illusi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2514600"/>
            <a:ext cx="4943520" cy="33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TextBox 4"/>
          <p:cNvSpPr/>
          <p:nvPr/>
        </p:nvSpPr>
        <p:spPr>
          <a:xfrm>
            <a:off x="304920" y="2286000"/>
            <a:ext cx="358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looks at the duck-rabbit and sees a rabbit, one is not interpreting the picture as a rabbit, but rather reporting what one s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adley Hand ITC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vid W. Ramey (1999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ad a Scientific Paper.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l. 45 / AAEP PROCEED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is Lee (2006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ad Papers F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y Purugganan &amp; Jan Hewitt (2004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ad a Scientific Article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ce Un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ett, R. (2001) Technical Communication. 5th ed. San Antonio: Harcourt Colle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s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481120" y="1571760"/>
            <a:ext cx="41817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Two Types of Scientific Papers Containing Two Types of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31859c"/>
                </a:solidFill>
                <a:latin typeface="Times New Roman"/>
              </a:rPr>
              <a:t>There are two types of scientific pap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Review article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ve an overview of the scientific field or topic by summarizing the data and conclusions from many stud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Primary research article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ain the original data and conclusions of the researchers who were involved in the experiments and how the experiments were d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few easy ways to distinguish between  Review &amp; Primary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700"/>
              </a:spcBef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reviews will be labeled as "review“ on the first page of the arti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don't have a "methods" s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review article, graphs, tabl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figures containing actual data w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 citations in the figure leg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primary research papers th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reported the find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loud Callout 3"/>
          <p:cNvSpPr/>
          <p:nvPr/>
        </p:nvSpPr>
        <p:spPr>
          <a:xfrm>
            <a:off x="6477120" y="2743200"/>
            <a:ext cx="2666880" cy="2362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6858000" y="32767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 is also wise to read several reviews by different auth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www.dreamstime.com/cartoon-lamp-thumb16049222.jpg"/>
          <p:cNvPicPr/>
          <p:nvPr/>
        </p:nvPicPr>
        <p:blipFill>
          <a:blip r:embed="rId1"/>
          <a:stretch/>
        </p:blipFill>
        <p:spPr>
          <a:xfrm>
            <a:off x="6324480" y="5105520"/>
            <a:ext cx="101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Why bother oursel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urnal papers are curr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extbooks are often years out of d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Journals ar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ly the most accessible means of obtaining th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information that you ne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get a good explanation for your data and enough details to replicate what you read ab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find out exactly what the latest developments are in a fie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find out how a certain piece of research was do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one day soon you could be writing papers  too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do resea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think critically about quality of research pap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any discipline, there are fads and there are lasting ideas… learn to tell the differen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The typical anatomy of a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scientific journals, scientific papers follow a standard forma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journals use a conventional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u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A general rule of thumb, regarding what goes where, when both reading and writing a scientific article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378000" y="2023920"/>
            <a:ext cx="6108480" cy="4168800"/>
          </a:xfrm>
          <a:prstGeom prst="rect">
            <a:avLst/>
          </a:prstGeom>
          <a:ln w="0">
            <a:noFill/>
          </a:ln>
        </p:spPr>
      </p:pic>
      <p:sp>
        <p:nvSpPr>
          <p:cNvPr id="111" name="Cloud Callout 4"/>
          <p:cNvSpPr/>
          <p:nvPr/>
        </p:nvSpPr>
        <p:spPr>
          <a:xfrm>
            <a:off x="5562720" y="2286000"/>
            <a:ext cx="3429000" cy="2666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943600" y="2590920"/>
            <a:ext cx="27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ome journals will allow the Results and Discussion sections to be combined. In this case,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presented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dreamstime.com/cartoon-lamp-thumb16049222.jpg"/>
          <p:cNvPicPr/>
          <p:nvPr/>
        </p:nvPicPr>
        <p:blipFill>
          <a:blip r:embed="rId2"/>
          <a:stretch/>
        </p:blipFill>
        <p:spPr>
          <a:xfrm>
            <a:off x="5715000" y="5181480"/>
            <a:ext cx="101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adley Hand ITC"/>
              </a:rPr>
              <a:t>Generally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ou first read the Abstract in order to understand the major points of the work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larifies whether you in fact know enough background to appreciate the paper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freshes your memory about the topi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s you as the reader integrate the new information into your previous knowledge about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5:59:08Z</dcterms:created>
  <dc:creator>Administrator</dc:creator>
  <dc:description/>
  <dc:language>en-US</dc:language>
  <cp:lastModifiedBy>Sooad</cp:lastModifiedBy>
  <dcterms:modified xsi:type="dcterms:W3CDTF">2011-12-02T08:49:18Z</dcterms:modified>
  <cp:revision>59</cp:revision>
  <dc:subject/>
  <dc:title>How to read a scientific paper</dc:title>
</cp:coreProperties>
</file>