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85CF-C6B5-4589-877F-3BC35306356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1080-E859-4979-A64B-BFDDDFCE3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5328-63E6-4D69-BA2F-4811D5A92EB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EF2B-0BFF-412C-B1B3-48EDF6B33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8264-4AAD-4ACF-A4C4-0F3A8DBB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F226-1628-468A-BEA6-5967FA16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A855-1BBB-4E7E-8302-3294CA6B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5AFF-CED7-473C-B515-DFB66B16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C767-8185-41B8-ABB9-B1128FFF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225B-D831-4163-8169-F8869288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6777-EE89-42AE-B0FB-2152865D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9034-7A38-42F1-8F16-785763E9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44BF-CFCB-4796-B134-18BB2A2D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D742-5DC3-4019-AF16-41D24517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96E5-BF85-4CCE-9EE8-13223D96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D55E-54D2-4D28-BB8F-B2C1C6D7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6A4B-D1EA-4C8D-8408-420014D2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7FD8-A906-422F-965C-E23BC1B5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7671-B2AB-426F-B39A-1AD692F5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EDDA-C9BA-4FA6-AE1A-F0924C05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53AD-10E2-41AF-9BE5-CC43391A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2BD7-DD2F-4D5C-AA63-D8236850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F19E-87D3-4447-B748-6B6A5D09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886B-6BF3-4945-BB30-8A2AFB4D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E463-1B4B-46FC-99EB-71125E04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6160-94CD-47CF-A0B6-C87885CE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E57E-3046-475F-A469-3C2860B3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833-417E-4F63-8544-7D868E56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6086-F035-4464-8F8E-98012A11C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882D-55DA-463A-A353-C963EECD5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Duck" TargetMode="External"/><Relationship Id="rId2" Type="http://schemas.openxmlformats.org/officeDocument/2006/relationships/hyperlink" Target="http://en.wikipedia.org/wiki/Rabbit" TargetMode="External"/><Relationship Id="rId3" Type="http://schemas.openxmlformats.org/officeDocument/2006/relationships/hyperlink" Target="http://en.wikipedia.org/wiki/Ambiguous_image" TargetMode="External"/><Relationship Id="rId4" Type="http://schemas.openxmlformats.org/officeDocument/2006/relationships/hyperlink" Target="file://upload.wikimedia.org/wikipedia/commons/4/45/Duck-Rabbit_illusion.jpg" TargetMode="External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Bradley Hand ITC"/>
              </a:rPr>
              <a:t>How to read a scientific pa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Sooad K. Al-Daih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Biochemistry Depar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http://t3.gstatic.com/images?q=tbn:ANd9GcQ74IpY82gp3Uccxo_nWx1tRE_NGragbVzScS2nHw_DkQuLG7AX"/>
          <p:cNvPicPr/>
          <p:nvPr/>
        </p:nvPicPr>
        <p:blipFill>
          <a:blip r:embed="rId1"/>
          <a:stretch/>
        </p:blipFill>
        <p:spPr>
          <a:xfrm>
            <a:off x="609480" y="380880"/>
            <a:ext cx="2562480" cy="1781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t3.gstatic.com/images?q=tbn:ANd9GcTwIZvlLMnADPvBKa3BzOxsGw8nRBSkMyznXnb2K21xMG4-SHkMJPBusng"/>
          <p:cNvPicPr/>
          <p:nvPr/>
        </p:nvPicPr>
        <p:blipFill>
          <a:blip r:embed="rId2"/>
          <a:stretch/>
        </p:blipFill>
        <p:spPr>
          <a:xfrm>
            <a:off x="7010280" y="3673440"/>
            <a:ext cx="140976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radley Hand ITC"/>
              </a:rPr>
              <a:t>Continue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tro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skimm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ogical flow of papers goes straight from th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tro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sul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o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iscu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interpretation of the finding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63360" y="-635040"/>
            <a:ext cx="91440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63360" y="-635040"/>
            <a:ext cx="91440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http://www.dreamstime.com/cartoon-lamp-thumb16049222.jpg"/>
          <p:cNvPicPr/>
          <p:nvPr/>
        </p:nvPicPr>
        <p:blipFill>
          <a:blip r:embed="rId4"/>
          <a:stretch/>
        </p:blipFill>
        <p:spPr>
          <a:xfrm>
            <a:off x="5713560" y="5410080"/>
            <a:ext cx="1012680" cy="1447920"/>
          </a:xfrm>
          <a:prstGeom prst="rect">
            <a:avLst/>
          </a:prstGeom>
          <a:ln w="0">
            <a:noFill/>
          </a:ln>
        </p:spPr>
      </p:pic>
      <p:sp>
        <p:nvSpPr>
          <p:cNvPr id="121" name="Cloud Callout 6"/>
          <p:cNvSpPr/>
          <p:nvPr/>
        </p:nvSpPr>
        <p:spPr>
          <a:xfrm>
            <a:off x="5715000" y="3505320"/>
            <a:ext cx="3276720" cy="17524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6324480" y="373392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only easy to do if the paper is organized proper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radley Hand ITC"/>
              </a:rPr>
              <a:t>How to approach the introduction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b a blank piece of pap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ake no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raw fig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efine vocabula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 these ques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is the hypothesis being tes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What are the basic conclusion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63360" y="-1039680"/>
            <a:ext cx="21434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6"/>
          <a:stretch/>
        </p:blipFill>
        <p:spPr>
          <a:xfrm>
            <a:off x="6529320" y="3041640"/>
            <a:ext cx="251784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adley Hand ITC"/>
              </a:rPr>
              <a:t>How to read the result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ine the fig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no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each experiment/ figure you should be able to expla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basic proced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question it sought to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resul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 conclu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riticis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6"/>
          <a:stretch/>
        </p:blipFill>
        <p:spPr>
          <a:xfrm>
            <a:off x="5716440" y="3143160"/>
            <a:ext cx="34275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adley Hand ITC"/>
              </a:rPr>
              <a:t>How to read a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295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Take notes and answer these ques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conclusions do the authors draw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Opinion/ interpretat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scribe for yourself why these data significa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Does it contribute to knowledge or correct error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http://t3.gstatic.com/images?q=tbn:ANd9GcSs4y1GtJAkSYMgH_5-pok3sDKVM4jI55S1Uht6JlyRjW4Nutbu"/>
          <p:cNvPicPr/>
          <p:nvPr/>
        </p:nvPicPr>
        <p:blipFill>
          <a:blip r:embed="rId1"/>
          <a:stretch/>
        </p:blipFill>
        <p:spPr>
          <a:xfrm>
            <a:off x="7170840" y="4857840"/>
            <a:ext cx="19731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now, you may be tired of this paper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relax ye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e energy for the overall reflection and criticis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t3.gstatic.com/images?q=tbn:ANd9GcRiwv1y0kqAhvfiZ6i9cIlVZVNw47UgC2e8-ScC3nP44AUUa0qzr2Fng_Ae"/>
          <p:cNvPicPr/>
          <p:nvPr/>
        </p:nvPicPr>
        <p:blipFill>
          <a:blip r:embed="rId1"/>
          <a:stretch/>
        </p:blipFill>
        <p:spPr>
          <a:xfrm>
            <a:off x="5541840" y="2176560"/>
            <a:ext cx="187668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1143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 you agree with the authors’ rationale for setting up the experiments as they did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d they perform the experiments appropriatel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re there enough experiments to support the major finding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 you see trends/patterns in their data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 you agree with the author’s conclusions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further questions do you have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might you suggest they do next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adley Hand ITC"/>
              </a:rPr>
              <a:t>Reflection and Critic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http://4.bp.blogspot.com/_1sl8KOfrg0E/TKvWqn27QDI/AAAAAAAAAN0/GcecV0WN-HE/s1600/after-much-discussion.jpg"/>
          <p:cNvPicPr/>
          <p:nvPr/>
        </p:nvPicPr>
        <p:blipFill>
          <a:blip r:embed="rId1"/>
          <a:stretch/>
        </p:blipFill>
        <p:spPr>
          <a:xfrm>
            <a:off x="5943600" y="4724280"/>
            <a:ext cx="320040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adley Hand ITC"/>
              </a:rPr>
              <a:t>Reading a scientific pa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6964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truggle with the pa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not passive read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highlighter, underline text, scribble comments or questions on it, make no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t first you don’t understand, read and re-read, spiraling in on central poi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Cloud Callout 3"/>
          <p:cNvSpPr/>
          <p:nvPr/>
        </p:nvSpPr>
        <p:spPr>
          <a:xfrm>
            <a:off x="6019920" y="3429000"/>
            <a:ext cx="2743200" cy="2133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6477120" y="365760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Bradley Hand ITC"/>
              </a:rPr>
              <a:t>DO NOT highlight whole sentences or para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http://www.dreamstime.com/cartoon-lamp-thumb16049222.jpg"/>
          <p:cNvPicPr/>
          <p:nvPr/>
        </p:nvPicPr>
        <p:blipFill>
          <a:blip r:embed="rId4"/>
          <a:stretch/>
        </p:blipFill>
        <p:spPr>
          <a:xfrm>
            <a:off x="5791320" y="5410080"/>
            <a:ext cx="1012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adley Hand ITC"/>
              </a:rPr>
              <a:t>Continu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Get into question-asking m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used to doing peer re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because it’s published, doesn’t mean it’s r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t-pi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4"/>
          <a:stretch/>
        </p:blipFill>
        <p:spPr>
          <a:xfrm>
            <a:off x="6894360" y="4095720"/>
            <a:ext cx="190836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adley Hand ITC"/>
              </a:rPr>
              <a:t>Continu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Move beyond the text of the pa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lk to other people about i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commenta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sult, dictionaries, textbooks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line links to references, fig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gends to clarify things you don’t understa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Inner circle business people talk meet in a social media network speech bubble Stock Photo - 8002515"/>
          <p:cNvPicPr/>
          <p:nvPr/>
        </p:nvPicPr>
        <p:blipFill>
          <a:blip r:embed="rId4"/>
          <a:stretch/>
        </p:blipFill>
        <p:spPr>
          <a:xfrm>
            <a:off x="5846760" y="450720"/>
            <a:ext cx="309564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adley Hand ITC"/>
              </a:rPr>
              <a:t>Continu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09480" y="12952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n't give yourself very much tim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may seem counter-intuitive, but one of the best ways to break down barriers to reading a heavy paper is to sit down twenty minutes before some other appointment absolutely determined to "figure out what this paper's about" within the twenty minut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Cloud Callout 4"/>
          <p:cNvSpPr/>
          <p:nvPr/>
        </p:nvSpPr>
        <p:spPr>
          <a:xfrm>
            <a:off x="6248520" y="3733920"/>
            <a:ext cx="2743200" cy="2133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Just do it; you </a:t>
            </a:r>
            <a:r>
              <a:rPr b="0" i="1" lang="en-US" sz="1800" spc="-1" strike="noStrike">
                <a:solidFill>
                  <a:srgbClr val="0000ff"/>
                </a:solidFill>
                <a:latin typeface="Calibri"/>
              </a:rPr>
              <a:t>will figure it out.  And after that, coming back to the paper later is eas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http://www.dreamstime.com/cartoon-lamp-thumb16049222.jpg"/>
          <p:cNvPicPr/>
          <p:nvPr/>
        </p:nvPicPr>
        <p:blipFill>
          <a:blip r:embed="rId2"/>
          <a:stretch/>
        </p:blipFill>
        <p:spPr>
          <a:xfrm>
            <a:off x="6172200" y="5638680"/>
            <a:ext cx="8524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6840" y="7621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tific papers are the heart of the science     commun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essential to learn how to read a paper quickly but insightfu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……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therwi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lh3.ggpht.com/--0ggXxozzDY/Svo7PY2fDyI/AAAAAAAAADU/qUjUC3Go6Sk/3D%252520Character%252520%25252818%252529.jpg"/>
          <p:cNvPicPr/>
          <p:nvPr/>
        </p:nvPicPr>
        <p:blipFill>
          <a:blip r:embed="rId3"/>
          <a:stretch/>
        </p:blipFill>
        <p:spPr>
          <a:xfrm>
            <a:off x="762120" y="4114800"/>
            <a:ext cx="3047760" cy="2286000"/>
          </a:xfrm>
          <a:prstGeom prst="rect">
            <a:avLst/>
          </a:prstGeom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95" name="Picture 3" descr=""/>
          <p:cNvPicPr/>
          <p:nvPr/>
        </p:nvPicPr>
        <p:blipFill>
          <a:blip r:embed="rId4"/>
          <a:stretch/>
        </p:blipFill>
        <p:spPr>
          <a:xfrm>
            <a:off x="5334120" y="4191120"/>
            <a:ext cx="2463840" cy="22096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adley Hand ITC"/>
              </a:rPr>
              <a:t>Ground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underst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be afraid to as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construc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pol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be afraid to criticize (constructively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radley Hand ITC"/>
              </a:rPr>
              <a:t>Template for Taking Notes on Research Articles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3124080" y="838080"/>
            <a:ext cx="4378320" cy="6220080"/>
          </a:xfrm>
          <a:prstGeom prst="rect">
            <a:avLst/>
          </a:prstGeom>
          <a:ln w="0">
            <a:noFill/>
          </a:ln>
        </p:spPr>
      </p:pic>
      <p:sp>
        <p:nvSpPr>
          <p:cNvPr id="157" name="Right Arrow Callout 5"/>
          <p:cNvSpPr/>
          <p:nvPr/>
        </p:nvSpPr>
        <p:spPr>
          <a:xfrm>
            <a:off x="228600" y="2514600"/>
            <a:ext cx="2819520" cy="2286000"/>
          </a:xfrm>
          <a:prstGeom prst="rightArrowCallout">
            <a:avLst>
              <a:gd name="adj1" fmla="val 25002"/>
              <a:gd name="adj2" fmla="val 25000"/>
              <a:gd name="adj3" fmla="val 24999"/>
              <a:gd name="adj4" fmla="val 64977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radley Hand ITC"/>
              </a:rPr>
              <a:t>Easy access for later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121896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Bradley Hand ITC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3352680" y="0"/>
            <a:ext cx="52452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Bradley Hand ITC"/>
              </a:rPr>
              <a:t>The famous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Bradley Hand ITC"/>
                <a:hlinkClick r:id="rId1"/>
              </a:rPr>
              <a:t>duck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Bradley Hand ITC"/>
              </a:rPr>
              <a:t>-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Bradley Hand ITC"/>
                <a:hlinkClick r:id="rId2"/>
              </a:rPr>
              <a:t>rabbit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Bradley Hand ITC"/>
              </a:rPr>
              <a:t>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Bradley Hand ITC"/>
                <a:hlinkClick r:id="rId3"/>
              </a:rPr>
              <a:t>ambiguous image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Bradley Hand ITC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File:Duck-Rabbit illusion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38480" y="2514600"/>
            <a:ext cx="4943520" cy="333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2" name="TextBox 4"/>
          <p:cNvSpPr/>
          <p:nvPr/>
        </p:nvSpPr>
        <p:spPr>
          <a:xfrm>
            <a:off x="304920" y="2286000"/>
            <a:ext cx="3581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one looks at the duck-rabbit and sees a rabbit, one is not interpreting the picture as a rabbit, but rather reporting what one s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Bradley Hand ITC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vid W. Ramey (1999)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Read a Scientific Paper.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l. 45 / AAEP PROCEEDIN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is Lee (2006)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Read Papers Fa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y Purugganan &amp; Jan Hewitt (2004)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to Read a Scientific Article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ice Univers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nett, R. (2001) Technical Communication. 5th ed. San Antonio: Harcourt Colleg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sh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2481120" y="1571760"/>
            <a:ext cx="418176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radley Hand ITC"/>
              </a:rPr>
              <a:t>Two Types of Scientific Papers Containing Two Types of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31859c"/>
                </a:solidFill>
                <a:latin typeface="Times New Roman"/>
              </a:rPr>
              <a:t>There are two types of scientific pap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Review articles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ive an overview of the scientific field or topic by summarizing the data and conclusions from many stud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Primary research articles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ain the original data and conclusions of the researchers who were involved in the experiments and how the experiments were don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radley Hand ITC"/>
              </a:rPr>
              <a:t>few easy ways to distinguish between  Review &amp; Primary re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 algn="just">
              <a:spcBef>
                <a:spcPts val="700"/>
              </a:spcBef>
              <a:buClr>
                <a:srgbClr val="0000ff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reviews will be labeled as "review“ on the first page of the artic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s don't have a "methods" se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review article, graphs, table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figures containing actual data wi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 citations in the figure lege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he primary research papers th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ly reported the find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loud Callout 3"/>
          <p:cNvSpPr/>
          <p:nvPr/>
        </p:nvSpPr>
        <p:spPr>
          <a:xfrm>
            <a:off x="6477120" y="2743200"/>
            <a:ext cx="2666880" cy="23623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6858000" y="32767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t is also wise to read several reviews by different auth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http://www.dreamstime.com/cartoon-lamp-thumb16049222.jpg"/>
          <p:cNvPicPr/>
          <p:nvPr/>
        </p:nvPicPr>
        <p:blipFill>
          <a:blip r:embed="rId1"/>
          <a:stretch/>
        </p:blipFill>
        <p:spPr>
          <a:xfrm>
            <a:off x="6324480" y="5105520"/>
            <a:ext cx="10130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adley Hand ITC"/>
              </a:rPr>
              <a:t>Why bother ourselv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ournal papers are curr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Textbooks are often years out of dat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Journals ar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lly the most accessible means of obtaining the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information that you ne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can get a good explanation for your data and enough details to replicate what you read abo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find out exactly what the latest developments are in a fiel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find out how a certain piece of research was don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ecause one day soon you could be writing papers  too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adley Hand ITC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o do resear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to think critically about quality of research pap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 any discipline, there are fads and there are lasting ideas… learn to tell the differenc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in perspec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radley Hand ITC"/>
              </a:rPr>
              <a:t>The typical anatomy of a pa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ost scientific journals, scientific papers follow a standard forma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journals use a conventional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M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ruc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radley Hand ITC"/>
              </a:rPr>
              <a:t>A general rule of thumb, regarding what goes where, when both reading and writing a scientific article 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Diagram 3" descr=""/>
          <p:cNvPicPr/>
          <p:nvPr/>
        </p:nvPicPr>
        <p:blipFill>
          <a:blip r:embed="rId1"/>
          <a:stretch/>
        </p:blipFill>
        <p:spPr>
          <a:xfrm>
            <a:off x="378000" y="2023920"/>
            <a:ext cx="6108480" cy="4168800"/>
          </a:xfrm>
          <a:prstGeom prst="rect">
            <a:avLst/>
          </a:prstGeom>
          <a:ln w="0">
            <a:noFill/>
          </a:ln>
        </p:spPr>
      </p:pic>
      <p:sp>
        <p:nvSpPr>
          <p:cNvPr id="111" name="Cloud Callout 4"/>
          <p:cNvSpPr/>
          <p:nvPr/>
        </p:nvSpPr>
        <p:spPr>
          <a:xfrm>
            <a:off x="5562720" y="2286000"/>
            <a:ext cx="3429000" cy="2666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5943600" y="2590920"/>
            <a:ext cx="2743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Not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Some journals will allow the Results and Discussion sections to be combined. In this case, 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h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presented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http://www.dreamstime.com/cartoon-lamp-thumb16049222.jpg"/>
          <p:cNvPicPr/>
          <p:nvPr/>
        </p:nvPicPr>
        <p:blipFill>
          <a:blip r:embed="rId2"/>
          <a:stretch/>
        </p:blipFill>
        <p:spPr>
          <a:xfrm>
            <a:off x="5715000" y="5181480"/>
            <a:ext cx="1012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Bradley Hand ITC"/>
              </a:rPr>
              <a:t>Generally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you first read the Abstract in order to understand the major points of the work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larifies whether you in fact know enough background to appreciate the paper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refreshes your memory about the topi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elps you as the reader integrate the new information into your previous knowledge about the top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05:59:08Z</dcterms:created>
  <dc:creator>Administrator</dc:creator>
  <dc:description/>
  <dc:language>en-US</dc:language>
  <cp:lastModifiedBy>Sooad</cp:lastModifiedBy>
  <dcterms:modified xsi:type="dcterms:W3CDTF">2011-12-02T08:49:18Z</dcterms:modified>
  <cp:revision>59</cp:revision>
  <dc:subject/>
  <dc:title>How to read a scientific paper</dc:title>
</cp:coreProperties>
</file>