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media/image6.gif" ContentType="image/gif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E0C2-A102-4BE0-BD84-DC8C1803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A37A-7BA5-4488-9868-276FD0CE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211B-0F0D-4475-A492-8B391172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3299-E620-471D-889D-816CEDD9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C3A3-84F9-4955-A0E2-7A635266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B3FF-C37A-4987-81F1-C8356806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D3A3-F7FD-44B4-B295-E50A06A9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0CD6-DAC3-47AF-AFAE-4B5C70F0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A0E2-1769-4CB8-AFBE-1EAD1A93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21F0-9BA0-47BF-B224-585327DC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11D6-FD27-4825-A898-3F857389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75C5-CEC3-4DC7-A232-34B067B9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504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4" descr="index_headercolour"/>
          <p:cNvPicPr/>
          <p:nvPr/>
        </p:nvPicPr>
        <p:blipFill>
          <a:blip r:embed="rId2"/>
          <a:stretch/>
        </p:blipFill>
        <p:spPr>
          <a:xfrm>
            <a:off x="0" y="0"/>
            <a:ext cx="9144000" cy="695160"/>
          </a:xfrm>
          <a:prstGeom prst="rect">
            <a:avLst/>
          </a:prstGeom>
          <a:ln w="0">
            <a:noFill/>
          </a:ln>
        </p:spPr>
      </p:pic>
      <p:sp>
        <p:nvSpPr>
          <p:cNvPr id="1" name="Text Box 65"/>
          <p:cNvSpPr/>
          <p:nvPr/>
        </p:nvSpPr>
        <p:spPr>
          <a:xfrm>
            <a:off x="5105520" y="380880"/>
            <a:ext cx="3429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00"/>
                </a:solidFill>
                <a:latin typeface="Times New Roman"/>
              </a:rPr>
              <a:t>Virtual Academy for the Semi Arid Tropics</a:t>
            </a:r>
            <a:endParaRPr b="0" lang="en-US" sz="1300" spc="-1" strike="noStrike">
              <a:solidFill>
                <a:srgbClr val="e4504c"/>
              </a:solidFill>
              <a:latin typeface="Times New Roman"/>
            </a:endParaRPr>
          </a:p>
        </p:txBody>
      </p:sp>
      <p:pic>
        <p:nvPicPr>
          <p:cNvPr id="2" name="Picture 66" descr="at-logo"/>
          <p:cNvPicPr/>
          <p:nvPr/>
        </p:nvPicPr>
        <p:blipFill>
          <a:blip r:embed="rId3"/>
          <a:stretch/>
        </p:blipFill>
        <p:spPr>
          <a:xfrm>
            <a:off x="8308800" y="0"/>
            <a:ext cx="8352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ffc8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4" name="Text Box 68"/>
          <p:cNvSpPr/>
          <p:nvPr/>
        </p:nvSpPr>
        <p:spPr>
          <a:xfrm>
            <a:off x="0" y="685800"/>
            <a:ext cx="9144000" cy="307080"/>
          </a:xfrm>
          <a:prstGeom prst="rect">
            <a:avLst/>
          </a:prstGeom>
          <a:solidFill>
            <a:srgbClr val="f9f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e4504c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e4504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e4504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e4504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e4504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e4504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e4504c"/>
              </a:solidFill>
              <a:latin typeface="Times New Roman"/>
            </a:endParaRPr>
          </a:p>
        </p:txBody>
      </p:sp>
      <p:pic>
        <p:nvPicPr>
          <p:cNvPr id="5" name="Picture 69" descr="nextbu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67560" y="6400800"/>
            <a:ext cx="447840" cy="4572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0" descr="prevbut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959600" y="6400800"/>
            <a:ext cx="422280" cy="457200"/>
          </a:xfrm>
          <a:prstGeom prst="rect">
            <a:avLst/>
          </a:prstGeom>
          <a:ln w="0">
            <a:noFill/>
          </a:ln>
        </p:spPr>
      </p:pic>
      <p:sp>
        <p:nvSpPr>
          <p:cNvPr id="7" name="Text Box 71"/>
          <p:cNvSpPr/>
          <p:nvPr/>
        </p:nvSpPr>
        <p:spPr>
          <a:xfrm>
            <a:off x="2209680" y="6445080"/>
            <a:ext cx="47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6600"/>
                </a:solidFill>
                <a:latin typeface="Comic Sans MS"/>
              </a:rPr>
              <a:t>Course on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Crop-Weather Relationships</a:t>
            </a:r>
            <a:endParaRPr b="0" lang="en-US" sz="16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8" name="Text Box 72"/>
          <p:cNvSpPr/>
          <p:nvPr/>
        </p:nvSpPr>
        <p:spPr>
          <a:xfrm>
            <a:off x="84600" y="62388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Modules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9" name="Text Box 74"/>
          <p:cNvSpPr/>
          <p:nvPr/>
        </p:nvSpPr>
        <p:spPr>
          <a:xfrm>
            <a:off x="1676520" y="62856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Lessons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10" name="Text Box 75"/>
          <p:cNvSpPr/>
          <p:nvPr/>
        </p:nvSpPr>
        <p:spPr>
          <a:xfrm>
            <a:off x="364320" y="114480"/>
            <a:ext cx="38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Module 3: Weather Elements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48" name="Group 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49" name="Group 4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50" name="Line 5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Line 6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Line 7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Line 8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Line 9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Line 10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Line 11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Line 12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" name="Group 13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59" name="Group 14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60" name="Line 15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" name="Line 16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" name="Line 17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Line 18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Line 19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Line 20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Line 21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Line 22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" name="Group 23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69" name="Line 24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" name="Line 25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" name="Line 26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" name="Line 27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Line 28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" name="Line 29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" name="Line 30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" name="Line 31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7" name="Group 32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78" name="Line 33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" name="Line 34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" name="Line 35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Line 36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Line 37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Line 38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Line 39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Line 40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" name="Group 41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87" name="Line 42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Line 43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Line 44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Line 45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Line 46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Line 47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Line 48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Line 49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5" name="Group 5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96" name="Group 51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97" name="Line 52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Line 53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Line 54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Line 55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Line 56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Line 57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Line 58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Line 59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" name="Group 60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106" name="Line 61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Line 62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Line 63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Line 64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Line 65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Line 66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Line 67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Line 68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4" name="Group 69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115" name="Line 70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Line 71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Line 72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Line 73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Line 74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Line 75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Line 76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Line 77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3" name="Group 78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124" name="Line 79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Line 80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Line 81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Line 82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Line 83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Line 84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Line 85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Line 86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2" name="Group 87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133" name="Group 88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134" name="Line 89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Line 90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Line 91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Line 92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Line 93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Line 94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95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Line 96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2" name="Group 97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143" name="Line 98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Line 99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Line 100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Line 101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Line 102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Line 103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Line 104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Line 105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" name="Group 106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152" name="Line 107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Line 108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Line 109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Line 110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Line 111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Line 112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Line 113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Line 114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0" name="Group 115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161" name="Line 116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Line 117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Line 118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Line 119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Line 120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Line 121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Line 122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Line 123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9" name="Group 124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170" name="Group 125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171" name="Line 126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Line 127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Line 128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Line 129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Line 130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Line 131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Line 132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Line 133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9" name="Group 134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180" name="Line 135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Line 136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Line 137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Line 138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Line 139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Line 140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Line 141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Line 142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" name="Group 143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189" name="Line 144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Line 145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Line 146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Line 147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Line 148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Line 149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Line 150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Line 151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7" name="Group 152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198" name="Line 153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Line 154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Line 155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Line 156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Line 157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Line 158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Line 159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Line 160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06" name="Group 161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207" name="Group 162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208" name="Line 163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Line 164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Line 165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Line 166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Line 167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Line 168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Line 169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Line 170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Group 171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217" name="Line 172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Line 173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Line 174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Line 175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Line 176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Line 177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Line 178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Line 179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Group 180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226" name="Line 181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Line 182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Line 183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Line 184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Line 185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" name="Line 186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Line 187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Line 188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Group 189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235" name="Line 190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Line 191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Line 192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Line 193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Line 194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Line 195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Line 196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Line 197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4504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43" name="Group 198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244" name="Line 199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Line 200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Line 201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Line 202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Line 203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Line 204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205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206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Line 207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Line 208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Line 209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Group 210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256" name="Rectangle 211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4504c"/>
                  </a:solidFill>
                  <a:latin typeface="Times New Roman"/>
                </a:endParaRPr>
              </a:p>
            </p:txBody>
          </p:sp>
          <p:sp>
            <p:nvSpPr>
              <p:cNvPr id="257" name="Rectangle 212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4504c"/>
                  </a:solidFill>
                  <a:latin typeface="Times New Roman"/>
                </a:endParaRPr>
              </a:p>
            </p:txBody>
          </p:sp>
          <p:sp>
            <p:nvSpPr>
              <p:cNvPr id="258" name="Rectangle 213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4504c"/>
                  </a:solidFill>
                  <a:latin typeface="Times New Roman"/>
                </a:endParaRPr>
              </a:p>
            </p:txBody>
          </p:sp>
          <p:sp>
            <p:nvSpPr>
              <p:cNvPr id="259" name="Rectangle 214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4504c"/>
                  </a:solidFill>
                  <a:latin typeface="Times New Roman"/>
                </a:endParaRPr>
              </a:p>
            </p:txBody>
          </p:sp>
          <p:sp>
            <p:nvSpPr>
              <p:cNvPr id="260" name="Rectangle 215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4504c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Group 216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262" name="Group 217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263" name="Rectangle 218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Rectangle 219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Group 220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266" name="Rectangle 221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Rectangle 222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Group 223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269" name="Rectangle 224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Rectangle 225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Group 226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272" name="Rectangle 227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Rectangle 228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Group 229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275" name="Rectangle 230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Rectangle 231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Group 232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278" name="Rectangle 233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Rectangle 234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Group 235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281" name="Rectangle 236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Rectangle 237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Group 238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284" name="Rectangle 239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Rectangle 240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4504c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286" name="Picture 246" descr="posbul1a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0AC6-2ECF-4806-BD79-3FA98AB01F21}" type="slidenum">
              <a:rPr b="0" lang="en-US" sz="1400" spc="-1" strike="noStrike">
                <a:solidFill>
                  <a:srgbClr val="cc33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205740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fter completing this Lesson, you will be able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o answer: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. What is humidity?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What is relative humidity?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How relative humidity is measured?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 What is a Hygrometer?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. How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Wet-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nd Dry Bulb Psychrometer and                    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Hair Hygrometer measure relative humidity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457200" y="1295280"/>
            <a:ext cx="480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34fc"/>
                </a:solidFill>
                <a:latin typeface="Verdana"/>
              </a:rPr>
              <a:t>Relative Humidity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  <p:pic>
        <p:nvPicPr>
          <p:cNvPr id="328" name="Picture 14" descr="index_headercolour"/>
          <p:cNvPicPr/>
          <p:nvPr/>
        </p:nvPicPr>
        <p:blipFill>
          <a:blip r:embed="rId1"/>
          <a:stretch/>
        </p:blipFill>
        <p:spPr>
          <a:xfrm>
            <a:off x="0" y="0"/>
            <a:ext cx="9144000" cy="69516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5"/>
          <p:cNvSpPr/>
          <p:nvPr/>
        </p:nvSpPr>
        <p:spPr>
          <a:xfrm>
            <a:off x="5105520" y="380880"/>
            <a:ext cx="3429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00"/>
                </a:solidFill>
                <a:latin typeface="Times New Roman"/>
              </a:rPr>
              <a:t>Virtual Academy for the Semi Arid Tropics</a:t>
            </a:r>
            <a:endParaRPr b="0" lang="en-US" sz="1300" spc="-1" strike="noStrike">
              <a:solidFill>
                <a:srgbClr val="e4504c"/>
              </a:solidFill>
              <a:latin typeface="Times New Roman"/>
            </a:endParaRPr>
          </a:p>
        </p:txBody>
      </p:sp>
      <p:pic>
        <p:nvPicPr>
          <p:cNvPr id="330" name="Picture 16" descr="at-logo"/>
          <p:cNvPicPr/>
          <p:nvPr/>
        </p:nvPicPr>
        <p:blipFill>
          <a:blip r:embed="rId2"/>
          <a:stretch/>
        </p:blipFill>
        <p:spPr>
          <a:xfrm>
            <a:off x="8308800" y="0"/>
            <a:ext cx="835200" cy="68580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ffc8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332" name="Text Box 18"/>
          <p:cNvSpPr/>
          <p:nvPr/>
        </p:nvSpPr>
        <p:spPr>
          <a:xfrm>
            <a:off x="0" y="685800"/>
            <a:ext cx="9144000" cy="307080"/>
          </a:xfrm>
          <a:prstGeom prst="rect">
            <a:avLst/>
          </a:prstGeom>
          <a:solidFill>
            <a:srgbClr val="f9f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e4504c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e4504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e4504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e4504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e4504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e4504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e4504c"/>
              </a:solidFill>
              <a:latin typeface="Times New Roman"/>
            </a:endParaRPr>
          </a:p>
        </p:txBody>
      </p:sp>
      <p:pic>
        <p:nvPicPr>
          <p:cNvPr id="333" name="Picture 19" descr="nextbu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67560" y="64008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21"/>
          <p:cNvSpPr/>
          <p:nvPr/>
        </p:nvSpPr>
        <p:spPr>
          <a:xfrm>
            <a:off x="2209680" y="6445080"/>
            <a:ext cx="47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6600"/>
                </a:solidFill>
                <a:latin typeface="Comic Sans MS"/>
              </a:rPr>
              <a:t>Course on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Crop-Weather Relationships</a:t>
            </a:r>
            <a:endParaRPr b="0" lang="en-US" sz="1600" spc="-1" strike="noStrike">
              <a:solidFill>
                <a:srgbClr val="e4504c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0"/>
          <p:cNvSpPr/>
          <p:nvPr/>
        </p:nvSpPr>
        <p:spPr>
          <a:xfrm>
            <a:off x="304920" y="16765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Humidity refers to the amount of moisture (water vapor) in the surrounding air.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34fc"/>
                </a:solidFill>
                <a:latin typeface="Verdana"/>
                <a:ea typeface="Arial Unicode MS"/>
              </a:rPr>
              <a:t>Relativ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 Humidity is a measure of the amount of moisture in the air </a:t>
            </a:r>
            <a:r>
              <a:rPr b="1" lang="en-US" sz="2000" spc="-1" strike="noStrike">
                <a:solidFill>
                  <a:srgbClr val="4234fc"/>
                </a:solidFill>
                <a:latin typeface="Verdana"/>
                <a:ea typeface="Arial Unicode MS"/>
              </a:rPr>
              <a:t>compared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 with the amount of moisture the air can hold.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lative humidity is expressed as a percentag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of how much moisture the air could possibly hold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at the temperature it happens when you measure it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"wetter or damper" you feel,, the higher is the relative humidity. If you feel the air is dry around you, the relative humidity is low.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336" name="Rectangle 14"/>
          <p:cNvSpPr/>
          <p:nvPr/>
        </p:nvSpPr>
        <p:spPr>
          <a:xfrm>
            <a:off x="457200" y="1295280"/>
            <a:ext cx="480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34fc"/>
                </a:solidFill>
                <a:latin typeface="Verdana"/>
              </a:rPr>
              <a:t>Relative Humidity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0"/>
          <p:cNvSpPr/>
          <p:nvPr/>
        </p:nvSpPr>
        <p:spPr>
          <a:xfrm>
            <a:off x="83808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We are very sensitive to humidity. Sweating keeps our body cool and maintain its current temperature.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f the air is at 90% relative humidity, sweat will not evaporate into the air. As a result, we feel much hotter than the actual temperature when the relative humidity is high.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f the relative humidity is low, we can feel much cooler than the actual temperature because our sweat evaporates easily, cooling the body.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338" name="Rectangle 13"/>
          <p:cNvSpPr/>
          <p:nvPr/>
        </p:nvSpPr>
        <p:spPr>
          <a:xfrm>
            <a:off x="457200" y="1295280"/>
            <a:ext cx="480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34fc"/>
                </a:solidFill>
                <a:latin typeface="Verdana"/>
              </a:rPr>
              <a:t>Relative Humidity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0"/>
          <p:cNvSpPr/>
          <p:nvPr/>
        </p:nvSpPr>
        <p:spPr>
          <a:xfrm>
            <a:off x="914400" y="2209680"/>
            <a:ext cx="72388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How relative humidity (RH) is measured?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Humidity is measured by means of a hygrometer.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re are different types of hygrometers.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most common hygrometers are Wet- and Dry- Bulb Psychrometer and Hair Hygrometer.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457200" y="1295280"/>
            <a:ext cx="480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34fc"/>
                </a:solidFill>
                <a:latin typeface="Verdana"/>
              </a:rPr>
              <a:t>Lesson 2: Relative Humidity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0"/>
          <p:cNvSpPr/>
          <p:nvPr/>
        </p:nvSpPr>
        <p:spPr>
          <a:xfrm>
            <a:off x="609480" y="1752480"/>
            <a:ext cx="76201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How relative humidity (RH) is measured?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Wet- and Dry Bulb Psychrometer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t consists of two identical mercury thermometers,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ne of which has a wet cotton or linen wick aroun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its bulb.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vaporating water from the wick absorbs he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from the thermometer bulb, causing the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thermometer reading to drop.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difference between dry-bulb and wet-bulb temperatures is compared on psychrometric charts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342" name="Rectangle 13"/>
          <p:cNvSpPr/>
          <p:nvPr/>
        </p:nvSpPr>
        <p:spPr>
          <a:xfrm>
            <a:off x="457200" y="1295280"/>
            <a:ext cx="480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34fc"/>
                </a:solidFill>
                <a:latin typeface="Verdana"/>
              </a:rPr>
              <a:t>Lesson 2: Relative Humidity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0"/>
          <p:cNvSpPr/>
          <p:nvPr/>
        </p:nvSpPr>
        <p:spPr>
          <a:xfrm>
            <a:off x="304920" y="190512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How relative humidity (RH) is measured?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Wet- and Dry Bulb Psychrometer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  <p:pic>
        <p:nvPicPr>
          <p:cNvPr id="344" name="Picture 13" descr="sling2"/>
          <p:cNvPicPr/>
          <p:nvPr/>
        </p:nvPicPr>
        <p:blipFill>
          <a:blip r:embed="rId1"/>
          <a:stretch/>
        </p:blipFill>
        <p:spPr>
          <a:xfrm>
            <a:off x="1676520" y="2590920"/>
            <a:ext cx="4876560" cy="32511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15"/>
          <p:cNvSpPr/>
          <p:nvPr/>
        </p:nvSpPr>
        <p:spPr>
          <a:xfrm>
            <a:off x="1752480" y="5867280"/>
            <a:ext cx="49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Verdana"/>
                <a:ea typeface="Arial"/>
              </a:rPr>
              <a:t>Wet - and Dry Bulb Psychrometer</a:t>
            </a:r>
            <a:endParaRPr b="0" lang="en-US" sz="16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346" name="Rectangle 17"/>
          <p:cNvSpPr/>
          <p:nvPr/>
        </p:nvSpPr>
        <p:spPr>
          <a:xfrm>
            <a:off x="457200" y="1295280"/>
            <a:ext cx="480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34fc"/>
                </a:solidFill>
                <a:latin typeface="Verdana"/>
              </a:rPr>
              <a:t>Lesson 2: Relative Humidity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0"/>
          <p:cNvSpPr/>
          <p:nvPr/>
        </p:nvSpPr>
        <p:spPr>
          <a:xfrm>
            <a:off x="304920" y="1905120"/>
            <a:ext cx="72388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How relative humidity (RH) is measured?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Wet- and Dry Bulb Psychromet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sychrometric Chart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  <p:pic>
        <p:nvPicPr>
          <p:cNvPr id="348" name="Picture 11" descr=""/>
          <p:cNvPicPr/>
          <p:nvPr/>
        </p:nvPicPr>
        <p:blipFill>
          <a:blip r:embed="rId1"/>
          <a:srcRect l="25904" t="36176" r="28228" b="11036"/>
          <a:stretch/>
        </p:blipFill>
        <p:spPr>
          <a:xfrm>
            <a:off x="685800" y="3352680"/>
            <a:ext cx="3429000" cy="29498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13"/>
          <p:cNvSpPr/>
          <p:nvPr/>
        </p:nvSpPr>
        <p:spPr>
          <a:xfrm>
            <a:off x="4343400" y="342900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f the difference between wet and dry bulb is 6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º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F and the temperature is 7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º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F (dry bulb), then the RH is 54%.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350" name="AutoShape 14"/>
          <p:cNvSpPr/>
          <p:nvPr/>
        </p:nvSpPr>
        <p:spPr>
          <a:xfrm>
            <a:off x="2819520" y="4876920"/>
            <a:ext cx="152280" cy="228600"/>
          </a:xfrm>
          <a:prstGeom prst="octagon">
            <a:avLst>
              <a:gd name="adj" fmla="val 29287"/>
            </a:avLst>
          </a:prstGeom>
          <a:noFill/>
          <a:ln w="28440">
            <a:solidFill>
              <a:srgbClr val="e45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351" name="AutoShape 17"/>
          <p:cNvSpPr/>
          <p:nvPr/>
        </p:nvSpPr>
        <p:spPr>
          <a:xfrm>
            <a:off x="2895480" y="304812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babe90"/>
          </a:solidFill>
          <a:ln w="9360">
            <a:solidFill>
              <a:srgbClr val="e45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352" name="AutoShape 18"/>
          <p:cNvSpPr/>
          <p:nvPr/>
        </p:nvSpPr>
        <p:spPr>
          <a:xfrm>
            <a:off x="533520" y="4952880"/>
            <a:ext cx="838080" cy="76320"/>
          </a:xfrm>
          <a:prstGeom prst="rightArrow">
            <a:avLst>
              <a:gd name="adj1" fmla="val 50000"/>
              <a:gd name="adj2" fmla="val 274528"/>
            </a:avLst>
          </a:prstGeom>
          <a:solidFill>
            <a:srgbClr val="babe90"/>
          </a:solidFill>
          <a:ln w="9360">
            <a:solidFill>
              <a:srgbClr val="e45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353" name="Rectangle 20"/>
          <p:cNvSpPr/>
          <p:nvPr/>
        </p:nvSpPr>
        <p:spPr>
          <a:xfrm>
            <a:off x="457200" y="1295280"/>
            <a:ext cx="480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34fc"/>
                </a:solidFill>
                <a:latin typeface="Verdana"/>
              </a:rPr>
              <a:t>Lesson 2: Relative Humidity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0"/>
          <p:cNvSpPr/>
          <p:nvPr/>
        </p:nvSpPr>
        <p:spPr>
          <a:xfrm>
            <a:off x="228600" y="1828800"/>
            <a:ext cx="5562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How relative humidity (RH) is measured?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Hair Hygrometer</a:t>
            </a:r>
            <a:endParaRPr b="0" lang="en-US" sz="18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5486400" y="1676520"/>
            <a:ext cx="3200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Humidity stretches       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the hair (human /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animal / synthetic)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while dryness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shortens it.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The hygrometer     has the job of stretching a hair between a fixed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and a movable point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to measure humidity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over time.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  <p:pic>
        <p:nvPicPr>
          <p:cNvPr id="356" name="Picture 15" descr="hairhyg2"/>
          <p:cNvPicPr/>
          <p:nvPr/>
        </p:nvPicPr>
        <p:blipFill>
          <a:blip r:embed="rId1"/>
          <a:stretch/>
        </p:blipFill>
        <p:spPr>
          <a:xfrm>
            <a:off x="380880" y="3048120"/>
            <a:ext cx="5079960" cy="28191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17"/>
          <p:cNvSpPr/>
          <p:nvPr/>
        </p:nvSpPr>
        <p:spPr>
          <a:xfrm>
            <a:off x="838080" y="580536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Verdana"/>
                <a:ea typeface="Arial"/>
              </a:rPr>
              <a:t>Hair Hygrometer</a:t>
            </a:r>
            <a:endParaRPr b="0" lang="en-US" sz="18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358" name="Rectangle 19"/>
          <p:cNvSpPr/>
          <p:nvPr/>
        </p:nvSpPr>
        <p:spPr>
          <a:xfrm>
            <a:off x="457200" y="1295280"/>
            <a:ext cx="480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34fc"/>
                </a:solidFill>
                <a:latin typeface="Verdana"/>
              </a:rPr>
              <a:t>Lesson 2: Relative Humidity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0"/>
          <p:cNvSpPr/>
          <p:nvPr/>
        </p:nvSpPr>
        <p:spPr>
          <a:xfrm>
            <a:off x="914400" y="2209680"/>
            <a:ext cx="701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How relative humidity (RH) is measured?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ther kinds of hygrometers use materials with electrical resistance that varies with the amount of moisture absorbed.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With such hygrometers, a measurement of electrical resistance can be calibrated as a humidity measurement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234f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  <p:sp>
        <p:nvSpPr>
          <p:cNvPr id="360" name="Rectangle 15"/>
          <p:cNvSpPr/>
          <p:nvPr/>
        </p:nvSpPr>
        <p:spPr>
          <a:xfrm>
            <a:off x="457200" y="1295280"/>
            <a:ext cx="4800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34fc"/>
                </a:solidFill>
                <a:latin typeface="Verdana"/>
              </a:rPr>
              <a:t>Lesson 2: Relative Humidity</a:t>
            </a:r>
            <a:endParaRPr b="0" lang="en-US" sz="2000" spc="-1" strike="noStrike">
              <a:solidFill>
                <a:srgbClr val="e4504c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6:48:18Z</dcterms:created>
  <dc:creator>B Diwakar</dc:creator>
  <dc:description/>
  <dc:language>en-US</dc:language>
  <cp:lastModifiedBy>user</cp:lastModifiedBy>
  <dcterms:modified xsi:type="dcterms:W3CDTF">2011-03-07T09:52:14Z</dcterms:modified>
  <cp:revision>179</cp:revision>
  <dc:subject>Crop Weather Relationships</dc:subject>
  <dc:title>PowerPoint Presentation</dc:title>
</cp:coreProperties>
</file>