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89E49-95CF-4BB9-A344-0B72F9AF9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2DC1A-2896-4938-9EAA-A8F13F8B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86A26-4963-4C35-869B-14303265F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D7383-A22C-4B10-8041-31ADD9C2C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2E9B-F299-4821-A42D-0D250197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FAD5-9C1D-4FB4-81D9-E52F187AA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2D36-6766-4F99-9A5B-D1077935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5555D-CD32-4716-AD0A-4E6A46AE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D0A3-1B90-44B1-95DF-80BC8B83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19D8-49DD-438F-A181-228E0543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4570-42E9-4833-AA0D-D8AD3D1F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5498-9CED-43D3-92C9-124AC1217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4C1A-15D9-476A-BEAE-6661EE584C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92360"/>
            <a:ext cx="7772400" cy="1203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JURY &amp; ILLNESS RECORD KEEPING AND INCIDENCE RATES</a:t>
            </a:r>
            <a:br>
              <a:rPr sz="43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56840"/>
            <a:ext cx="8229600" cy="5668920"/>
          </a:xfrm>
          <a:prstGeom prst="rect">
            <a:avLst/>
          </a:prstGeom>
          <a:noFill/>
          <a:ln w="0">
            <a:noFill/>
          </a:ln>
        </p:spPr>
        <p:txBody>
          <a:bodyPr anchor="t">
            <a:normAutofit fontScale="98000"/>
          </a:bodyPr>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Categories for Evaluating the Extent of Recordable Cases</a:t>
            </a:r>
            <a:r>
              <a:rPr b="0" lang="en-US" sz="2000" spc="-1" strike="noStrike">
                <a:solidFill>
                  <a:srgbClr val="0000ff"/>
                </a:solidFill>
                <a:latin typeface="Calibri"/>
              </a:rPr>
              <a:t> </a:t>
            </a:r>
            <a:endParaRPr b="0" lang="en-US" sz="2000" spc="-1" strike="noStrike">
              <a:solidFill>
                <a:srgbClr val="000000"/>
              </a:solidFill>
              <a:latin typeface="Calibri"/>
            </a:endParaRPr>
          </a:p>
          <a:p>
            <a:pPr marL="335880" indent="-3358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the employer decides that a recordable injury or illness has occurred, the case must be evaluated to determine its extent or outcome. </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three categories of recordable cases: </a:t>
            </a:r>
            <a:r>
              <a:rPr b="0" lang="en-US" sz="1800" spc="-1" strike="noStrike" u="sng">
                <a:solidFill>
                  <a:srgbClr val="000000"/>
                </a:solidFill>
                <a:uFillTx/>
                <a:latin typeface="Calibri"/>
              </a:rPr>
              <a:t>fatalities</a:t>
            </a:r>
            <a:r>
              <a:rPr b="0" lang="en-US" sz="1800" spc="-1" strike="noStrike">
                <a:solidFill>
                  <a:srgbClr val="000000"/>
                </a:solidFill>
                <a:latin typeface="Calibri"/>
              </a:rPr>
              <a:t>, </a:t>
            </a:r>
            <a:r>
              <a:rPr b="0" lang="en-US" sz="1800" spc="-1" strike="noStrike" u="sng">
                <a:solidFill>
                  <a:srgbClr val="000000"/>
                </a:solidFill>
                <a:uFillTx/>
                <a:latin typeface="Calibri"/>
              </a:rPr>
              <a:t>lost workday cases</a:t>
            </a:r>
            <a:r>
              <a:rPr b="0" lang="en-US" sz="1800" spc="-1" strike="noStrike">
                <a:solidFill>
                  <a:srgbClr val="000000"/>
                </a:solidFill>
                <a:latin typeface="Calibri"/>
              </a:rPr>
              <a:t>, and </a:t>
            </a:r>
            <a:r>
              <a:rPr b="0" lang="en-US" sz="1800" spc="-1" strike="noStrike" u="sng">
                <a:solidFill>
                  <a:srgbClr val="000000"/>
                </a:solidFill>
                <a:uFillTx/>
                <a:latin typeface="Calibri"/>
              </a:rPr>
              <a:t>cases without lost workdays</a:t>
            </a:r>
            <a:r>
              <a:rPr b="0" lang="en-US" sz="1800" spc="-1" strike="noStrike">
                <a:solidFill>
                  <a:srgbClr val="000000"/>
                </a:solidFill>
                <a:latin typeface="Calibri"/>
              </a:rPr>
              <a:t>. Every recordable case must be placed in only one of these categories.</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u="sng">
                <a:solidFill>
                  <a:srgbClr val="0000ff"/>
                </a:solidFill>
                <a:uFillTx/>
                <a:latin typeface="Calibri"/>
              </a:rPr>
              <a:t>Fatalities</a:t>
            </a:r>
            <a:endParaRPr b="0" lang="en-US" sz="1800" spc="-1" strike="noStrike">
              <a:solidFill>
                <a:srgbClr val="000000"/>
              </a:solidFill>
              <a:latin typeface="Calibri"/>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work-related fatalities must be recorded, regardless of the time between the injury and the death, or the length of the illness.</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u="sng">
                <a:solidFill>
                  <a:srgbClr val="0000ff"/>
                </a:solidFill>
                <a:uFillTx/>
                <a:latin typeface="Calibri"/>
              </a:rPr>
              <a:t>Lost Workday Cases</a:t>
            </a:r>
            <a:endParaRPr b="0" lang="en-US" sz="1800" spc="-1" strike="noStrike">
              <a:solidFill>
                <a:srgbClr val="000000"/>
              </a:solidFill>
              <a:latin typeface="Calibri"/>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t workday cases occur when the injured or ill employee experiences either days away from work, days of restricted work activity, or both. </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se situations, the injured or ill employee is affected to such an extent that (1) days must be taken off from the job for medical treatment or recovery, or (2) the employee is unable to perform his normal job duties over a normal work shift (which could be an extended hour shift of 8 to 12 hours), even though the employee may be able to continue working.</a:t>
            </a:r>
            <a:endParaRPr b="0" lang="en-US" sz="1800" spc="-1" strike="noStrike">
              <a:solidFill>
                <a:srgbClr val="000000"/>
              </a:solidFill>
              <a:latin typeface="Calibri"/>
            </a:endParaRPr>
          </a:p>
          <a:p>
            <a:pPr marL="335880" indent="-3358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6019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1. </a:t>
            </a:r>
            <a:r>
              <a:rPr b="1" lang="en-US" sz="1800" spc="-1" strike="noStrike" u="sng">
                <a:solidFill>
                  <a:srgbClr val="0000ff"/>
                </a:solidFill>
                <a:uFillTx/>
                <a:latin typeface="Calibri"/>
              </a:rPr>
              <a:t>Lost workday cases involving days away from work</a:t>
            </a:r>
            <a:r>
              <a:rPr b="0" lang="en-US" sz="1800" spc="-1" strike="noStrike">
                <a:solidFill>
                  <a:srgbClr val="000000"/>
                </a:solidFill>
                <a:latin typeface="Calibri"/>
              </a:rPr>
              <a:t> refer to cas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employee ordinarily would have been on the job but could not work because of the job-related injury or illnes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2. </a:t>
            </a:r>
            <a:r>
              <a:rPr b="1" lang="en-US" sz="1800" spc="-1" strike="noStrike" u="sng">
                <a:solidFill>
                  <a:srgbClr val="0000ff"/>
                </a:solidFill>
                <a:uFillTx/>
                <a:latin typeface="Calibri"/>
              </a:rPr>
              <a:t>Lost workday cases involving days of restricted work activity</a:t>
            </a:r>
            <a:r>
              <a:rPr b="0" lang="en-US" sz="1800" spc="-1" strike="noStrike">
                <a:solidFill>
                  <a:srgbClr val="000000"/>
                </a:solidFill>
                <a:latin typeface="Calibri"/>
              </a:rPr>
              <a:t> a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se cases in which, because of injury or illness, (1) the employee was temporarily assigned to another job, (2) the employee worked at a permanent job less than full time, or (3) the employee worked at his permanently assigned job but could not perform all the duties normally connected with i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ricted work activity occurs when the employee, because of the job-related injury or illness, is physically or mentally unable to perform all or any part of the normal job duties over all or any part of the normal workday or shif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juries and illnesses are not considered lost workday cases unless they affect the employee beyond the day of injury or start of illnes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ounting the number of days away from work or days of restricted work activity, do not include the initial day of injur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57200"/>
            <a:ext cx="8229600" cy="6019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Employer Reporting Obligations</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The Annual Survey of Occupational Injuries and Ill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rvey is conducted on a sample basis. Firms required to submit reports of their injury and illness experience are contacted by OSHA or a participating state agenc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ccess to OSHA Recor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ensure the reliability of the OSHA record-keeping process, OSHA has established regulations regarding access to OSHA record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SHA records that are being kept by employers for the five-year preservation period should be available for inspection and copying by authorized federal and state government official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loyees, former employees, and their representatives are allowed access only to the log, OSHA No. 3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09120"/>
            <a:ext cx="8229600" cy="5867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INCIDENCE R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ty performance is relative. Only when a company compares its injury experience with that of its entire industry, or with its own previous experience, can it obtain a meaningful evaluation of its safety accomplishment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ake such comparisons, a method of measurement is needed that will adjust for the effects of certain variables contributing to differences in injury experienc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jury totals alone cannot be used for two reason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First</a:t>
            </a:r>
            <a:r>
              <a:rPr b="0" lang="en-US" sz="2000" spc="-1" strike="noStrike">
                <a:solidFill>
                  <a:srgbClr val="000000"/>
                </a:solidFill>
                <a:latin typeface="Calibri"/>
              </a:rPr>
              <a:t>, a company with many employees may be expected to have more injuries than a company with few employees. </a:t>
            </a:r>
            <a:endParaRPr b="0" lang="en-US" sz="20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Second</a:t>
            </a:r>
            <a:r>
              <a:rPr b="0" lang="en-US" sz="2000" spc="-1" strike="noStrike" u="sng">
                <a:solidFill>
                  <a:srgbClr val="000000"/>
                </a:solidFill>
                <a:uFillTx/>
                <a:latin typeface="Calibri"/>
              </a:rPr>
              <a:t>,</a:t>
            </a:r>
            <a:r>
              <a:rPr b="0" lang="en-US" sz="2000" spc="-1" strike="noStrike">
                <a:solidFill>
                  <a:srgbClr val="000000"/>
                </a:solidFill>
                <a:latin typeface="Calibri"/>
              </a:rPr>
              <a:t> if the records of one company include all the injuries treated in the first aid room, while the records of a similar company include only injuries serious enough to cause lost time, obviously the first company's total will be larger than the second company's fig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09480"/>
            <a:ext cx="8229600" cy="551664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Formulas for Rat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idence rates are based on the exposure of 100 full-time workers using 200,000 employee-hours as the equivalent (100 employees working 40 hours per week for 50 weeks per year). </a:t>
            </a: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incidence rate can be computed for each category of cases or days lost depending on what number is put in the numerator of the formula. </a:t>
            </a: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enominator of the formula should be the total number of hours worked by all employees during the same time period as that covered by the number of cases in the numerator.</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Incidence Rate</a:t>
            </a:r>
            <a:r>
              <a:rPr b="0" lang="en-US" sz="1400" spc="-1" strike="noStrike">
                <a:solidFill>
                  <a:srgbClr val="000000"/>
                </a:solidFill>
                <a:latin typeface="Calibri"/>
              </a:rPr>
              <a:t>                         No. of injuries and illnesses x 200,000</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ff"/>
                </a:solidFill>
                <a:latin typeface="Calibri"/>
              </a:rPr>
              <a:t>of Recordable Cases</a:t>
            </a:r>
            <a:r>
              <a:rPr b="0" lang="en-US" sz="1400" spc="-1" strike="noStrike">
                <a:solidFill>
                  <a:srgbClr val="000000"/>
                </a:solidFill>
                <a:latin typeface="Calibri"/>
              </a:rPr>
              <a:t> =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otal hours worked by all employees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uring period covered</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r</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No. of lost work days x 200,000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otal hours worked by all employees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uring period cover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304920"/>
            <a:ext cx="8686800" cy="63244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two other formulas that can be used to measure the average severity of the recorded cas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otal lost workday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verage lost workdays</a:t>
            </a: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otal lost workday cas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verage days</a:t>
            </a:r>
            <a:r>
              <a:rPr b="0" lang="en-US" sz="1600" spc="-1" strike="noStrike">
                <a:solidFill>
                  <a:srgbClr val="000000"/>
                </a:solidFill>
                <a:latin typeface="Calibri"/>
              </a:rPr>
              <a:t>	</a:t>
            </a:r>
            <a:r>
              <a:rPr b="0" lang="en-US" sz="1600" spc="-1" strike="noStrike">
                <a:solidFill>
                  <a:srgbClr val="000000"/>
                </a:solidFill>
                <a:latin typeface="Calibri"/>
              </a:rPr>
              <a:t>                       Total days away from work</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way from work</a:t>
            </a:r>
            <a:r>
              <a:rPr b="0" lang="en-US" sz="1600" spc="-1" strike="noStrike">
                <a:solidFill>
                  <a:srgbClr val="000000"/>
                </a:solidFill>
                <a:latin typeface="Calibri"/>
              </a:rPr>
              <a:t>	</a:t>
            </a:r>
            <a:r>
              <a:rPr b="0" lang="en-US" sz="1600" spc="-1" strike="noStrike">
                <a:solidFill>
                  <a:srgbClr val="000000"/>
                </a:solidFill>
                <a:latin typeface="Calibri"/>
              </a:rPr>
              <a:t>            =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tal days-away-from-work cas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se numbers are small, then it is known that the cases are relatively minor. If, however, the numbers are large, then the cases are of greater average severity and should receive serious attention.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example, to calculate the incidence rate for total recordable cases at the end of the year, one would simply multiply the number of recordable cases by 200,000 and divide that by the number of hours worked by all employees for the whole yea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cidence rates may also be interpreted as the percentage of employees who will suffer the degree of injury for which the rate was calculated.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t is, if the incidence rate of lost workday cases is 5.1 per 100 full-time workers, then about 5% of the establishment's employees incurred a lost-workday injur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762120"/>
            <a:ext cx="8229600" cy="5790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ff"/>
                </a:solidFill>
                <a:uFillTx/>
                <a:latin typeface="Calibri"/>
              </a:rPr>
              <a:t>INCIDENCE</a:t>
            </a:r>
            <a:r>
              <a:rPr b="0" lang="en-US" sz="2000" spc="-1" strike="noStrike" u="sng">
                <a:solidFill>
                  <a:srgbClr val="000000"/>
                </a:solidFill>
                <a:uFillTx/>
                <a:latin typeface="Calibri"/>
              </a:rPr>
              <a:t> </a:t>
            </a:r>
            <a:r>
              <a:rPr b="0" lang="en-US" sz="2000" spc="-1" strike="noStrike">
                <a:solidFill>
                  <a:srgbClr val="000000"/>
                </a:solidFill>
                <a:latin typeface="Calibri"/>
              </a:rPr>
              <a:t>rate is really a general term. In addition to the total injury-illness incidence rate, we have the following;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1. Injury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2. Illness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3. Fatality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4. Lost-workday-cases incidence rate (LWDI)</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5. Number-of-lost-workdays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6. Specific-hazard incidence rate</a:t>
            </a:r>
            <a:endParaRPr b="0" lang="en-US" sz="16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foregoing rates use the standard 200,000 fact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difference between rates 4 and 5 in the above mentioned lis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4 counts cases in which one or more workdays were lost or i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ich the worker was transferred to another job.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5 counts the total number of workdays lost or days in which th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orker was transferred to another jo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33520" y="533160"/>
            <a:ext cx="8229600" cy="6019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unting the number of lost workdays, the date of the injury or start of illness should not be counted, even though the employee may leave work for most of that da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if the employee returns to his regular job and is able to perform all regular duties full time on the day after the injury or illness, no lost workdays are count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widely recognized standard incidence rate is the lost workday cases incidence rate, commonly known as the LWD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mewhat surprising characteristic of the LWDI is that it considers injuries only — not illnes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nesses are more difficult to track than injuries because there are often time delays in their diagnosis. Also, it is more difficult to prove work-relatedness for chronic exposures, which may have a variety of simultaneous cau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it is based on clear evidence that LWDI is considered a more precise and healthy measure of the effectiveness of the firm’s overall safety and health program.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ly, the LWDI does not include fatalities, whether they are by illness or injur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talities should always be considered a rare occurrence of serious importance and as such should not be averaged among the more common injury statistics on which the LWDI is ba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2280" y="-360"/>
            <a:ext cx="8839440" cy="6629400"/>
          </a:xfrm>
          <a:prstGeom prst="rect">
            <a:avLst/>
          </a:prstGeom>
          <a:noFill/>
          <a:ln w="0">
            <a:noFill/>
          </a:ln>
        </p:spPr>
        <p:txBody>
          <a:bodyPr anchor="t">
            <a:normAutofit/>
          </a:bodyPr>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Calibri"/>
              </a:rPr>
              <a:t>CASE STUDY</a:t>
            </a:r>
            <a:r>
              <a:rPr b="0" lang="en-US" sz="900" spc="-1" strike="noStrike" u="sng">
                <a:solidFill>
                  <a:srgbClr val="000000"/>
                </a:solidFill>
                <a:uFillTx/>
                <a:latin typeface="Calibri"/>
              </a:rPr>
              <a:t> </a:t>
            </a:r>
            <a:endParaRPr b="0" lang="en-US" sz="900" spc="-1" strike="noStrike">
              <a:solidFill>
                <a:srgbClr val="000000"/>
              </a:solidFill>
              <a:latin typeface="Calibri"/>
            </a:endParaRPr>
          </a:p>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metal products fabrication and assembly plant employs 250 workers and has the following injury-illness experience for the year.</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January 31</a:t>
            </a:r>
            <a:r>
              <a:rPr b="0" lang="en-US" sz="1400" spc="-1" strike="noStrike">
                <a:solidFill>
                  <a:srgbClr val="000000"/>
                </a:solidFill>
                <a:latin typeface="Calibri"/>
              </a:rPr>
              <a:t>:  Press-blanking operator scratches hand from punch press; first aid received, no medical treatment; worker remains on the job.</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2/February 19</a:t>
            </a:r>
            <a:r>
              <a:rPr b="0" lang="en-US" sz="1400" spc="-1" strike="noStrike">
                <a:solidFill>
                  <a:srgbClr val="000000"/>
                </a:solidFill>
                <a:latin typeface="Calibri"/>
              </a:rPr>
              <a:t>:  Maintenance worker, not wearing eye protection, operating grinding machine in tool room, incurs eye injury from flying chip; medical treatment required; injury occurs on Tuesday, employee returns to regular job at regular time on Thurs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3/February 27</a:t>
            </a:r>
            <a:r>
              <a:rPr b="0" lang="en-US" sz="1400" spc="-1" strike="noStrike">
                <a:solidFill>
                  <a:srgbClr val="000000"/>
                </a:solidFill>
                <a:latin typeface="Calibri"/>
              </a:rPr>
              <a:t>:  Assembly worker becomes “ill” due to noxious odors from remodeling operation in the assembly area; receives permission from supervisor to take the rest of the day off; does not go to a doctor or clinic;   reports to regular work on time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4/March 2</a:t>
            </a:r>
            <a:r>
              <a:rPr b="0" lang="en-US" sz="1400" spc="-1" strike="noStrike">
                <a:solidFill>
                  <a:srgbClr val="000000"/>
                </a:solidFill>
                <a:latin typeface="Calibri"/>
              </a:rPr>
              <a:t>: Sewing machine operator’s right ring finger pulled into unguarded drive belt pulley on sewing machine; small fracture revealed by X ray; splint applied; worker returns to regular work at regular time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5/March 19</a:t>
            </a:r>
            <a:r>
              <a:rPr b="0" lang="en-US" sz="1400" spc="-1" strike="noStrike">
                <a:solidFill>
                  <a:srgbClr val="000000"/>
                </a:solidFill>
                <a:latin typeface="Calibri"/>
              </a:rPr>
              <a:t>: Dockworker sprains ankle on loading dock; moved to office job for two workweek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6/May 2</a:t>
            </a:r>
            <a:r>
              <a:rPr b="0" lang="en-US" sz="1400" spc="-1" strike="noStrike">
                <a:solidFill>
                  <a:srgbClr val="000000"/>
                </a:solidFill>
                <a:latin typeface="Calibri"/>
              </a:rPr>
              <a:t>: Maintenance worker entangles finger in rope as winch is released; taken to clinic for X ray; no fractures found; no treatment; worker returns to regular work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7/June 7</a:t>
            </a:r>
            <a:r>
              <a:rPr b="0" lang="en-US" sz="1400" spc="-1" strike="noStrike">
                <a:solidFill>
                  <a:srgbClr val="000000"/>
                </a:solidFill>
                <a:latin typeface="Calibri"/>
              </a:rPr>
              <a:t>:  Yard worker exposed to poison ivy while clearing weeds in tank-farm area behind plant; Rash develops; treated with steroid drug by prescription; no time lost.</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8/July 6</a:t>
            </a:r>
            <a:r>
              <a:rPr b="0" lang="en-US" sz="1400" spc="-1" strike="noStrike">
                <a:solidFill>
                  <a:srgbClr val="000000"/>
                </a:solidFill>
                <a:latin typeface="Calibri"/>
              </a:rPr>
              <a:t>:  Assembly worker loses two workdays getting better from severe allergic reaction to stings incurred while cleaning out his attic at home; medical treatment with prescription drug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9/August 4</a:t>
            </a:r>
            <a:r>
              <a:rPr b="0" lang="en-US" sz="1400" spc="-1" strike="noStrike">
                <a:solidFill>
                  <a:srgbClr val="000000"/>
                </a:solidFill>
                <a:latin typeface="Calibri"/>
              </a:rPr>
              <a:t>: Maintenance worker using ungrounded portable electric drill to repair equipment in assembly area is electrocuted. </a:t>
            </a:r>
            <a:r>
              <a:rPr b="0" lang="en-US" sz="1400" spc="-1" strike="noStrike">
                <a:solidFill>
                  <a:srgbClr val="0000ff"/>
                </a:solidFill>
                <a:latin typeface="Calibri"/>
              </a:rPr>
              <a:t>Date of death: August 4</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0/August 7</a:t>
            </a:r>
            <a:r>
              <a:rPr b="0" lang="en-US" sz="1400" spc="-1" strike="noStrike">
                <a:solidFill>
                  <a:srgbClr val="000000"/>
                </a:solidFill>
                <a:latin typeface="Calibri"/>
              </a:rPr>
              <a:t>: Loaded pallet in loading dock area falls from forklift on dock- worker’s left foot; worker examined in hospital emergency room and X ray revealed no fractures or other injuries; worker receives therapy and goes home;    worker reports back to his regular job on time the next day and wears his company-issued safety sho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1/August 9</a:t>
            </a:r>
            <a:r>
              <a:rPr b="0" lang="en-US" sz="1400" spc="-1" strike="noStrike">
                <a:solidFill>
                  <a:srgbClr val="000000"/>
                </a:solidFill>
                <a:latin typeface="Calibri"/>
              </a:rPr>
              <a:t>: Maintenance worker in the tool room incurs injury from foreign object in the eye; irrigation method used to remove foreign object, worker returns to regular job.</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2/September 11</a:t>
            </a:r>
            <a:r>
              <a:rPr b="0" lang="en-US" sz="1400" spc="-1" strike="noStrike">
                <a:solidFill>
                  <a:srgbClr val="000000"/>
                </a:solidFill>
                <a:latin typeface="Calibri"/>
              </a:rPr>
              <a:t>: Worker in final assembly diagnosed with carpal tunnel syndrome (CTS) from repetitive work; surgery prescribed; worker misses three weeks of work before returning to regular job with engineering improvements to the works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28600" y="152280"/>
            <a:ext cx="8686800" cy="6477120"/>
          </a:xfrm>
          <a:prstGeom prst="rect">
            <a:avLst/>
          </a:prstGeom>
          <a:noFill/>
          <a:ln w="0">
            <a:noFill/>
          </a:ln>
        </p:spPr>
        <p:txBody>
          <a:bodyPr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Calibri"/>
              </a:rPr>
              <a:t>ANALYSIS</a:t>
            </a:r>
            <a:endParaRPr b="0" lang="en-US" sz="1600" spc="-1" strike="noStrike">
              <a:solidFill>
                <a:srgbClr val="000000"/>
              </a:solidFill>
              <a:latin typeface="Calibri"/>
            </a:endParaRPr>
          </a:p>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irst step is to complete the OSHA 300 Log of Occupational Injuries and Illness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a:t>
            </a:r>
            <a:r>
              <a:rPr b="0" lang="en-US" sz="1500" spc="-1" strike="noStrike">
                <a:solidFill>
                  <a:srgbClr val="000000"/>
                </a:solidFill>
                <a:latin typeface="Calibri"/>
              </a:rPr>
              <a:t> The key word is “first aid.”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2</a:t>
            </a:r>
            <a:r>
              <a:rPr b="0" lang="en-US" sz="1500" spc="-1" strike="noStrike">
                <a:solidFill>
                  <a:srgbClr val="000000"/>
                </a:solidFill>
                <a:latin typeface="Calibri"/>
              </a:rPr>
              <a:t> This is a lost-workdays injury case. Do not count the date of injury (Tuesday). Do not count Thursday either because the worker returned to work at the regular time. Only one day was los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3</a:t>
            </a:r>
            <a:r>
              <a:rPr b="0" lang="en-US" sz="1500" spc="-1" strike="noStrike">
                <a:solidFill>
                  <a:srgbClr val="000000"/>
                </a:solidFill>
                <a:latin typeface="Calibri"/>
              </a:rPr>
              <a:t> This case is not recordable. The worker felt “ill,” but there was no medical treatment, and although the worker left work one afternoon. The worker returned to work on time the next day, so no lost time is counte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4</a:t>
            </a:r>
            <a:r>
              <a:rPr b="0" lang="en-US" sz="1500" spc="-1" strike="noStrike">
                <a:solidFill>
                  <a:srgbClr val="000000"/>
                </a:solidFill>
                <a:latin typeface="Calibri"/>
              </a:rPr>
              <a:t> This is a recordable injury, as the X ray was positive, revealing a fracture, which is always recordable. The worker returned to her regular work at the regular time the next day, however, so no time was los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5</a:t>
            </a:r>
            <a:r>
              <a:rPr b="0" lang="en-US" sz="1500" spc="-1" strike="noStrike">
                <a:solidFill>
                  <a:srgbClr val="000000"/>
                </a:solidFill>
                <a:latin typeface="Calibri"/>
              </a:rPr>
              <a:t>  This is a lost time injury. Even though the worker returned to work, he was assigned to a different job, so OSHA’s position is that the days at the restricted work activity count as lost workday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6</a:t>
            </a:r>
            <a:r>
              <a:rPr b="0" lang="en-US" sz="1500" spc="-1" strike="noStrike">
                <a:solidFill>
                  <a:srgbClr val="000000"/>
                </a:solidFill>
                <a:latin typeface="Calibri"/>
              </a:rPr>
              <a:t>  Unlike File 4, the X ray in this case was negative. Since there was no fracture and no medical treatment and the worker returned to the same job the next day on time,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7</a:t>
            </a:r>
            <a:r>
              <a:rPr b="0" lang="en-US" sz="1500" spc="-1" strike="noStrike">
                <a:solidFill>
                  <a:srgbClr val="000000"/>
                </a:solidFill>
                <a:latin typeface="Calibri"/>
              </a:rPr>
              <a:t>  Poison ivy from on-the-job exposure is classified as an occupational illness and is identified “Skin Disorde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8</a:t>
            </a:r>
            <a:r>
              <a:rPr b="0" lang="en-US" sz="1500" spc="-1" strike="noStrike">
                <a:solidFill>
                  <a:srgbClr val="000000"/>
                </a:solidFill>
                <a:latin typeface="Calibri"/>
              </a:rPr>
              <a:t> Incidents occurring off the job are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9</a:t>
            </a:r>
            <a:r>
              <a:rPr b="0" lang="en-US" sz="1500" spc="-1" strike="noStrike">
                <a:solidFill>
                  <a:srgbClr val="000000"/>
                </a:solidFill>
                <a:latin typeface="Calibri"/>
              </a:rPr>
              <a:t> This is an injury-type fatality and should be recorde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0</a:t>
            </a:r>
            <a:r>
              <a:rPr b="0" lang="en-US" sz="1500" spc="-1" strike="noStrike">
                <a:solidFill>
                  <a:srgbClr val="000000"/>
                </a:solidFill>
                <a:latin typeface="Calibri"/>
              </a:rPr>
              <a:t>  The negative X ray and whirlpool therapy during the first visit to medical personnel are both considered first aid not medical  treatment.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1</a:t>
            </a:r>
            <a:r>
              <a:rPr b="0" lang="en-US" sz="1500" spc="-1" strike="noStrike">
                <a:solidFill>
                  <a:srgbClr val="000000"/>
                </a:solidFill>
                <a:latin typeface="Calibri"/>
              </a:rPr>
              <a:t>  Since the irrigation method was used and the object was not embedded in the eye, this eye injury is considered a first-aid case and is thu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2</a:t>
            </a:r>
            <a:r>
              <a:rPr b="0" lang="en-US" sz="1500" spc="-1" strike="noStrike">
                <a:solidFill>
                  <a:srgbClr val="000000"/>
                </a:solidFill>
                <a:latin typeface="Calibri"/>
              </a:rPr>
              <a:t>  Because CTS is due to “repeated motion,” it is classified as a illness. This is a recordable lost time illness. The lost time is in the days-away-from-work categor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228600"/>
            <a:ext cx="8229600" cy="632448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IDENT RECORDS</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rds of incidents and injuries are essential to maintain efficient and successful safety programs, just as records of production, costs, sales, and profits and losses are essential to efficient and successful business opera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s of Records</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ood record-keeping system can help the safety professional in the following ways</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safety personnel with the means for an objective evaluation of their incident problems and with a measurement of the overall progress and effectiveness of their safety program</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high incident rate units, plants, or departments and problem areas so extra effort can be made in those areas</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n analysis of incidents pointing to specific causes or circumstances,  which can then be attacked by specific countermeasures</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interest in safety among supervisors or team leaders by furnishing them with information about their departments' incident experience</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supervisors and safety committees with hard facts about their safety problems so their efforts can be concentrat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effectiveness of individual countermeasur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 management in performance evaluation</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Calculation of Incidence Rat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LWDI (injuries only)  =  ------------------------------ = 0.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3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njury incidence rate = ------------------------------- = 1.2</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llness incidence rate = ------------------------------ = 0.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1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atality incidence rate = ----------------------------- = 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6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Number-of-lost-workdays rate = ---------------------- = 1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pecific-hazard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1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ncidence rate (eye injuries) = ------------------------- = 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6840" y="380880"/>
            <a:ext cx="8458200" cy="6096240"/>
          </a:xfrm>
          <a:prstGeom prst="rect">
            <a:avLst/>
          </a:prstGeom>
          <a:noFill/>
          <a:ln w="0">
            <a:noFill/>
          </a:ln>
        </p:spPr>
        <p:txBody>
          <a:bodyPr anchor="t">
            <a:normAutofit/>
          </a:bodyPr>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Some explanation for the Case Study</a:t>
            </a:r>
            <a:r>
              <a:rPr b="1" lang="en-US" sz="32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WDI is calculated in a prescribed way that excludes all fatalities and all illnesses, regardless of whether time was or was not los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ember that the LWDI is an </a:t>
            </a:r>
            <a:r>
              <a:rPr b="0" lang="en-US" sz="2200" spc="-1" strike="noStrike" u="sng">
                <a:solidFill>
                  <a:srgbClr val="0000ff"/>
                </a:solidFill>
                <a:uFillTx/>
                <a:latin typeface="Calibri"/>
              </a:rPr>
              <a:t>incidence rate</a:t>
            </a:r>
            <a:r>
              <a:rPr b="0" lang="en-US" sz="2200" spc="-1" strike="noStrike">
                <a:solidFill>
                  <a:srgbClr val="000000"/>
                </a:solidFill>
                <a:latin typeface="Calibri"/>
              </a:rPr>
              <a:t> and should not be confused with the number-of-lost-workdays rat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pecific-hazard incidence rate calculation, only one eye injury (File 2) was included in the calculation. The File 11 eye injury satisfied the definition of first aid and thus, as a non recordable injury, was excluded from the calcul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250-employee firm in Case Study provides sufficient data to show meaningful calculations for the various incidence rates. But many firms are much smaller.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very small firms, the calculations are obviously inappropriate. Recognizing that the general injury-illness recordkeeping system was designed for larger firm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380520"/>
            <a:ext cx="8229600" cy="6172200"/>
          </a:xfrm>
          <a:prstGeom prst="rect">
            <a:avLst/>
          </a:prstGeom>
          <a:noFill/>
          <a:ln w="0">
            <a:noFill/>
          </a:ln>
        </p:spPr>
        <p:txBody>
          <a:bodyPr anchor="t">
            <a:normAutofit/>
          </a:bodyPr>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Record-Keeping Systems</a:t>
            </a:r>
            <a:endParaRPr b="0" lang="en-US" sz="24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cident report should accomplish three things: (a) establish all causes contributing to the incident; (b) reveal questions the investigator should ask to determine all environmental and human causes; and (c) provide a means of accumulating incident data</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h a form is more likely to be filled out accurately and will present fewer problems for those who process and analyze the data</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ystem that does a good job of collecting the basic facts, however, makes it easier later on to pinpoint the data relating to a specific proble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the system presented here, which is primarily a manual, paper-based system, there are a number of personal computer-based record-keeping systems available on the market toda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The First Aid Repor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llection of injury data generally begins in the first aid department. The first aid nurse fills out a report for each new cas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ies are sent to the safety department or safety committee, the worker's supervisor, and other departments as management may wish</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457200"/>
            <a:ext cx="8229600" cy="6019920"/>
          </a:xfrm>
          <a:prstGeom prst="rect">
            <a:avLst/>
          </a:prstGeom>
          <a:noFill/>
          <a:ln w="0">
            <a:noFill/>
          </a:ln>
        </p:spPr>
        <p:txBody>
          <a:bodyPr anchor="t">
            <a:normAutofit/>
          </a:bodyPr>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Employee Injury and Illness Record</a:t>
            </a:r>
            <a:endParaRPr b="0" lang="en-US" sz="24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cases are closed, the first aid report and the supervisor's report are filed by source of injury (type of machine, tool, material, etc.), type of event or exposure, or another factor that will facilitate use of the reports for incident prevention</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Filing Reports</a:t>
            </a:r>
            <a:endParaRPr b="0" lang="en-US" sz="24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injury reports have been used to compile monthly summaries, the incomplete reports can be kept in a temporary file for convenient reference as later information about the injuries becomes availab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jury reports are complete, they should be filed in a convenient system that permits quick access of information for special studies of incident condi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the reports can be filed by agency of the injury, by occupation of the injured person, by departmen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mployee injury card should be cross-referenced to the file location of the detailed incident report</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6840" y="304920"/>
            <a:ext cx="8381880" cy="624816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onthly Summary of Injuries and Illnesses</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agers and supervisors should prepare a monthly summary of injuries and illnesses to reveal the current status of incident experience</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onthly summary of injury and illness cases allows for tabulating monthly and cumulative totals and the computation of OSHA incidence rat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form would be filled out on the basis of the individual report forms that were processed during the month or from OSHA form No. 300, Log and Summary of Occupational Injuries and Illnesse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nthly summary should be prepared as soon after the end of each month as the information becomes available but not later than the 20th of the following month</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nual Report</a:t>
            </a:r>
            <a:endParaRPr b="0" lang="en-US" sz="20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 establishment subject to the OSHAct is obliged to post its annual summary by February 1st for 30 days. The cumulative totals on OSHA form No. 300, Log and Summary of Occupational Injuries and Illnesses, serve as the annual report</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management purposes, however, the annual report fulfills a more direct function. Managers and others prepare monthly summaries of injuries and illnesses primarily to show the trend of safety performance during the year</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annual reports are prepared to compare data for the longer periods with the experience of previous years and with the experience of similar organizations and of the industry as a whol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04920"/>
            <a:ext cx="8229600" cy="632448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Uses of Reports</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Calibri"/>
              </a:rPr>
              <a:t>Reports to Management</a:t>
            </a:r>
            <a:endParaRPr b="0" lang="en-US" sz="1800" spc="-1" strike="noStrike">
              <a:solidFill>
                <a:srgbClr val="000000"/>
              </a:solidFill>
              <a:latin typeface="Calibri"/>
            </a:endParaRPr>
          </a:p>
          <a:p>
            <a:pPr marL="343080" indent="-343080"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is increasingly interested in the incident experience of its company. Therefore, monthly and other periodic summary reports showing the results of the safety program should be provided to the responsible executiv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ch reports do not need to contain details or technical language. They can be supplemented by simple charts or graphs to compare current incident rates with those of the previous period and the rates of other companies in the industry</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 large company, departmental data help the executive visualize incident experience in various plant operations and provide a measure for better evaluation of progress made in the elimination of inciden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can be particularly valuable to compare cost figures, if they can be obtained, for different periods</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Bulletins to Supervisors</a:t>
            </a:r>
            <a:endParaRPr b="0" lang="en-US" sz="1800" spc="-1" strike="noStrike">
              <a:solidFill>
                <a:srgbClr val="000000"/>
              </a:solidFill>
              <a:latin typeface="Calibri"/>
            </a:endParaRPr>
          </a:p>
          <a:p>
            <a:pPr marL="343080" indent="-343080"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ervisors are primarily interested in their own department and workers. One of the most effective ways to create and maintain the interest of supervisors in incident prevention is to keep them informed about the incident records of their departmen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artment injury rates based on sufficient amounts of exposure reflect the effectiveness of the supervisors' safety activiti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cause interest increases with knowledge, management can send supervisors bulletins containing analyses of the principal causes of incidents in each departmen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80520"/>
            <a:ext cx="8229600" cy="61722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Bulletin Board Publicit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ing a variety of materials on bulletin boards is one of the best ways to maintain the interest of employees in safe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ident records furnish many items, such as the follow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injury record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usual incident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t causes of incid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ts showing reductions in incid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e tables comparing departmental record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ings in contes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04920"/>
            <a:ext cx="8229600" cy="63244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Employers Subject to the Record-Keeping Requirement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with 11 or more employees (at any one time in the previous calendar year) in the following industries must keep OSHA records. The industries are identified by name and by the appropriate </a:t>
            </a:r>
            <a:r>
              <a:rPr b="0" lang="en-US" sz="1400" spc="-1" strike="noStrike">
                <a:solidFill>
                  <a:srgbClr val="0000ff"/>
                </a:solidFill>
                <a:latin typeface="Calibri"/>
              </a:rPr>
              <a:t>Standard Industrial Classification</a:t>
            </a:r>
            <a:r>
              <a:rPr b="0" lang="en-US" sz="1400" spc="-1" strike="noStrike">
                <a:solidFill>
                  <a:srgbClr val="000000"/>
                </a:solidFill>
                <a:latin typeface="Calibri"/>
              </a:rPr>
              <a:t> (SIC) code:</a:t>
            </a:r>
            <a:endParaRPr b="0" lang="en-US" sz="1400" spc="-1" strike="noStrike">
              <a:solidFill>
                <a:srgbClr val="000000"/>
              </a:solidFill>
              <a:latin typeface="Calibri"/>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forestry, and fishing (SIC 01-02 and 07-0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extraction (SIC 13 and 1477)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on (SIC 15-17)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ing (SIC 20-3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and public utilities (SIC 41-42 and 44-4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sale trade (SIC 50-51)</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materials and garden supplies (SIC 52)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merchandise and food stores (SIC 53 and 54)</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els and other lodging places (SIC 70)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ir services (SIC 75 and 76)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usement and recreation services (SIC 79)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services (SIC 80).</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in other industries are normally exempt from OSHA record keeping, as employers with no more than 10 full-time or part-time employees at any one time in the previous calendar year.</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exempt employers, however, must comply with OSHA standards and display the OSHA poster. They must also report orally to OSHA within eight hours any incident that results in one or more fatalities or the inpatient hospitalization of three or more employe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ollowing employers and individuals never have to keep OSHA injury and illness records:</a:t>
            </a:r>
            <a:endParaRPr b="0" lang="en-US" sz="1400" spc="-1" strike="noStrike">
              <a:solidFill>
                <a:srgbClr val="000000"/>
              </a:solidFill>
              <a:latin typeface="Calibri"/>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employed individuals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s with no employees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of domestics in the employers' private residence for the purpose of housekeeping or child care, or both</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engaged in religious activities concerning the conduct of religious servic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6095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OSHA Record-Keeping Forms</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wo forms are used for OSHA record keeping: No. 300 and No. 101.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The OSHA Injury and illness Log and Summary, OSHA No. 300</a:t>
            </a:r>
            <a:endParaRPr b="0" lang="en-US" sz="1800" spc="-1" strike="noStrike">
              <a:solidFill>
                <a:srgbClr val="000000"/>
              </a:solidFill>
              <a:latin typeface="Calibri"/>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g is used for recording and classifying occupational injuries and illnesses and for noting the extent of each cas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g consists of three parts: a descriptive section that identifies the employee and briefly describes the injury or illness, a section covering the extent of the injuries recorded, and a section on the type and extent of illne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the OSHA No. 300 form is used by employers as their record of occupational injuries and illness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The Supplementary Record of Occupational Injuries and Illnesses, OSHA No. 101</a:t>
            </a:r>
            <a:endParaRPr b="0" lang="en-US" sz="1800" spc="-1" strike="noStrike">
              <a:solidFill>
                <a:srgbClr val="000000"/>
              </a:solidFill>
              <a:latin typeface="Calibri"/>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very injury or illness entered on the log, it is necessary to record additional information on the supplementary record, OSHA No. 101.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liminate duplicate recording, workers' compensation, insurance, or other reports may be used as supplementary records if they contain all of the items on the OSHA No. 101.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4T02:06:59Z</dcterms:created>
  <dc:creator>atahir-h</dc:creator>
  <dc:description/>
  <dc:language>en-US</dc:language>
  <cp:lastModifiedBy>COMPUTER</cp:lastModifiedBy>
  <dcterms:modified xsi:type="dcterms:W3CDTF">2011-11-21T21:58:00Z</dcterms:modified>
  <cp:revision>49</cp:revision>
  <dc:subject/>
  <dc:title>INJURY &amp; ILLNESS RECORD KEEPING AND INCIDENCE RATES</dc:title>
</cp:coreProperties>
</file>