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4C09-CC93-4218-9889-BD318E80A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67D1-FCD0-4CA5-AEFE-B78F7970DB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6901-A3D7-4C3E-BA05-ED3D7619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7E17-DFD3-4599-A130-E2DCD9D7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59A-3E63-4BDC-B2BE-182DC129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C88-90C8-4583-AB9E-997E4A89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2524-7D00-4EE5-8614-F32EC1C0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DBB2-B3D1-4781-802E-E1F5ED79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B6B5-9205-4679-95FC-A256D78A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7BA2-A749-4E75-B22C-C9427044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303C-087B-4E26-8A8B-70729F93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4D54-2FB7-425B-BD87-8B9035FB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BD54-7FC8-4436-8177-8082EAD4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88D-6F2D-41FA-87AD-8C6FCA1D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F3BF-F7AE-44DB-AD4D-58031A7D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1992-C7DB-4DF3-AC42-847ADC6A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401D-2296-49F4-BBB0-39246E64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B745-D80D-42B1-B19F-610657A7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1B14-C764-4D32-898A-6F7E1CE0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21CE0-BE5B-4693-A18D-AE0EED4E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CB385-58E7-4E21-B64C-616F86E9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ECCA2-37B5-4C37-B9CA-A3D4430A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2E040-0C59-4553-9D82-9925D8F9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E93BE-4850-4D3D-BD4D-322D93DE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CBE-256A-4F9E-9EDA-8B7AC0C5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19835-FB0D-433F-9D7C-9E4602C9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87E9B-5F29-489C-90DA-6FCD9441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53DB0-AF43-4F8E-A69F-824A88E8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D04BD-E47A-468A-A618-681BF203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5D566-8410-47AA-BA2D-12480613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5203F-7383-4C29-9688-2AECAA38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7EFFC-56C0-41A6-A0F0-78B5E6EA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A77B0-2B65-4E63-916B-F1F29C99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18EEC-E253-48C5-89D2-32F4E0C3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BA151-9351-4B2E-8878-F74AAAE0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B3B-4EDC-46FE-89FB-AD060493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F9D82-C5A3-46DB-A9A4-DC880958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10BEF-9863-435E-9AEE-1EB199A6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529BE-C4B2-4BA5-B3CF-E911F8C3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3B083-9722-41E7-A463-7F36F3F2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B4B9D-57E9-4071-BF0B-11E737D6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7FB06-90B5-456F-B96B-5F94DA3C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A0330-4794-4DAF-A326-0B69F2CD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58F58-0019-4596-8998-1846978C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7C628-DFAA-4004-B7BB-1ABF12C8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92B87-0A05-4B78-88FA-A57A7ACB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2178-8DC3-493D-AD78-292E4A1C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722F5-A8C0-474A-B0C1-20F6A075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E0591-E1B0-42FE-BE3D-67B9D37C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63A5F-5B1A-4D28-B8A4-CC781F0B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24250-863F-4A1D-BBC1-B0C450F4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0D999-5BCD-4AAA-AB74-3154658F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F961B-5F65-4ED3-82AE-682AE0E3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A588A-B721-4AE4-8B5C-79B14143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DE0B6-B48B-4662-B735-DB79C74B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CCF45-701D-4F02-918F-317EC436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266E3-FF52-4F30-85C8-5294494E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736-1EEE-4F4A-8EA6-6502D9F0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5393D-2421-4E7E-8826-10262E03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8FB9E-C338-414D-AC32-1E39EAF6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C8EAC-3008-4C1B-99F5-D24170D7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BE029-5E47-4E17-8330-EFE9E57D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5DB0B-2680-4D7A-89D7-BC71E00C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D9B40-530B-41DB-B263-C65A0402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B2504-1885-4AAB-8CC6-44A11A62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8A1F8-03AC-49BE-854B-45FF1DBD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1E83D-DBFC-424A-9130-5BF83D7B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7E002-8F79-49DC-874A-B5B1A7AE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0DD6-8774-4372-9AB3-9D7C9B5D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B770B-C2D7-4382-B1F7-CF0FECC2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A66DE-E579-4A9D-9506-BF7C1E95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5C1D8-0855-4557-ACA3-AF0922A3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AFF00-D717-490B-8510-46E88A3B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89FBF-7150-4700-A320-28A81841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9B4B2-74A9-4455-A58B-A8FA6BAF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D450D-B662-4009-BF1B-AE8566D5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71DD6-A8A0-408B-9ECD-DE07C962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0AA93-805C-4BBE-98D3-548674B2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1C726-1018-477D-B81A-E6687381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64F-1302-407D-9A1D-62ABBFC5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5A53A-5F0E-44F5-A349-B1B1598F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909DC-C6D2-4946-B517-CB0041F5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71073-12B6-4439-AD67-48F05E53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3FD8F-E187-4C39-A567-167EF48C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3878C-07D9-4F38-B483-3A57C89C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21B-F46E-4712-AE65-8ADB0AF3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D1A8-A699-417C-96E7-75228CD1A4D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D92A-8D1F-4821-A21F-E5B545E36D3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B517-316C-4D4E-97CA-F0FF0AEF811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EB3F-715C-4458-BD87-E96214CF5F3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A431-2660-4CB2-9E15-EC862C2A054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AE33-ADCC-459D-B17F-C4813AF96EC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33A5-339E-49C2-8818-D1A34C7DF57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914400" y="3286080"/>
            <a:ext cx="7772400" cy="3035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2" descr="http://tbn0.google.com/images?q=tbn:aUqZYfHrzTPN8M:http://www.origen.net/Images/DMSO.Al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</a:t>
            </a:r>
            <a:r>
              <a:rPr b="0" lang="ja-JP" sz="4000" spc="-1" strike="noStrike">
                <a:solidFill>
                  <a:srgbClr val="c1eeff"/>
                </a:solidFill>
                <a:latin typeface="Consolas"/>
              </a:rPr>
              <a:t>”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Personn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arefully train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o will prepare? Pharmacist or technici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oper training in aseptic technique and sterile product information is necessary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4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65240"/>
            <a:ext cx="2427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</a:t>
            </a:r>
            <a:r>
              <a:rPr b="0" lang="ja-JP" sz="4000" spc="-1" strike="noStrike">
                <a:solidFill>
                  <a:srgbClr val="c1eeff"/>
                </a:solidFill>
                <a:latin typeface="Consolas"/>
              </a:rPr>
              <a:t>”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Storage spa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ill depend on the type of system one chooses to us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7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65240"/>
            <a:ext cx="2427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alculations involving 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V admixtur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medication order for  a patient weighing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kg calls fo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of amphotericin B per kg of body weight to be added to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of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dextrose injection. If the amphotericin B is to be obtained from a reconstituted injection that contain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pe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, how many milliliters should be added to the dextrose injection?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0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48560" y="92160"/>
            <a:ext cx="2597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otal quantity needed for the patient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5 x 70 = 17.5 m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Reconstituted solution conta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p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                                            10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                                         X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X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3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  <p:cxnSp>
        <p:nvCxnSpPr>
          <p:cNvPr id="414" name="Straight Arrow Connector 5"/>
          <p:cNvCxnSpPr/>
          <p:nvPr/>
        </p:nvCxnSpPr>
        <p:spPr>
          <a:xfrm>
            <a:off x="3071880" y="4214880"/>
            <a:ext cx="228672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15" name="Straight Arrow Connector 7"/>
          <p:cNvCxnSpPr/>
          <p:nvPr/>
        </p:nvCxnSpPr>
        <p:spPr>
          <a:xfrm>
            <a:off x="3071880" y="5214960"/>
            <a:ext cx="228672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 intravenous infusion is to contai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potassium ion an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sodium ion in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of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dextrose injection. Using an injection of potassium chloride containing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pe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an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injection of sodium chloride, how many milliliters of each should be used to supply the required ion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will be supplied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will supplied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NaC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4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17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g 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18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g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18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                                             X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X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59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803320"/>
          </a:xfrm>
          <a:prstGeom prst="rect">
            <a:avLst/>
          </a:prstGeom>
          <a:ln w="0">
            <a:noFill/>
          </a:ln>
        </p:spPr>
      </p:pic>
      <p:cxnSp>
        <p:nvCxnSpPr>
          <p:cNvPr id="422" name="Straight Arrow Connector 6"/>
          <p:cNvCxnSpPr/>
          <p:nvPr/>
        </p:nvCxnSpPr>
        <p:spPr>
          <a:xfrm>
            <a:off x="2642760" y="3929040"/>
            <a:ext cx="214380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23" name="Straight Arrow Connector 7"/>
          <p:cNvCxnSpPr/>
          <p:nvPr/>
        </p:nvCxnSpPr>
        <p:spPr>
          <a:xfrm>
            <a:off x="2642760" y="4428720"/>
            <a:ext cx="214380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</a:t>
            </a:r>
            <a:r>
              <a:rPr b="0" lang="ja-JP" sz="4000" spc="-1" strike="noStrike">
                <a:solidFill>
                  <a:srgbClr val="c1eeff"/>
                </a:solidFill>
                <a:latin typeface="Consolas"/>
              </a:rPr>
              <a:t>”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mEq of NaCl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8.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NaCl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7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o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7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7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                                     X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426" name="Straight Arrow Connector 4"/>
          <p:cNvCxnSpPr/>
          <p:nvPr/>
        </p:nvCxnSpPr>
        <p:spPr>
          <a:xfrm>
            <a:off x="3071880" y="3785760"/>
            <a:ext cx="171504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27" name="Straight Arrow Connector 7"/>
          <p:cNvCxnSpPr/>
          <p:nvPr/>
        </p:nvCxnSpPr>
        <p:spPr>
          <a:xfrm>
            <a:off x="3071880" y="4285800"/>
            <a:ext cx="171504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pic>
        <p:nvPicPr>
          <p:cNvPr id="42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157176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e following is a formula for a desired TPN solution. Using the source of each drug as indicated, Calculate the amount of each component required in preparing solution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PN solu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rmula                                       Component Source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a) Sodium Chloride 35 mEq                                   Vial, 5 mEq per 2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b) Potassium Acetate 35 mEq                               Vial, 10 mEq pre 5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c) Magnesium Sulphate 8 mEq                            Vial, 4 mEq per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d) Calcium Gluconte 9.6 mEq                               Vial, 4.7 mEq per 1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E) Potassium Chloride 5 mEq                               Vial, 40 mEq per 2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f) Folic Acid 1.7 mg                                                    Ampul, 5 mg  per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g) Multple vitamin infusion 10 ml                       Ampul, 1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To be added to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Amino Acid Infusion (8.5 %)                            50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Dextrose injection (50 %)                                 50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: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71468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c)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14 ml.                                    X= 2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b)                                                  (d)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17.5 ml                                   X= 20.4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f)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2.5 ml                                      X= 0.34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g) 10 ml.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4" name="Picture 2" descr="http://tbn0.google.com/images?q=tbn:aUqZYfHrzTPN8M:http://www.origen.net/Images/DMSO.All.jpg"/>
          <p:cNvPicPr/>
          <p:nvPr/>
        </p:nvPicPr>
        <p:blipFill>
          <a:blip r:embed="rId1"/>
          <a:stretch/>
        </p:blipFill>
        <p:spPr>
          <a:xfrm>
            <a:off x="6510240" y="92160"/>
            <a:ext cx="2597400" cy="22176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1" descr=""/>
          <p:cNvPicPr/>
          <p:nvPr/>
        </p:nvPicPr>
        <p:blipFill>
          <a:blip r:embed="rId2"/>
          <a:stretch/>
        </p:blipFill>
        <p:spPr>
          <a:xfrm>
            <a:off x="1714680" y="2000160"/>
            <a:ext cx="2000160" cy="64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7" name="Rectangle 3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3"/>
          <a:stretch/>
        </p:blipFill>
        <p:spPr>
          <a:xfrm>
            <a:off x="1643040" y="3571920"/>
            <a:ext cx="1895400" cy="60948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6" descr=""/>
          <p:cNvPicPr/>
          <p:nvPr/>
        </p:nvPicPr>
        <p:blipFill>
          <a:blip r:embed="rId4"/>
          <a:stretch/>
        </p:blipFill>
        <p:spPr>
          <a:xfrm>
            <a:off x="5357880" y="2071800"/>
            <a:ext cx="1771560" cy="6094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8" descr=""/>
          <p:cNvPicPr/>
          <p:nvPr/>
        </p:nvPicPr>
        <p:blipFill>
          <a:blip r:embed="rId5"/>
          <a:stretch/>
        </p:blipFill>
        <p:spPr>
          <a:xfrm>
            <a:off x="5429160" y="3571920"/>
            <a:ext cx="2067120" cy="60948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10" descr=""/>
          <p:cNvPicPr/>
          <p:nvPr/>
        </p:nvPicPr>
        <p:blipFill>
          <a:blip r:embed="rId6"/>
          <a:stretch/>
        </p:blipFill>
        <p:spPr>
          <a:xfrm>
            <a:off x="1571760" y="4857840"/>
            <a:ext cx="201924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12" descr=""/>
          <p:cNvPicPr/>
          <p:nvPr/>
        </p:nvPicPr>
        <p:blipFill>
          <a:blip r:embed="rId7"/>
          <a:stretch/>
        </p:blipFill>
        <p:spPr>
          <a:xfrm>
            <a:off x="5500800" y="4857840"/>
            <a:ext cx="19429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 medication order calls for 1000 ml of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rbe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 to be administered over an 8-hour period. Using an IV administration set which delivers 10 drops per ml, how many drops per minute should be delivered to the patient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l.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Volume of fluid = 1000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8 hour =  480 minut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000/ 480  = 2.1 ml per mi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2.1 ml/min x 10 (drops per ml) = 21 drops/minut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0" name="Picture 2" descr="http://tbn0.google.com/images?q=tbn:aUqZYfHrzTPN8M:http://www.origen.net/Images/DMSO.All.jpg"/>
          <p:cNvPicPr/>
          <p:nvPr/>
        </p:nvPicPr>
        <p:blipFill>
          <a:blip r:embed="rId1"/>
          <a:stretch/>
        </p:blipFill>
        <p:spPr>
          <a:xfrm>
            <a:off x="6510240" y="92160"/>
            <a:ext cx="25974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troduction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92852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preparation of parenteral admixture usually involves the addition of one or more drugs to large volume solutions such as intravenous and nutrients fluid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92160"/>
            <a:ext cx="25909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End,,,,,,,,,,,,,,,,,,,,,,,,,,,,,,,,,,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troduction: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eparation are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olici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ersonn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orage spa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mixture syst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65240"/>
            <a:ext cx="2427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</a:t>
            </a:r>
            <a:r>
              <a:rPr b="0" lang="ja-JP" sz="4000" spc="-1" strike="noStrike">
                <a:solidFill>
                  <a:srgbClr val="c1eeff"/>
                </a:solidFill>
                <a:latin typeface="Consolas"/>
              </a:rPr>
              <a:t>’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Preparation are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deally in separate room in the pharmacy </a:t>
            </a:r>
            <a:r>
              <a:rPr b="0" lang="ja-JP" sz="3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ean room</a:t>
            </a:r>
            <a:r>
              <a:rPr b="0" lang="ja-JP" sz="3000" spc="-1" strike="noStrike">
                <a:solidFill>
                  <a:srgbClr val="ffffff"/>
                </a:solidFill>
                <a:latin typeface="Corbe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ze var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</a:t>
            </a:r>
            <a:r>
              <a:rPr b="0" lang="ja-JP" sz="4000" spc="-1" strike="noStrike">
                <a:solidFill>
                  <a:srgbClr val="c1eeff"/>
                </a:solidFill>
                <a:latin typeface="Consolas"/>
              </a:rPr>
              <a:t>”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uidelines for preparing parenteral products should be outlines in the pharmacy</a:t>
            </a:r>
            <a:r>
              <a:rPr b="0" lang="ja-JP" sz="2800" spc="-1" strike="noStrike">
                <a:solidFill>
                  <a:srgbClr val="ffffff"/>
                </a:solidFill>
                <a:latin typeface="Corbe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 policy and procedure manua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etailed information regarding preparation, labeling, storage and expiration dating of parenteral products should be readily available in the pharmac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se policy help to provide quality control for the parenteral product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65240"/>
            <a:ext cx="2427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</a:t>
            </a:r>
            <a:r>
              <a:rPr b="0" lang="ja-JP" sz="4000" spc="-1" strike="noStrike">
                <a:solidFill>
                  <a:srgbClr val="c1eeff"/>
                </a:solidFill>
                <a:latin typeface="Consolas"/>
              </a:rPr>
              <a:t>”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tabili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ut in your mind that stability is affected by place, environmental condition, diluent used to administer the product, other drugs that may be mixed wi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ability and sterility! Gives the expiration da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785880"/>
            <a:ext cx="2547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</a:t>
            </a:r>
            <a:r>
              <a:rPr b="0" lang="ja-JP" sz="4000" spc="-1" strike="noStrike">
                <a:solidFill>
                  <a:srgbClr val="c1eeff"/>
                </a:solidFill>
                <a:latin typeface="Consolas"/>
              </a:rPr>
              <a:t>”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incompatibilit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hysical: visible change e.g. precipit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emical: may or not visible change, deterioration or inactivation of an active ingredien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rapeutic: drug-drug or drug-disease interaction that lead to potentiating of drug effect, drug toxicity, deterioration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5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65240"/>
            <a:ext cx="2427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</a:t>
            </a:r>
            <a:r>
              <a:rPr b="0" lang="ja-JP" sz="4000" spc="-1" strike="noStrike">
                <a:solidFill>
                  <a:srgbClr val="c1eeff"/>
                </a:solidFill>
                <a:latin typeface="Consolas"/>
              </a:rPr>
              <a:t>”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Aseptic Techniqu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ethod of handling sterile products, a sterile parenteral dosage form is free from living microorganisms, particulate matter, and pyrogen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45360" y="165240"/>
            <a:ext cx="2427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</a:t>
            </a:r>
            <a:r>
              <a:rPr b="0" lang="ja-JP" sz="4000" spc="-1" strike="noStrike">
                <a:solidFill>
                  <a:srgbClr val="c1eeff"/>
                </a:solidFill>
                <a:latin typeface="Consolas"/>
              </a:rPr>
              <a:t>”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Labeling and check syst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viewed against the patient</a:t>
            </a:r>
            <a:r>
              <a:rPr b="0" lang="ja-JP" sz="3000" spc="-1" strike="noStrike">
                <a:solidFill>
                  <a:srgbClr val="ffffff"/>
                </a:solidFill>
                <a:latin typeface="Corbel"/>
              </a:rPr>
              <a:t>’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 current medication profil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65240"/>
            <a:ext cx="2427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4:22:49Z</dcterms:created>
  <dc:creator>FeRaS</dc:creator>
  <dc:description/>
  <dc:language>en-US</dc:language>
  <cp:lastModifiedBy>ADEL ALHOWYAN</cp:lastModifiedBy>
  <dcterms:modified xsi:type="dcterms:W3CDTF">2013-02-02T12:04:33Z</dcterms:modified>
  <cp:revision>18</cp:revision>
  <dc:subject/>
  <dc:title>IV Admixture</dc:title>
</cp:coreProperties>
</file>