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0AA5-F7EE-42EB-BFEA-0D4B30D2F6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41A2-B41B-43DA-965B-5D09B4A6682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6207-B12E-4ECE-9E26-0D58E0FF2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D8E3-7767-47A5-BF5D-41E42FC3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76C3-467D-4627-A7B0-E9539571D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29ED-4918-4171-AF42-EC667358C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B2F8-E926-45E2-9D58-80F8AF23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86AE-1B33-4498-9427-F056EB84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3F81-F7F2-4837-AAE2-91DAED8C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EB91-0AF1-4E14-98EC-C5C587EE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4BFC-ADC1-4280-8204-A076B6CA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4BA1-19BB-411B-B3FB-81706027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1EA9-1A5C-4710-AFDF-11FB4AE5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F8A9-23BE-4F2E-8DA6-335C0C65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37A4-016C-4DF3-B5CE-4FD181B8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00AC-0EC5-4F81-9ADA-48C267F0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D378-44E5-496C-A6E7-A4DDC1A8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E5D2-96E9-4F38-888E-15B586D8E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3E65-14C3-4314-A059-99DC66242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56AC7-9644-462D-BB2D-3419C5BE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155A5-86FE-45A7-BDF4-F2C67C6F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F453B-102E-42FC-A315-87344D86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8EC8B-379C-48BB-85C3-91F233A2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D9423-BFD5-46C1-8488-B424C107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3F40-4FF2-4FDC-BF31-20F418A2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E70FB-BF32-4E28-BC59-C64CB3CA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7033F-B5B6-4843-A220-A7587270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6C55F-7F89-44DC-9E81-5E203649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0372E-BA3E-4CC6-B34B-C67773B5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49C90-7B4B-4B5D-8A4F-70E4F2B3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9EAA0-FDB0-4AAD-B098-75C391041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4D9C5-459B-42D1-9F9C-52C275F05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3067C-E4BE-4AC4-8D4D-283F32CAF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DA420-AB17-49E1-ABA2-443F5937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8F893-E409-486E-AF6B-F9C15AB9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5D40-5AF4-48D3-85C3-14E16D1C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8628C-8B3B-456D-A86C-A03933A5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B88E5-535F-419D-89C9-03FC7450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CE0D4-0BE8-4A7B-B9A5-3FD16853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C0F4F-87F7-4EF8-9269-DBA9B0E1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31EE8-4301-4BEF-B36B-08BC613B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F84F4-1249-4517-949E-68C12D90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101AC-A459-4317-BD27-120D27DE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F9CBF-CDA7-41E7-B7E8-D6A5EB352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44BA9-00F8-47F2-9724-1834B2845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A2AD6-910A-41E1-B455-015C86EE2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B3AD-89A3-43D3-8B22-D8CD7D4E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02371-6D08-4728-A5FC-14CD307E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C8086-0CA6-4810-85BC-D58241D6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0C1A2-52F3-41A9-B895-27E3C70A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1B15D-3F08-40F5-B68A-429A1EA6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47933-56BD-419D-B070-03FDF492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4B777-E375-40F8-B12F-4CC70FD3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A5CA8-8BE6-4BFC-B757-44D91486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ADAB2-E86B-4975-9AB3-08078562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40C86-E870-4CCB-BD25-CE0308B7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E5280-7C22-4F01-899C-6A47FD9B2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9D07-A409-4FC8-BA0B-613C02B5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2BA08-A292-4F3A-A62F-7B610B81E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2422D-216B-4567-9F70-FF55194B4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567DE-E68B-4F61-8765-C30FE6F7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867F9-7AD9-4B14-A364-A712797C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D3F47-8210-431F-9EF6-2B93C033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C37AC-7D13-4521-ABF4-B8212375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2E349-AC6E-4B5F-8A43-D5788C7B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E2AA2-D692-45A3-9EF8-EE56295D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8C10C-E325-4C41-ACCE-41772A1B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52831-13FB-4FC8-823D-CC845CA4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77AC-2CCC-4263-AAC7-791DA4CF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B6918-9B70-4ADB-8801-56658835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C2256-EB45-4845-A2FB-86F2E467B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0F83C-D6B9-4981-8158-E3CCF108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D6682-4F7E-4AE1-8E7B-AA5926B9E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BD6AB-611C-4D64-ACD3-B58648A0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53520-E3AD-42BB-AA1F-43BC8ABD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F46C3-6A2D-4882-86AC-47AB4542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86BBB-4785-487B-86AD-53478D6F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76AEA-5432-4085-B66D-6869405D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A2360-E9BF-47B7-BD09-5D309FBB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608D-F519-4BA8-8038-B6541EF6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11F8C-244B-42FC-9B78-F6B434C9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75EBD-C624-4816-A529-BC75A4F5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7F6FD-E11B-4EB7-9433-EE2A090B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DB11D-7AC1-4A40-B2FF-B27CEDE86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65E3B-8A95-48F2-B124-EA2437A7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5E23-A2F3-4433-BF31-4846FF96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1EB6-B728-4555-B097-FA44138B1EE2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3384-8E3B-451E-94AE-96F1E0B96DA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B8CA-2CBE-4561-9F6F-85B4F5AE2605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4AC5-87EA-4607-906F-3E0DD46A134A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3F49-878E-4032-85F0-B9F4F0034140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889D-5720-4A52-9828-3451C56B222C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C03B-083F-4B36-A5FE-38AAC4582D42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914400" y="3286080"/>
            <a:ext cx="7772400" cy="3035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Picture 2" descr="http://tbn0.google.com/images?q=tbn:aUqZYfHrzTPN8M:http://www.origen.net/Images/DMSO.All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10240" y="92160"/>
            <a:ext cx="25974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</a:t>
            </a:r>
            <a:r>
              <a:rPr b="0" lang="ja-JP" sz="4000" spc="-1" strike="noStrike">
                <a:solidFill>
                  <a:srgbClr val="c1eeff"/>
                </a:solidFill>
                <a:latin typeface="Consolas"/>
              </a:rPr>
              <a:t>”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rbel"/>
              </a:rPr>
              <a:t>Components of an IV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Corbel"/>
              </a:rPr>
              <a:t>Personn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arefully train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ho will prepare? Pharmacist or technicia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oper training in aseptic technique and sterile product information is necessary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4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9480" y="165240"/>
            <a:ext cx="242712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</a:t>
            </a:r>
            <a:r>
              <a:rPr b="0" lang="ja-JP" sz="4000" spc="-1" strike="noStrike">
                <a:solidFill>
                  <a:srgbClr val="c1eeff"/>
                </a:solidFill>
                <a:latin typeface="Consolas"/>
              </a:rPr>
              <a:t>”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rbel"/>
              </a:rPr>
              <a:t>Components of an IV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Corbel"/>
              </a:rPr>
              <a:t>Storage spa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ill depend on the type of system one chooses to us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7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9480" y="165240"/>
            <a:ext cx="242712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alculations involving </a:t>
            </a:r>
            <a:br>
              <a:rPr sz="4000"/>
            </a:b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V admixture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xamples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    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medication order for  a patient weighing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kg calls for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25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g of amphotericin B per kg of body weight to be added to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l of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% dextrose injection. If the amphotericin B is to be obtained from a reconstituted injection that contain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g per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l, how many milliliters should be added to the dextrose injection?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0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48560" y="92160"/>
            <a:ext cx="25970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ol.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otal quantity needed for the patient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25 x 70 = 17.5 m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Reconstituted solution conta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mg p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m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mg                                             10 m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.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mg                                          X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X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m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3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0240" y="92160"/>
            <a:ext cx="2597400" cy="3029040"/>
          </a:xfrm>
          <a:prstGeom prst="rect">
            <a:avLst/>
          </a:prstGeom>
          <a:ln w="0">
            <a:noFill/>
          </a:ln>
        </p:spPr>
      </p:pic>
      <p:cxnSp>
        <p:nvCxnSpPr>
          <p:cNvPr id="414" name="Straight Arrow Connector 5"/>
          <p:cNvCxnSpPr/>
          <p:nvPr/>
        </p:nvCxnSpPr>
        <p:spPr>
          <a:xfrm>
            <a:off x="3071880" y="4214880"/>
            <a:ext cx="2286720" cy="216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415" name="Straight Arrow Connector 7"/>
          <p:cNvCxnSpPr/>
          <p:nvPr/>
        </p:nvCxnSpPr>
        <p:spPr>
          <a:xfrm>
            <a:off x="3071880" y="5214960"/>
            <a:ext cx="2286720" cy="216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: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n intravenous infusion is to contain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Eq of potassium ion and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Eq of sodium ion in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l of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% dextrose injection. Using an injection of potassium chloride containing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g per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l and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9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% injection of sodium chloride, how many milliliters of each should be used to supply the required ions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8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0240" y="92160"/>
            <a:ext cx="25974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ol.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Eq of 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will be supplied b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Eq of KC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Eq of N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will supplied b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Eq of NaC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Eq of KCl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4.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g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Eq of Kcl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17.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g o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18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g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g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0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m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18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g                                             X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X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59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1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0240" y="92160"/>
            <a:ext cx="2597400" cy="2803320"/>
          </a:xfrm>
          <a:prstGeom prst="rect">
            <a:avLst/>
          </a:prstGeom>
          <a:ln w="0">
            <a:noFill/>
          </a:ln>
        </p:spPr>
      </p:pic>
      <p:cxnSp>
        <p:nvCxnSpPr>
          <p:cNvPr id="422" name="Straight Arrow Connector 6"/>
          <p:cNvCxnSpPr/>
          <p:nvPr/>
        </p:nvCxnSpPr>
        <p:spPr>
          <a:xfrm>
            <a:off x="2642760" y="3929040"/>
            <a:ext cx="2143800" cy="216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423" name="Straight Arrow Connector 7"/>
          <p:cNvCxnSpPr/>
          <p:nvPr/>
        </p:nvCxnSpPr>
        <p:spPr>
          <a:xfrm>
            <a:off x="2642760" y="4428720"/>
            <a:ext cx="2143800" cy="252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</a:t>
            </a:r>
            <a:r>
              <a:rPr b="0" lang="ja-JP" sz="4000" spc="-1" strike="noStrike">
                <a:solidFill>
                  <a:srgbClr val="c1eeff"/>
                </a:solidFill>
                <a:latin typeface="Consolas"/>
              </a:rPr>
              <a:t>”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mEq of NaCl =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8.5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Eq of NaCl =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7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g or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7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9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g                                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7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g                                      X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X =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l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cxnSp>
        <p:nvCxnSpPr>
          <p:cNvPr id="426" name="Straight Arrow Connector 4"/>
          <p:cNvCxnSpPr/>
          <p:nvPr/>
        </p:nvCxnSpPr>
        <p:spPr>
          <a:xfrm>
            <a:off x="3071880" y="3785760"/>
            <a:ext cx="1715040" cy="252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427" name="Straight Arrow Connector 7"/>
          <p:cNvCxnSpPr/>
          <p:nvPr/>
        </p:nvCxnSpPr>
        <p:spPr>
          <a:xfrm>
            <a:off x="3071880" y="4285800"/>
            <a:ext cx="1715040" cy="252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pic>
        <p:nvPicPr>
          <p:cNvPr id="428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0240" y="92160"/>
            <a:ext cx="259740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914400" y="1571760"/>
            <a:ext cx="77724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e following is a formula for a desired TPN solution. Using the source of each drug as indicated, Calculate the amount of each component required in preparing solution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PN solutio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         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rmula                                       Component Source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a) Sodium Chloride 35 mEq                                   Vial, 5 mEq per 2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b) Potassium Acetate 35 mEq                               Vial, 10 mEq pre 5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c) Magnesium Sulphate 8 mEq                            Vial, 4 mEq per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d) Calcium Gluconte 9.6 mEq                               Vial, 4.7 mEq per 10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E) Potassium Chloride 5 mEq                               Vial, 40 mEq per 20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f) Folic Acid 1.7 mg                                                    Ampul, 5 mg  per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g) Multple vitamin infusion 10 ml                       Ampul, 10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       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To be added to: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       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Amino Acid Infusion (8.5 %)                            500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       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Dextrose injection (50 %)                                 500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1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0240" y="92160"/>
            <a:ext cx="259740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ol.: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71468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59080" indent="-4932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                                    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(c)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X= 14 ml.                                    X= 2 m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(b)                                                  (d)  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X= 17.5 ml                                   X= 20.4 m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                                     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(f)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X= 2.5 ml                                      X= 0.34 m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(g) 10 ml.      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4" name="Picture 2" descr="http://tbn0.google.com/images?q=tbn:aUqZYfHrzTPN8M:http://www.origen.net/Images/DMSO.All.jpg"/>
          <p:cNvPicPr/>
          <p:nvPr/>
        </p:nvPicPr>
        <p:blipFill>
          <a:blip r:embed="rId1"/>
          <a:stretch/>
        </p:blipFill>
        <p:spPr>
          <a:xfrm>
            <a:off x="6510240" y="92160"/>
            <a:ext cx="2597400" cy="22176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Picture 1" descr=""/>
          <p:cNvPicPr/>
          <p:nvPr/>
        </p:nvPicPr>
        <p:blipFill>
          <a:blip r:embed="rId2"/>
          <a:stretch/>
        </p:blipFill>
        <p:spPr>
          <a:xfrm>
            <a:off x="1714680" y="2000160"/>
            <a:ext cx="2000160" cy="64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7" name="Rectangle 3"/>
          <p:cNvSpPr/>
          <p:nvPr/>
        </p:nvSpPr>
        <p:spPr>
          <a:xfrm>
            <a:off x="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Picture 4" descr=""/>
          <p:cNvPicPr/>
          <p:nvPr/>
        </p:nvPicPr>
        <p:blipFill>
          <a:blip r:embed="rId3"/>
          <a:stretch/>
        </p:blipFill>
        <p:spPr>
          <a:xfrm>
            <a:off x="1643040" y="3571920"/>
            <a:ext cx="1895400" cy="60948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Picture 6" descr=""/>
          <p:cNvPicPr/>
          <p:nvPr/>
        </p:nvPicPr>
        <p:blipFill>
          <a:blip r:embed="rId4"/>
          <a:stretch/>
        </p:blipFill>
        <p:spPr>
          <a:xfrm>
            <a:off x="5357880" y="2071800"/>
            <a:ext cx="1771560" cy="60948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8" descr=""/>
          <p:cNvPicPr/>
          <p:nvPr/>
        </p:nvPicPr>
        <p:blipFill>
          <a:blip r:embed="rId5"/>
          <a:stretch/>
        </p:blipFill>
        <p:spPr>
          <a:xfrm>
            <a:off x="5429160" y="3571920"/>
            <a:ext cx="2067120" cy="60948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5" name="Picture 10" descr=""/>
          <p:cNvPicPr/>
          <p:nvPr/>
        </p:nvPicPr>
        <p:blipFill>
          <a:blip r:embed="rId6"/>
          <a:stretch/>
        </p:blipFill>
        <p:spPr>
          <a:xfrm>
            <a:off x="1571760" y="4857840"/>
            <a:ext cx="2019240" cy="60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Picture 12" descr=""/>
          <p:cNvPicPr/>
          <p:nvPr/>
        </p:nvPicPr>
        <p:blipFill>
          <a:blip r:embed="rId7"/>
          <a:stretch/>
        </p:blipFill>
        <p:spPr>
          <a:xfrm>
            <a:off x="5500800" y="4857840"/>
            <a:ext cx="19429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914400" y="1784160"/>
            <a:ext cx="77724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 medication order calls for 1000 ml of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rbe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 to be administered over an 8-hour period. Using an IV administration set which delivers 10 drops per ml, how many drops per minute should be delivered to the patient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ol.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Volume of fluid = 1000 m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8 hour =  480 minut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1000/ 480  = 2.1 ml per mi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2.1 ml/min x 10 (drops per ml) = 21 drops/minut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50" name="Picture 2" descr="http://tbn0.google.com/images?q=tbn:aUqZYfHrzTPN8M:http://www.origen.net/Images/DMSO.All.jpg"/>
          <p:cNvPicPr/>
          <p:nvPr/>
        </p:nvPicPr>
        <p:blipFill>
          <a:blip r:embed="rId1"/>
          <a:stretch/>
        </p:blipFill>
        <p:spPr>
          <a:xfrm>
            <a:off x="6510240" y="92160"/>
            <a:ext cx="259740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ntroduction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928520"/>
            <a:ext cx="77724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preparation of parenteral admixture usually involves the addition of one or more drugs to large volume solutions such as intravenous and nutrients fluids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0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92160"/>
            <a:ext cx="259092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      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End,,,,,,,,,,,,,,,,,,,,,,,,,,,,,,,,,,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ntroduction: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rbel"/>
              </a:rPr>
              <a:t>Components of an IV program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eparation are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olicies and procedur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ersonn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torage spa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dmixture system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3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9480" y="165240"/>
            <a:ext cx="242712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</a:t>
            </a:r>
            <a:r>
              <a:rPr b="0" lang="ja-JP" sz="4000" spc="-1" strike="noStrike">
                <a:solidFill>
                  <a:srgbClr val="c1eeff"/>
                </a:solidFill>
                <a:latin typeface="Consolas"/>
              </a:rPr>
              <a:t>’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rbel"/>
              </a:rPr>
              <a:t>Components of an IV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Corbel"/>
              </a:rPr>
              <a:t>Preparation are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deally in separate room in the pharmacy </a:t>
            </a:r>
            <a:r>
              <a:rPr b="0" lang="ja-JP" sz="30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ean room</a:t>
            </a:r>
            <a:r>
              <a:rPr b="0" lang="ja-JP" sz="3000" spc="-1" strike="noStrike">
                <a:solidFill>
                  <a:srgbClr val="ffffff"/>
                </a:solidFill>
                <a:latin typeface="Corbel"/>
              </a:rPr>
              <a:t>”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ze var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6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0240" y="92160"/>
            <a:ext cx="25974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</a:t>
            </a:r>
            <a:r>
              <a:rPr b="0" lang="ja-JP" sz="4000" spc="-1" strike="noStrike">
                <a:solidFill>
                  <a:srgbClr val="c1eeff"/>
                </a:solidFill>
                <a:latin typeface="Consolas"/>
              </a:rPr>
              <a:t>”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rbel"/>
              </a:rPr>
              <a:t>Components of an IV program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orbel"/>
              </a:rPr>
              <a:t>Polices and procedur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Guidelines for preparing parenteral products should be outlines in the pharmacy</a:t>
            </a:r>
            <a:r>
              <a:rPr b="0" lang="ja-JP" sz="2800" spc="-1" strike="noStrike">
                <a:solidFill>
                  <a:srgbClr val="ffffff"/>
                </a:solidFill>
                <a:latin typeface="Corbe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 policy and procedure manual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Detailed information regarding preparation, labeling, storage and expiration dating of parenteral products should be readily available in the pharmac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se policy help to provide quality control for the parenteral product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9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9480" y="165240"/>
            <a:ext cx="242712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</a:t>
            </a:r>
            <a:r>
              <a:rPr b="0" lang="ja-JP" sz="4000" spc="-1" strike="noStrike">
                <a:solidFill>
                  <a:srgbClr val="c1eeff"/>
                </a:solidFill>
                <a:latin typeface="Consolas"/>
              </a:rPr>
              <a:t>”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rbel"/>
              </a:rPr>
              <a:t>Components of an IV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Corbel"/>
              </a:rPr>
              <a:t>Polices and procedur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Stabilit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ut in your mind that stability is affected by place, environmental condition, diluent used to administer the product, other drugs that may be mixed with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tability and sterility! Gives the expiration dat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2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43760" y="785880"/>
            <a:ext cx="25477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</a:t>
            </a:r>
            <a:r>
              <a:rPr b="0" lang="ja-JP" sz="4000" spc="-1" strike="noStrike">
                <a:solidFill>
                  <a:srgbClr val="c1eeff"/>
                </a:solidFill>
                <a:latin typeface="Consolas"/>
              </a:rPr>
              <a:t>”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rbel"/>
              </a:rPr>
              <a:t>Components of an IV program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orbel"/>
              </a:rPr>
              <a:t>Polices and procedur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rbel"/>
              </a:rPr>
              <a:t>incompatibilit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hysical: visible change e.g. precipitatio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hemical: may or not visible change, deterioration or inactivation of an active ingredient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rapeutic: drug-drug or drug-disease interaction that lead to potentiating of drug effect, drug toxicity, deterioration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5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9480" y="165240"/>
            <a:ext cx="242712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</a:t>
            </a:r>
            <a:r>
              <a:rPr b="0" lang="ja-JP" sz="4000" spc="-1" strike="noStrike">
                <a:solidFill>
                  <a:srgbClr val="c1eeff"/>
                </a:solidFill>
                <a:latin typeface="Consolas"/>
              </a:rPr>
              <a:t>”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rbel"/>
              </a:rPr>
              <a:t>Components of an IV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Corbel"/>
              </a:rPr>
              <a:t>Polices and procedur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Aseptic Techniqu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ethod of handling sterile products, a sterile parenteral dosage form is free from living microorganisms, particulate matter, and pyrogen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8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45360" y="165240"/>
            <a:ext cx="242712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</a:t>
            </a:r>
            <a:r>
              <a:rPr b="0" lang="ja-JP" sz="4000" spc="-1" strike="noStrike">
                <a:solidFill>
                  <a:srgbClr val="c1eeff"/>
                </a:solidFill>
                <a:latin typeface="Consolas"/>
              </a:rPr>
              <a:t>”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rbel"/>
              </a:rPr>
              <a:t>Components of an IV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Corbel"/>
              </a:rPr>
              <a:t>Polices and procedur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Labeling and check system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viewed against the patient</a:t>
            </a:r>
            <a:r>
              <a:rPr b="0" lang="ja-JP" sz="3000" spc="-1" strike="noStrike">
                <a:solidFill>
                  <a:srgbClr val="ffffff"/>
                </a:solidFill>
                <a:latin typeface="Corbel"/>
              </a:rPr>
              <a:t>’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 current medication profil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1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9480" y="165240"/>
            <a:ext cx="242712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7T14:22:49Z</dcterms:created>
  <dc:creator>FeRaS</dc:creator>
  <dc:description/>
  <dc:language>en-US</dc:language>
  <cp:lastModifiedBy>ADEL ALHOWYAN</cp:lastModifiedBy>
  <dcterms:modified xsi:type="dcterms:W3CDTF">2013-02-02T12:04:33Z</dcterms:modified>
  <cp:revision>18</cp:revision>
  <dc:subject/>
  <dc:title>IV Admixture</dc:title>
</cp:coreProperties>
</file>