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055-8921-40DF-BB10-DBE52085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17D-90B0-48FF-9823-ECAB9D6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CD1-3540-4A8B-BDDC-97AB21E8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603-B6BD-45A2-823A-3D291B42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EEF4-910C-4168-A8C6-C62FD021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07E-26D8-4811-A6DF-FB2E0B4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467E-68E0-4899-9644-39564A4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503E-5EFE-4522-80E1-5B5D4023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FFAF-9D46-4AFF-9F0D-334091D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9ED-3061-4F7D-A690-1918733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4C8-09E5-45DF-B945-DCB06D9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344-F89E-4E26-A867-20410C7B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0855-BE5D-42B9-8DB7-A1B72BC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710F-1F20-41DE-B071-FA53BEE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0750-512C-4612-8785-FC19369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7909-00A6-4A11-B25E-1D9253CB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A920-87E5-4C2F-BE05-9CC78B9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BB8-BA5A-4F71-98AE-98A7A1A7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FF2-EE7B-4DAE-87B3-85DD7A40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A8-92EC-4197-899B-FCB9E60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40F-882A-42F2-B578-C6EF2AF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2C8-04A0-45A1-BF9D-26CD2B5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FD3-D5B4-4F77-A106-D567F24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9BC-0A5E-4BE6-8B6E-E1A80B9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FEE-3A5D-40DF-8E21-C85E239135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B42A-7EEE-419A-B180-7E76B60EE1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diom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ioms are groups of words with a special meaning that is quite different from the meaning of the individual word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to be on the b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really has nothing to do with a ball or being on top of one. It means that someone is very industrious, intelligent and organize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an say that idioms’ mean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opa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transparent. Since idioms are widely used in English but their meanings are nearly impossible to guess or infer from contex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e a short presentation on idioms beginning with a personal experience relating to that idiom, then the idiom and the definition of it, and finally a conclu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2:39:41Z</dcterms:created>
  <dc:creator>VAIO</dc:creator>
  <dc:description/>
  <dc:language>en-US</dc:language>
  <cp:lastModifiedBy>VAIO</cp:lastModifiedBy>
  <dcterms:modified xsi:type="dcterms:W3CDTF">2012-03-03T03:04:29Z</dcterms:modified>
  <cp:revision>4</cp:revision>
  <dc:subject/>
  <dc:title>Idioms</dc:title>
</cp:coreProperties>
</file>