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B8A-E28C-4D22-BCD8-080ED946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523-BB4B-4D82-9DC9-AF25DDC8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6C7-398D-4223-8165-62F607B0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1B8-2AB8-4DC7-93EE-E16B0EDE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562-87DB-47C6-B9D2-1950A0E1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509E-FC1F-4FA5-A909-CC65DFF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E531-EF33-4608-A536-4D7C89C6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D53-16C1-4717-973C-15951156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3135-8DB5-418A-A1E2-95717980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F3EF-CE76-43AC-A32B-A828A0EA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A88-A9E0-4D43-8AD5-EC42688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DA9-60B7-40C2-B469-414B112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92E6-AF68-4F5C-9DA7-99BCE0C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B8ED-1A7C-414F-8A23-BCF14A9C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4C36-0FA3-44D8-AD43-C666BE1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C0D4-EBAD-46F8-93AD-20483B7E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5685-F701-43E7-920E-8FEF3E70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260-8F98-4CCE-A732-7B9514B4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235-0DCC-404C-9E8A-A2DE750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740-6EDF-4EED-BF75-051A7ABB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B52-7822-475A-B81D-2E69D58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F77-9254-4FC2-AC8E-EFC8871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56F-BD96-4241-918C-6EA1B96A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FEE-5EB6-4E53-A0C0-6FFCEB56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0F48-2A47-4FE8-AFC2-CE38698F52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F44C-CFAB-4B4E-9004-2A99F3A469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dio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ioms are groups of words with a special meaning that is quite different from the meaning of the individual word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to be on the b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really has nothing to do with a ball or being on top of one. It means that someone is very industrious, intelligent and organize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an say that idioms’ mean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opa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transparent. Since idioms are widely used in English but their meanings are nearly impossible to guess or infer from contex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e a short presentation on idioms beginning with a personal experience relating to that idiom, then the idiom and the definition of it, and finally a conclu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2:39:41Z</dcterms:created>
  <dc:creator>VAIO</dc:creator>
  <dc:description/>
  <dc:language>en-US</dc:language>
  <cp:lastModifiedBy>VAIO</cp:lastModifiedBy>
  <dcterms:modified xsi:type="dcterms:W3CDTF">2012-03-03T03:04:29Z</dcterms:modified>
  <cp:revision>4</cp:revision>
  <dc:subject/>
  <dc:title>Idioms</dc:title>
</cp:coreProperties>
</file>