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DA21-9CB6-4047-84C0-9B73D14EE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0E4A-4BD6-4D68-985A-F361F4436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0AB1-840A-466D-A371-66CD8EEE2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FB9F-9808-4467-BD03-BEAD72689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36826-A7DA-4968-BDF0-8AFB63F4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CF1D5-CE7C-40D9-A06B-DA0317A3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9CB93-8731-47F4-B45C-0687CC1E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73C76-9388-4FC4-916F-AFBD5586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75901-6344-4587-AB17-4413969B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B127E-8E15-44F8-AB5B-B9E965F5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15A31-8E2B-4D2E-AC48-CF94252E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0EAE8-DD67-4375-9BCD-50E8E46EB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057F7-9A35-48FB-9FC2-B3306F41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1E81B-8D25-4341-A67C-49C06D80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F403E-F79F-4E93-BD04-FAB28F0E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65E31-5EF9-464F-985A-52FCA6A5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D28A9-FD48-4C7D-91D6-2A6B5D05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0460-AEA0-4901-8121-FD97A93C8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4502-422B-4273-BBBE-92DC3CC2B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2612-DD4D-4FA6-8858-BDEBF33B5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FC88-D457-49EF-8DEB-53F262C3C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D33B-AC38-427F-925B-F8BCBA655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8B61-2A29-4B96-9823-5D465992A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087F-997B-4711-AAFB-044B8A1B3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05C5-F6D4-407B-B1D3-49A800947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40000"/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0963-2A6F-4799-BAAF-EC8C58DEA7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239760" y="121932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x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han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ystals too small to see by 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haner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see the constituent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e grained- &lt; 1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um grained- 1-5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rse grained- 5-50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arse grained- &gt; 50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rphyr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modal grain siz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lassy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 crystals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28600" y="60958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1a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#1 for plotting a point with the components: 70% X, 20% Y, and 10% Z on triangular diagram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Fig 2-1a"/>
          <p:cNvPicPr/>
          <p:nvPr/>
        </p:nvPicPr>
        <p:blipFill>
          <a:blip r:embed="rId1"/>
          <a:stretch/>
        </p:blipFill>
        <p:spPr>
          <a:xfrm>
            <a:off x="2031840" y="1054080"/>
            <a:ext cx="50803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52280" y="6019920"/>
            <a:ext cx="899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1b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#2 for plotting a point with the components: 70% X, 20% Y, and 10% Z on triangular diagram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8" descr="Fig 2-1b"/>
          <p:cNvPicPr/>
          <p:nvPr/>
        </p:nvPicPr>
        <p:blipFill>
          <a:blip r:embed="rId1"/>
          <a:stretch/>
        </p:blipFill>
        <p:spPr>
          <a:xfrm>
            <a:off x="1905120" y="1116000"/>
            <a:ext cx="5562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28" descr="Fig 2-2a.jpg"/>
          <p:cNvPicPr/>
          <p:nvPr/>
        </p:nvPicPr>
        <p:blipFill>
          <a:blip r:embed="rId1"/>
          <a:stretch/>
        </p:blipFill>
        <p:spPr>
          <a:xfrm>
            <a:off x="2743200" y="0"/>
            <a:ext cx="62564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525780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gure 2.2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lassification of the phaneritic igneous rocks: Phaneritic rocks with more than 10% (quartz + feldspar + feldspathoids)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92" name="Picture 47" descr="Fig 2-2b.jpg"/>
          <p:cNvPicPr/>
          <p:nvPr/>
        </p:nvPicPr>
        <p:blipFill>
          <a:blip r:embed="rId1"/>
          <a:stretch/>
        </p:blipFill>
        <p:spPr>
          <a:xfrm>
            <a:off x="1600200" y="914400"/>
            <a:ext cx="5715000" cy="47052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438280" y="5791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2b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of the phaneritic igneous rocks: Gabbro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438280" y="5791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2c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of the phaneritic igneous rocks: Ultramaf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Fig 2-2c.jpg"/>
          <p:cNvPicPr/>
          <p:nvPr/>
        </p:nvPicPr>
        <p:blipFill>
          <a:blip r:embed="rId1"/>
          <a:stretch/>
        </p:blipFill>
        <p:spPr>
          <a:xfrm>
            <a:off x="1238400" y="1343160"/>
            <a:ext cx="66672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0880" y="4495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3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and nomenclature of volcanic rocks. After IUG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Fig 2-3.jpg"/>
          <p:cNvPicPr/>
          <p:nvPr/>
        </p:nvPicPr>
        <p:blipFill>
          <a:blip r:embed="rId1"/>
          <a:stretch/>
        </p:blipFill>
        <p:spPr>
          <a:xfrm>
            <a:off x="4495680" y="0"/>
            <a:ext cx="41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617220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4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hemical classification of volcanics based on total alkalis vs. silica. After Le Maitre (2002) . Igneous Rocks: A Classification and Glossary of Terms. Cambridge University Pre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Fig-2-4Color.jpg"/>
          <p:cNvPicPr/>
          <p:nvPr/>
        </p:nvPicPr>
        <p:blipFill>
          <a:blip r:embed="rId1"/>
          <a:stretch/>
        </p:blipFill>
        <p:spPr>
          <a:xfrm>
            <a:off x="1219320" y="717480"/>
            <a:ext cx="641664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586584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5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the pyroclastic rocks. After Fisher (1966) Earth Sci. Rev.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87-298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8" descr="Fig-2-5NewColor"/>
          <p:cNvPicPr/>
          <p:nvPr/>
        </p:nvPicPr>
        <p:blipFill>
          <a:blip r:embed="rId1"/>
          <a:stretch/>
        </p:blipFill>
        <p:spPr>
          <a:xfrm>
            <a:off x="1523880" y="838080"/>
            <a:ext cx="5715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John D Winter</dc:creator>
  <dc:description/>
  <dc:language>en-US</dc:language>
  <cp:lastModifiedBy>Dell</cp:lastModifiedBy>
  <dcterms:modified xsi:type="dcterms:W3CDTF">2011-06-27T16:29:07Z</dcterms:modified>
  <cp:revision>140</cp:revision>
  <dc:subject/>
  <dc:title>Chapter 2- Classification of Igneous ROcks</dc:title>
</cp:coreProperties>
</file>