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A0274-CAE6-42B9-8486-A45B0A51B5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97B81-6129-4BDE-B142-4B15E8D151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C1FE1-B40D-4D1A-89AE-BB84D63E83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9AEB4-B6DB-4F77-9156-76848A6B8C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445886-65BC-4E53-ADB0-079E92AA8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0D2AA-1997-4A96-ACF1-AE1F9FEC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26AAAC-CDC8-471B-AD84-56AAC543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D9B1A-67CC-4D15-80FF-884FCBB9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597FD-8646-4E5A-9F28-07D11E67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4065F-30B6-4CAA-86D0-8578C52B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359C3-149C-40BD-AB7A-B3934000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DE61F-0423-4C2E-8BB5-C1C166AECB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B96A9-3A27-45BF-B1A4-F80EBF8E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DA89D-5F6B-4889-846C-FE201EC9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D886A-E3FF-4C32-835D-0B3A761F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3B98D-1972-4386-A485-B6D1826D0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97B892-8FC0-46BA-B62C-F4C2BEAD0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75982-D3A8-4553-A8B6-700848EC76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6419F-B0C4-4173-AD5E-EBDFCFBF06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17E63-456F-4BC8-89ED-CC48F95E57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51F91-F7C0-42E9-A219-104058A6D6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9A4AF-63C7-4DC1-B750-E896F90FCB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E7744-92F0-4A0B-BA69-5D9CDE0061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96A0D-7F68-45AF-901F-D2E1555DBA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D752-FEC5-4B2E-A937-DA01A55D2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40000"/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7C7E-6087-4914-A830-2041EAB92FE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239760" y="1219320"/>
            <a:ext cx="8351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extur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571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phanitic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rystals too small to see by ey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571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haneritic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see the constituent miner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e grained- &lt; 1 mm di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um grained- 1-5 mm di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arse grained- 5-50 mm di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coarse grained- &gt; 50 mm di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571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orphyritic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imodal grain size distrib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571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lassy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 crystals for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28600" y="609588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1a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 #1 for plotting a point with the components: 70% X, 20% Y, and 10% Z on triangular diagram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 Introduction to Igneous and Metamorphic Petrology, John Winter, Prentice Hal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Fig 2-1a"/>
          <p:cNvPicPr/>
          <p:nvPr/>
        </p:nvPicPr>
        <p:blipFill>
          <a:blip r:embed="rId1"/>
          <a:stretch/>
        </p:blipFill>
        <p:spPr>
          <a:xfrm>
            <a:off x="2031840" y="1054080"/>
            <a:ext cx="508032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52280" y="6019920"/>
            <a:ext cx="899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1b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#2 for plotting a point with the components: 70% X, 20% Y, and 10% Z on triangular diagram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 Introduction to Igneous and Metamorphic Petrology, John Winter, Prentice Hal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8" descr="Fig 2-1b"/>
          <p:cNvPicPr/>
          <p:nvPr/>
        </p:nvPicPr>
        <p:blipFill>
          <a:blip r:embed="rId1"/>
          <a:stretch/>
        </p:blipFill>
        <p:spPr>
          <a:xfrm>
            <a:off x="1905120" y="1116000"/>
            <a:ext cx="556236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28" descr="Fig 2-2a.jpg"/>
          <p:cNvPicPr/>
          <p:nvPr/>
        </p:nvPicPr>
        <p:blipFill>
          <a:blip r:embed="rId1"/>
          <a:stretch/>
        </p:blipFill>
        <p:spPr>
          <a:xfrm>
            <a:off x="2743200" y="0"/>
            <a:ext cx="625644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35812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28600" y="5257800"/>
            <a:ext cx="502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gure 2.2a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classification of the phaneritic igneous rocks: Phaneritic rocks with more than 10% (quartz + feldspar + feldspathoids). After IUG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pic>
        <p:nvPicPr>
          <p:cNvPr id="92" name="Picture 47" descr="Fig 2-2b.jpg"/>
          <p:cNvPicPr/>
          <p:nvPr/>
        </p:nvPicPr>
        <p:blipFill>
          <a:blip r:embed="rId1"/>
          <a:stretch/>
        </p:blipFill>
        <p:spPr>
          <a:xfrm>
            <a:off x="1600200" y="914400"/>
            <a:ext cx="5715000" cy="47052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2438280" y="5791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2b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assification of the phaneritic igneous rocks: Gabbroic rocks. After IUG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438280" y="5791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2c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assification of the phaneritic igneous rocks: Ultramafic rocks. After IUG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Fig 2-2c.jpg"/>
          <p:cNvPicPr/>
          <p:nvPr/>
        </p:nvPicPr>
        <p:blipFill>
          <a:blip r:embed="rId1"/>
          <a:stretch/>
        </p:blipFill>
        <p:spPr>
          <a:xfrm>
            <a:off x="1238400" y="1343160"/>
            <a:ext cx="666720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9528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80880" y="449568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3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assification and nomenclature of volcanic rocks. After IUGS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4" descr="Fig 2-3.jpg"/>
          <p:cNvPicPr/>
          <p:nvPr/>
        </p:nvPicPr>
        <p:blipFill>
          <a:blip r:embed="rId1"/>
          <a:stretch/>
        </p:blipFill>
        <p:spPr>
          <a:xfrm>
            <a:off x="4495680" y="0"/>
            <a:ext cx="418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6172200"/>
            <a:ext cx="845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4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hemical classification of volcanics based on total alkalis vs. silica. After Le Maitre (2002) . Igneous Rocks: A Classification and Glossary of Terms. Cambridge University Pres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Fig-2-4Color.jpg"/>
          <p:cNvPicPr/>
          <p:nvPr/>
        </p:nvPicPr>
        <p:blipFill>
          <a:blip r:embed="rId1"/>
          <a:stretch/>
        </p:blipFill>
        <p:spPr>
          <a:xfrm>
            <a:off x="1219320" y="717480"/>
            <a:ext cx="6416640" cy="55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586584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5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fication of the pyroclastic rocks. After Fisher (1966) Earth Sci. Rev.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87-298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38" descr="Fig-2-5NewColor"/>
          <p:cNvPicPr/>
          <p:nvPr/>
        </p:nvPicPr>
        <p:blipFill>
          <a:blip r:embed="rId1"/>
          <a:stretch/>
        </p:blipFill>
        <p:spPr>
          <a:xfrm>
            <a:off x="1523880" y="838080"/>
            <a:ext cx="571500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27:28Z</dcterms:created>
  <dc:creator>John D Winter</dc:creator>
  <dc:description/>
  <dc:language>en-US</dc:language>
  <cp:lastModifiedBy>Dell</cp:lastModifiedBy>
  <dcterms:modified xsi:type="dcterms:W3CDTF">2011-06-27T16:29:07Z</dcterms:modified>
  <cp:revision>140</cp:revision>
  <dc:subject/>
  <dc:title>Chapter 2- Classification of Igneous ROcks</dc:title>
</cp:coreProperties>
</file>