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F067-01AC-45C6-B347-053153030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02B0-5410-462D-A932-73588FE26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024A-84D1-46DC-907E-30E80F9F6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F467-0D01-4420-8331-A13C5C4C0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6D14F-1374-499F-A542-F553E392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35BEF-5032-4AE0-964D-6061DD4C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1E5CE-9B85-4CB6-BA5E-93E60870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256D9-3601-402C-9DBF-01768AB3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49BD5-1809-4FA9-96CC-B761987E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988AA-A896-4117-AA04-CF78CA88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2A7BA-B090-40BD-8124-27188023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C9B2-1A16-4034-B1EA-6CA842E46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B5DC2-DD41-4758-B589-9BE765A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8B0E6-E514-4596-8E4E-24A66AE6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B6594-AD4D-4E1C-AF4C-B26ACD25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C25B7-120F-4CA8-A02F-A0C483C3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F9C0A-B73F-459B-9918-703F27D2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2F5F-771B-4FA0-8CDF-CB3DFA8C2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56ED-7D52-4FEE-ABD3-A8DE945BB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45F2-7FA0-49C4-9FD5-DC3B08532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6B6C-1271-42B0-A8E5-6D0E61AC5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6047-0462-4BC7-9B6A-1399A38E5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BE16-5F1B-441C-86C4-F72BEFC7A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8049-058C-4160-884C-63FDE6E34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939F-38E8-4E9E-A411-D96CF05FD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40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D34F-EAD3-4DAC-9189-11050E16F6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239760" y="121932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ex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han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ystals too small to see by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hane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see the constituent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e grained- &lt; 1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um grained- 1-5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rse grained- 5-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coarse grained- &gt; 50 mm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rphyritic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modal grain size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lassy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 crystals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60958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a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#1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Fig 2-1a"/>
          <p:cNvPicPr/>
          <p:nvPr/>
        </p:nvPicPr>
        <p:blipFill>
          <a:blip r:embed="rId1"/>
          <a:stretch/>
        </p:blipFill>
        <p:spPr>
          <a:xfrm>
            <a:off x="2031840" y="1054080"/>
            <a:ext cx="50803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52280" y="6019920"/>
            <a:ext cx="899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1b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#2 for plotting a point with the components: 70% X, 20% Y, and 10% Z on triangular diagrams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8" descr="Fig 2-1b"/>
          <p:cNvPicPr/>
          <p:nvPr/>
        </p:nvPicPr>
        <p:blipFill>
          <a:blip r:embed="rId1"/>
          <a:stretch/>
        </p:blipFill>
        <p:spPr>
          <a:xfrm>
            <a:off x="1905120" y="1116000"/>
            <a:ext cx="5562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28" descr="Fig 2-2a.jpg"/>
          <p:cNvPicPr/>
          <p:nvPr/>
        </p:nvPicPr>
        <p:blipFill>
          <a:blip r:embed="rId1"/>
          <a:stretch/>
        </p:blipFill>
        <p:spPr>
          <a:xfrm>
            <a:off x="2743200" y="0"/>
            <a:ext cx="62564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52578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gure 2.2a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lassification of the phaneritic igneous rocks: Phaneritic rocks with more than 10% (quartz + feldspar + feldspathoids)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92" name="Picture 47" descr="Fig 2-2b.jpg"/>
          <p:cNvPicPr/>
          <p:nvPr/>
        </p:nvPicPr>
        <p:blipFill>
          <a:blip r:embed="rId1"/>
          <a:stretch/>
        </p:blipFill>
        <p:spPr>
          <a:xfrm>
            <a:off x="1600200" y="914400"/>
            <a:ext cx="5715000" cy="4705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b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Gabbro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438280" y="5791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2c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of the phaneritic igneous rocks: Ultramaf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Fig 2-2c.jpg"/>
          <p:cNvPicPr/>
          <p:nvPr/>
        </p:nvPicPr>
        <p:blipFill>
          <a:blip r:embed="rId1"/>
          <a:stretch/>
        </p:blipFill>
        <p:spPr>
          <a:xfrm>
            <a:off x="1238400" y="1343160"/>
            <a:ext cx="66672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0880" y="4495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3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ification and nomenclature of volcanic rocks. After IUG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Fig 2-3.jpg"/>
          <p:cNvPicPr/>
          <p:nvPr/>
        </p:nvPicPr>
        <p:blipFill>
          <a:blip r:embed="rId1"/>
          <a:stretch/>
        </p:blipFill>
        <p:spPr>
          <a:xfrm>
            <a:off x="4495680" y="0"/>
            <a:ext cx="41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617220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4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emical classification of volcanics based on total alkalis vs. silica. After Le Maitre (2002) . Igneous Rocks: A Classification and Glossary of Terms. Cambridge University Pre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Fig-2-4Color.jpg"/>
          <p:cNvPicPr/>
          <p:nvPr/>
        </p:nvPicPr>
        <p:blipFill>
          <a:blip r:embed="rId1"/>
          <a:stretch/>
        </p:blipFill>
        <p:spPr>
          <a:xfrm>
            <a:off x="1219320" y="717480"/>
            <a:ext cx="641664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586584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.5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the pyroclastic rocks. After Fisher (1966) Earth Sci. Rev.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87-29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8" descr="Fig-2-5NewColor"/>
          <p:cNvPicPr/>
          <p:nvPr/>
        </p:nvPicPr>
        <p:blipFill>
          <a:blip r:embed="rId1"/>
          <a:stretch/>
        </p:blipFill>
        <p:spPr>
          <a:xfrm>
            <a:off x="1523880" y="838080"/>
            <a:ext cx="5715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John D Winter</dc:creator>
  <dc:description/>
  <dc:language>en-US</dc:language>
  <cp:lastModifiedBy>Dell</cp:lastModifiedBy>
  <dcterms:modified xsi:type="dcterms:W3CDTF">2011-06-27T16:29:07Z</dcterms:modified>
  <cp:revision>140</cp:revision>
  <dc:subject/>
  <dc:title>Chapter 2- Classification of Igneous ROcks</dc:title>
</cp:coreProperties>
</file>