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05BB-FBB0-4CCC-88C3-52715B5C0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5146-95BB-4595-B53E-EAB9176AC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13C02-9EA8-47EE-852E-874B58387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3F522-A7F3-4263-B8C8-128E0173F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FC5E6-D5CE-41F2-AE1A-B1FD8BD3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A5483-08DD-49F1-882C-1193D065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E3475-6931-4427-8DDF-C6C9510D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70F5D-17A4-4F94-97F8-2ECE447F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893E8-189D-4B9F-8F1F-3CDE8D5A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8E17D-2C09-4B44-A457-8A05EB3E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84786-C7FD-49A3-8E5B-7AF8ADD8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8F4FD-D5D9-4D33-8094-D049EE6F3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B1C5A-C7C0-4F37-9013-709629A4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F8ABC-057F-4606-BA1D-68E3A4F4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0A0C0-837B-4615-AE47-64924B07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E05F9-8B95-47D1-86F7-B99C6A8C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DEB3C-B542-4453-BCB6-C2F7CADB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2BFC-894B-4D5A-BA17-35EECB514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EBA5-C6C1-452A-AE21-EF0C8CD38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8E446-BFA7-4B39-A240-EE8319B71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234A-89AE-4BC9-AFCD-0309EF6B2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458EF-A184-426B-A8FC-FC7BF1503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0C54-E445-4127-9058-2CEF0FD07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9674-F9B2-4784-939F-CF04F0373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9ABF-C6D0-42B3-BC5C-12F9C66F4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40000"/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0102-D5AE-4848-B1DF-748374E9AD3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239760" y="1219320"/>
            <a:ext cx="835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ext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phanitic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rystals too small to see by e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haneritic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see the constituent mine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e grained- &lt; 1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um grained- 1-5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rse grained- 5-50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coarse grained- &gt; 50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rphyritic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modal grain size dis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lassy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 crystals 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28600" y="609588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1a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#1 for plotting a point with the components: 70% X, 20% Y, and 10% Z on triangular diagram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 Introduction to Igneous and Metamorphic Petrology, John Winter, Prentice H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Fig 2-1a"/>
          <p:cNvPicPr/>
          <p:nvPr/>
        </p:nvPicPr>
        <p:blipFill>
          <a:blip r:embed="rId1"/>
          <a:stretch/>
        </p:blipFill>
        <p:spPr>
          <a:xfrm>
            <a:off x="2031840" y="1054080"/>
            <a:ext cx="508032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52280" y="6019920"/>
            <a:ext cx="899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1b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#2 for plotting a point with the components: 70% X, 20% Y, and 10% Z on triangular diagram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 Introduction to Igneous and Metamorphic Petrology, John Winter, Prentice H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8" descr="Fig 2-1b"/>
          <p:cNvPicPr/>
          <p:nvPr/>
        </p:nvPicPr>
        <p:blipFill>
          <a:blip r:embed="rId1"/>
          <a:stretch/>
        </p:blipFill>
        <p:spPr>
          <a:xfrm>
            <a:off x="1905120" y="1116000"/>
            <a:ext cx="556236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28" descr="Fig 2-2a.jpg"/>
          <p:cNvPicPr/>
          <p:nvPr/>
        </p:nvPicPr>
        <p:blipFill>
          <a:blip r:embed="rId1"/>
          <a:stretch/>
        </p:blipFill>
        <p:spPr>
          <a:xfrm>
            <a:off x="2743200" y="0"/>
            <a:ext cx="62564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28600" y="525780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gure 2.2a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classification of the phaneritic igneous rocks: Phaneritic rocks with more than 10% (quartz + feldspar + feldspathoids)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pic>
        <p:nvPicPr>
          <p:cNvPr id="92" name="Picture 47" descr="Fig 2-2b.jpg"/>
          <p:cNvPicPr/>
          <p:nvPr/>
        </p:nvPicPr>
        <p:blipFill>
          <a:blip r:embed="rId1"/>
          <a:stretch/>
        </p:blipFill>
        <p:spPr>
          <a:xfrm>
            <a:off x="1600200" y="914400"/>
            <a:ext cx="5715000" cy="47052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2438280" y="5791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2b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ification of the phaneritic igneous rocks: Gabbroic rocks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438280" y="5791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2c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ification of the phaneritic igneous rocks: Ultramafic rocks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Fig 2-2c.jpg"/>
          <p:cNvPicPr/>
          <p:nvPr/>
        </p:nvPicPr>
        <p:blipFill>
          <a:blip r:embed="rId1"/>
          <a:stretch/>
        </p:blipFill>
        <p:spPr>
          <a:xfrm>
            <a:off x="1238400" y="1343160"/>
            <a:ext cx="666720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80880" y="44956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3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ification and nomenclature of volcanic rocks. After IUG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Fig 2-3.jpg"/>
          <p:cNvPicPr/>
          <p:nvPr/>
        </p:nvPicPr>
        <p:blipFill>
          <a:blip r:embed="rId1"/>
          <a:stretch/>
        </p:blipFill>
        <p:spPr>
          <a:xfrm>
            <a:off x="4495680" y="0"/>
            <a:ext cx="418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6172200"/>
            <a:ext cx="84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4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hemical classification of volcanics based on total alkalis vs. silica. After Le Maitre (2002) . Igneous Rocks: A Classification and Glossary of Terms. Cambridge University Pres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Fig-2-4Color.jpg"/>
          <p:cNvPicPr/>
          <p:nvPr/>
        </p:nvPicPr>
        <p:blipFill>
          <a:blip r:embed="rId1"/>
          <a:stretch/>
        </p:blipFill>
        <p:spPr>
          <a:xfrm>
            <a:off x="1219320" y="717480"/>
            <a:ext cx="641664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586584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5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the pyroclastic rocks. After Fisher (1966) Earth Sci. Rev.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87-298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38" descr="Fig-2-5NewColor"/>
          <p:cNvPicPr/>
          <p:nvPr/>
        </p:nvPicPr>
        <p:blipFill>
          <a:blip r:embed="rId1"/>
          <a:stretch/>
        </p:blipFill>
        <p:spPr>
          <a:xfrm>
            <a:off x="1523880" y="838080"/>
            <a:ext cx="57150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John D Winter</dc:creator>
  <dc:description/>
  <dc:language>en-US</dc:language>
  <cp:lastModifiedBy>Dell</cp:lastModifiedBy>
  <dcterms:modified xsi:type="dcterms:W3CDTF">2011-06-27T16:29:07Z</dcterms:modified>
  <cp:revision>140</cp:revision>
  <dc:subject/>
  <dc:title>Chapter 2- Classification of Igneous ROcks</dc:title>
</cp:coreProperties>
</file>