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388584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108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1481-87AF-49B8-B1B3-7CC6CD09A3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C1DA-B52E-4763-9127-ED962EE6B59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631E-AF31-4B03-892A-1760B2154F8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DADD-5773-4D35-8A2B-4D6AB4E41DA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4633-1B80-40C2-AB10-8E3862BAA3B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ED66-90E6-4828-B719-10603624799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7AA0-B587-49B9-8101-BCDB8802DFA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B0F9-CE8D-4C9C-A7DE-BD3B6145790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3CEA-40B7-4028-B594-4CD6E768ADB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43AA-D0D8-44E2-830E-0DA81CA4AF9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115D-891A-4F65-9287-C90DFBB255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3E19-7DB4-4360-B9AF-28F15FB09F5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2FA5-5412-400B-B385-FCE8904E8B6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EA9C-ADFF-479F-A9A7-172001FD254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7C75-EF2F-4440-971A-8C512BFF648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9C73-016F-49AF-B2A1-05FB8F06F13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C042-A359-4039-BF7E-5134222F23B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C27D-E6EF-4488-BA15-BDCF66AA4A5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8075-DA79-437B-900B-E72CA8BBEF7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5716-8000-4EFC-AC98-3D5D838585C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EA97-5753-4552-B1D1-A5E6F401251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F8A-B9C6-490E-84A9-DC741E23600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735D-8951-4BE0-98B7-23D8F9E927B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48D0-87F2-4653-8785-8891D7E0A3B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12E7-67D8-4DE9-AB61-67DB283705A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047-397F-4BD4-8F2B-D3FE0A29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22D-FC4A-4A75-8136-65014CA6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7CB-8A83-4323-B9B6-1C77E389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77A-B2AB-495A-82CD-233B2BBF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A34CC-8BA2-4B0F-A33A-6715D0DB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E97F2-A297-4FC0-8B20-ED073C26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A0F00-E98A-43A5-9BAD-DA2AD079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B5785-764D-43F3-B212-EEAE48A2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BC67D-1822-4656-8184-E346E18C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B54FB-9ED3-4BE8-9241-394F9E3E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4611E-23B0-4A71-9100-21C948CF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FB2-3BF3-4B20-A5AF-88E42667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755D4-4EDF-4C2C-8B1F-8F8D0BA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A1D7D-5219-4EC7-BF1D-C0AD668A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F1CAC-B902-44AD-B0ED-DF6638B4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56428-9999-460F-9E92-4F18A8E7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A35E2-06E5-4981-BAD6-A24584CD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5E7-36D5-4B5B-A6A3-75C52DDF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E04-6759-4D4F-84AB-07155E4E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D1D-F7F4-4A6F-86DA-5B43DA96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9B5-EC43-48DC-A582-4E849E71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7D7-A292-4A92-B28F-0DB41B88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3FF-B0FA-46D1-BF73-D2CD1E13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4A2-66BC-4E86-8005-27BA614E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656C-8FEE-45F2-80CB-FED57D1443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EB45-CEB5-44BE-A959-C380E0768B9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Tahoma"/>
              </a:rPr>
              <a:t>Immobility 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etabolic and nutri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reased basal metabolic r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duced gastrointestinal mot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balance in protein synthe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orex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ypoprotein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gative calcium bal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igh protein, calories and fibre  di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itamin and minerals supple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ight bearing exerci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teral and Parenteral supple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Urinary 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st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nal calculi form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incontin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reten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tract infect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urning, positioning and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proving hyd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ianal hygie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on and relaxation of ur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ecal elimina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tip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ecal impa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ll hydr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bulate as much as possi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igh fibre di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Neurosenso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reased motor activ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yperactive sympathetic stimul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reased heart ra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stless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rowsi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rrit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fu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realistic percep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gument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ss of skin turger and elastic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ubitus ulcer form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sychological responses of immobi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cial, emotional and intellectual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lf concept cha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eeling of worthlessness and hopeless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paired decision making and problem solving abiliti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ssure Ulce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impaired in skin integrity resulting from decrease mobility and direct pressure occurring most frequently over bony promin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a wound with a localized area if tissue necr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names: Docubitus ulcer, bed 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sure is the most prominent cau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egrees of mobilit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lete immobility e.g. unconscious pati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tial mobility e.g. patient with fractur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sposing factors increase the possibility of pressure sor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obility and lack of normal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ction and mois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or personal hygie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level of conscious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ce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nutri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unosup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PM_a4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PM_a2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PM_a3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inciples of Pressur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imize the surface ar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istribute body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for pressure rel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tary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ion for lifting/ transfer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 hygiene and skin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hysiological responses of immobilit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usculoskeletal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rdiovascular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spirato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etabolic and nutri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ecal eli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urosenso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gument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usculoskeletal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rease in muscle streng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rease in physical stab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uscle atroph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steopor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iff painful joi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uscle contrac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dy repos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ight beering activiti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dependence in activities of daily liv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tive and passive range of mo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ardiovascular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akness of cardiovascular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tural hypoten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romophlebitis e.g, DV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vement and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 vertical posi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courage normal breathing patter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lastic stock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Respirato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duced gaseous ex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spiratory acid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cumulation of secre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elect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pper respiratory tract inf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neumoni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ep breathing and coughing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aphragmatic abdominal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anging position and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sam Salim</cp:lastModifiedBy>
  <dcterms:modified xsi:type="dcterms:W3CDTF">2009-01-11T23:39:1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