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388584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108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9313-DA01-4E29-A89F-EDEE0F10F61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7537-E97B-4875-823C-791ABF57998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B901-FFD3-4430-A3FF-5812CD1E8C3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AD26-B154-4903-9BDC-DBBAF5939A2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5886-DD34-439A-892E-D4C545CE1EF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1DDD-AB81-4A51-87E9-7683332A05D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1347-9699-4A5C-929D-A78A2588819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ECD2-6FA3-44FC-B140-056DC099843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2CC1-75AA-4077-A0F5-D5992901080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2C20-A8C9-4A25-8CAA-D68527316CF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8651-70AC-4509-BE42-19857955C07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1B66-B150-4696-8275-D2AE55B30D4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E496-4D07-4D3B-B33D-59327551A34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F6D3-CBCE-472F-AEB3-8D5A773E4C7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0D1A-E64D-460D-B7B4-70E50E35936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4D2B-5DCB-44CC-B23E-ADB04F4963B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50EE-020A-442E-B097-158BFC28F8B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D066-D737-4C42-BA9E-2E2AB68D302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4542-7733-4F92-803E-11A5614EC29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C502-F275-4136-83BD-F6E2D8A9D17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4651-3D15-46DE-8429-3A76B12BD31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7EF9-0173-4C56-A79F-B9CA545AEFC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8399-034B-42DB-B40F-4835AC1F7C8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0D64-3C10-4B1D-996E-086C387CEED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144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F61B-0B0E-4B50-9D20-C850AFB85E5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9BC-03E1-4E55-9D67-5C8E4B43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A97-4F89-4932-BF0B-4740649D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3A46-08FD-43C4-96F0-293232CA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01E3-329F-4FA5-AE6F-55582D49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3170D-441C-4033-891E-2ED0F089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87665-6A9A-4332-AE97-6B84B1E3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28AF8-F515-4AAB-913E-FF2ADFD0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F9111-CE42-40DA-B56C-3AAF9104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AB52B-C403-43AB-AACA-0E1E9507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74F54-3466-4F24-B688-BF0BE4AE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8C29C-05D1-4511-8BF4-F41A68D8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9017-B36A-4C37-8BBE-02FD5DC8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A8E8C-21A1-48AC-A10A-1AB50F25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FF085-25E1-4495-982E-983818D2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7ED4A-F96E-4656-9C84-01AEF900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419F8-102F-4DDF-83A6-5392EE3C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8B1B0-DF6F-4A20-80A2-CB52B599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73F-3B9C-4928-86C5-3340DB0A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51FE-D9F5-4601-9038-2F782D54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8B80-61FE-4B11-A304-01F8FFDF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6DF-D696-443A-BA7B-875B26C9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3AD3-9047-42A0-B3F5-EF22316F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311A-757C-4CCB-A2B7-AD8E41A0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30F-5D92-4B5B-9EF2-DD50A2C3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7ABE-5760-4A26-AAD4-8250777FED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0A66-C08B-4330-A704-4610445C6D9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Tahoma"/>
              </a:rPr>
              <a:t>Immobility 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Metabolic and nutritio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creased basal metabolic ra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duced gastrointestinal motil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balance in protein synthe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orex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ypoproteinem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egative calcium bal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igh protein, calories and fibre  die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itamin and minerals suppleme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eight bearing exercis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nteral and Parenteral suppleme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Urinary 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rinary sta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nal calculi form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rinary incontin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rinary reten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rinary tract infectio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urning, positioning and exerc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proving hyd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erianal hygie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osition and relaxation of urin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ecal eliminatio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stip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ecal impac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ell hydr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mbulate as much as possib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igh fibre die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Neurosensory syste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creased motor activ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yperactive sympathetic stimul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creased heart rat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stlessn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rowsin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rritab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fu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nrealistic percep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gumentry syste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ss of skin turger and elastic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cubitus ulcer form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Psychological responses of immobil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ocial, emotional and intellectual 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elf concept cha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eeling of worthlessness and hopeless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paired decision making and problem solving abilitie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essure Ulce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impaired in skin integrity resulting from decrease mobility and direct pressure occurring most frequently over bony promin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is a wound with a localized area if tissue necros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names: Docubitus ulcer, bed s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sure is the most prominent cau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Degrees of mobility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mplete immobility e.g. unconscious pati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artial mobility e.g. patient with fractur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disposing factors increase the possibility of pressure sor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obility and lack of normal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iction and mois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or personal hygie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 level of consciousn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ance 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nutri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unosuppr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PM_a4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PM_a2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PM_a3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inciples of Pressure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ximize the surface ar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istribute body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ining for pressure relie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etary 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ruction for lifting/ transfer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onal hygiene and skin 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Physiological responses of immobilit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usculoskeletal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rdiovascular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spiratory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etabolic and nutri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rinary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ecal elimin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eurosensory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gumentry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Musculoskeletal syste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crease in muscle strengt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crease in physical stabil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uscle atroph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steoporo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iff painful joi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uscle contrac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ody repositio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eight beering activitie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dependence in activities of daily liv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ctive and passive range of mo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Cardiovascular syste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eakness of cardiovascular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ostural hypoten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romophlebitis e.g, DV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vement and exerc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e vertical posi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ncourage normal breathing patter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lastic stock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Respiratory syste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duced gaseous exchan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spiratory acido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ccumulation of secre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electa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pper respiratory tract infe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neumoni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ep breathing and coughing exerc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iaphragmatic abdominal exerc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anging position and exerc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sam Salim</cp:lastModifiedBy>
  <dcterms:modified xsi:type="dcterms:W3CDTF">2009-01-11T23:39:1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