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BF37-72F8-4F1B-8386-D4A81D9DDE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0032-2243-4C22-B746-45F6EACCBA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E1A4-9BB6-4CF4-9EA3-28B3CD6B6D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899-21A1-4CA2-AFC4-6826EB02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412-E5BE-4AD1-9E54-37E3E298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4E7-85D1-471B-B05A-1B79EF0C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E35-FBA4-4161-8434-AC68664D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3527-DDF3-4DC7-8413-5ECE1A98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ED8E-91C0-460C-86CC-E301FE5F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53AE-04B8-42AA-9CA9-62F6B75C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EAE5-219A-4062-82B6-22F5C2E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67AF-99A2-4CF1-BD83-2924B597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A558-BA05-47C5-813C-8B120DD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6FD9-9281-4510-8AA0-E61B8CBE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31F6-C24A-419D-B659-9E00F56A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C94-2F7E-44C3-ACF9-E56D495B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B640-94FE-4DAD-935D-0F0D7DE8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B450-C94B-4C37-809E-4520A1CD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2499-C52F-4196-8B62-D73DEC04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22E9-1121-49FC-BEC7-4624831F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D478-6A0D-4B90-8513-60BE0122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85F-8D94-4E5C-85C5-62404F73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3C3-04D0-4E49-AAE2-B594FDC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AA3-6AC5-4D51-96FF-EAC6D51B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4368-EDC0-43B0-8B2B-1D14597A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DD74-E942-45C2-96B5-E90C7214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590-F2B1-434D-843B-B500D42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5244-419F-4D09-8A6C-033330654884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9EE3-CC1D-4F1E-831B-ADF83D7ADD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6929280" y="65008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741C-220B-43A2-961B-FA46F097D3BD}" type="slidenum">
              <a:rPr b="0" lang="ar-S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D132-2033-42CE-BD6E-2413CBCD426F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BB15-3E13-44A9-93C5-E45D5CEDA88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lonal_selection.svg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en.wikipedia.org/wiki/File:Clonal_selection.sv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5840" y="2785680"/>
            <a:ext cx="8229600" cy="1143000"/>
          </a:xfrm>
          <a:prstGeom prst="rect">
            <a:avLst/>
          </a:prstGeom>
          <a:solidFill>
            <a:srgbClr val="f5e4e3"/>
          </a:solidFill>
          <a:ln w="3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00000"/>
                </a:solidFill>
                <a:latin typeface="comic"/>
              </a:rPr>
              <a:t>Cell  Mediated  Immunit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entral Role of Helper T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:\MEDIA\1421\142130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152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s of T cell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56052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totoxic T (Tc) Cell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oy target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8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C class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gens on the surface of all ce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 host cells that are infected with viruses or bact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and kill cancer ce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and destroy transplanted tissu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two types prote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575"/>
              </a:spcBef>
              <a:buClr>
                <a:srgbClr val="c00000"/>
              </a:buClr>
              <a:buSzPct val="7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rfor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forms pores in target cells, causing lysis of infected cell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ranzymes (serine proteas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2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g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poptosi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stimulating antigen is g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Cytotoxic T Cells Lyse Infected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E:\MEDIA\1421\142131.JPG"/>
          <p:cNvPicPr/>
          <p:nvPr/>
        </p:nvPicPr>
        <p:blipFill>
          <a:blip r:embed="rId1"/>
          <a:stretch/>
        </p:blipFill>
        <p:spPr>
          <a:xfrm>
            <a:off x="0" y="2011320"/>
            <a:ext cx="9144000" cy="347508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28760" y="152280"/>
            <a:ext cx="8286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s of T cells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layed Hypersensitivity T (T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Cel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T helper and a few cytotoxic T cells that are involved in some allergic reactions and rejection of transplanted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Suppressor (Ts) Cel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shut down immune respon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 specialized subpopulation of T cells that act to suppress activation of the immune system and thereby mainta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e system homeostasi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to self-antig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85480" y="228600"/>
            <a:ext cx="8429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specific Cellular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Activated Macrophages: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imulated phagocyte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d by ingestion of anti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and more effective phagoc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d ability to eliminate intracellular bacteria, virus-infected and cancerous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Natural Killer (NK) Cell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ocytes that destroy virus infected and tumor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pecific.  Don’t require antigen stimu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0000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phagocytic, but must contact cell in order to lyse 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2876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lationship Between Cell-Mediated and Humoral Immun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Antibody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Dependent Antigen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y production requires assistance from T helper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phages ingest antigens and present them to 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lls stimulate B cells specific for that antigen to become plasma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s are mainly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tein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viruses, bacteria, foreign red blood cells, and hapten-carrier molecu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-Independent Antigen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y production does not require assistance from T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s are mainly polysaccharides or lipopolysaccharides with repeating subunits (bacterial capsul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er immune response than for T-dependent antige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958160" cy="69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Humoral Response to T Dependent Antige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E:\MEDIA\1421\142132.JPG"/>
          <p:cNvPicPr/>
          <p:nvPr/>
        </p:nvPicPr>
        <p:blipFill>
          <a:blip r:embed="rId1"/>
          <a:srcRect l="0" t="0" r="0" b="45000"/>
          <a:stretch/>
        </p:blipFill>
        <p:spPr>
          <a:xfrm>
            <a:off x="-42840" y="1523880"/>
            <a:ext cx="4309920" cy="4648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E:\MEDIA\1421\142132.JPG"/>
          <p:cNvPicPr/>
          <p:nvPr/>
        </p:nvPicPr>
        <p:blipFill>
          <a:blip r:embed="rId2"/>
          <a:srcRect l="0" t="54000" r="0" b="0"/>
          <a:stretch/>
        </p:blipFill>
        <p:spPr>
          <a:xfrm>
            <a:off x="4572000" y="1881360"/>
            <a:ext cx="4419720" cy="398592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2876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lationship Between Cell-Mediated and Humoral I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Antibody Dependent Cell Mediated Cytotoxi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cell is covered with antibodies, leaving Fc portion sticking outwa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killer and other nonspecific cells that have receptors for Fc region  are stimulated to kill targeted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 organism is lysed by substances secreted by attacking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destroy large organisms that cannot be phagocyto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357192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C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7120" y="928440"/>
            <a:ext cx="8501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CR  is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 heterodimer composed of two transmembrane polypeptide chains, eith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chains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f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chains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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cep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90%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-cell helper function and cytotoxic activ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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T cells recep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ts physiologic role is still uncl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ochemical signals that are triggered in T cells by antigen recognition are transduced not by the T cell receptor itself but by the invariant proteins called CD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3 are noncovalenlty linked to the antigen receptor to form the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CR compl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1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/9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8594" t="13540" r="32031" b="18753"/>
          <a:stretch/>
        </p:blipFill>
        <p:spPr>
          <a:xfrm>
            <a:off x="1371600" y="58680"/>
            <a:ext cx="7772400" cy="6647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29320" y="2540160"/>
            <a:ext cx="94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56760" y="380880"/>
            <a:ext cx="82868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ll Mediated Immunity (CM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68200">
              <a:lnSpc>
                <a:spcPct val="11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specialized set of lymphocytes called </a:t>
            </a:r>
            <a:r>
              <a:rPr b="1" lang="en-US" sz="2400" spc="-1" strike="noStrike">
                <a:solidFill>
                  <a:srgbClr val="f20000"/>
                </a:solidFill>
                <a:latin typeface="Times New Roman"/>
                <a:ea typeface="Times New Roman"/>
              </a:rPr>
              <a:t>T cel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cognize foreign antigens on the surface of cells, organisms, or tiss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68200">
              <a:lnSpc>
                <a:spcPct val="11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cells </a:t>
            </a:r>
            <a:r>
              <a:rPr b="1" lang="en-US" sz="2400" spc="-1" strike="noStrike">
                <a:solidFill>
                  <a:srgbClr val="f20000"/>
                </a:solidFill>
                <a:latin typeface="Times New Roman"/>
                <a:ea typeface="Times New Roman"/>
              </a:rPr>
              <a:t>regul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liferation and activity of other cells of the immune system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68200">
              <a:lnSpc>
                <a:spcPct val="11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cells, macrophages, neutrophil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68200">
              <a:lnSpc>
                <a:spcPct val="11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se again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463680">
              <a:lnSpc>
                <a:spcPct val="11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nd viruses that are inside host cells and are inaccessible to antibod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463680">
              <a:lnSpc>
                <a:spcPct val="11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gi, protozoa, and helmin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463680">
              <a:lnSpc>
                <a:spcPct val="11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r ce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463680">
              <a:lnSpc>
                <a:spcPct val="11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lanted tissu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450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</a:t>
            </a:r>
            <a:r>
              <a:rPr b="0" lang="en-US" sz="2000" spc="-1" strike="noStrike">
                <a:solidFill>
                  <a:srgbClr val="f2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3786120" y="857160"/>
            <a:ext cx="30006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What are the similarities/differences between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-cell receptors and B-cell receptor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42560" y="1000080"/>
            <a:ext cx="350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Calibri"/>
              </a:rPr>
              <a:t>Similar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Both bind anti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Both have their variabilities located in one part of the molecule that bind antig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V-reg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Three dimensional structures are remarkably simi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71560" y="857160"/>
            <a:ext cx="5429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Calibri"/>
              </a:rPr>
              <a:t>Differenc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Antibodies can be both soluble 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rane bound, TCR only membrane B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TCR has one binding site, Ab has t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TCR is shorter  and wider than Fab portion of  A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. B-cells/antibodies recognize circulating antibodies.   T-cells require antigen to be presented  by MHC-molec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. All energy of antigen-antibody focus on foreign antigens whereas a substantial fraction of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 of the TCR-peptide-MHC is direc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gainst sel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. Antibodies have higher affinity than TC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4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1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9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Overview of the Immune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MEDIA\1421\142129.JPG"/>
          <p:cNvPicPr/>
          <p:nvPr/>
        </p:nvPicPr>
        <p:blipFill>
          <a:blip r:embed="rId1"/>
          <a:srcRect l="0" t="0" r="0" b="9786"/>
          <a:stretch/>
        </p:blipFill>
        <p:spPr>
          <a:xfrm>
            <a:off x="2000160" y="714240"/>
            <a:ext cx="5500800" cy="5359680"/>
          </a:xfrm>
          <a:prstGeom prst="rect">
            <a:avLst/>
          </a:prstGeom>
          <a:ln w="0">
            <a:noFill/>
          </a:ln>
        </p:spPr>
      </p:pic>
      <p:sp>
        <p:nvSpPr>
          <p:cNvPr id="152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ell Mediated Immunity is Carried Out by T Lymphocy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E:\MEDIA\1421\142127.JPG"/>
          <p:cNvPicPr/>
          <p:nvPr/>
        </p:nvPicPr>
        <p:blipFill>
          <a:blip r:embed="rId1"/>
          <a:stretch/>
        </p:blipFill>
        <p:spPr>
          <a:xfrm>
            <a:off x="2852640" y="685800"/>
            <a:ext cx="347184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14200" y="285480"/>
            <a:ext cx="8715600" cy="61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s that stimulate cellular response are mainly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racellular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constant presence of antigen to remain effec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 humoral immunity, cell mediated immunity is not transferred to the fet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 to direct cytotoxicity, T cells produc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tokin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activate macrophage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tokines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messengers of immune ce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100 have been identifi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1825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 and/or regulate immune responses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rleukins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between WB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terferons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 against viral inf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emokines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ct WBCs to infected ar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85840" y="380880"/>
            <a:ext cx="8534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 Cells and Cell Mediated 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llular Components of Immunity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cells are key cellular component of immun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cells have an antigen receptor that recognizes and reacts to a specific antigen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cell recept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cell receptor only recognize antigens combined with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ajor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histocompatability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MHC) protei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urfa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C Class I: Found on all nucleated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HC Class II: Found on phagoc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nal selection increases number of T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071880" y="628668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upload.wikimedia.org/wikipedia/commons/thumb/0/0e/Clonal_selection.svg/200px-Clonal_selection.svg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0"/>
            <a:ext cx="3286440" cy="6556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en.wikipedia.org/skins-1.5/common/images/magnify-clip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906040" y="-960480"/>
            <a:ext cx="142560" cy="104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4714920" y="571680"/>
            <a:ext cx="41432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Clonal selection of lymphocyte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1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hematopoietic stem cell undergoes differentiation and genetic rearrangement to produce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2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mature lymphocytes with many different antigen receptors. Those that bind to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3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tigens from the body's own tissues are destroyed, while the rest mature into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4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active lymphocytes. Most of these will never encounter a matching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5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eign antigen, but those that do are activated and produce </a:t>
            </a: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6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ny clones of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T Cells Only Recognize Antigen Associated with MHC Molecules on Cell Surf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E:\MEDIA\1421\142128.JPG"/>
          <p:cNvPicPr/>
          <p:nvPr/>
        </p:nvPicPr>
        <p:blipFill>
          <a:blip r:embed="rId1"/>
          <a:stretch/>
        </p:blipFill>
        <p:spPr>
          <a:xfrm>
            <a:off x="457200" y="1573200"/>
            <a:ext cx="8381880" cy="4903920"/>
          </a:xfrm>
          <a:prstGeom prst="rect">
            <a:avLst/>
          </a:prstGeom>
          <a:ln w="0">
            <a:noFill/>
          </a:ln>
        </p:spPr>
      </p:pic>
      <p:sp>
        <p:nvSpPr>
          <p:cNvPr id="10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ypes of T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5840" y="856800"/>
            <a:ext cx="8501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 Helper (T</a:t>
            </a:r>
            <a:r>
              <a:rPr b="1" lang="en-US" sz="3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Cells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 role in immune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hree subpopulations of Th ce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(naïv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1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 (imflammatory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0000ff"/>
              </a:buClr>
              <a:buSzPct val="9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2 cells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helper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are CD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antigen on the surface of anti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ing cells e.g.: macrophage (MHC class I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e macroph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e formation of cytotoxic T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33520" indent="-25884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 B cells to produce antibodies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lp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ight Brace 4"/>
          <p:cNvSpPr/>
          <p:nvPr/>
        </p:nvSpPr>
        <p:spPr>
          <a:xfrm>
            <a:off x="5500800" y="5000760"/>
            <a:ext cx="1357200" cy="928440"/>
          </a:xfrm>
          <a:custGeom>
            <a:avLst/>
            <a:gdLst>
              <a:gd name="textAreaLeft" fmla="*/ 0 w 1357200"/>
              <a:gd name="textAreaRight" fmla="*/ 489960 w 1357200"/>
              <a:gd name="textAreaTop" fmla="*/ 24120 h 928440"/>
              <a:gd name="textAreaBottom" fmla="*/ 9043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96"/>
                </a:lnTo>
                <a:cubicBezTo>
                  <a:pt x="10800" y="9596"/>
                  <a:pt x="16200" y="10496"/>
                  <a:pt x="21600" y="10496"/>
                </a:cubicBezTo>
                <a:cubicBezTo>
                  <a:pt x="16200" y="10496"/>
                  <a:pt x="10800" y="11396"/>
                  <a:pt x="10800" y="1229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786720" y="52149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lammator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1928880" y="1357200"/>
            <a:ext cx="57625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8:19:56Z</dcterms:created>
  <dc:creator>computer</dc:creator>
  <dc:description/>
  <dc:language>en-US</dc:language>
  <cp:lastModifiedBy>computer</cp:lastModifiedBy>
  <dcterms:modified xsi:type="dcterms:W3CDTF">2009-04-17T19:03:46Z</dcterms:modified>
  <cp:revision>89</cp:revision>
  <dc:subject/>
  <dc:title>Slide 1</dc:title>
</cp:coreProperties>
</file>