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6E29-559F-4F96-BA6F-9BA073849DD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66FC-07A0-4D86-A448-D67C8E57B2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93C0-F90B-4DD8-A9BF-A10E89780B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57B-7A8A-4326-BC35-CC6A3D3A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F7C-BB1D-46AE-9451-AAE15A35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A47-2081-4557-A78E-A8079FE5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161-4F02-4EAA-B977-8D63034E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FA67-C87B-4A8B-A9CA-EFD5F15F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B16A-F27F-4AB5-8342-1BF9533D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29E0-89B4-45A9-8BE3-CC08FE9C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7CFE-7020-49F3-A7C5-8E6B3F4A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F08D-4996-4779-BA4C-F6CE955D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CD9B-3DDA-4AFD-9E1F-B3B3BB6D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29BF-2E24-495B-9548-CE368347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0BE-548F-4686-AD82-6B0D1E1E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A6E2-96D9-4022-AAD1-CF082B16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8E5E-61BB-41AC-8470-6728395A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1D8B-2401-4F2D-99EF-DF026223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EA28-F1CD-404B-8759-A695B7B1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F20B-63F3-4C5F-B581-F84461F9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B91-E909-4EFB-8279-E12E5E74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081-B5B9-4C3F-8D57-E0FA1A79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370-F0BF-4165-9F19-325CEB18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890-F29C-4C5A-A055-BE202C16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B1DD-017F-4225-AAF6-CA7D76EF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967-09FB-47A8-A558-6EAE829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038-4C16-49C6-8CB1-C4738E0D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C4BE-5778-4858-9F5A-5898A0E1BA7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2DC4-4F48-4739-8F99-CEA0A6DF0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2fab_fc.pn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en.wikipedia.org/wiki/File:2fab_fc.png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3.xml"/><Relationship Id="rId2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86439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1b5b"/>
                </a:solidFill>
                <a:latin typeface="Aharoni"/>
              </a:rPr>
              <a:t>ADAPTIVE</a:t>
            </a:r>
            <a:br>
              <a:rPr sz="3200"/>
            </a:br>
            <a:r>
              <a:rPr b="1" lang="en-US" sz="3200" spc="-1" strike="noStrike">
                <a:solidFill>
                  <a:srgbClr val="401b5b"/>
                </a:solidFill>
                <a:latin typeface="Aharoni"/>
              </a:rPr>
              <a:t>IMMUNE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When the body 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osed to an anti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nate I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aptive I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Acquired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own Arrow 3"/>
          <p:cNvSpPr/>
          <p:nvPr/>
        </p:nvSpPr>
        <p:spPr>
          <a:xfrm>
            <a:off x="4357800" y="2286000"/>
            <a:ext cx="571320" cy="12142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4"/>
          <p:cNvSpPr/>
          <p:nvPr/>
        </p:nvSpPr>
        <p:spPr>
          <a:xfrm>
            <a:off x="4357800" y="4000680"/>
            <a:ext cx="571320" cy="12142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ti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s that recognize and bind to a particular antigen with very hig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ecific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e in response to exposure to the antig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virus or microbe may have sever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tigenic determinant s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o which different antibodies may bi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ntibody has at least two identical sites that bind antigen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tigen binding s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ence of an antibody:  Number of antigen binding sites.   Most are bival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ong to a group of serum proteins called immunoglobulins (Ig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48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tibody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47307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7307"/>
                </a:solidFill>
                <a:latin typeface="Arial"/>
              </a:rPr>
              <a:t>Monomer: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flexible Y-shaped molecule with four polypeptide cha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identical </a:t>
            </a:r>
            <a:r>
              <a:rPr b="1" i="1" lang="en-US" sz="2200" spc="-1" strike="noStrike">
                <a:solidFill>
                  <a:srgbClr val="1f497d"/>
                </a:solidFill>
                <a:latin typeface="Arial"/>
              </a:rPr>
              <a:t>light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identical </a:t>
            </a:r>
            <a:r>
              <a:rPr b="1" i="1" lang="en-US" sz="2200" spc="-1" strike="noStrike">
                <a:solidFill>
                  <a:srgbClr val="1f497d"/>
                </a:solidFill>
                <a:latin typeface="Arial"/>
              </a:rPr>
              <a:t>heavy</a:t>
            </a:r>
            <a:r>
              <a:rPr b="1" lang="en-US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47307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7307"/>
                </a:solidFill>
                <a:latin typeface="Arial"/>
              </a:rPr>
              <a:t>Variable Regions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sections at the end of Y’s arm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ain the antigen binding sites (Fab)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cal on the same antibody, but vary from o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body to an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47307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7307"/>
                </a:solidFill>
                <a:latin typeface="Arial"/>
              </a:rPr>
              <a:t>Constant Regions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m of monomer and lower parts of Y arm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47307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7307"/>
                </a:solidFill>
                <a:latin typeface="Arial"/>
              </a:rPr>
              <a:t>Fc region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ortant because they can bind to complement or cell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ight Brace 4"/>
          <p:cNvSpPr/>
          <p:nvPr/>
        </p:nvSpPr>
        <p:spPr>
          <a:xfrm>
            <a:off x="4286160" y="1428840"/>
            <a:ext cx="571680" cy="1000080"/>
          </a:xfrm>
          <a:custGeom>
            <a:avLst/>
            <a:gdLst>
              <a:gd name="textAreaLeft" fmla="*/ 0 w 571680"/>
              <a:gd name="textAreaRight" fmla="*/ 206280 w 571680"/>
              <a:gd name="textAreaTop" fmla="*/ 36000 h 1000080"/>
              <a:gd name="textAreaBottom" fmla="*/ 9640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51"/>
                  <a:pt x="10800" y="2502"/>
                </a:cubicBezTo>
                <a:lnTo>
                  <a:pt x="10800" y="8298"/>
                </a:lnTo>
                <a:cubicBezTo>
                  <a:pt x="10800" y="9549"/>
                  <a:pt x="16200" y="10800"/>
                  <a:pt x="21600" y="10800"/>
                </a:cubicBezTo>
                <a:cubicBezTo>
                  <a:pt x="16200" y="10800"/>
                  <a:pt x="10800" y="12051"/>
                  <a:pt x="10800" y="13302"/>
                </a:cubicBezTo>
                <a:lnTo>
                  <a:pt x="10800" y="19098"/>
                </a:lnTo>
                <a:cubicBezTo>
                  <a:pt x="10800" y="2034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000760" y="164304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ld together by disulphide b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tibody Struc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142134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85480" y="571320"/>
            <a:ext cx="47862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nge Reg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he region at which the arms of the antibody molecule forms a Y is called the hinge reg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ecause there is some flexibility in the molecule at this point.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Group 5"/>
          <p:cNvGrpSpPr/>
          <p:nvPr/>
        </p:nvGrpSpPr>
        <p:grpSpPr>
          <a:xfrm>
            <a:off x="4876920" y="1676520"/>
            <a:ext cx="4025520" cy="2971440"/>
            <a:chOff x="4876920" y="1676520"/>
            <a:chExt cx="4025520" cy="2971440"/>
          </a:xfrm>
        </p:grpSpPr>
        <p:grpSp>
          <p:nvGrpSpPr>
            <p:cNvPr id="112" name="Group 6"/>
            <p:cNvGrpSpPr/>
            <p:nvPr/>
          </p:nvGrpSpPr>
          <p:grpSpPr>
            <a:xfrm>
              <a:off x="4876920" y="1676520"/>
              <a:ext cx="4025520" cy="2971440"/>
              <a:chOff x="4876920" y="1676520"/>
              <a:chExt cx="4025520" cy="2971440"/>
            </a:xfrm>
          </p:grpSpPr>
          <p:pic>
            <p:nvPicPr>
              <p:cNvPr id="11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4876920" y="1676520"/>
                <a:ext cx="4025520" cy="29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8"/>
              <p:cNvSpPr/>
              <p:nvPr/>
            </p:nvSpPr>
            <p:spPr>
              <a:xfrm>
                <a:off x="6312600" y="2215440"/>
                <a:ext cx="1154160" cy="473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9"/>
            <p:cNvSpPr/>
            <p:nvPr/>
          </p:nvSpPr>
          <p:spPr>
            <a:xfrm>
              <a:off x="4876920" y="4343400"/>
              <a:ext cx="22860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0"/>
          <p:cNvGrpSpPr/>
          <p:nvPr/>
        </p:nvGrpSpPr>
        <p:grpSpPr>
          <a:xfrm>
            <a:off x="6095880" y="2819520"/>
            <a:ext cx="2667240" cy="1600200"/>
            <a:chOff x="6095880" y="2819520"/>
            <a:chExt cx="2667240" cy="1600200"/>
          </a:xfrm>
        </p:grpSpPr>
        <p:sp>
          <p:nvSpPr>
            <p:cNvPr id="117" name="Rectangle 11"/>
            <p:cNvSpPr/>
            <p:nvPr/>
          </p:nvSpPr>
          <p:spPr>
            <a:xfrm>
              <a:off x="6095880" y="2819520"/>
              <a:ext cx="457200" cy="60948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"/>
            <p:cNvSpPr/>
            <p:nvPr/>
          </p:nvSpPr>
          <p:spPr>
            <a:xfrm>
              <a:off x="6781680" y="3809880"/>
              <a:ext cx="1981440" cy="609840"/>
            </a:xfrm>
            <a:prstGeom prst="ellipse">
              <a:avLst/>
            </a:prstGeom>
            <a:noFill/>
            <a:ln w="76320">
              <a:solidFill>
                <a:srgbClr val="d66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upload.wikimedia.org/wikipedia/commons/thumb/c/c9/2fab_fc.png/200px-2fab_fc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28880" y="1785960"/>
            <a:ext cx="3000240" cy="3000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en.wikipedia.org/skins-1.5/common/images/magnify-clip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906040" y="-411120"/>
            <a:ext cx="142560" cy="104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357200" y="49291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 antibody digested by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papai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yields three fragments: two Fab fragments and one Fc fra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eneral Functions of Immunoglobul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5840" y="999720"/>
            <a:ext cx="8572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47307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7307"/>
                </a:solidFill>
                <a:latin typeface="Arial"/>
              </a:rPr>
              <a:t>Antigen binding </a:t>
            </a:r>
            <a:r>
              <a:rPr b="1" i="1" lang="en-US" sz="2800" spc="-1" strike="noStrike">
                <a:solidFill>
                  <a:srgbClr val="daa600"/>
                </a:solidFill>
                <a:latin typeface="Arial"/>
              </a:rPr>
              <a:t>(primary func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mmunoglobulins bind specifically to one or more antigenic determinant and can result in protection of the host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00cc00"/>
                </a:solidFill>
                <a:uFillTx/>
                <a:latin typeface="Arial"/>
              </a:rPr>
              <a:t>Valency: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Is the number of antigenic determinants that an individual antibody molecule can bind. The valency of all antibodies is at least two and in some instances m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4c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13840" y="28584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05e06"/>
              </a:buClr>
              <a:buFont typeface="Calibri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7307"/>
                </a:solidFill>
                <a:latin typeface="Calibri"/>
              </a:rPr>
              <a:t>Effector fun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4807e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07eb"/>
                </a:solidFill>
                <a:latin typeface="Calibri"/>
              </a:rPr>
              <a:t>Fixation of complement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807eb"/>
                </a:solidFill>
                <a:latin typeface="Arial"/>
              </a:rPr>
              <a:t>lysis of cells, release of biologically active molecu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807e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07eb"/>
                </a:solidFill>
                <a:latin typeface="Calibri"/>
              </a:rPr>
              <a:t>Binding to various cel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807eb"/>
                </a:solidFill>
                <a:latin typeface="Calibri"/>
              </a:rPr>
              <a:t>    </a:t>
            </a:r>
            <a:r>
              <a:rPr b="0" i="1" lang="en-US" sz="2800" spc="-1" strike="noStrike">
                <a:solidFill>
                  <a:srgbClr val="4807eb"/>
                </a:solidFill>
                <a:latin typeface="Calibri"/>
              </a:rPr>
              <a:t>phagocytic cells</a:t>
            </a:r>
            <a:r>
              <a:rPr b="0" lang="en-US" sz="2800" spc="-1" strike="noStrike">
                <a:solidFill>
                  <a:srgbClr val="4807eb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4807eb"/>
                </a:solidFill>
                <a:latin typeface="Calibri"/>
              </a:rPr>
              <a:t>lymphocytes</a:t>
            </a:r>
            <a:r>
              <a:rPr b="0" lang="en-US" sz="2800" spc="-1" strike="noStrike">
                <a:solidFill>
                  <a:srgbClr val="4807eb"/>
                </a:solidFill>
                <a:latin typeface="Calibri"/>
              </a:rPr>
              <a:t>, </a:t>
            </a:r>
            <a:r>
              <a:rPr b="0" i="1" lang="en-US" sz="2800" spc="-1" strike="noStrike">
                <a:solidFill>
                  <a:srgbClr val="4807eb"/>
                </a:solidFill>
                <a:latin typeface="Calibri"/>
              </a:rPr>
              <a:t>mast cells</a:t>
            </a:r>
            <a:r>
              <a:rPr b="0" lang="en-US" sz="2800" spc="-1" strike="noStrike">
                <a:solidFill>
                  <a:srgbClr val="4807eb"/>
                </a:solidFill>
                <a:latin typeface="Calibri"/>
              </a:rPr>
              <a:t>, and </a:t>
            </a:r>
            <a:r>
              <a:rPr b="0" i="1" lang="en-US" sz="2800" spc="-1" strike="noStrike">
                <a:solidFill>
                  <a:srgbClr val="4807eb"/>
                </a:solidFill>
                <a:latin typeface="Calibri"/>
              </a:rPr>
              <a:t>basophils</a:t>
            </a:r>
            <a:r>
              <a:rPr b="0" lang="en-US" sz="2800" spc="-1" strike="noStrike">
                <a:solidFill>
                  <a:srgbClr val="4807eb"/>
                </a:solidFill>
                <a:latin typeface="Calibri"/>
              </a:rPr>
              <a:t> have receptors that bind immunoglobulins and thus get activ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807e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07eb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4807eb"/>
                </a:solidFill>
                <a:latin typeface="Calibri"/>
              </a:rPr>
              <a:t>Some immunoglobulins also bind to receptors on placental trophoblasts, leading to transfer of the Igs across the placenta </a:t>
            </a:r>
            <a:r>
              <a:rPr b="1" i="1" lang="en-US" sz="2800" spc="-1" strike="noStrike">
                <a:solidFill>
                  <a:srgbClr val="4807eb"/>
                </a:solidFill>
                <a:latin typeface="Calibri"/>
              </a:rPr>
              <a:t>(provide immunity  to the  fet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4807e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4807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ight Arrow 3"/>
          <p:cNvSpPr/>
          <p:nvPr/>
        </p:nvSpPr>
        <p:spPr>
          <a:xfrm flipV="1">
            <a:off x="4643280" y="1143000"/>
            <a:ext cx="357480" cy="71280"/>
          </a:xfrm>
          <a:prstGeom prst="rightArrow">
            <a:avLst>
              <a:gd name="adj1" fmla="val 50000"/>
              <a:gd name="adj2" fmla="val 501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mmunoglobulin Cla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642600"/>
            <a:ext cx="8572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G - Gamma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M - Mu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A - Alpha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D - Delta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E - Epsilon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Immunoglobulin Sub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G Sub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G1 - Gamma 1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G2 - Gamma 2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G3 - Gamma 3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G4 - Gamma 4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A sub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A1 - Alpha 1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gA2 - Alpha 2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heavy ch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4857840" y="7142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globul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Chain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pa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mbda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alibri"/>
              </a:rPr>
              <a:t>Different Immunoglobul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IGs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0" y="0"/>
          <a:ext cx="9144000" cy="6642000"/>
        </p:xfrm>
        <a:graphic>
          <a:graphicData uri="http://schemas.openxmlformats.org/drawingml/2006/table">
            <a:tbl>
              <a:tblPr/>
              <a:tblGrid>
                <a:gridCol w="2411280"/>
                <a:gridCol w="1876680"/>
                <a:gridCol w="2570040"/>
                <a:gridCol w="2286000"/>
              </a:tblGrid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Ag binding s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fl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cross plac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 macrophage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tox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lut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fl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lut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o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retions (saliva, tears, small intestine, vaginal, prostate, nasal, breast mi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bacteria adhering to host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ts bacteria forming colonies on mucous membra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e mast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AM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m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cell surfaces where it functions as a receptor for A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 cell acti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85" descr="igg"/>
          <p:cNvPicPr/>
          <p:nvPr/>
        </p:nvPicPr>
        <p:blipFill>
          <a:blip r:embed="rId1"/>
          <a:stretch/>
        </p:blipFill>
        <p:spPr>
          <a:xfrm>
            <a:off x="571680" y="928800"/>
            <a:ext cx="1726920" cy="1036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2" descr="IgM"/>
          <p:cNvPicPr/>
          <p:nvPr/>
        </p:nvPicPr>
        <p:blipFill>
          <a:blip r:embed="rId2"/>
          <a:stretch/>
        </p:blipFill>
        <p:spPr>
          <a:xfrm>
            <a:off x="714240" y="2071800"/>
            <a:ext cx="1041480" cy="857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5" descr="IgA"/>
          <p:cNvPicPr/>
          <p:nvPr/>
        </p:nvPicPr>
        <p:blipFill>
          <a:blip r:embed="rId3"/>
          <a:stretch/>
        </p:blipFill>
        <p:spPr>
          <a:xfrm>
            <a:off x="428760" y="3214800"/>
            <a:ext cx="1917720" cy="12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7" descr="IgE"/>
          <p:cNvPicPr/>
          <p:nvPr/>
        </p:nvPicPr>
        <p:blipFill>
          <a:blip r:embed="rId4"/>
          <a:stretch/>
        </p:blipFill>
        <p:spPr>
          <a:xfrm>
            <a:off x="642960" y="4786200"/>
            <a:ext cx="1312920" cy="9432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97"/>
          <p:cNvGrpSpPr/>
          <p:nvPr/>
        </p:nvGrpSpPr>
        <p:grpSpPr>
          <a:xfrm>
            <a:off x="707400" y="5897880"/>
            <a:ext cx="1149840" cy="1524960"/>
            <a:chOff x="707400" y="5897880"/>
            <a:chExt cx="1149840" cy="1524960"/>
          </a:xfrm>
        </p:grpSpPr>
        <p:sp>
          <p:nvSpPr>
            <p:cNvPr id="138" name="Line 38"/>
            <p:cNvSpPr/>
            <p:nvPr/>
          </p:nvSpPr>
          <p:spPr>
            <a:xfrm flipV="1">
              <a:off x="974160" y="6262920"/>
              <a:ext cx="45360" cy="2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1080000" y="6229440"/>
              <a:ext cx="15480" cy="3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77"/>
            <p:cNvSpPr/>
            <p:nvPr/>
          </p:nvSpPr>
          <p:spPr>
            <a:xfrm flipH="1">
              <a:off x="1079640" y="6112800"/>
              <a:ext cx="15480" cy="3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1"/>
            <p:cNvSpPr/>
            <p:nvPr/>
          </p:nvSpPr>
          <p:spPr>
            <a:xfrm rot="19817400">
              <a:off x="717120" y="6298200"/>
              <a:ext cx="162720" cy="748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 rot="20060400">
              <a:off x="827640" y="6318720"/>
              <a:ext cx="81000" cy="18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 rot="20060400">
              <a:off x="715680" y="6372720"/>
              <a:ext cx="81000" cy="18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4"/>
            <p:cNvSpPr/>
            <p:nvPr/>
          </p:nvSpPr>
          <p:spPr>
            <a:xfrm flipV="1">
              <a:off x="1668600" y="6229080"/>
              <a:ext cx="162720" cy="7488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 flipV="1">
              <a:off x="1771200" y="623196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 flipV="1">
              <a:off x="1645560" y="623052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7"/>
            <p:cNvSpPr/>
            <p:nvPr/>
          </p:nvSpPr>
          <p:spPr>
            <a:xfrm flipV="1">
              <a:off x="1253520" y="6225480"/>
              <a:ext cx="162720" cy="7488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8"/>
            <p:cNvSpPr/>
            <p:nvPr/>
          </p:nvSpPr>
          <p:spPr>
            <a:xfrm flipV="1">
              <a:off x="1357560" y="622872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9"/>
            <p:cNvSpPr/>
            <p:nvPr/>
          </p:nvSpPr>
          <p:spPr>
            <a:xfrm flipV="1">
              <a:off x="1231200" y="622692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0"/>
            <p:cNvSpPr/>
            <p:nvPr/>
          </p:nvSpPr>
          <p:spPr>
            <a:xfrm flipV="1">
              <a:off x="1461600" y="6228000"/>
              <a:ext cx="162720" cy="7488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1"/>
            <p:cNvSpPr/>
            <p:nvPr/>
          </p:nvSpPr>
          <p:spPr>
            <a:xfrm flipV="1">
              <a:off x="1565640" y="623052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2"/>
            <p:cNvSpPr/>
            <p:nvPr/>
          </p:nvSpPr>
          <p:spPr>
            <a:xfrm flipV="1">
              <a:off x="1438920" y="622836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 flipV="1">
              <a:off x="1199160" y="6198840"/>
              <a:ext cx="3132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4"/>
            <p:cNvSpPr/>
            <p:nvPr/>
          </p:nvSpPr>
          <p:spPr>
            <a:xfrm flipV="1">
              <a:off x="1105560" y="6198840"/>
              <a:ext cx="3096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5"/>
            <p:cNvSpPr/>
            <p:nvPr/>
          </p:nvSpPr>
          <p:spPr>
            <a:xfrm flipV="1">
              <a:off x="1136520" y="6198840"/>
              <a:ext cx="3132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 flipV="1">
              <a:off x="1168200" y="6198840"/>
              <a:ext cx="3096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30"/>
            <p:cNvSpPr/>
            <p:nvPr/>
          </p:nvSpPr>
          <p:spPr>
            <a:xfrm flipV="1" rot="20063400">
              <a:off x="948240" y="6292080"/>
              <a:ext cx="162720" cy="7488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1"/>
            <p:cNvSpPr/>
            <p:nvPr/>
          </p:nvSpPr>
          <p:spPr>
            <a:xfrm flipV="1" rot="20063400">
              <a:off x="1034280" y="627048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2"/>
            <p:cNvSpPr/>
            <p:nvPr/>
          </p:nvSpPr>
          <p:spPr>
            <a:xfrm flipV="1" rot="20063400">
              <a:off x="920160" y="6324120"/>
              <a:ext cx="81000" cy="18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>
              <a:off x="1312920" y="6235560"/>
              <a:ext cx="4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1727280" y="6240960"/>
              <a:ext cx="4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>
              <a:off x="1519920" y="6238800"/>
              <a:ext cx="4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 flipV="1">
              <a:off x="995400" y="6294600"/>
              <a:ext cx="45000" cy="2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7"/>
            <p:cNvSpPr/>
            <p:nvPr/>
          </p:nvSpPr>
          <p:spPr>
            <a:xfrm flipV="1">
              <a:off x="790560" y="6343920"/>
              <a:ext cx="42840" cy="2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27"/>
            <p:cNvSpPr/>
            <p:nvPr/>
          </p:nvSpPr>
          <p:spPr>
            <a:xfrm flipV="1" rot="20063400">
              <a:off x="762120" y="6374160"/>
              <a:ext cx="162720" cy="748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8"/>
            <p:cNvSpPr/>
            <p:nvPr/>
          </p:nvSpPr>
          <p:spPr>
            <a:xfrm flipV="1" rot="20063400">
              <a:off x="848160" y="635292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 flipV="1" rot="20063400">
              <a:off x="733680" y="640548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9"/>
            <p:cNvSpPr/>
            <p:nvPr/>
          </p:nvSpPr>
          <p:spPr>
            <a:xfrm flipV="1">
              <a:off x="809280" y="6377040"/>
              <a:ext cx="45360" cy="2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1"/>
            <p:cNvSpPr/>
            <p:nvPr/>
          </p:nvSpPr>
          <p:spPr>
            <a:xfrm>
              <a:off x="1316160" y="629928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46"/>
            <p:cNvSpPr/>
            <p:nvPr/>
          </p:nvSpPr>
          <p:spPr>
            <a:xfrm flipV="1" rot="1539600">
              <a:off x="715320" y="6004800"/>
              <a:ext cx="162720" cy="7488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7"/>
            <p:cNvSpPr/>
            <p:nvPr/>
          </p:nvSpPr>
          <p:spPr>
            <a:xfrm flipV="1" rot="1539600">
              <a:off x="824400" y="6038280"/>
              <a:ext cx="81000" cy="18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8"/>
            <p:cNvSpPr/>
            <p:nvPr/>
          </p:nvSpPr>
          <p:spPr>
            <a:xfrm flipV="1" rot="1539600">
              <a:off x="714240" y="5985360"/>
              <a:ext cx="81000" cy="18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49"/>
            <p:cNvSpPr/>
            <p:nvPr/>
          </p:nvSpPr>
          <p:spPr>
            <a:xfrm>
              <a:off x="1664640" y="6071760"/>
              <a:ext cx="162720" cy="74880"/>
            </a:xfrm>
            <a:prstGeom prst="pi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0"/>
            <p:cNvSpPr/>
            <p:nvPr/>
          </p:nvSpPr>
          <p:spPr>
            <a:xfrm>
              <a:off x="1768680" y="612432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1"/>
            <p:cNvSpPr/>
            <p:nvPr/>
          </p:nvSpPr>
          <p:spPr>
            <a:xfrm>
              <a:off x="1641960" y="612648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2"/>
            <p:cNvSpPr/>
            <p:nvPr/>
          </p:nvSpPr>
          <p:spPr>
            <a:xfrm>
              <a:off x="1251000" y="6075360"/>
              <a:ext cx="162720" cy="748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1354680" y="612756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4"/>
            <p:cNvSpPr/>
            <p:nvPr/>
          </p:nvSpPr>
          <p:spPr>
            <a:xfrm>
              <a:off x="1228680" y="613008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5"/>
            <p:cNvSpPr/>
            <p:nvPr/>
          </p:nvSpPr>
          <p:spPr>
            <a:xfrm>
              <a:off x="1458720" y="6072480"/>
              <a:ext cx="162720" cy="7488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6"/>
            <p:cNvSpPr/>
            <p:nvPr/>
          </p:nvSpPr>
          <p:spPr>
            <a:xfrm>
              <a:off x="1562760" y="612648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7"/>
            <p:cNvSpPr/>
            <p:nvPr/>
          </p:nvSpPr>
          <p:spPr>
            <a:xfrm>
              <a:off x="1436040" y="612792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58"/>
            <p:cNvSpPr/>
            <p:nvPr/>
          </p:nvSpPr>
          <p:spPr>
            <a:xfrm>
              <a:off x="1196280" y="6098400"/>
              <a:ext cx="3132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59"/>
            <p:cNvSpPr/>
            <p:nvPr/>
          </p:nvSpPr>
          <p:spPr>
            <a:xfrm>
              <a:off x="1102680" y="6098400"/>
              <a:ext cx="3096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60"/>
            <p:cNvSpPr/>
            <p:nvPr/>
          </p:nvSpPr>
          <p:spPr>
            <a:xfrm>
              <a:off x="1133640" y="6098400"/>
              <a:ext cx="3132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61"/>
            <p:cNvSpPr/>
            <p:nvPr/>
          </p:nvSpPr>
          <p:spPr>
            <a:xfrm>
              <a:off x="1165320" y="6098400"/>
              <a:ext cx="30960" cy="7740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62"/>
            <p:cNvSpPr/>
            <p:nvPr/>
          </p:nvSpPr>
          <p:spPr>
            <a:xfrm rot="1536600">
              <a:off x="761400" y="5929200"/>
              <a:ext cx="162720" cy="7488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3"/>
            <p:cNvSpPr/>
            <p:nvPr/>
          </p:nvSpPr>
          <p:spPr>
            <a:xfrm rot="1500000">
              <a:off x="846720" y="600552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4"/>
            <p:cNvSpPr/>
            <p:nvPr/>
          </p:nvSpPr>
          <p:spPr>
            <a:xfrm rot="1500000">
              <a:off x="731520" y="5955120"/>
              <a:ext cx="81360" cy="18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65"/>
            <p:cNvSpPr/>
            <p:nvPr/>
          </p:nvSpPr>
          <p:spPr>
            <a:xfrm rot="1536600">
              <a:off x="948240" y="6008760"/>
              <a:ext cx="162720" cy="7488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6"/>
            <p:cNvSpPr/>
            <p:nvPr/>
          </p:nvSpPr>
          <p:spPr>
            <a:xfrm rot="1500000">
              <a:off x="1030320" y="608436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7"/>
            <p:cNvSpPr/>
            <p:nvPr/>
          </p:nvSpPr>
          <p:spPr>
            <a:xfrm rot="1500000">
              <a:off x="917280" y="603216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253c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8"/>
            <p:cNvSpPr/>
            <p:nvPr/>
          </p:nvSpPr>
          <p:spPr>
            <a:xfrm>
              <a:off x="1721880" y="6132240"/>
              <a:ext cx="4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9"/>
            <p:cNvSpPr/>
            <p:nvPr/>
          </p:nvSpPr>
          <p:spPr>
            <a:xfrm>
              <a:off x="1515960" y="6134760"/>
              <a:ext cx="46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0"/>
            <p:cNvSpPr/>
            <p:nvPr/>
          </p:nvSpPr>
          <p:spPr>
            <a:xfrm>
              <a:off x="1308240" y="6137280"/>
              <a:ext cx="4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1"/>
            <p:cNvSpPr/>
            <p:nvPr/>
          </p:nvSpPr>
          <p:spPr>
            <a:xfrm flipH="1" flipV="1">
              <a:off x="972360" y="6089760"/>
              <a:ext cx="42840" cy="2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2"/>
            <p:cNvSpPr/>
            <p:nvPr/>
          </p:nvSpPr>
          <p:spPr>
            <a:xfrm flipH="1" flipV="1">
              <a:off x="808560" y="5979600"/>
              <a:ext cx="42480" cy="1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73"/>
            <p:cNvSpPr/>
            <p:nvPr/>
          </p:nvSpPr>
          <p:spPr>
            <a:xfrm flipH="1" flipV="1">
              <a:off x="789120" y="6009840"/>
              <a:ext cx="4176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4"/>
            <p:cNvSpPr/>
            <p:nvPr/>
          </p:nvSpPr>
          <p:spPr>
            <a:xfrm flipH="1" flipV="1">
              <a:off x="992880" y="6057000"/>
              <a:ext cx="42480" cy="1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5"/>
            <p:cNvSpPr/>
            <p:nvPr/>
          </p:nvSpPr>
          <p:spPr>
            <a:xfrm>
              <a:off x="1183680" y="6171480"/>
              <a:ext cx="0" cy="3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6"/>
            <p:cNvSpPr/>
            <p:nvPr/>
          </p:nvSpPr>
          <p:spPr>
            <a:xfrm>
              <a:off x="1213200" y="6172920"/>
              <a:ext cx="0" cy="3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78"/>
            <p:cNvSpPr/>
            <p:nvPr/>
          </p:nvSpPr>
          <p:spPr>
            <a:xfrm>
              <a:off x="1313640" y="6044040"/>
              <a:ext cx="3096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79"/>
            <p:cNvSpPr/>
            <p:nvPr/>
          </p:nvSpPr>
          <p:spPr>
            <a:xfrm>
              <a:off x="1750680" y="6292800"/>
              <a:ext cx="0" cy="12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80"/>
            <p:cNvSpPr/>
            <p:nvPr/>
          </p:nvSpPr>
          <p:spPr>
            <a:xfrm>
              <a:off x="1638360" y="6414120"/>
              <a:ext cx="218880" cy="1008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l-GR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ε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81"/>
            <p:cNvSpPr/>
            <p:nvPr/>
          </p:nvSpPr>
          <p:spPr>
            <a:xfrm>
              <a:off x="1609560" y="627984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43"/>
            <p:cNvSpPr/>
            <p:nvPr/>
          </p:nvSpPr>
          <p:spPr>
            <a:xfrm flipV="1" rot="1539600">
              <a:off x="898560" y="6087240"/>
              <a:ext cx="162720" cy="74880"/>
            </a:xfrm>
            <a:prstGeom prst="pie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4"/>
            <p:cNvSpPr/>
            <p:nvPr/>
          </p:nvSpPr>
          <p:spPr>
            <a:xfrm flipV="1" rot="1539600">
              <a:off x="1010520" y="6118200"/>
              <a:ext cx="81000" cy="18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5"/>
            <p:cNvSpPr/>
            <p:nvPr/>
          </p:nvSpPr>
          <p:spPr>
            <a:xfrm flipV="1" rot="1539600">
              <a:off x="896400" y="6066360"/>
              <a:ext cx="81360" cy="187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82"/>
            <p:cNvSpPr/>
            <p:nvPr/>
          </p:nvSpPr>
          <p:spPr>
            <a:xfrm>
              <a:off x="905040" y="613800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 rot="19673400">
              <a:off x="899640" y="6213600"/>
              <a:ext cx="162720" cy="7488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 rot="20060400">
              <a:off x="1012320" y="6241320"/>
              <a:ext cx="81000" cy="1872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 rot="20060400">
              <a:off x="898920" y="6290280"/>
              <a:ext cx="81360" cy="183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83"/>
            <p:cNvSpPr/>
            <p:nvPr/>
          </p:nvSpPr>
          <p:spPr>
            <a:xfrm>
              <a:off x="908640" y="621612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84"/>
            <p:cNvSpPr/>
            <p:nvPr/>
          </p:nvSpPr>
          <p:spPr>
            <a:xfrm>
              <a:off x="1101600" y="604944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85"/>
            <p:cNvSpPr/>
            <p:nvPr/>
          </p:nvSpPr>
          <p:spPr>
            <a:xfrm>
              <a:off x="1041840" y="598464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86"/>
            <p:cNvSpPr/>
            <p:nvPr/>
          </p:nvSpPr>
          <p:spPr>
            <a:xfrm>
              <a:off x="959040" y="597240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87"/>
            <p:cNvSpPr/>
            <p:nvPr/>
          </p:nvSpPr>
          <p:spPr>
            <a:xfrm>
              <a:off x="1094040" y="6313320"/>
              <a:ext cx="3096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88"/>
            <p:cNvSpPr/>
            <p:nvPr/>
          </p:nvSpPr>
          <p:spPr>
            <a:xfrm>
              <a:off x="1038960" y="636264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89"/>
            <p:cNvSpPr/>
            <p:nvPr/>
          </p:nvSpPr>
          <p:spPr>
            <a:xfrm>
              <a:off x="960840" y="637308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90"/>
            <p:cNvSpPr/>
            <p:nvPr/>
          </p:nvSpPr>
          <p:spPr>
            <a:xfrm>
              <a:off x="1604520" y="606240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91"/>
            <p:cNvSpPr/>
            <p:nvPr/>
          </p:nvSpPr>
          <p:spPr>
            <a:xfrm>
              <a:off x="1526400" y="6041520"/>
              <a:ext cx="3132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92"/>
            <p:cNvSpPr/>
            <p:nvPr/>
          </p:nvSpPr>
          <p:spPr>
            <a:xfrm>
              <a:off x="1529280" y="6302880"/>
              <a:ext cx="30960" cy="30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-2571840" y="-2857680"/>
            <a:ext cx="13644720" cy="111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3840" y="214200"/>
            <a:ext cx="86439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Active i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cells encounter antigens and produce anti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immunity can be naturally or artificially ac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Passive I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bodies are obtained from someone 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erred naturally from a mother to her fe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erred artificially from immune serum 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mma globu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unological memory does not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ction provided by “borrowed antibod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57120" y="285840"/>
            <a:ext cx="85154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0000"/>
                </a:solidFill>
                <a:latin typeface="Calibri"/>
              </a:rPr>
              <a:t>Types of Adaptive Immune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ll-mediated immu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ponse (CMIR) – 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Humoral immune response – B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00000"/>
                </a:solidFill>
                <a:latin typeface="Calibri"/>
              </a:rPr>
              <a:t>Humoral Immune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7120" y="1071360"/>
            <a:ext cx="8429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00000"/>
                </a:solidFill>
                <a:latin typeface="Wingdings"/>
                <a:ea typeface="Wingdings"/>
              </a:rPr>
              <a:t>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 lymphocytes with specific receptors bind to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pecific anti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00000"/>
                </a:solidFill>
                <a:latin typeface="Wingdings"/>
                <a:ea typeface="Wingdings"/>
              </a:rPr>
              <a:t>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binding event activates the lymphocyte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go clonal sel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00000"/>
                </a:solidFill>
                <a:latin typeface="Wingdings"/>
                <a:ea typeface="Wingdings"/>
              </a:rPr>
              <a:t>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large number of clones are produced (prim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oral respons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00000"/>
                </a:solidFill>
                <a:latin typeface="Wingdings"/>
                <a:ea typeface="Wingdings"/>
              </a:rPr>
              <a:t>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st B cells become plasma ce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duce antibodies to destroy antige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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ctivity lasts for four or five day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00000"/>
                </a:solidFill>
                <a:latin typeface="Wingdings"/>
                <a:ea typeface="Wingdings"/>
              </a:rPr>
              <a:t>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B cells become long-lived memory ce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ary humoral respons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071720" y="-1001880"/>
            <a:ext cx="11215800" cy="866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71680" y="-928800"/>
            <a:ext cx="7786440" cy="869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Activation of B cell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Recognition of antigen by B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 cells recognize their cognate antigen in its native fo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recognize free antigens in the blood or lymph using their B-cell receptor (BCR) or membrane bound-immunoglob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antigen recognition, the B cell ingests the whole protein antigen and processes it into peptides for presentation to activated T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2143080"/>
            <a:ext cx="75438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http://upload.wikimedia.org/wikipedia/commons/thumb/f/f7/B_cell_activation.png/300px-B_cell_activation.png"/>
          <p:cNvPicPr/>
          <p:nvPr/>
        </p:nvPicPr>
        <p:blipFill>
          <a:blip r:embed="rId1"/>
          <a:stretch/>
        </p:blipFill>
        <p:spPr>
          <a:xfrm>
            <a:off x="2071800" y="0"/>
            <a:ext cx="450036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47:57Z</dcterms:created>
  <dc:creator>computer</dc:creator>
  <dc:description/>
  <dc:language>en-US</dc:language>
  <cp:lastModifiedBy>computer</cp:lastModifiedBy>
  <dcterms:modified xsi:type="dcterms:W3CDTF">2009-03-17T20:23:32Z</dcterms:modified>
  <cp:revision>71</cp:revision>
  <dc:subject/>
  <dc:title>Slide 1</dc:title>
</cp:coreProperties>
</file>