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88A-0C6A-4279-A034-578AC0E5CD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828-7AEA-4C00-B2E1-25850B7A60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811-377D-4865-AF90-04228930A1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AC2-6434-4509-8B30-A4C4F296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005-6FC6-40CA-81CD-70F5C96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792-C09B-4475-9B45-73E8B13D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1FC-C3EC-4D68-B3CD-6134F66A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6C16-EC5B-4F6F-A6F7-610E5B69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80BF-16DD-4C2C-86B7-6F1CEAFC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0D11-2852-4127-97CB-F946D38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F9B3-F320-46C0-A256-6DAD263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790E-D885-40AA-9F22-E40A6E84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BFB-B2D2-4CBA-8002-0E3270D1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9C57-9BC0-4927-B082-FE19527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9C4-EFC8-412B-ACA4-8C0CC71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0F31-DF29-42B1-8892-E7627EB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EC17-B69B-4C25-9F9B-60912DF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BF69-0771-410F-A0F0-0A97A42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22A1-BCFD-474E-B94E-1BE8C577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11E-A2E9-44A5-84CA-6CE16026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099-92B3-4592-846D-EA31C772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CB0-DF7F-4CA7-A292-80128525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017-DF7B-4E39-A5C4-3C811A52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5A6-A127-4153-B718-F681114B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C72-96E9-40A6-B996-D77ED0F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6C6-0A5A-4EE1-9075-993046C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56F-84EE-48E2-B194-EC84798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27A2-C87C-4F36-B0D1-69BBB3036D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1768-5E38-4133-8D75-A94B5B824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2fab_fc.pn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File:2fab_fc.png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1b5b"/>
                </a:solidFill>
                <a:latin typeface="Aharoni"/>
              </a:rPr>
              <a:t>ADAPTIVE</a:t>
            </a:r>
            <a:br>
              <a:rPr sz="3200"/>
            </a:br>
            <a:r>
              <a:rPr b="1" lang="en-US" sz="3200" spc="-1" strike="noStrike">
                <a:solidFill>
                  <a:srgbClr val="401b5b"/>
                </a:solidFill>
                <a:latin typeface="Aharoni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hen the body 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osed to an anti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nate I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ve I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cquir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own Arrow 3"/>
          <p:cNvSpPr/>
          <p:nvPr/>
        </p:nvSpPr>
        <p:spPr>
          <a:xfrm>
            <a:off x="4357800" y="228600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4"/>
          <p:cNvSpPr/>
          <p:nvPr/>
        </p:nvSpPr>
        <p:spPr>
          <a:xfrm>
            <a:off x="4357800" y="400068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s that recognize and bind to a particular antigen with very hig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in response to exposure to the anti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virus or microbe may have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genic determinant s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o which different antibodies may b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tibody has at least two identical sites that bind antigen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gen binding s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ce of an antibody:  Number of antigen binding sites.   Most are bival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ng to a group of serum proteins called immunoglobulins (Ig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bod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Monomer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flexible Y-shaped molecule with four polypeptide cha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identical </a:t>
            </a:r>
            <a:r>
              <a:rPr b="1" i="1" lang="en-US" sz="2200" spc="-1" strike="noStrike">
                <a:solidFill>
                  <a:srgbClr val="1f497d"/>
                </a:solidFill>
                <a:latin typeface="Arial"/>
              </a:rPr>
              <a:t>light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identical </a:t>
            </a:r>
            <a:r>
              <a:rPr b="1" i="1" lang="en-US" sz="2200" spc="-1" strike="noStrike">
                <a:solidFill>
                  <a:srgbClr val="1f497d"/>
                </a:solidFill>
                <a:latin typeface="Arial"/>
              </a:rPr>
              <a:t>heavy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Variable Regio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ections at the end of Y’s arm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antigen binding sites (Fab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cal on the same antibody, but vary from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body to an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Constant Regions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m of monomer and lower parts of Y ar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Fc region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because they can bind to complement or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4"/>
          <p:cNvSpPr/>
          <p:nvPr/>
        </p:nvSpPr>
        <p:spPr>
          <a:xfrm>
            <a:off x="4286160" y="1428840"/>
            <a:ext cx="571680" cy="1000080"/>
          </a:xfrm>
          <a:custGeom>
            <a:avLst/>
            <a:gdLst>
              <a:gd name="textAreaLeft" fmla="*/ 0 w 571680"/>
              <a:gd name="textAreaRight" fmla="*/ 206280 w 571680"/>
              <a:gd name="textAreaTop" fmla="*/ 36000 h 1000080"/>
              <a:gd name="textAreaBottom" fmla="*/ 9640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51"/>
                  <a:pt x="10800" y="2502"/>
                </a:cubicBezTo>
                <a:lnTo>
                  <a:pt x="10800" y="8298"/>
                </a:lnTo>
                <a:cubicBezTo>
                  <a:pt x="10800" y="9549"/>
                  <a:pt x="16200" y="10800"/>
                  <a:pt x="21600" y="10800"/>
                </a:cubicBezTo>
                <a:cubicBezTo>
                  <a:pt x="16200" y="10800"/>
                  <a:pt x="10800" y="12051"/>
                  <a:pt x="10800" y="13302"/>
                </a:cubicBezTo>
                <a:lnTo>
                  <a:pt x="10800" y="19098"/>
                </a:lnTo>
                <a:cubicBezTo>
                  <a:pt x="10800" y="203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00760" y="16430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ld together by disulphide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142134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85480" y="571320"/>
            <a:ext cx="4786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ge Re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he region at which the arms of the antibody molecule forms a Y is called the hinge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cause there is some flexibility in the molecule at this point.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4876920" y="1676520"/>
            <a:ext cx="4025520" cy="2971440"/>
            <a:chOff x="4876920" y="1676520"/>
            <a:chExt cx="4025520" cy="2971440"/>
          </a:xfrm>
        </p:grpSpPr>
        <p:grpSp>
          <p:nvGrpSpPr>
            <p:cNvPr id="112" name="Group 6"/>
            <p:cNvGrpSpPr/>
            <p:nvPr/>
          </p:nvGrpSpPr>
          <p:grpSpPr>
            <a:xfrm>
              <a:off x="4876920" y="1676520"/>
              <a:ext cx="4025520" cy="2971440"/>
              <a:chOff x="4876920" y="1676520"/>
              <a:chExt cx="4025520" cy="2971440"/>
            </a:xfrm>
          </p:grpSpPr>
          <p:pic>
            <p:nvPicPr>
              <p:cNvPr id="11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6920" y="1676520"/>
                <a:ext cx="4025520" cy="29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8"/>
              <p:cNvSpPr/>
              <p:nvPr/>
            </p:nvSpPr>
            <p:spPr>
              <a:xfrm>
                <a:off x="6312600" y="2215440"/>
                <a:ext cx="11541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9"/>
            <p:cNvSpPr/>
            <p:nvPr/>
          </p:nvSpPr>
          <p:spPr>
            <a:xfrm>
              <a:off x="4876920" y="4343400"/>
              <a:ext cx="2286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6095880" y="2819520"/>
            <a:ext cx="2667240" cy="1600200"/>
            <a:chOff x="6095880" y="2819520"/>
            <a:chExt cx="2667240" cy="1600200"/>
          </a:xfrm>
        </p:grpSpPr>
        <p:sp>
          <p:nvSpPr>
            <p:cNvPr id="117" name="Rectangle 11"/>
            <p:cNvSpPr/>
            <p:nvPr/>
          </p:nvSpPr>
          <p:spPr>
            <a:xfrm>
              <a:off x="6095880" y="2819520"/>
              <a:ext cx="457200" cy="609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>
              <a:off x="6781680" y="3809880"/>
              <a:ext cx="1981440" cy="609840"/>
            </a:xfrm>
            <a:prstGeom prst="ellipse">
              <a:avLst/>
            </a:prstGeom>
            <a:noFill/>
            <a:ln w="76320">
              <a:solidFill>
                <a:srgbClr val="d66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upload.wikimedia.org/wikipedia/commons/thumb/c/c9/2fab_fc.png/200px-2fab_fc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17859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en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906040" y="-41112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57200" y="49291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antibody digest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apa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yields three fragments: two Fab fragments and one Fc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Functions of Immunoglobu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99972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47307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7307"/>
                </a:solidFill>
                <a:latin typeface="Arial"/>
              </a:rPr>
              <a:t>Antigen binding </a:t>
            </a:r>
            <a:r>
              <a:rPr b="1" i="1" lang="en-US" sz="2800" spc="-1" strike="noStrike">
                <a:solidFill>
                  <a:srgbClr val="daa600"/>
                </a:solidFill>
                <a:latin typeface="Arial"/>
              </a:rPr>
              <a:t>(primary fun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munoglobulins bind specifically to one or more antigenic determinant and can result in protection of the host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Valency: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s the number of antigenic determinants that an individual antibody molecule can bind. The valency of all antibodies is at least two and in some instances m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4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13840" y="28584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05e06"/>
              </a:buClr>
              <a:buFont typeface="Calibri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7307"/>
                </a:solidFill>
                <a:latin typeface="Calibri"/>
              </a:rPr>
              <a:t>Effector fu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07eb"/>
                </a:solidFill>
                <a:latin typeface="Calibri"/>
              </a:rPr>
              <a:t>Fixation of complement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07eb"/>
                </a:solidFill>
                <a:latin typeface="Arial"/>
              </a:rPr>
              <a:t>lysis of cells, release of biologically active molecu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07eb"/>
                </a:solidFill>
                <a:latin typeface="Calibri"/>
              </a:rPr>
              <a:t>Binding to various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807eb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phagocytic cel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lymphocyte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mast cel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basophi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 have receptors that bind immunoglobulins and thus get activ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Some immunoglobulins also bind to receptors on placental trophoblasts, leading to transfer of the Igs across the placenta </a:t>
            </a:r>
            <a:r>
              <a:rPr b="1" i="1" lang="en-US" sz="2800" spc="-1" strike="noStrike">
                <a:solidFill>
                  <a:srgbClr val="4807eb"/>
                </a:solidFill>
                <a:latin typeface="Calibri"/>
              </a:rPr>
              <a:t>(provide immunity  to the  fet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4807e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4807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Arrow 3"/>
          <p:cNvSpPr/>
          <p:nvPr/>
        </p:nvSpPr>
        <p:spPr>
          <a:xfrm flipV="1">
            <a:off x="4643280" y="114300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mmunoglobulin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 - Gamm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M - Mu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 - Alph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D - Delt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E - Epsilon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mmunoglobulin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1 - Gamma 1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2 - Gamma 2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3 - Gamma 3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4 - Gamma 4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1 - Alpha 1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2 - Alpha 2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857840" y="7142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globul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Chain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pa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alibri"/>
              </a:rPr>
              <a:t>Different Immunoglobul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64200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g binding 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cell surfaces where it functions as a receptor for A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cell 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85" descr="igg"/>
          <p:cNvPicPr/>
          <p:nvPr/>
        </p:nvPicPr>
        <p:blipFill>
          <a:blip r:embed="rId1"/>
          <a:stretch/>
        </p:blipFill>
        <p:spPr>
          <a:xfrm>
            <a:off x="571680" y="928800"/>
            <a:ext cx="1726920" cy="103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2" descr="IgM"/>
          <p:cNvPicPr/>
          <p:nvPr/>
        </p:nvPicPr>
        <p:blipFill>
          <a:blip r:embed="rId2"/>
          <a:stretch/>
        </p:blipFill>
        <p:spPr>
          <a:xfrm>
            <a:off x="714240" y="2071800"/>
            <a:ext cx="1041480" cy="85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5" descr="IgA"/>
          <p:cNvPicPr/>
          <p:nvPr/>
        </p:nvPicPr>
        <p:blipFill>
          <a:blip r:embed="rId3"/>
          <a:stretch/>
        </p:blipFill>
        <p:spPr>
          <a:xfrm>
            <a:off x="428760" y="3214800"/>
            <a:ext cx="191772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7" descr="IgE"/>
          <p:cNvPicPr/>
          <p:nvPr/>
        </p:nvPicPr>
        <p:blipFill>
          <a:blip r:embed="rId4"/>
          <a:stretch/>
        </p:blipFill>
        <p:spPr>
          <a:xfrm>
            <a:off x="642960" y="4786200"/>
            <a:ext cx="131292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97"/>
          <p:cNvGrpSpPr/>
          <p:nvPr/>
        </p:nvGrpSpPr>
        <p:grpSpPr>
          <a:xfrm>
            <a:off x="707400" y="5897880"/>
            <a:ext cx="1149840" cy="1524960"/>
            <a:chOff x="707400" y="5897880"/>
            <a:chExt cx="1149840" cy="1524960"/>
          </a:xfrm>
        </p:grpSpPr>
        <p:sp>
          <p:nvSpPr>
            <p:cNvPr id="138" name="Line 38"/>
            <p:cNvSpPr/>
            <p:nvPr/>
          </p:nvSpPr>
          <p:spPr>
            <a:xfrm flipV="1">
              <a:off x="974160" y="6262920"/>
              <a:ext cx="45360" cy="2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1080000" y="6229440"/>
              <a:ext cx="1548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7"/>
            <p:cNvSpPr/>
            <p:nvPr/>
          </p:nvSpPr>
          <p:spPr>
            <a:xfrm flipH="1">
              <a:off x="1079640" y="6112800"/>
              <a:ext cx="1548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1"/>
            <p:cNvSpPr/>
            <p:nvPr/>
          </p:nvSpPr>
          <p:spPr>
            <a:xfrm rot="19817400">
              <a:off x="717120" y="6298200"/>
              <a:ext cx="162720" cy="748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 rot="20060400">
              <a:off x="827640" y="63187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 rot="20060400">
              <a:off x="715680" y="63727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4"/>
            <p:cNvSpPr/>
            <p:nvPr/>
          </p:nvSpPr>
          <p:spPr>
            <a:xfrm flipV="1">
              <a:off x="1668600" y="6229080"/>
              <a:ext cx="162720" cy="74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 flipV="1">
              <a:off x="1771200" y="62319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 flipV="1">
              <a:off x="1645560" y="62305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7"/>
            <p:cNvSpPr/>
            <p:nvPr/>
          </p:nvSpPr>
          <p:spPr>
            <a:xfrm flipV="1">
              <a:off x="1253520" y="6225480"/>
              <a:ext cx="162720" cy="7488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 flipV="1">
              <a:off x="1357560" y="62287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9"/>
            <p:cNvSpPr/>
            <p:nvPr/>
          </p:nvSpPr>
          <p:spPr>
            <a:xfrm flipV="1">
              <a:off x="1231200" y="62269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 flipV="1">
              <a:off x="1461600" y="6228000"/>
              <a:ext cx="162720" cy="74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1"/>
            <p:cNvSpPr/>
            <p:nvPr/>
          </p:nvSpPr>
          <p:spPr>
            <a:xfrm flipV="1">
              <a:off x="1565640" y="62305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2"/>
            <p:cNvSpPr/>
            <p:nvPr/>
          </p:nvSpPr>
          <p:spPr>
            <a:xfrm flipV="1">
              <a:off x="1438920" y="6228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flipV="1">
              <a:off x="1199160" y="619884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 flipV="1">
              <a:off x="1105560" y="619884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 flipV="1">
              <a:off x="1136520" y="619884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flipV="1">
              <a:off x="1168200" y="619884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30"/>
            <p:cNvSpPr/>
            <p:nvPr/>
          </p:nvSpPr>
          <p:spPr>
            <a:xfrm flipV="1" rot="20063400">
              <a:off x="948240" y="6292080"/>
              <a:ext cx="162720" cy="7488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1"/>
            <p:cNvSpPr/>
            <p:nvPr/>
          </p:nvSpPr>
          <p:spPr>
            <a:xfrm flipV="1" rot="20063400">
              <a:off x="1034280" y="6270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2"/>
            <p:cNvSpPr/>
            <p:nvPr/>
          </p:nvSpPr>
          <p:spPr>
            <a:xfrm flipV="1" rot="20063400">
              <a:off x="920160" y="63241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1312920" y="623556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1727280" y="624096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>
              <a:off x="1519920" y="623880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V="1">
              <a:off x="995400" y="6294600"/>
              <a:ext cx="45000" cy="2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V="1">
              <a:off x="790560" y="6343920"/>
              <a:ext cx="42840" cy="2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7"/>
            <p:cNvSpPr/>
            <p:nvPr/>
          </p:nvSpPr>
          <p:spPr>
            <a:xfrm flipV="1" rot="20063400">
              <a:off x="762120" y="6374160"/>
              <a:ext cx="162720" cy="74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 flipV="1" rot="20063400">
              <a:off x="848160" y="63529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flipV="1" rot="20063400">
              <a:off x="733680" y="6405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 flipV="1">
              <a:off x="809280" y="6377040"/>
              <a:ext cx="45360" cy="2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1"/>
            <p:cNvSpPr/>
            <p:nvPr/>
          </p:nvSpPr>
          <p:spPr>
            <a:xfrm>
              <a:off x="1316160" y="629928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46"/>
            <p:cNvSpPr/>
            <p:nvPr/>
          </p:nvSpPr>
          <p:spPr>
            <a:xfrm flipV="1" rot="1539600">
              <a:off x="715320" y="6004800"/>
              <a:ext cx="162720" cy="748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7"/>
            <p:cNvSpPr/>
            <p:nvPr/>
          </p:nvSpPr>
          <p:spPr>
            <a:xfrm flipV="1" rot="1539600">
              <a:off x="824400" y="603828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8"/>
            <p:cNvSpPr/>
            <p:nvPr/>
          </p:nvSpPr>
          <p:spPr>
            <a:xfrm flipV="1" rot="1539600">
              <a:off x="714240" y="598536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9"/>
            <p:cNvSpPr/>
            <p:nvPr/>
          </p:nvSpPr>
          <p:spPr>
            <a:xfrm>
              <a:off x="1664640" y="6071760"/>
              <a:ext cx="162720" cy="7488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1768680" y="61243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1641960" y="6126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2"/>
            <p:cNvSpPr/>
            <p:nvPr/>
          </p:nvSpPr>
          <p:spPr>
            <a:xfrm>
              <a:off x="1251000" y="6075360"/>
              <a:ext cx="162720" cy="74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1354680" y="61275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1228680" y="613008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1458720" y="6072480"/>
              <a:ext cx="162720" cy="748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1562760" y="612648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436040" y="61279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58"/>
            <p:cNvSpPr/>
            <p:nvPr/>
          </p:nvSpPr>
          <p:spPr>
            <a:xfrm>
              <a:off x="1196280" y="609840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59"/>
            <p:cNvSpPr/>
            <p:nvPr/>
          </p:nvSpPr>
          <p:spPr>
            <a:xfrm>
              <a:off x="1102680" y="609840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0"/>
            <p:cNvSpPr/>
            <p:nvPr/>
          </p:nvSpPr>
          <p:spPr>
            <a:xfrm>
              <a:off x="1133640" y="609840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1"/>
            <p:cNvSpPr/>
            <p:nvPr/>
          </p:nvSpPr>
          <p:spPr>
            <a:xfrm>
              <a:off x="1165320" y="609840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2"/>
            <p:cNvSpPr/>
            <p:nvPr/>
          </p:nvSpPr>
          <p:spPr>
            <a:xfrm rot="1536600">
              <a:off x="761400" y="5929200"/>
              <a:ext cx="162720" cy="74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3"/>
            <p:cNvSpPr/>
            <p:nvPr/>
          </p:nvSpPr>
          <p:spPr>
            <a:xfrm rot="1500000">
              <a:off x="846720" y="60055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4"/>
            <p:cNvSpPr/>
            <p:nvPr/>
          </p:nvSpPr>
          <p:spPr>
            <a:xfrm rot="1500000">
              <a:off x="731520" y="5955120"/>
              <a:ext cx="81360" cy="18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65"/>
            <p:cNvSpPr/>
            <p:nvPr/>
          </p:nvSpPr>
          <p:spPr>
            <a:xfrm rot="1536600">
              <a:off x="948240" y="6008760"/>
              <a:ext cx="162720" cy="748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6"/>
            <p:cNvSpPr/>
            <p:nvPr/>
          </p:nvSpPr>
          <p:spPr>
            <a:xfrm rot="1500000">
              <a:off x="1030320" y="6084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7"/>
            <p:cNvSpPr/>
            <p:nvPr/>
          </p:nvSpPr>
          <p:spPr>
            <a:xfrm rot="1500000">
              <a:off x="917280" y="60321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1721880" y="613224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1515960" y="6134760"/>
              <a:ext cx="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1308240" y="613728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1"/>
            <p:cNvSpPr/>
            <p:nvPr/>
          </p:nvSpPr>
          <p:spPr>
            <a:xfrm flipH="1" flipV="1">
              <a:off x="972360" y="6089760"/>
              <a:ext cx="42840" cy="2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2"/>
            <p:cNvSpPr/>
            <p:nvPr/>
          </p:nvSpPr>
          <p:spPr>
            <a:xfrm flipH="1" flipV="1">
              <a:off x="808560" y="5979600"/>
              <a:ext cx="4248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3"/>
            <p:cNvSpPr/>
            <p:nvPr/>
          </p:nvSpPr>
          <p:spPr>
            <a:xfrm flipH="1" flipV="1">
              <a:off x="789120" y="6009840"/>
              <a:ext cx="4176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4"/>
            <p:cNvSpPr/>
            <p:nvPr/>
          </p:nvSpPr>
          <p:spPr>
            <a:xfrm flipH="1" flipV="1">
              <a:off x="992880" y="6057000"/>
              <a:ext cx="4248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>
              <a:off x="1183680" y="6171480"/>
              <a:ext cx="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>
              <a:off x="1213200" y="6172920"/>
              <a:ext cx="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8"/>
            <p:cNvSpPr/>
            <p:nvPr/>
          </p:nvSpPr>
          <p:spPr>
            <a:xfrm>
              <a:off x="1313640" y="604404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9"/>
            <p:cNvSpPr/>
            <p:nvPr/>
          </p:nvSpPr>
          <p:spPr>
            <a:xfrm>
              <a:off x="1750680" y="6292800"/>
              <a:ext cx="0" cy="1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0"/>
            <p:cNvSpPr/>
            <p:nvPr/>
          </p:nvSpPr>
          <p:spPr>
            <a:xfrm>
              <a:off x="1638360" y="6414120"/>
              <a:ext cx="21888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ε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1"/>
            <p:cNvSpPr/>
            <p:nvPr/>
          </p:nvSpPr>
          <p:spPr>
            <a:xfrm>
              <a:off x="1609560" y="62798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3"/>
            <p:cNvSpPr/>
            <p:nvPr/>
          </p:nvSpPr>
          <p:spPr>
            <a:xfrm flipV="1" rot="1539600">
              <a:off x="898560" y="6087240"/>
              <a:ext cx="162720" cy="748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4"/>
            <p:cNvSpPr/>
            <p:nvPr/>
          </p:nvSpPr>
          <p:spPr>
            <a:xfrm flipV="1" rot="1539600">
              <a:off x="1010520" y="611820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5"/>
            <p:cNvSpPr/>
            <p:nvPr/>
          </p:nvSpPr>
          <p:spPr>
            <a:xfrm flipV="1" rot="1539600">
              <a:off x="896400" y="6066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905040" y="61380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 rot="19673400">
              <a:off x="899640" y="6213600"/>
              <a:ext cx="162720" cy="7488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 rot="20060400">
              <a:off x="1012320" y="62413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 rot="20060400">
              <a:off x="898920" y="6290280"/>
              <a:ext cx="8136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83"/>
            <p:cNvSpPr/>
            <p:nvPr/>
          </p:nvSpPr>
          <p:spPr>
            <a:xfrm>
              <a:off x="908640" y="621612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4"/>
            <p:cNvSpPr/>
            <p:nvPr/>
          </p:nvSpPr>
          <p:spPr>
            <a:xfrm>
              <a:off x="1101600" y="60494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5"/>
            <p:cNvSpPr/>
            <p:nvPr/>
          </p:nvSpPr>
          <p:spPr>
            <a:xfrm>
              <a:off x="1041840" y="59846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86"/>
            <p:cNvSpPr/>
            <p:nvPr/>
          </p:nvSpPr>
          <p:spPr>
            <a:xfrm>
              <a:off x="959040" y="59724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87"/>
            <p:cNvSpPr/>
            <p:nvPr/>
          </p:nvSpPr>
          <p:spPr>
            <a:xfrm>
              <a:off x="1094040" y="631332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8"/>
            <p:cNvSpPr/>
            <p:nvPr/>
          </p:nvSpPr>
          <p:spPr>
            <a:xfrm>
              <a:off x="1038960" y="63626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9"/>
            <p:cNvSpPr/>
            <p:nvPr/>
          </p:nvSpPr>
          <p:spPr>
            <a:xfrm>
              <a:off x="960840" y="637308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90"/>
            <p:cNvSpPr/>
            <p:nvPr/>
          </p:nvSpPr>
          <p:spPr>
            <a:xfrm>
              <a:off x="1604520" y="60624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91"/>
            <p:cNvSpPr/>
            <p:nvPr/>
          </p:nvSpPr>
          <p:spPr>
            <a:xfrm>
              <a:off x="1526400" y="604152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2"/>
            <p:cNvSpPr/>
            <p:nvPr/>
          </p:nvSpPr>
          <p:spPr>
            <a:xfrm>
              <a:off x="1529280" y="630288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-2571840" y="-2857680"/>
            <a:ext cx="13644720" cy="111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ctive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cells encounter antigens and produce 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immunity can be naturally or artificially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assive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bodies are obtained from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red naturally from a mother to her fe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red artificially from immune serum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ma glob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unological memory does not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on provided by “borrowed antibod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57120" y="285840"/>
            <a:ext cx="8515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000"/>
                </a:solidFill>
                <a:latin typeface="Calibri"/>
              </a:rPr>
              <a:t>Types of Adaptive Immune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-mediated imm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ponse (CMIR) – 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Humoral immune response – B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Calibri"/>
              </a:rPr>
              <a:t>Humoral Immun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 lymphocytes with specific receptors bind to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fic anti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inding event activates the lymphocyte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go clonal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arge number of clones are produced (pri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oral respo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B cells become plasma ce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e antibodies to destroy antig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ivity lasts for four or five day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B cells become long-lived memory ce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ary humoral respo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071720" y="-1001880"/>
            <a:ext cx="11215800" cy="86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680" y="-928800"/>
            <a:ext cx="7786440" cy="86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Activation of B cell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ognition of antigen by B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 cells recognize their cognate antigen in its native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recognize free antigens in the blood or lymph using their B-cell receptor (BCR) or membrane bound-immunoglob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antigen recognition, the B cell ingests the whole protein antigen and processes it into peptides for presentation to activated 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143080"/>
            <a:ext cx="7543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upload.wikimedia.org/wikipedia/commons/thumb/f/f7/B_cell_activation.png/300px-B_cell_activation.png"/>
          <p:cNvPicPr/>
          <p:nvPr/>
        </p:nvPicPr>
        <p:blipFill>
          <a:blip r:embed="rId1"/>
          <a:stretch/>
        </p:blipFill>
        <p:spPr>
          <a:xfrm>
            <a:off x="2071800" y="0"/>
            <a:ext cx="45003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47:57Z</dcterms:created>
  <dc:creator>computer</dc:creator>
  <dc:description/>
  <dc:language>en-US</dc:language>
  <cp:lastModifiedBy>computer</cp:lastModifiedBy>
  <dcterms:modified xsi:type="dcterms:W3CDTF">2009-03-17T20:23:32Z</dcterms:modified>
  <cp:revision>71</cp:revision>
  <dc:subject/>
  <dc:title>Slide 1</dc:title>
</cp:coreProperties>
</file>