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F4FE-BFBE-4229-8937-E43EA3C9B3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4ECA-700A-4E86-93FA-606F94DDD2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E6E-BDFA-4734-9A1A-5C42A3C6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1DA-D810-4D6C-B2B6-95060341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B25-5F63-4E50-BBA4-8DE459C4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509-BAE8-4B7A-B14F-CF2FE39B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86B-0159-4916-8F17-69E46A03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B7B-8679-4CF8-B62D-61705051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EC5-82E8-4B68-AC78-3E822D5C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6F2-51BE-4F0B-86C8-0D366F1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4ACD-7186-46CD-8D77-416E8356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0A2-85F9-403C-B415-9FD87756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8BE-E797-4875-98BD-5C7F0F37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EA4-D5BC-4825-80A2-8330CAF2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3EC8-A3B8-4DDF-806C-78B192382B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ancer" TargetMode="External"/><Relationship Id="rId2" Type="http://schemas.openxmlformats.org/officeDocument/2006/relationships/hyperlink" Target="http://en.wikipedia.org/wiki/Antigen" TargetMode="External"/><Relationship Id="rId3" Type="http://schemas.openxmlformats.org/officeDocument/2006/relationships/hyperlink" Target="http://en.wikipedia.org/wiki/Toxin" TargetMode="External"/><Relationship Id="rId4" Type="http://schemas.openxmlformats.org/officeDocument/2006/relationships/hyperlink" Target="http://en.wikipedia.org/wiki/Radioisotope" TargetMode="External"/><Relationship Id="rId5" Type="http://schemas.openxmlformats.org/officeDocument/2006/relationships/hyperlink" Target="http://en.wikipedia.org/wiki/Cytokine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ntibody" TargetMode="External"/><Relationship Id="rId2" Type="http://schemas.openxmlformats.org/officeDocument/2006/relationships/hyperlink" Target="http://en.wikipedia.org/wiki/Monoclonal_antibodies" TargetMode="External"/><Relationship Id="rId3" Type="http://schemas.openxmlformats.org/officeDocument/2006/relationships/hyperlink" Target="http://en.wikipedia.org/wiki/B-cells" TargetMode="External"/><Relationship Id="rId4" Type="http://schemas.openxmlformats.org/officeDocument/2006/relationships/hyperlink" Target="http://en.wikipedia.org/wiki/Myeloma" TargetMode="External"/><Relationship Id="rId5" Type="http://schemas.openxmlformats.org/officeDocument/2006/relationships/hyperlink" Target="http://en.wikipedia.org/wiki/Membrane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omic"/>
              </a:rPr>
              <a:t>Monoclonal  antibodi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3142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52579"/>
                </a:solidFill>
                <a:latin typeface="comic"/>
              </a:rPr>
              <a:t>Hybridoma Techniqu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38080" y="1523880"/>
            <a:ext cx="7620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uring protein and drug levels in ser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ping tissue and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infectious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clusters of differentiation (CDs)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and follow-up therapy of leukemia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o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tumor metast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fying and quantifying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unoaffinity Purif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639720"/>
            <a:ext cx="6296040" cy="581400"/>
          </a:xfrm>
          <a:prstGeom prst="rect">
            <a:avLst/>
          </a:prstGeom>
          <a:solidFill>
            <a:srgbClr val="ddffe8"/>
          </a:solidFill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monoclonal  Ab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0f33"/>
                </a:solidFill>
                <a:latin typeface="Times New Roman"/>
              </a:rPr>
              <a:t>Applications of Monoclonal Antibo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14264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agnostic Applic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rapeutic Applications</a:t>
            </a:r>
            <a:br>
              <a:rPr sz="28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plant rejec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rdiovascular diseas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ance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fectious Diseas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flammatory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inical Applications</a:t>
            </a:r>
            <a:br>
              <a:rPr sz="2800"/>
            </a:b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rification of drugs, Imaging the targ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ture Applications </a:t>
            </a:r>
            <a:br>
              <a:rPr sz="2800"/>
            </a:b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ght against Bioterroris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85840" y="285480"/>
            <a:ext cx="85010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agnostic Applications (Immuno-ctochemist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 and tumors can be classified based on their expression of certain defined markers: e.g. Prostate specific antigen(PS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tissues and tum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shing morphologically similar lesions, like mesothelioma and adenocarcin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ng small quantities of  metastatic cancer and MD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95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rapeutic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ossible treatment for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canc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monoclonal antibodies that bind only to cancer cell-specific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antigen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nduce an immunological response against cancer cell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Three mechanisms responsible for the cancer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bs act directely when binding to a cancer specific antigens and induce immunological response to cancer cells(apoptosis, inhibiting growt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bs can be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modified for delivery of a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3"/>
              </a:rPr>
              <a:t>toxin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4"/>
              </a:rPr>
              <a:t>radioisotop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, </a:t>
            </a:r>
            <a:r>
              <a:rPr b="0" lang="ar-SA" sz="2400" spc="-1" strike="noStrike" u="sng">
                <a:solidFill>
                  <a:srgbClr val="0000ff"/>
                </a:solidFill>
                <a:uFillTx/>
                <a:latin typeface="Calibri"/>
                <a:ea typeface="SimSun"/>
                <a:hlinkClick r:id="rId5"/>
              </a:rPr>
              <a:t>cytokine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SimSun"/>
              </a:rPr>
              <a:t> or other active conjug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possible to design bispecific antibodies that can bind with their Fab regions both to target antigen and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or ce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noclonal antibodies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Ab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lonal antibodies 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monospecif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 that are </a:t>
            </a:r>
            <a:r>
              <a:rPr b="1" i="1" lang="en-US" sz="2400" spc="-1" strike="noStrike">
                <a:solidFill>
                  <a:srgbClr val="2f0ff1"/>
                </a:solidFill>
                <a:latin typeface="Times New Roman"/>
                <a:ea typeface="Times New Roman"/>
              </a:rPr>
              <a:t>identic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y are produced by one type of immune cell (a single parent cell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odies produced from a single clone of B ce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fusing a B cell secreting the desired antibody with a myeloma cell capable of growing indefinitely in tissue cul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lonal antibodies all have identical antigen-binding sites.   i.e. they all bind to the same epitope with the same affinit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all of the same antibody class (isotyp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yclonal antibod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 mixture of antibodies with different antigen binding sites that may bind to different epitopes or antigens with varying affiniti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be of different antibody cla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um obtained from an immunized animal is referred to as a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lyclonal antiser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3840" y="28548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brido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e cells that have been engineered to produce a desired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tibod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large amou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duce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monoclonal antibodi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B-cell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removed from the spleen of an animal that has been challenged with the relevant an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B-cells are then fused with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myelo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umor cells that can grow indefinitely in cul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sion is performed by making the cell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membran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re permeabl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sed hybrid cells </a:t>
            </a:r>
            <a:r>
              <a:rPr b="0" lang="en-US" sz="2800" spc="-1" strike="noStrike" u="sng">
                <a:solidFill>
                  <a:srgbClr val="2f0ff1"/>
                </a:solidFill>
                <a:uFillTx/>
                <a:latin typeface="Times New Roman"/>
                <a:ea typeface="Times New Roman"/>
              </a:rPr>
              <a:t>(hybridoma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ing cancer cells, will multiply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apid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finite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ill produce large amounts of the desired 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28760" y="228600"/>
            <a:ext cx="81439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ctical steps in monoclonal antibody prod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Immunize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solate spleen cells (containing antibody-producing B ce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Fuse spleen cells with myeloma cells (e.g. using PEG - polyethylene gly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llow unfused B cells to 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Add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minopter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ulture to kill unfused myeloma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Clone remaining cells (place 1 cell/well and allow each cell to grow into a clone of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Screen supernatant of each clone for presence of the desired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Grow the chosen clone of cells in tissue culture indefini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Harvest antibody from the culture superna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onoclonal"/>
          <p:cNvPicPr/>
          <p:nvPr/>
        </p:nvPicPr>
        <p:blipFill>
          <a:blip r:embed="rId1"/>
          <a:stretch/>
        </p:blipFill>
        <p:spPr>
          <a:xfrm>
            <a:off x="1371600" y="228600"/>
            <a:ext cx="60325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12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eloma cells lack certain enzymes so that they can not use hypoxanthine, aminopterin, and thymidine(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um) as a source for nucleic acid biosynthesis and will die in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12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B cells that have fused with the engineered myeloma cells will survive in culture when grown in HAT med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650880" y="228600"/>
            <a:ext cx="69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bridom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“HAT Trick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fication of monoclonal Antibod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tamina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dia components: hormones, growth factors, transferrins……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ral, bacterial,endotoxins….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ods of purific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lteration for larger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trafilteration esp. for low concentration s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romatograph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on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exchange chromatography (either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ation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can be used   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st impurities are usually anions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ize exclusion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romat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876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combinant monoclonal antibodi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recombinant and especially recombinant DNA refers to an artificial method of producing DN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DNA and protein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nt DNA is produced through the addition of relevant DNA into an existing organismal genome, such as the plasmid of bac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nt antibody engineering involves the use of viruses or yeast to create antibodies, rather than m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gment of DNA is recombined (recombinant) with the original DNA of the </a:t>
            </a:r>
            <a:r>
              <a:rPr b="0" lang="en-US" sz="24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bacte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se genetically modified bacteria </a:t>
            </a:r>
            <a:r>
              <a:rPr b="0" lang="en-US" sz="2400" spc="-1" strike="noStrike">
                <a:solidFill>
                  <a:srgbClr val="bc0000"/>
                </a:solidFill>
                <a:latin typeface="Times New Roman"/>
                <a:ea typeface="Times New Roman"/>
              </a:rPr>
              <a:t>rapidly reprodu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y that reproduce the DNA segment that was recombined with the original genom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06:42:36Z</dcterms:created>
  <dc:creator>ksu</dc:creator>
  <dc:description/>
  <dc:language>en-US</dc:language>
  <cp:lastModifiedBy>PROF.SALEH</cp:lastModifiedBy>
  <dcterms:modified xsi:type="dcterms:W3CDTF">2009-04-07T19:08:29Z</dcterms:modified>
  <cp:revision>63</cp:revision>
  <dc:subject/>
  <dc:title>Slide 1</dc:title>
</cp:coreProperties>
</file>