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068-63D6-4FD2-AF68-975ED5E4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7B73-D811-4CE3-9D4D-EF073A7B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BCD-A7EF-4AFE-BC72-3B69FB55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CD6-A6F2-43C7-A020-20BFD72C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04CC-B052-402B-A6C0-6473CFFD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4A5F-1501-45B9-B3F1-B9F760F1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1D06-97F7-4D48-9274-12F9F8B3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A77E-DD3D-47A2-B90A-79C7CA31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0AAE-A827-4799-A844-94BFA45B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DD64-12F9-4D42-BF4C-5F09BE1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A73C-A165-4D76-869C-5CB4151F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A52-87CE-44F0-9FCF-C185A85A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3AAD-1E6D-4E14-A0D1-E2B30F2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DF72-D255-4153-903E-F90F6C00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1275-2DFE-452A-A4C2-A709CABA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D20B-B22B-49DE-B0F1-62A4564F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3098-B10B-47CF-B1BF-B61CA344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FD177-EC89-433F-AE98-2D2B80F7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923956-5F7B-42CD-8816-6D41A5C5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E4230-6A80-42CE-B635-2544CC95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4AD74D-BB8A-47E7-8AAB-BEFC9FDF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20F59-7B04-4FF1-BF44-C829D9A7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90E-FF4E-4FA0-87C6-56662ECF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ADA63-186E-42E8-8CCD-D5E80F0D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3386D-5BAD-4718-B782-4991BEAA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011A1-EF2F-474C-8729-B044310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F8672-6364-408C-81F8-39DB4C9A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05C83-5479-49ED-AF89-FD2F33EC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59C3-0FD9-462B-99B2-0911DFEB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D33DA-6206-4532-B99A-C1D4C719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38DF1-C780-4998-8904-004A6C20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BDFB3-EB43-450C-80EB-499657B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BC60-FB7D-4525-BFA0-41B1FC8C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E0B-0B9E-4D4B-8BAC-D07CE05F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9A5C-87DF-4C09-B289-DFD81277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C013-36DB-4EB4-A14B-E4199BE9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99C0C-CC61-49EC-82A2-44E7406D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EA757-B372-4203-8186-3CE5E1B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219E-A842-48FB-A980-7630D5A0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2A83-38A5-4958-B833-853D199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83E2-EC29-4C93-BB34-68BB47C5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A9EE-EB21-4914-95AC-58625F21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BD27-F195-45E7-8350-4DD4A217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F298D-FB51-4BD4-AF90-FA2C78C3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C46-5B60-4D2D-914E-A19F34F6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27B0B-4CE8-4465-A741-F24A300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BE210-4D2F-49B8-8BD1-B97113E9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9B555-C0F1-4369-A412-CC53E51E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141D4-C791-475A-9916-601BA606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8ABA2-DC18-4CB7-9FA9-C9ABF327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82F52-FF7F-4187-9AFA-EB65AC2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74203-A580-4D31-88B3-8B574C74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9A95E-2D2E-4802-84BD-4626C208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5A77D-F174-4A37-894F-1D72CFA9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FBB443-0164-42B3-B730-62A455CC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B2F-35FC-4EEB-BAB5-BA47EDF4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02E6E-5696-47F1-A151-4F586B7C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7FC62-6BBC-4CCB-9BC3-038E473B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C7427-AB16-4CC4-8B03-B673B1CD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1D69A-842D-4A31-8696-A700B76F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7E50A-1319-40DA-AB80-244C3980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D6800F-4C03-40B0-8800-D840FBAC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4D593-E847-4B34-BD8C-FBC814E9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95B2F-6911-4580-A922-1508548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FE1A9-0DC5-459C-8621-864B4A4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F66FBB-176E-4FBC-8ABD-D5E9E64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9AB-280A-4190-ABF8-13AB981C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053A1-4EC3-42C5-BB8B-8D6AEF5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EDB5E-C090-47A6-8ED4-3EF257CF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7B763B-8749-400F-AF09-34D40526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F5BD47-2228-431F-B315-512CD279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0AE71E-A854-4A0A-9FD1-46A238E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2F6D3-E583-4E2B-A5CD-5FD0226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02CD67-60DE-4993-B27E-15BF38E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9F458-7E38-417F-8827-4DDB969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25E5B2-7892-4277-8AB1-56CC4624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1C88C-43E1-40DC-AF98-D6735631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D94-2F71-4D49-B7D8-80AA530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E53871-DF6D-4715-8755-0F1C9361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72101-B382-4FDE-A3B0-671419F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6212D-DBD0-401B-9D11-02F9EE7B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1B509-3DF4-4DF0-B7E5-23D9A202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8005C-F792-44B7-938B-B209DE48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501-2038-4312-A8B4-5F37AC95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7EDB-1C03-4695-A849-42B23ACD74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CB2B-037D-442B-826F-511DE76C77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2B7-9C4C-4215-A29E-E7B078CF7F3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C7F4-D01F-44C4-BE84-8F176FD73E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F739-83F9-4075-8C37-B49A79D59E4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1693-D264-4971-AFCC-1E4538AB2C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3AF4-5388-408F-9FD9-CFCC1E7586D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0" y="11430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919240"/>
                <a:tab algn="l" pos="3024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05800"/>
                </a:solidFill>
                <a:latin typeface="comic"/>
                <a:ea typeface="Times New Roman"/>
              </a:rPr>
              <a:t>MAJOR</a:t>
            </a:r>
            <a:br>
              <a:rPr sz="4400"/>
            </a:br>
            <a:r>
              <a:rPr b="0" lang="en-US" sz="4400" spc="-1" strike="noStrike">
                <a:solidFill>
                  <a:srgbClr val="b05800"/>
                </a:solidFill>
                <a:latin typeface="comic"/>
                <a:ea typeface="Times New Roman"/>
              </a:rPr>
              <a:t>HISTOCOMPATIBILITY COMPLEX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04560" y="22860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entury Schoolbook"/>
              </a:rPr>
              <a:t>INHERITANCE: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he order of the MHC genes on chromosome 6 i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A , C , B , C2 , Bf , C4 , 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HLA-A ,  -B,  -C and -D are the most polymorphic in huma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hese four loci are closely linked and are inherited as a single entity called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haplotype </a:t>
            </a:r>
            <a:r>
              <a:rPr b="1" lang="en-US" sz="2400" spc="-1" strike="noStrike">
                <a:solidFill>
                  <a:srgbClr val="7030a0"/>
                </a:solidFill>
                <a:latin typeface="Century Schoolbook"/>
              </a:rPr>
              <a:t>(</a:t>
            </a:r>
            <a:r>
              <a:rPr b="1" lang="en-US" sz="2400" spc="-1" strike="noStrike">
                <a:solidFill>
                  <a:srgbClr val="57257d"/>
                </a:solidFill>
                <a:latin typeface="Century Schoolbook"/>
              </a:rPr>
              <a:t>the particular combination of MHC alleles found on one parental chromosom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The number of haplotypes is v.large</a:t>
            </a:r>
            <a:r>
              <a:rPr b="0" lang="en-US" sz="2600" spc="-1" strike="noStrike">
                <a:solidFill>
                  <a:srgbClr val="c00000"/>
                </a:solidFill>
                <a:latin typeface="Wingdings 3"/>
                <a:ea typeface="Wingdings 3"/>
              </a:rPr>
              <a:t></a:t>
            </a: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unimaginable</a:t>
            </a:r>
            <a:r>
              <a:rPr b="0" lang="en-US" sz="26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genotypes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entury Schoolbook"/>
              </a:rPr>
              <a:t>NOMENCLATURE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indent="103320">
              <a:lnSpc>
                <a:spcPct val="80000"/>
              </a:lnSpc>
              <a:spcBef>
                <a:spcPts val="601"/>
              </a:spcBef>
              <a:buClr>
                <a:srgbClr val="5a160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entury Schoolbook"/>
              </a:rPr>
              <a:t>Is by a combination of letters (HLA-A , HLA-B) in order of description</a:t>
            </a:r>
            <a:r>
              <a:rPr b="0" lang="en-US" sz="19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6840" y="304920"/>
            <a:ext cx="8001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UMBERING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ntigens is non-overlapping: e.g.           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       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3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4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5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w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6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7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,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8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2120" indent="-228600">
              <a:spcBef>
                <a:spcPts val="425"/>
              </a:spcBef>
              <a:buClr>
                <a:srgbClr val="5a160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Some</a:t>
            </a: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re subtyped: e.g. HLA 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9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: HLA-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3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Wingdings 3"/>
                <a:ea typeface="Wingdings 3"/>
              </a:rPr>
              <a:t>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3(9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                                                                        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HLA-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4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Wingdings 3"/>
                <a:ea typeface="Wingdings 3"/>
              </a:rPr>
              <a:t>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A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4(9)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2120" indent="-228600">
              <a:spcBef>
                <a:spcPts val="425"/>
              </a:spcBef>
              <a:buClr>
                <a:srgbClr val="5a160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lleles can now be given terms e.g. HLA-B *</a:t>
            </a:r>
            <a:r>
              <a:rPr b="0" lang="en-US" sz="1700" spc="-1" strike="noStrike">
                <a:solidFill>
                  <a:srgbClr val="c00000"/>
                </a:solidFill>
                <a:latin typeface="Century Schoolbook"/>
              </a:rPr>
              <a:t>2712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buClr>
                <a:srgbClr val="862110"/>
              </a:buClr>
              <a:buSzPct val="85000"/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buClr>
                <a:srgbClr val="862110"/>
              </a:buClr>
              <a:buSzPct val="85000"/>
              <a:buFont typeface="Century Schoolbook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I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ntigen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numbering includes reference to the particular heavy or light chain locus :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HLA-DQ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, HLA-DQA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 for the two DQ  A-chain loci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    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HLA-DQ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1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, HLA-DQB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*  for the two DQ  B-chain loc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9672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621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7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5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METHODS FOR DETECTION OF HLA ANTIGE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862110"/>
              </a:buClr>
              <a:buSzPct val="85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 antigen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By the </a:t>
            </a:r>
            <a:r>
              <a:rPr b="1" lang="en-US" sz="2000" spc="-1" strike="noStrike">
                <a:solidFill>
                  <a:srgbClr val="c00000"/>
                </a:solidFill>
                <a:latin typeface="Century Schoolbook"/>
              </a:rPr>
              <a:t>Two stage lymphotoxicity test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:                                       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entury Schoolbook"/>
              </a:rPr>
              <a:t>first stage: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lymphocytes seperated and then incubated with antigen(of known class I specificit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entury Schoolbook"/>
              </a:rPr>
              <a:t>second stage: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complement is added  : cells carrying the corresponding Ag will be killed and can be visualised by adding a dye (eosi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Century Schoolboo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Of class II antigens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: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by one of the following methods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Century Schoolbook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Century Schoolbook"/>
              </a:rPr>
              <a:t>serological techniques  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entury Schoolbook"/>
              </a:rPr>
              <a:t>  </a:t>
            </a: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e.g. seperated B-lymphocytes are incubated with sera absorbed by platelets(do not carry class II Ags)to remove class I Ag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182520" indent="182520">
              <a:spcBef>
                <a:spcPts val="499"/>
              </a:spcBef>
              <a:buClr>
                <a:srgbClr val="86211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Detects HLA-DR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2282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Cellular technique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e.g. MLR(mixed lymphocyte reaction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Detects HLA-DP antigen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Cells from unrelated individuals are mixed together(one with known HLA is inactivated and used as a stimulus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4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entury Schoolbook"/>
              </a:rPr>
              <a:t>failure to react indicates that test cells carry the same HLA-D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50"/>
              </a:spcBef>
              <a:buClr>
                <a:srgbClr val="c00000"/>
              </a:buClr>
              <a:buSzPct val="80000"/>
              <a:buFont typeface="Century Schoolbook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Schoolbook"/>
              </a:rPr>
              <a:t>DNA typing method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2224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04920" y="22860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4572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Century Schoolbook"/>
              </a:rPr>
              <a:t>HLA antibodies:   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HLA-A , -B , -C  &amp; -DQ can induce Ab formation by transfusion or pregnanc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Detected in 96% of massively transfused patient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ppear in 15% of women after the 1</a:t>
            </a:r>
            <a:r>
              <a:rPr b="0" lang="en-US" sz="2200" spc="-1" strike="noStrike" baseline="30000">
                <a:solidFill>
                  <a:srgbClr val="c00000"/>
                </a:solidFill>
                <a:latin typeface="Century Schoolbook"/>
              </a:rPr>
              <a:t>st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pregnanc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ppear in 25% of women after the 2</a:t>
            </a:r>
            <a:r>
              <a:rPr b="0" lang="en-US" sz="2200" spc="-1" strike="noStrike" baseline="30000">
                <a:solidFill>
                  <a:srgbClr val="c00000"/>
                </a:solidFill>
                <a:latin typeface="Century Schoolbook"/>
              </a:rPr>
              <a:t>nd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 pregnanc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ppear in 35% of women after the 3</a:t>
            </a:r>
            <a:r>
              <a:rPr b="0" lang="en-US" sz="2200" spc="-1" strike="noStrike" baseline="30000">
                <a:solidFill>
                  <a:srgbClr val="c00000"/>
                </a:solidFill>
                <a:latin typeface="Century Schoolbook"/>
              </a:rPr>
              <a:t>rd</a:t>
            </a: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  pregnancy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mostly of class I specificity(HLA-B is twice as prevalent as HLA-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entury Schoolbook"/>
              </a:rPr>
              <a:t>Are usually IgG, immune Abs(1% show IgM Abs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62110"/>
                </a:solidFill>
                <a:latin typeface="Century Schoolbook"/>
              </a:rPr>
              <a:t>Clinical Importance of HLA Abs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Mediate graft rejection. e.g. IgG can cause hyperacute kidney rejec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Can cross placent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62110"/>
                </a:solidFill>
                <a:latin typeface="Century Schoolbook"/>
              </a:rPr>
              <a:t>Can cause immunological refractoriness of random donor platelet transfus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69720" indent="-3697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3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3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4920" y="3045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26900"/>
                </a:solidFill>
                <a:latin typeface="Times New Roman"/>
              </a:rPr>
              <a:t>MAJOR HISTOCOMPATIBILITY COMPLEX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(MHC)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Is a segment of the short arm 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) of chromosom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ontaining several g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hese genes are critical to immune func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HLA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system (together with ABO system) constitutes the major histocompatibility complex(MHC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MHC was first identified as being important  in rejection of transplanted tiss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entury Schoolbook"/>
              </a:rPr>
              <a:t>Distribution: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Of both HLA &amp;ABO varies greatly in different types of tissu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rich in endothelial ce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small amounts in hepatocy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5a160b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absent in C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HLA_complex1"/>
          <p:cNvPicPr/>
          <p:nvPr/>
        </p:nvPicPr>
        <p:blipFill>
          <a:blip r:embed="rId1"/>
          <a:stretch/>
        </p:blipFill>
        <p:spPr>
          <a:xfrm>
            <a:off x="2590920" y="0"/>
            <a:ext cx="338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0520" y="228240"/>
            <a:ext cx="81536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MHC codes for three classes of protei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MHC  clas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MHC  clas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MHC  clas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II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lass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antige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HLA-A , HLA-B , HLA-C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Carried on all nucleated cells and platelets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the major function of the class I gene is presentation of peptide antigens to</a:t>
            </a:r>
            <a:r>
              <a:rPr b="1" lang="en-US" sz="2300" spc="-1" strike="noStrike">
                <a:solidFill>
                  <a:srgbClr val="c00000"/>
                </a:solidFill>
                <a:latin typeface="Century Schoolbook"/>
              </a:rPr>
              <a:t> cytotoxic </a:t>
            </a: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T-cells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Century Schoolbook"/>
              </a:rPr>
              <a:t>Consist of two polypeptide chains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1-  A long transmembrane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l-GR" sz="2800" spc="-1" strike="noStrike">
                <a:solidFill>
                  <a:srgbClr val="c00000"/>
                </a:solidFill>
                <a:latin typeface="Century Schoolbook"/>
                <a:ea typeface="Arial"/>
              </a:rPr>
              <a:t>α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protein chai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2-  A short 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β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protein chain (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β</a:t>
            </a:r>
            <a:r>
              <a:rPr b="0" lang="en-US" sz="1600" spc="-1" strike="noStrike">
                <a:solidFill>
                  <a:srgbClr val="c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-microglobuli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360" indent="-36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mhc1"/>
          <p:cNvPicPr/>
          <p:nvPr/>
        </p:nvPicPr>
        <p:blipFill>
          <a:blip r:embed="rId1"/>
          <a:stretch/>
        </p:blipFill>
        <p:spPr>
          <a:xfrm>
            <a:off x="1371600" y="762120"/>
            <a:ext cx="6399360" cy="4548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6" name="Rectangle 4"/>
          <p:cNvSpPr/>
          <p:nvPr/>
        </p:nvSpPr>
        <p:spPr>
          <a:xfrm>
            <a:off x="2987280" y="5638680"/>
            <a:ext cx="331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as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2286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lass II antige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Products of HLA-D region, which include HLA-DR , HLA-DQ , HLA-D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Consist of two different (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α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&amp; 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) non covalently linked transmembrane glycoprotei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Restricted to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Dendritic cells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B-cells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,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activated T-cells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, 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macrophages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and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Century Schoolbook"/>
              </a:rPr>
              <a:t>monocytes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They present processed antigenic peptides to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T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helper cell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lass III antigens: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complement proteins coded by the MHC: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C4 , C2 , B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Some cytokines: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TNF</a:t>
            </a:r>
            <a:r>
              <a:rPr b="1" lang="el-GR" sz="2400" spc="-1" strike="noStrike">
                <a:solidFill>
                  <a:srgbClr val="c00000"/>
                </a:solidFill>
                <a:latin typeface="Century Schoolbook"/>
              </a:rPr>
              <a:t>α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entury Schoolbook"/>
              </a:rPr>
              <a:t>and 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TNF</a:t>
            </a:r>
            <a:r>
              <a:rPr b="1" lang="el-GR" sz="2200" spc="-1" strike="noStrike">
                <a:solidFill>
                  <a:srgbClr val="c00000"/>
                </a:solidFill>
                <a:latin typeface="Century Schoolbook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5a160b"/>
              </a:buClr>
              <a:buSzPct val="70000"/>
              <a:buFont typeface="Century Schoolbook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514440" indent="-514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mhc2"/>
          <p:cNvPicPr/>
          <p:nvPr/>
        </p:nvPicPr>
        <p:blipFill>
          <a:blip r:embed="rId1"/>
          <a:stretch/>
        </p:blipFill>
        <p:spPr>
          <a:xfrm>
            <a:off x="1371600" y="685800"/>
            <a:ext cx="6135840" cy="4114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59" name="Rectangle 4"/>
          <p:cNvSpPr/>
          <p:nvPr/>
        </p:nvSpPr>
        <p:spPr>
          <a:xfrm>
            <a:off x="2209680" y="5257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ass II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Schoolbook"/>
              </a:rPr>
              <a:t>MHC ANTIGEN-BINDING SIT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1" name="Object 2"/>
          <p:cNvGraphicFramePr/>
          <p:nvPr/>
        </p:nvGraphicFramePr>
        <p:xfrm>
          <a:off x="609480" y="1676520"/>
          <a:ext cx="40100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010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3" name="Picture 7" descr="Figure 7-7"/>
          <p:cNvPicPr/>
          <p:nvPr/>
        </p:nvPicPr>
        <p:blipFill>
          <a:blip r:embed="rId3"/>
          <a:stretch/>
        </p:blipFill>
        <p:spPr>
          <a:xfrm>
            <a:off x="4952880" y="1676520"/>
            <a:ext cx="3733920" cy="4481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8"/>
          <p:cNvSpPr/>
          <p:nvPr/>
        </p:nvSpPr>
        <p:spPr>
          <a:xfrm>
            <a:off x="2057400" y="632448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8d9"/>
                </a:solidFill>
                <a:latin typeface="Comic Sans MS"/>
              </a:rPr>
              <a:t>Clas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6067440" y="624852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598d9"/>
                </a:solidFill>
                <a:latin typeface="Comic Sans MS"/>
              </a:rPr>
              <a:t>Clas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57d"/>
                </a:solidFill>
                <a:latin typeface="Century Schoolbook"/>
              </a:rPr>
              <a:t>COMPARISON: MHC CLASS I AND II STRUCTUR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7" name="Object 2"/>
          <p:cNvGraphicFramePr/>
          <p:nvPr/>
        </p:nvGraphicFramePr>
        <p:xfrm>
          <a:off x="457200" y="1652760"/>
          <a:ext cx="8134200" cy="47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52760"/>
                    <a:ext cx="81342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4:52:21Z</dcterms:created>
  <dc:creator>PROF.MUSTAFA</dc:creator>
  <dc:description/>
  <dc:language>en-US</dc:language>
  <cp:lastModifiedBy>computer</cp:lastModifiedBy>
  <dcterms:modified xsi:type="dcterms:W3CDTF">2009-04-10T17:26:45Z</dcterms:modified>
  <cp:revision>116</cp:revision>
  <dc:subject/>
  <dc:title>HUMAN  LEUCOCYTE    AND  PLATELET  ANTIGEN</dc:title>
</cp:coreProperties>
</file>