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ACA-A715-4E7A-82B7-C4DACBA4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3A3-859A-4673-ABCC-3E6F0EEA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9F5-5B50-4C13-B2A5-BF4708E2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C4E-95A2-4416-89CA-E801D203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5BD0-701F-417C-967E-1019F636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9199-BCE5-4E77-A184-9DB760F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8DC4-78D7-44B7-84CC-E5BB12F9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2E0F-1688-4030-9431-9F6B60FE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070-AA50-4E44-BE55-4DD42D33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2275-5FBA-47D6-8210-FE568468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D4F8-1ADF-4039-B009-F21823C8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D62-D037-4B1D-86CC-CD8B122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C18F-5AAD-48F5-9D8E-782E8BDE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BEEC-08F0-4C74-B8E7-CB1AF45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BE0B-B8CB-49D7-BEB4-2515B00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34DB-963C-4608-8EBA-E167A1BC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4A03-C926-464F-B2FA-8198CA24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EA831-17F5-42B4-B5AE-A857593D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2AA8B-C7B4-45A3-92B0-5E6FCD62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57D99-690B-4A0B-9055-FEE4792A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709DF-CF62-4F1D-AFE0-CA30B6DE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3DD7E-097A-467C-BEE8-5CB3FC6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D81-8B85-4FAD-BBDE-0E4B02B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89C5F-B2B7-4B80-90C2-CE57EEA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3598F-B3A3-4B4A-B6B0-68197FDA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31279-3689-49C4-8BA8-7B29D5D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A07A9-1582-4C15-9543-FD8A1700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BCDB5-5741-4C58-B86C-E1365BA2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0B3C3-FDE3-4D48-927A-26290D0E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8D622-055A-445F-BF2F-CB631EC4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9FD7-133F-4E86-8391-7D1AB52E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31A53-379B-4C80-A63C-162B113D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9E84-F12C-4EDC-BB74-A635F7E5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6C8-7DED-43BA-976D-6DE42BA7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D80E-4167-4753-857A-49196676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6B8C-DF4C-4A06-82F2-F405417B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4CCE-FE58-40A5-93AB-87442108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5CFB-B00F-4CC0-B6EA-F4C8B1E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E4DE-1028-4199-8806-2F66258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6FD9-6FB5-4854-A4BD-BF70671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F0F5-8095-478B-954A-1E4CCC2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3D5CC-ECDF-4350-A62A-FE9A973C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0489-FBB9-4F33-BB3B-EDD8E972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AC695-3B87-4D3F-BE8A-BBB4A520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CB1-A97E-4340-8C21-76A9A3B8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CED97-CBB0-455C-B09A-AC884D00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A08A0-FD63-4C67-B432-A850B89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BC614-1A6A-4B43-B5BA-926A8304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29054-A0D5-487C-A75F-A6DB17C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551E0-A21B-40A8-8E54-F1CC22B4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12ECF-9C7D-42CF-AAF6-65CA5E8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1AE75-88BE-4552-9AF5-782BF7D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499A8-CC09-45D1-AB4C-BDBBDA9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E7D3D-B8E2-4121-B13C-86835B8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B7A98-1067-4929-AA20-E76D403E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812-1234-44B3-A666-3EC8C3B9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45A13-841C-43E2-B002-8714908A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A3CD7-1DE8-44A3-94E2-EF9FBE89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22DE7-EFD6-4299-8054-8FAC705F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C36E3-9133-4AB3-9F30-6935A06F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6013A-0151-4DB1-B07D-4C8A198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FEA0B-8FDB-4099-9ABF-6FB8A038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57B49-AC53-4DFE-BBAC-399246EF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A623A-5BEC-4EED-9D17-95C4CB4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8D6EC-9EFC-46F0-8E0C-8190BD7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A81A6-D23D-455C-81E5-BD4E427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241-4DD7-4CF6-A30B-97A68E2C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A314C-ABA0-464A-A5DB-527D2C50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780FD-5579-40B4-B308-364BAD62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E0C11-A41F-40A6-AADF-D8B85707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F86F6-718A-4571-B722-43448003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813A7-68D4-4270-880D-36B41E8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91211-D361-4348-9510-7735835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5A63D-E0B5-4659-9161-F7DBE48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C86C9-A4C2-44A7-A384-19D8892B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1CB1F-8559-4023-A5C4-B67EBB83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0B90D-CB59-4AE3-9D54-DB514B0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EE7-6168-46CB-ACAE-AB897B47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6CD9A-875A-461E-B6C0-C0E6FCFE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3434F-FE90-4228-8439-3D54CF3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23439-0D74-408D-B398-4B705BB2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05DC0-2945-40A1-AC07-C6D88F63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AF8FC-9B18-4951-A44E-3623EE75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754-03BD-4E69-9FC4-6896ED5E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C5A-FACC-4057-ACCB-E31AF849BAE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31A1-A5DF-47A2-8631-E841042FED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2A06-4B14-4C8D-96DA-3808FD6692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6F0-8AA5-486D-A106-FACA50BC91A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E17-C0F3-4396-9340-2C2341100A1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C93B-164F-4A1E-B961-CDDFC539D0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86E-18DD-421A-BB1D-8B9501BCDF8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11430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91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05800"/>
                </a:solidFill>
                <a:latin typeface="comic"/>
                <a:ea typeface="Times New Roman"/>
              </a:rPr>
              <a:t>MAJOR</a:t>
            </a:r>
            <a:br>
              <a:rPr sz="4400"/>
            </a:br>
            <a:r>
              <a:rPr b="0" lang="en-US" sz="4400" spc="-1" strike="noStrike">
                <a:solidFill>
                  <a:srgbClr val="b05800"/>
                </a:solidFill>
                <a:latin typeface="comic"/>
                <a:ea typeface="Times New Roman"/>
              </a:rPr>
              <a:t>HISTOCOMPATIBILITY COMPLEX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04560" y="22860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entury Schoolbook"/>
              </a:rPr>
              <a:t>INHERITANCE: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he order of the MHC genes on chromosome 6 i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A , C , B , C2 , Bf , C4 , 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HLA-A ,  -B,  -C and -D are the most polymorphic in huma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hese four loci are closely linked and are inherited as a single entity called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haplotype </a:t>
            </a: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(</a:t>
            </a:r>
            <a:r>
              <a:rPr b="1" lang="en-US" sz="2400" spc="-1" strike="noStrike">
                <a:solidFill>
                  <a:srgbClr val="57257d"/>
                </a:solidFill>
                <a:latin typeface="Century Schoolbook"/>
              </a:rPr>
              <a:t>the particular combination of MHC alleles found on one parental chromosom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The number of haplotypes is v.large</a:t>
            </a:r>
            <a:r>
              <a:rPr b="0" lang="en-US" sz="2600" spc="-1" strike="noStrike">
                <a:solidFill>
                  <a:srgbClr val="c00000"/>
                </a:solidFill>
                <a:latin typeface="Wingdings 3"/>
                <a:ea typeface="Wingdings 3"/>
              </a:rPr>
              <a:t></a:t>
            </a: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unimaginable</a:t>
            </a:r>
            <a:r>
              <a:rPr b="0" lang="en-US" sz="26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genotyp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entury Schoolbook"/>
              </a:rPr>
              <a:t>NOMENCLATURE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entury Schoolbook"/>
              </a:rPr>
              <a:t>Is by a combination of letters (HLA-A , HLA-B) in order of description</a:t>
            </a: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304920"/>
            <a:ext cx="8001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UMBERING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ntigens is non-overlapping: e.g.           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       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3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4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5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w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6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7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2120" indent="-228600">
              <a:spcBef>
                <a:spcPts val="425"/>
              </a:spcBef>
              <a:buClr>
                <a:srgbClr val="5a160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Some</a:t>
            </a: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re subtyped: e.g. HLA 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9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: HLA-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3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Wingdings 3"/>
                <a:ea typeface="Wingdings 3"/>
              </a:rPr>
              <a:t>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3(9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                                                                        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HLA-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4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Wingdings 3"/>
                <a:ea typeface="Wingdings 3"/>
              </a:rPr>
              <a:t>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4(9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2120" indent="-228600">
              <a:spcBef>
                <a:spcPts val="425"/>
              </a:spcBef>
              <a:buClr>
                <a:srgbClr val="5a160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lleles can now be given terms e.g. HLA-B *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712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buClr>
                <a:srgbClr val="862110"/>
              </a:buClr>
              <a:buSzPct val="85000"/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buClr>
                <a:srgbClr val="862110"/>
              </a:buClr>
              <a:buSzPct val="85000"/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I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ntigen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numbering includes reference to the particular heavy or light chain locus :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HLA-DQ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, HLA-DQ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 for the two DQ  A-chain loci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    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HLA-DQ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, HLA-DQ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 for the two DQ  B-chain loc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21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5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METHODS FOR DETECTION OF HLA ANTIGE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862110"/>
              </a:buClr>
              <a:buSzPct val="85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 antigen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By the </a:t>
            </a: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Two stage lymphotoxicity test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:                                       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entury Schoolbook"/>
              </a:rPr>
              <a:t>first stage: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lymphocytes seperated and then incubated with antigen(of known class I specificit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entury Schoolbook"/>
              </a:rPr>
              <a:t>second stage: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complement is added  : cells carrying the corresponding Ag will be killed and can be visualised by adding a dye (eosin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I antigens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: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by one of the following metho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Century Schoolbook"/>
              </a:rPr>
              <a:t>serological techniques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entury Schoolbook"/>
              </a:rPr>
              <a:t> 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e.g. seperated B-lymphocytes are incubated with sera absorbed by platelets(do not carry class II Ags)to remove class I Ag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Detects HLA-DR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2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Cellular technique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e.g. MLR(mixed lymphocyte reaction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Detects HLA-DP antigen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Cells from unrelated individuals are mixed together(one with known HLA is inactivated and used as a stimulus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failure to react indicates that test cells carry the same HLA-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50"/>
              </a:spcBef>
              <a:buClr>
                <a:srgbClr val="c00000"/>
              </a:buClr>
              <a:buSzPct val="80000"/>
              <a:buFont typeface="Century Schoolbook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DNA typing method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entury Schoolbook"/>
              </a:rPr>
              <a:t>HLA antibodies:  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HLA-A , -B , -C  &amp; -DQ can induce Ab formation by transfusion or pregnanc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Detected in 96% of massively transfused patient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ppear in 15% of women after the 1</a:t>
            </a:r>
            <a:r>
              <a:rPr b="0" lang="en-US" sz="2200" spc="-1" strike="noStrike" baseline="30000">
                <a:solidFill>
                  <a:srgbClr val="c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pregnanc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ppear in 25% of women after the 2</a:t>
            </a:r>
            <a:r>
              <a:rPr b="0" lang="en-US" sz="2200" spc="-1" strike="noStrike" baseline="30000">
                <a:solidFill>
                  <a:srgbClr val="c00000"/>
                </a:solidFill>
                <a:latin typeface="Century Schoolbook"/>
              </a:rPr>
              <a:t>nd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 pregnanc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ppear in 35% of women after the 3</a:t>
            </a:r>
            <a:r>
              <a:rPr b="0" lang="en-US" sz="2200" spc="-1" strike="noStrike" baseline="30000">
                <a:solidFill>
                  <a:srgbClr val="c00000"/>
                </a:solidFill>
                <a:latin typeface="Century Schoolbook"/>
              </a:rPr>
              <a:t>rd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 pregnanc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mostly of class I specificity(HLA-B is twice as prevalent as HLA-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re usually IgG, immune Abs(1% show IgM Abs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62110"/>
                </a:solidFill>
                <a:latin typeface="Century Schoolbook"/>
              </a:rPr>
              <a:t>Clinical Importance of HLA Abs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Mediate graft rejection. e.g. IgG can cause hyperacute kidney reje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Can cross placent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Can cause immunological refractoriness of random donor platelet transfu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4920" y="3045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6900"/>
                </a:solidFill>
                <a:latin typeface="Times New Roman"/>
              </a:rPr>
              <a:t>MAJOR HISTOCOMPATIBILITY COMPLEX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(MHC)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Is a segment of the short arm 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) of chromosom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ontaining several ge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hese genes are critical to immune func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HLA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system (together with ABO system) constitutes the major histocompatibility complex(MH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MHC was first identified as being important  in rejection of transplanted tiss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entury Schoolbook"/>
              </a:rPr>
              <a:t>Distribution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Of both HLA &amp;ABO varies greatly in different types of tissu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rich in endothelial ce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small amounts in hepatocy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absent in C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HLA_complex1"/>
          <p:cNvPicPr/>
          <p:nvPr/>
        </p:nvPicPr>
        <p:blipFill>
          <a:blip r:embed="rId1"/>
          <a:stretch/>
        </p:blipFill>
        <p:spPr>
          <a:xfrm>
            <a:off x="2590920" y="0"/>
            <a:ext cx="33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520" y="228240"/>
            <a:ext cx="8153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MHC codes for three classes of protei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MHC  clas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MHC  clas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MHC  clas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lass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antige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HLA-A , HLA-B , HLA-C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Carried on all nucleated cells and platelets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the major function of the class I gene is presentation of peptide antigens to</a:t>
            </a:r>
            <a:r>
              <a:rPr b="1" lang="en-US" sz="2300" spc="-1" strike="noStrike">
                <a:solidFill>
                  <a:srgbClr val="c00000"/>
                </a:solidFill>
                <a:latin typeface="Century Schoolbook"/>
              </a:rPr>
              <a:t> cytotoxic </a:t>
            </a: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T-cell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Consist of two polypeptide chains: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1-  A long transmembrane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l-G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α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protein chai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2-  A short 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β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protein chain (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β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-microglobuli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mhc1"/>
          <p:cNvPicPr/>
          <p:nvPr/>
        </p:nvPicPr>
        <p:blipFill>
          <a:blip r:embed="rId1"/>
          <a:stretch/>
        </p:blipFill>
        <p:spPr>
          <a:xfrm>
            <a:off x="1371600" y="762120"/>
            <a:ext cx="6399360" cy="4548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6" name="Rectangle 4"/>
          <p:cNvSpPr/>
          <p:nvPr/>
        </p:nvSpPr>
        <p:spPr>
          <a:xfrm>
            <a:off x="2987280" y="563868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as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2286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lass II antige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Products of HLA-D region, which include HLA-DR , HLA-DQ , HLA-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Consist of two different (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α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&amp; 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) non covalently linked transmembrane glycoprotei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Restricted t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Dendritic cells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B-cells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activated T-cells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, 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macrophages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and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monocytes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hey present processed antigenic peptides to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helper ce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lass III antigens: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complement proteins coded by the MHC: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4 , C2 , B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Some cytokines: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TNF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α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and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TNF</a:t>
            </a:r>
            <a:r>
              <a:rPr b="1" lang="el-GR" sz="2200" spc="-1" strike="noStrike">
                <a:solidFill>
                  <a:srgbClr val="c00000"/>
                </a:solidFill>
                <a:latin typeface="Century Schoolbook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mhc2"/>
          <p:cNvPicPr/>
          <p:nvPr/>
        </p:nvPicPr>
        <p:blipFill>
          <a:blip r:embed="rId1"/>
          <a:stretch/>
        </p:blipFill>
        <p:spPr>
          <a:xfrm>
            <a:off x="1371600" y="685800"/>
            <a:ext cx="6135840" cy="4114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9" name="Rectangle 4"/>
          <p:cNvSpPr/>
          <p:nvPr/>
        </p:nvSpPr>
        <p:spPr>
          <a:xfrm>
            <a:off x="2209680" y="5257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ass II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Schoolbook"/>
              </a:rPr>
              <a:t>MHC ANTIGEN-BINDING SIT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609480" y="1676520"/>
          <a:ext cx="40100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010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Picture 7" descr="Figure 7-7"/>
          <p:cNvPicPr/>
          <p:nvPr/>
        </p:nvPicPr>
        <p:blipFill>
          <a:blip r:embed="rId3"/>
          <a:stretch/>
        </p:blipFill>
        <p:spPr>
          <a:xfrm>
            <a:off x="4952880" y="1676520"/>
            <a:ext cx="3733920" cy="4481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8"/>
          <p:cNvSpPr/>
          <p:nvPr/>
        </p:nvSpPr>
        <p:spPr>
          <a:xfrm>
            <a:off x="2057400" y="63244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98d9"/>
                </a:solidFill>
                <a:latin typeface="Comic Sans MS"/>
              </a:rPr>
              <a:t>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6067440" y="624852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98d9"/>
                </a:solidFill>
                <a:latin typeface="Comic Sans MS"/>
              </a:rPr>
              <a:t>Clas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57d"/>
                </a:solidFill>
                <a:latin typeface="Century Schoolbook"/>
              </a:rPr>
              <a:t>COMPARISON: MHC CLASS I AND II STRUCTUR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7" name="Object 2"/>
          <p:cNvGraphicFramePr/>
          <p:nvPr/>
        </p:nvGraphicFramePr>
        <p:xfrm>
          <a:off x="457200" y="1652760"/>
          <a:ext cx="8134200" cy="47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2760"/>
                    <a:ext cx="81342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4:52:21Z</dcterms:created>
  <dc:creator>PROF.MUSTAFA</dc:creator>
  <dc:description/>
  <dc:language>en-US</dc:language>
  <cp:lastModifiedBy>computer</cp:lastModifiedBy>
  <dcterms:modified xsi:type="dcterms:W3CDTF">2009-04-10T17:26:45Z</dcterms:modified>
  <cp:revision>116</cp:revision>
  <dc:subject/>
  <dc:title>HUMAN  LEUCOCYTE    AND  PLATELET  ANTIGEN</dc:title>
</cp:coreProperties>
</file>