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4E5-FCA6-456E-A06F-6E7170DE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7ED-473A-494E-8AEE-77657162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5EF-A26B-4800-9326-D99B0402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5A4-7641-430E-8FDE-F42CE1AC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705-C4B3-4A09-A346-9D55A17E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B69-CE99-4569-8467-6F483C71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8B6-1967-4086-BB17-8FB6A8C3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153-32DB-4F19-81A6-73DB5E70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802-F8A7-4E6C-A8F9-07DB8CCB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CAF-63E7-497E-8304-F965FD1F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33A-9B00-445A-BBA5-C53468CE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A2D-248F-469A-9E4B-131115A3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5CF7-285C-4FD0-98A5-B88E49B9BAB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"/>
              </a:rPr>
              <a:t>Hypersensitivity </a:t>
            </a:r>
            <a:r>
              <a:rPr b="1" lang="en-US" sz="4400" spc="-1" strike="noStrike">
                <a:solidFill>
                  <a:srgbClr val="c00000"/>
                </a:solidFill>
                <a:latin typeface="comic"/>
              </a:rPr>
              <a:t>reactions</a:t>
            </a:r>
            <a:r>
              <a:rPr b="1" lang="en-US" sz="4800" spc="-1" strike="noStrike">
                <a:solidFill>
                  <a:srgbClr val="c00000"/>
                </a:solidFill>
                <a:latin typeface="com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 III Hypersensitivity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a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e comple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  are mostly of the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gG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hough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gM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also be involved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tigens may b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genous:  chronic bacterial, viral or parasitic inf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genous: non-organ specific autoimmunit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ystemic     lupus erythematosus, S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ody-Antigen immune complexes are deposited in organs, activate complement, and cause inflammatory dam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E:\MEDIA\1049\19_6.BMP"/>
          <p:cNvPicPr/>
          <p:nvPr/>
        </p:nvPicPr>
        <p:blipFill>
          <a:blip r:embed="rId1"/>
          <a:stretch/>
        </p:blipFill>
        <p:spPr>
          <a:xfrm>
            <a:off x="428760" y="1071720"/>
            <a:ext cx="8126280" cy="5244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1764720" y="214200"/>
            <a:ext cx="48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mmune complex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SimSun"/>
              </a:rPr>
              <a:t>Common disease of type III hyper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1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. Local immune complex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rthu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.g. after vaccination against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phthe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et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. Acute systemic immune complex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 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erum sicknes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ti-serum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Ab+Ag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systemic  tissue  injury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ever, arthritis, skin ras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3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. Chronic immune complex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heumatoid arthr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F + IgG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eposit  on synovial membr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56760" y="285840"/>
            <a:ext cx="83725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 IV Hypersensitivity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known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medi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ed type hypersensi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 reactions by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ory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contact sensitizes pers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equent contacts elicit a re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flammation and tissue injury mediated by CD4+Th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lease cytokines which attract macroph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ytotoxicit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D8+CT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00040" y="285480"/>
            <a:ext cx="82072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SimSun"/>
              </a:rPr>
              <a:t>Common disease of type IV hyper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SimSu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1) Infectious delayed type hyper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SimSu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antoux: OT( Old Tuberculin )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SimSu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2) Contact dermatiti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aint, drug 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red rash, water blister, dermat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2876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ersensitivity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ssive undesirable (damaging, discomfort producing and sometimes fatal) reactions produced by the normal immune syste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 a pre-sensitized (immune) state of the hos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sensitivity reactions can be divided into four type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I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II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V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85840" y="21384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 I Hypersensitivity</a:t>
            </a: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React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di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phylactic hypersensi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ction tak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time of exposure to the antigen. May sometimes be delaye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2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ction may invol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(urticaria and eczema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s (conjunctiviti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opharynx (allergic rhiniti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pulmonary tissues (asthma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ointestinal tract (gastroenteriti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hylactic shoc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ingested or injected Ag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ssive drop in blood pressure.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SimSun"/>
              </a:rPr>
              <a:t>Allergens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SimSun"/>
              </a:rPr>
              <a:t>：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pollen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dust mite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insects et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t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E.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mary cellular componen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or basophi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ction is amplified and/or modified by other cells such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osinophi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E:\MEDIA\1421\142137.JPG"/>
          <p:cNvPicPr/>
          <p:nvPr/>
        </p:nvPicPr>
        <p:blipFill>
          <a:blip r:embed="rId1"/>
          <a:stretch/>
        </p:blipFill>
        <p:spPr>
          <a:xfrm>
            <a:off x="1785960" y="214200"/>
            <a:ext cx="5478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clear why some individuals are more prone to type-I hypersensitiv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been shown that such individuals produce more of TH2 cells that secrete IL-4, IL-5 and IL-13 which in turn favor IgE class swit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E has very high affinity for its receptor (Fcε; CD23) on mast cells and basophi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diators of Immediate Hypersensitivit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stamine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ates and increases permeability of blood vessel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lling and rednes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mucus secretion (runny nose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smooth muscle contraction (e.g. bronchi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staglandin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ion of smooth muscle of respiratory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mucus secre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ukotrien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spas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00040" y="28548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http://arapaho.nsuok.edu/~castillo/NotesImages/Topic25NotesImage3.jpg"/>
          <p:cNvPicPr/>
          <p:nvPr/>
        </p:nvPicPr>
        <p:blipFill>
          <a:blip r:embed="rId1"/>
          <a:stretch/>
        </p:blipFill>
        <p:spPr>
          <a:xfrm>
            <a:off x="500040" y="1214280"/>
            <a:ext cx="81774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 II Hypersensitivity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otox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persensi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tigens(allergens)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dogeno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genous chemicals (haptens) which can attach to cell membranes can also lead to type II hypersensitiv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 activation of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mpl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g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r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g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nding to an antigenic cel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DCC is also involved, through NK 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500200" y="34290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ic cell is then ly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9-6"/>
          <p:cNvPicPr/>
          <p:nvPr/>
        </p:nvPicPr>
        <p:blipFill>
          <a:blip r:embed="rId1"/>
          <a:stretch/>
        </p:blipFill>
        <p:spPr>
          <a:xfrm>
            <a:off x="360360" y="189000"/>
            <a:ext cx="8497800" cy="6524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1116000" y="69228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Aller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788000" y="907920"/>
            <a:ext cx="936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Stimul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4859280" y="1700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7524720" y="1557360"/>
            <a:ext cx="647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Anti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16000" y="2781360"/>
            <a:ext cx="2087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A. Opsonic phag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84360" y="4437000"/>
            <a:ext cx="2232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D. ADCC of 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4356000" y="5084640"/>
            <a:ext cx="2232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C. Effect of comple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6443640" y="3500280"/>
            <a:ext cx="1944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ombined opsonic activ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835280" y="5734080"/>
            <a:ext cx="547344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ell injury ways of  type II hyper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258920" y="2205000"/>
            <a:ext cx="649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Ce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56760" y="285840"/>
            <a:ext cx="83725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s of type II hypersensitivity rea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1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)Transfusion reac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emolysis  :      mismatch of  AB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blood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) Hemolytic disease of newbo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SimSu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other R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: first baby R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(Ab),  second baby R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etal RBCs destroy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SimSu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3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) Autoimmune hemolytic anemia and type II drug re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4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)Autoimmune thrombocytop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1:29:35Z</dcterms:created>
  <dc:creator>computer</dc:creator>
  <dc:description/>
  <dc:language>en-US</dc:language>
  <cp:lastModifiedBy>computer</cp:lastModifiedBy>
  <dcterms:modified xsi:type="dcterms:W3CDTF">2009-05-05T15:10:45Z</dcterms:modified>
  <cp:revision>74</cp:revision>
  <dc:subject/>
  <dc:title>Slide 1</dc:title>
</cp:coreProperties>
</file>