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8FA-4C21-457B-9B44-D270819B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998B-606C-46D9-96C6-E808AD7D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734-EA1E-449C-94A4-C5897B24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035-F1CB-45B8-8652-B75DF650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E6E-D585-4366-8E71-B11B87A0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1DA-C908-46B7-864E-EF6040DC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040-72FE-45A7-BAAC-41A54EE9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02D-286D-4317-A9BE-37B151E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96D-C84B-4F35-9678-A075C35E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799-B3E5-4C6A-A4ED-B096C197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1F-8C82-497A-B9D5-35581119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5838-951E-45E8-8289-69DEDD10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F9F-9B03-4A04-9F5D-172002C80F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Hypersensitivity </a:t>
            </a:r>
            <a:r>
              <a:rPr b="1" lang="en-US" sz="4400" spc="-1" strike="noStrike">
                <a:solidFill>
                  <a:srgbClr val="c00000"/>
                </a:solidFill>
                <a:latin typeface="comic"/>
              </a:rPr>
              <a:t>reactions</a:t>
            </a:r>
            <a:r>
              <a:rPr b="1" lang="en-US" sz="4800" spc="-1" strike="noStrike">
                <a:solidFill>
                  <a:srgbClr val="c00000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II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complex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  are mostly of the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G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,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hough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M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y also be involved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igens may b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:  chronic bacterial, viral or parasitic inf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: non-organ specific autoimmunit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ystemic     lupus erythematosus, S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-Antigen immune complexes are deposited in organs, activate complement, and cause inflammatory dam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E:\MEDIA\1049\19_6.BMP"/>
          <p:cNvPicPr/>
          <p:nvPr/>
        </p:nvPicPr>
        <p:blipFill>
          <a:blip r:embed="rId1"/>
          <a:stretch/>
        </p:blipFill>
        <p:spPr>
          <a:xfrm>
            <a:off x="428760" y="1071720"/>
            <a:ext cx="8126280" cy="5244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764720" y="214200"/>
            <a:ext cx="48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mmune comple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14200" y="285840"/>
            <a:ext cx="8715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Common disease of type III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 Local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.g. after vaccination against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hth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 Acute systemic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 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rum sicknes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ti-serum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Ab+Ag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systemic  tissue  injury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ver, arthritis, skin ra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3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. Chronic immune complex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F + IgG 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eposit  on synovial membr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6760" y="285840"/>
            <a:ext cx="8372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V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d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type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reactions by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mory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act sensitizes per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equent contacts elicit a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flammation and tissue injury mediated by CD4+T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lease cytokines which attract macroph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ytotoxicit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D8+CT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00040" y="285480"/>
            <a:ext cx="82072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Common disease of type IV hyper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SimSu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) Infectious delayed type hyper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SimSu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ntoux: OT( Old Tuberculin )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) Contact dermatiti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int, drug 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d rash, water blister, derm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ssive undesirable (damaging, discomfort producing and sometimes fatal) reactions produced by the normal immune syst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 a pre-sensitized (immune) state of the ho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nsitivity reactions can be divided into four type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V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85840" y="21384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 Hypersensitivity</a:t>
            </a: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Reactio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aphylactic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tak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-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time of exposure to the antigen. May sometimes be delaye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may invol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(urticaria and ecze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s (conjunctiv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opharynx (allergic rhin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pulmonary tissues (asthm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tract (gastroenteriti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shoc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ngested or injected Ag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ssive drop in blood pressure.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SimSun"/>
              </a:rPr>
              <a:t>Allergens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SimSun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ollen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ust mite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insects et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E.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mary cellular component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or basoph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is amplified and/or modified by other cell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sinophi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E:\MEDIA\1421\142137.JPG"/>
          <p:cNvPicPr/>
          <p:nvPr/>
        </p:nvPicPr>
        <p:blipFill>
          <a:blip r:embed="rId1"/>
          <a:stretch/>
        </p:blipFill>
        <p:spPr>
          <a:xfrm>
            <a:off x="1785960" y="214200"/>
            <a:ext cx="5478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clear why some individuals are more prone to type-I hypersensitiv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s been shown that such individuals produce more of TH2 cells that secrete IL-4, IL-5 and IL-13 which in turn favor IgE class swit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E has very high affinity for its receptor (Fcε; CD23) on mast cells and basophil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ators of Immediate Hypersensitivit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stamin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ates and increases permeability of blood vessel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lling and rednes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mucus secretion (runny nose)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 smooth muscle contraction (e.g. bronchi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staglandin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smooth muscle of respiratory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mucus secre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ukotrien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65040" indent="-28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pas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8548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http://arapaho.nsuok.edu/~castillo/NotesImages/Topic25NotesImage3.jpg"/>
          <p:cNvPicPr/>
          <p:nvPr/>
        </p:nvPicPr>
        <p:blipFill>
          <a:blip r:embed="rId1"/>
          <a:stretch/>
        </p:blipFill>
        <p:spPr>
          <a:xfrm>
            <a:off x="500040" y="1214280"/>
            <a:ext cx="8177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 II Hypersensitivity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tox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ersensi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tigens(allergens)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ogeno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(haptens) which can attach to cell membranes can also lead to type II hypersensit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 activation of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le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r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g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inding to an antigenic cel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DCC is also involved, through NK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2500200" y="34290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 cell is then ly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9-6"/>
          <p:cNvPicPr/>
          <p:nvPr/>
        </p:nvPicPr>
        <p:blipFill>
          <a:blip r:embed="rId1"/>
          <a:stretch/>
        </p:blipFill>
        <p:spPr>
          <a:xfrm>
            <a:off x="360360" y="189000"/>
            <a:ext cx="8497800" cy="652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116000" y="69228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Aller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788000" y="907920"/>
            <a:ext cx="936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Stimu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4859280" y="17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524720" y="1557360"/>
            <a:ext cx="647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nti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116000" y="278136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A. Opsonic 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84360" y="4437000"/>
            <a:ext cx="2232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D. ADCC of 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4356000" y="5084640"/>
            <a:ext cx="2232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. Effect of compl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6443640" y="3500280"/>
            <a:ext cx="194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ombined opsonic activ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835280" y="5734080"/>
            <a:ext cx="54734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ell injury ways of  type II hyper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258920" y="2205000"/>
            <a:ext cx="649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56760" y="285840"/>
            <a:ext cx="8372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 of type II hypersensitivity reac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1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Transfusion reac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emolysis  :      mismatch of  A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lood gro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 Hemolytic disease of newbo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other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: first baby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Ab),  second baby R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tal RBCs destroy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SimSun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3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 Autoimmune hemolytic anemia and type II drug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4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SimSun"/>
              </a:rPr>
              <a:t>)Autoimmune thrombocytop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1:29:35Z</dcterms:created>
  <dc:creator>computer</dc:creator>
  <dc:description/>
  <dc:language>en-US</dc:language>
  <cp:lastModifiedBy>computer</cp:lastModifiedBy>
  <dcterms:modified xsi:type="dcterms:W3CDTF">2009-05-05T15:10:45Z</dcterms:modified>
  <cp:revision>74</cp:revision>
  <dc:subject/>
  <dc:title>Slide 1</dc:title>
</cp:coreProperties>
</file>