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8BF8-031C-4E03-BFF6-ADCB869E04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FDA-5B38-435E-9B5C-14C68728C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67B-573A-417C-BFCD-27D56DE1AB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C8E-69F9-4CF7-A740-1058389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3DF-157B-42E1-966D-D9803A7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516-F857-4B73-889F-1A92E31D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E31-0F12-490B-9467-3D7E9F74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B20-3BF0-4660-9AA2-F7415AA2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856-C4ED-472E-9591-BBFD57E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D5E-E0FF-4BD2-9AB8-80E8FFA0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0CD-76E3-4D8F-8760-0370B7F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CD8-BCB7-43FA-BC6E-51742E22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C28-9996-409A-9172-C53852E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24C-165E-4113-8C95-30FB673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FB0-CE5D-4EB8-A8C1-CB77CBB0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7CD-BFEA-464B-8F2E-9BD8AC8B31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"/>
              </a:rPr>
              <a:t>TRANSPLANTATION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omic"/>
              </a:rPr>
              <a:t>&amp;</a:t>
            </a:r>
            <a:br>
              <a:rPr sz="5400"/>
            </a:br>
            <a:r>
              <a:rPr b="0" lang="en-US" sz="4400" spc="-1" strike="noStrike">
                <a:solidFill>
                  <a:srgbClr val="c00000"/>
                </a:solidFill>
                <a:latin typeface="comic"/>
              </a:rPr>
              <a:t>tissue rej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Hyperacute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ccurs  within minutes to hours after host blood vessels are anastomosed to graft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rombotic occlusion of the graft vascula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Ischemia, denaturation, necros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ABO blood type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VEC anti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HLA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omplement activation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ndothelial cell da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latelets activation 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Thrombosis, vascular occlusion, ischemic dam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Acute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Occurs within days to  2 weeks after transplantation, 80-90% of cases occur within 1 mon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humoral  rej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vasculitis manifested mainly by endothelial cell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cellular rej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enchymal cell necrosis along with  infiltration of lymphocytes and M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asculitis: IgG antibodies against alloantigens on endothelial ce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enchymal cell dam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ed hypersensitivity mediated by CD4+T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illing of graft cells by CD8+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99680" y="285840"/>
            <a:ext cx="83581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Chronic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s months or years after acute rejection reactions have subsi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ibrosis and vascular abnormalities with loss of graft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ot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xtension and results of cell necrosis in acute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inflammation mediated by CD4+T cell/M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rgan degeneration induced by non immune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SimSun"/>
              </a:rPr>
              <a:t>Graft versus host reaction (GVH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reaction (GVH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llogeneic bone marrow transpla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jection to host alloanti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ed by immune competent cells in bone mar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disease (GVH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disease caused by GVHR, which can damage the h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GV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GV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di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nough immune competent cells in g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compromised h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istocompatability differences between host and g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48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1. Acute GV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ndothelial cell death in the skin, liver, and 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ash, jaundice, diarrhea, gastrointestinal hemorrh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ed by mature T cells in the graf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2. Chronic GV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ibrosis and atrophy of one or more of the org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ventually complete dysfunction of the affected org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Both acute and chronic GVHD are commonly treated with intense immunosuppre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Prevention and Therapy of Allograft Reje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35684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issue 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O and Rh blood 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LA typing  (HLA-A and HLA-BHLA-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ing of the recipient for anti-HLA antibodies (also called antibody scree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cyte cross matching (also called compatibility te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suppressive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ticosteroids:   block the synthesis and secretion of cytok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zathioprine, Cyclophosphamide:  block the proliferation of lymphocy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428400"/>
            <a:ext cx="8444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transpla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ving of an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org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one body to another for the purpose of replacing the recipient's damaged or failing organ with a working one from the donor 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don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that can be transplanted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art, kidneys, liver, lungs, pancreas, eyes and intest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 be transplan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, tendons, cornea, heart valves, veins, and s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-36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trans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1.Autograf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Transplant of tissue to the same per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e.g. skin, vein, stem cells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2.Allograf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Transplant of an organ or tissue between two genetically non-identical members of the sam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Most human tissue and organ transplants are allograf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3.Isograft:</a:t>
            </a:r>
            <a:r>
              <a:rPr b="1" lang="en-US" sz="2400" spc="-1" strike="noStrike">
                <a:solidFill>
                  <a:srgbClr val="0000d0"/>
                </a:solidFill>
                <a:latin typeface="Arial Rounded MT Bold"/>
                <a:ea typeface="SimSun"/>
              </a:rPr>
              <a:t> </a:t>
            </a:r>
            <a:r>
              <a:rPr b="1" lang="en-US" sz="2400" spc="-1" strike="noStrike">
                <a:solidFill>
                  <a:srgbClr val="381850"/>
                </a:solidFill>
                <a:latin typeface="Times New Roman"/>
                <a:ea typeface="SimSun"/>
              </a:rPr>
              <a:t>(Syngenei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 subset of </a:t>
            </a:r>
            <a:r>
              <a:rPr b="1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llografts</a:t>
            </a: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 from a donor to a genetically identical recipient (e.g. identical twi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Isografts don't trigger an immun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4.Xenograf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 transplant of organs or tissue from one species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e.g. porcine heart valve trans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logic Basis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Grafts rej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kind of specific immune respon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organ which causes failure of the trans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e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Transplantation antige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ajor histocompatibility antigens (MHC molecu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inor histocompatibility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alloantig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ajor histocompatibility antigens (MHC molecu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ain antigens of grafts rejec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ause fast and strong rej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 of HLA types is the main cause of human grafts rej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inor histocompatibility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lso cause grafts rejection, but slow and w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alloantig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BO  blood group antige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ome tissue specific antige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8424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kin, kidney, heart, pancreas ,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424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EC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endothelial cel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tige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Mechanism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ell-mediated I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Humoral I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Role of NK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ell-mediated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-mediated cellular  immune response against alloantigens on g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of the recipient recognize the allogeneic MHC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.e.  uptake and presentation of allogeneic donor MHC molecules by recipient AP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ivated CD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M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ctivation and recrui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ivated CD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Kill the graft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umoral imm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portant role in hyperacute rej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mplements 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D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ps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ole of NK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ors secreted by activated Th cells can promote NK ac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1356840"/>
            <a:ext cx="8072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st versus graft reaction (HVG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ntional organ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reaction (GVH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one marrow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40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Classification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SimSun"/>
              </a:rPr>
              <a:t>Host versus graft reaction (HVGR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yperacute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52:35Z</dcterms:created>
  <dc:creator>computer</dc:creator>
  <dc:description/>
  <dc:language>en-US</dc:language>
  <cp:lastModifiedBy>computer</cp:lastModifiedBy>
  <dcterms:modified xsi:type="dcterms:W3CDTF">2009-05-15T17:16:04Z</dcterms:modified>
  <cp:revision>52</cp:revision>
  <dc:subject/>
  <dc:title>TRANSPLANTATION</dc:title>
</cp:coreProperties>
</file>