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14E0-1FF7-4C15-9A73-8EE0E930B3E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0273-AEAB-4C69-B413-D23AE11716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0593-914C-4C9E-850B-CE951C87CD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111-25B7-49A8-A389-23FEC8ED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A0A1-4F9D-4644-AF1B-2CA81F40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FBDE-B96C-4925-A870-B5EB5FAF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8AC-FF5B-4E08-8282-10980260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360-FCA4-45C8-817D-2F8F9468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CC8-D03B-4F52-9058-EF307167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6CAD-4B4C-4C06-98C6-6A34B077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005-B15E-4DC7-BF6A-E51C56F8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2CB1-EBEE-4AAD-AD7D-9CA435DE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D19-0D6F-485E-B8B0-7CF48F87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986-2CDC-46EA-912E-05A783CE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84D-36D7-4FC1-8CEC-B0A8F716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3259-B631-4AE1-9450-6179228E44F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21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comic"/>
              </a:rPr>
              <a:t>TRANSPLANTATION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comic"/>
              </a:rPr>
              <a:t>&amp;</a:t>
            </a:r>
            <a:br>
              <a:rPr sz="5400"/>
            </a:br>
            <a:r>
              <a:rPr b="0" lang="en-US" sz="4400" spc="-1" strike="noStrike">
                <a:solidFill>
                  <a:srgbClr val="c00000"/>
                </a:solidFill>
                <a:latin typeface="comic"/>
              </a:rPr>
              <a:t>tissue rej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SimSun"/>
              </a:rPr>
              <a:t>Hyperacute rej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Occurs  within minutes to hours after host blood vessels are anastomosed to graft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Patholog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Thrombotic occlusion of the graft vascula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Ischemia, denaturation, necrosi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Mechanism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Antibody against ABO blood type an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Antibody against VEC anti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Antibody against HLA an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Complement activation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Endothelial cell da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Platelets activation </a:t>
            </a:r>
            <a:r>
              <a:rPr b="0" lang="en-US" sz="2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Thrombosis, vascular occlusion, ischemic dama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1720" indent="-351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85840" y="142920"/>
            <a:ext cx="85723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SimSun"/>
              </a:rPr>
              <a:t>Acute rej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Occurs within days to  2 weeks after transplantation, 80-90% of cases occur within 1 mont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Patholo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ute humoral  rejec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ute vasculitis manifested mainly by endothelial cell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ute cellular rejec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arenchymal cell necrosis along with  infiltration of lymphocytes and M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Mechanis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Vasculitis: IgG antibodies against alloantigens on endothelial cel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arenchymal cell dama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layed hypersensitivity mediated by CD4+Th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illing of graft cells by CD8+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99680" y="285840"/>
            <a:ext cx="83581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SimSun"/>
              </a:rPr>
              <a:t>Chronic rej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s months or years after acute rejection reactions have subsi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Patholo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ibrosis and vascular abnormalities with loss of graft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Mechanis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ot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xtension and results of cell necrosis in acute re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hronic inflammation mediated by CD4+T cell/M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rgan degeneration induced by non immune f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365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6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SimSun"/>
              </a:rPr>
              <a:t>Graft versus host reaction (GVH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0040" y="928800"/>
            <a:ext cx="8429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Graft versus host reaction (GVH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llogeneic bone marrow transplant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jection to host alloantige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ediated by immune competent cells in bone marr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Graft versus host disease (GVH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 disease caused by GVHR, which can damage the ho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ute GVH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hronic GVH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Conditio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nough immune competent cells in graf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mmunocompromised ho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haroni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istocompatability differences between host and gra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0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85480" y="285840"/>
            <a:ext cx="86439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SimSun"/>
              </a:rPr>
              <a:t>1. Acute GV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Endothelial cell death in the skin, liver, and gastrointestinal 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Rash, jaundice, diarrhea, gastrointestinal hemorrha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Mediated by mature T cells in the graf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SimSun"/>
              </a:rPr>
              <a:t>2. Chronic GV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Fibrosis and atrophy of one or more of the org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Eventually complete dysfunction of the affected org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  <a:ea typeface="SimSun"/>
              </a:rPr>
              <a:t>Both acute and chronic GVHD are commonly treated with intense immunosuppre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SimSun"/>
              </a:rPr>
              <a:t>Prevention and Therapy of Allograft Rejec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840" y="135684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Tissue 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BO and Rh blood ty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LA typing  (HLA-A and HLA-BHLA-D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eening of the recipient for anti-HLA antibodies (also called antibody screen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mphocyte cross matching (also called compatibility tes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mmunosuppressive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orticosteroids:   block the synthesis and secretion of cytok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zathioprine, Cyclophosphamide:  block the proliferation of lymphocyt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6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57120" y="428400"/>
            <a:ext cx="84441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 transplan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oving of an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org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one body to another for the purpose of replacing the recipient's damaged or failing organ with a working one from the donor s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 dono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a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s that can be transplanted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eart, kidneys, liver, lungs, pancreas, eyes and intestin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an be transplan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s, tendons, cornea, heart valves, veins, and s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5840" y="-360"/>
            <a:ext cx="85723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ypes of transpl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12373"/>
                </a:solidFill>
                <a:latin typeface="Times New Roman"/>
                <a:ea typeface="Times New Roman"/>
              </a:rPr>
              <a:t>1.Autograf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512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2373"/>
                </a:solidFill>
                <a:latin typeface="Times New Roman"/>
                <a:ea typeface="Times New Roman"/>
              </a:rPr>
              <a:t>Transplant of tissue to the same pers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12373"/>
                </a:solidFill>
                <a:latin typeface="Times New Roman"/>
                <a:ea typeface="Times New Roman"/>
              </a:rPr>
              <a:t>e.g. skin, vein, stem cells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12373"/>
                </a:solidFill>
                <a:latin typeface="Times New Roman"/>
                <a:ea typeface="Times New Roman"/>
              </a:rPr>
              <a:t>2.Allograf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512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2373"/>
                </a:solidFill>
                <a:latin typeface="Times New Roman"/>
                <a:ea typeface="Times New Roman"/>
              </a:rPr>
              <a:t>Transplant of an organ or tissue between two genetically non-identical members of the same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5123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2373"/>
                </a:solidFill>
                <a:latin typeface="Times New Roman"/>
                <a:ea typeface="Times New Roman"/>
              </a:rPr>
              <a:t>Most human tissue and organ transplants are allograf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12373"/>
                </a:solidFill>
                <a:latin typeface="Times New Roman"/>
                <a:ea typeface="Times New Roman"/>
              </a:rPr>
              <a:t>3.Isograft:</a:t>
            </a:r>
            <a:r>
              <a:rPr b="1" lang="en-US" sz="2400" spc="-1" strike="noStrike">
                <a:solidFill>
                  <a:srgbClr val="0000d0"/>
                </a:solidFill>
                <a:latin typeface="Arial Rounded MT Bold"/>
                <a:ea typeface="SimSun"/>
              </a:rPr>
              <a:t> </a:t>
            </a:r>
            <a:r>
              <a:rPr b="1" lang="en-US" sz="2400" spc="-1" strike="noStrike">
                <a:solidFill>
                  <a:srgbClr val="381850"/>
                </a:solidFill>
                <a:latin typeface="Times New Roman"/>
                <a:ea typeface="SimSun"/>
              </a:rPr>
              <a:t>(Syngenei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818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1850"/>
                </a:solidFill>
                <a:latin typeface="Times New Roman"/>
                <a:ea typeface="Times New Roman"/>
              </a:rPr>
              <a:t>A subset of </a:t>
            </a:r>
            <a:r>
              <a:rPr b="1" lang="en-US" sz="2400" spc="-1" strike="noStrike">
                <a:solidFill>
                  <a:srgbClr val="381850"/>
                </a:solidFill>
                <a:latin typeface="Times New Roman"/>
                <a:ea typeface="Times New Roman"/>
              </a:rPr>
              <a:t>allografts</a:t>
            </a:r>
            <a:r>
              <a:rPr b="0" lang="en-US" sz="2400" spc="-1" strike="noStrike">
                <a:solidFill>
                  <a:srgbClr val="381850"/>
                </a:solidFill>
                <a:latin typeface="Times New Roman"/>
                <a:ea typeface="Times New Roman"/>
              </a:rPr>
              <a:t> from a donor to a genetically identical recipient (e.g. identical twin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818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1850"/>
                </a:solidFill>
                <a:latin typeface="Times New Roman"/>
                <a:ea typeface="Times New Roman"/>
              </a:rPr>
              <a:t>Isografts don't trigger an immune respon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12373"/>
                </a:solidFill>
                <a:latin typeface="Times New Roman"/>
                <a:ea typeface="Times New Roman"/>
              </a:rPr>
              <a:t>4.Xenograf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818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1850"/>
                </a:solidFill>
                <a:latin typeface="Times New Roman"/>
                <a:ea typeface="Times New Roman"/>
              </a:rPr>
              <a:t>A transplant of organs or tissue from one species to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818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1850"/>
                </a:solidFill>
                <a:latin typeface="Times New Roman"/>
                <a:ea typeface="Times New Roman"/>
              </a:rPr>
              <a:t>e.g. porcine heart valve trans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Immunologic Basis of Allograft Rej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SimSun"/>
              </a:rPr>
              <a:t>Grafts reje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s a kind of specific immune respon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organ which causes failure of the transpl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Specif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mmune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SimSun"/>
              </a:rPr>
              <a:t>Transplantation antige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Major histocompatibility antigens (MHC molecul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Minor histocompatibility antig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Other alloantige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Major histocompatibility antigens (MHC molecul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Main antigens of grafts rejecti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Cause fast and strong rej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Difference of HLA types is the main cause of human grafts rej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Minor histocompatibility antig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Also cause grafts rejection, but slow and we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Other alloantig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ABO  blood group antigen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Some tissue specific antige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84240" indent="-26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kin, kidney, heart, pancreas ,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84240" indent="-266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VEC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cular endothelial cell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ntige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6760" indent="-266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SimSun"/>
              </a:rPr>
              <a:t>Mechanism of allograft rej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Cell-mediated Immun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Humoral Immun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Role of NK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Cell-mediated I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 cell-mediated cellular  immune response against alloantigens on graf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 cells of the recipient recognize the allogeneic MHC molec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.e.  uptake and presentation of allogeneic donor MHC molecules by recipient AP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tivated CD4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 cells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M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ctivation and recrui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tivated CD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 cells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Kill the graft c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840" y="285840"/>
            <a:ext cx="85723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Humoral immun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Important role in hyperacute rej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omplements act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DC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ps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Role of NK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mediators secreted by activated Th cells can promote NK acti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1356840"/>
            <a:ext cx="80722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Host versus graft reaction (HVG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Conventional organ transpla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Graft versus host reaction (GVH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Bone marrow transpla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406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SimSun"/>
              </a:rPr>
              <a:t>Classification of Allograft Rej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57120" y="213840"/>
            <a:ext cx="8501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SimSun"/>
              </a:rPr>
              <a:t>Host versus graft reaction (HVGR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Hyperacute rej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Acute rej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Chronic rej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4:52:35Z</dcterms:created>
  <dc:creator>computer</dc:creator>
  <dc:description/>
  <dc:language>en-US</dc:language>
  <cp:lastModifiedBy>computer</cp:lastModifiedBy>
  <dcterms:modified xsi:type="dcterms:W3CDTF">2009-05-15T17:16:04Z</dcterms:modified>
  <cp:revision>52</cp:revision>
  <dc:subject/>
  <dc:title>TRANSPLANTATION</dc:title>
</cp:coreProperties>
</file>