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5FA-0373-40FA-BA22-C642861F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908-456E-4322-986C-4F02EFD5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193-1588-4AEE-AE27-5BF1A8CD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306-208E-4353-A394-34133E1B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B79-9F93-4815-82A4-FCD59736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69D-C874-4D49-A8E7-BE115D5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BA4-696F-4271-A79C-86F365D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B83-1FEC-46B7-860F-F05AECF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8CB-5AE5-4CBC-8D40-994EF241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339-CA61-4732-A1CF-52D0379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D5B-97E3-45D3-B897-98EBBDB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874-6669-479C-AE7C-6B1F7A8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7E8D-616E-4B87-BF6E-22A62127FA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"/>
              </a:rPr>
              <a:t>Antige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ntigen is defined as a substance that is recognized by the immune syst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An organism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a molecule 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or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part of molecu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complex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protein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carbohydrate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or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synth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Epito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re the antigenic determinants or the smallest part of the antigen recognized by lymphoc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ntigens are divided into three functional sub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c216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Immunogen: A substance that induces a specific immun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c216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Hapten: </a:t>
            </a: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A substance that is non-immunogenic but can react with the products of a specific immune response. Haptens are small molecules which could never induce an immune response when administered by them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lerogen: A substance that produces immunological tolerance (a state of specific immunological unresponsiveness to subsequent challenging doses of that anti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IMMUNOGEN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The ability to elicit an immune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FACTORS INFLUENCING IMMUNOGENICIT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1. Foreignness:</a:t>
            </a:r>
            <a:br>
              <a:rPr sz="2200"/>
            </a:b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The immune system </a:t>
            </a:r>
            <a:r>
              <a:rPr b="0" lang="en-US" sz="2200" spc="-1" strike="noStrike" u="sng">
                <a:solidFill>
                  <a:srgbClr val="4c216d"/>
                </a:solidFill>
                <a:uFillTx/>
                <a:latin typeface="Times New Roman"/>
                <a:ea typeface="Times New Roman"/>
              </a:rPr>
              <a:t>normally</a:t>
            </a: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 discriminates between self and non-self (only foreign molecules are immunogen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2. Size: </a:t>
            </a: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Proteins greater than 10 kDa are more immunogen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3. Chemical Composition: </a:t>
            </a: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the more complex the substance is chemically the more immunogenic it will b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buClr>
                <a:srgbClr val="4c216d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Degradability</a:t>
            </a:r>
            <a:br>
              <a:rPr sz="2200"/>
            </a:b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ntigens that are easily phagocytosed are generally more immunoge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Dose, route (SC is better than IV&amp; oral) </a:t>
            </a:r>
            <a:r>
              <a:rPr b="1" lang="ar-SA" sz="22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5. Method of Adminis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buClr>
                <a:srgbClr val="572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58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Chemical nature of immu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proteins: (glycoproteins or lipoproteins)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the vast majority of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Immunogens are 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2. polysaccharides: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good immu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3. Nucleic acids: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usually poorly immunogenic, become immunogenic if single stranded or are complexed with 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4. Lipids: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in general are non-immunogenic but may be hapt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285840"/>
            <a:ext cx="8501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IV. TYPES OF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A. T-independent Antigens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antigens which can directly stimulate the B cells to produce antibody without the requirement for T cell help e.g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lysacchar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T-independent anti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ymeric struc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ntigens are characterized by the same antigenic determinant repeated many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http://pathmicro.med.sc.edu/mayer/ag-1.jpg"/>
          <p:cNvPicPr/>
          <p:nvPr/>
        </p:nvPicPr>
        <p:blipFill>
          <a:blip r:embed="rId1"/>
          <a:stretch/>
        </p:blipFill>
        <p:spPr>
          <a:xfrm>
            <a:off x="4714920" y="4000680"/>
            <a:ext cx="350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285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yclonal activation of B cell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activate B cell clones specific for other antigens (polyclonal activatio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istance to degrad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-independent antigens are generally more resistant to degradation and thus they persist for longer periods of time and continue to stimulate the immune 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60000"/>
                </a:solidFill>
                <a:latin typeface="Calibri"/>
              </a:rPr>
              <a:t>:</a:t>
            </a: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B. T-dependent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-dependent antigens are those that do not directly stimulate the production of antibody without the help of  T cells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(Proteins are T-dependent antigens)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a few copies of many different antigenic determinants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pathmicro.med.sc.edu/mayer/ag-2a.jpg"/>
          <p:cNvPicPr/>
          <p:nvPr/>
        </p:nvPicPr>
        <p:blipFill>
          <a:blip r:embed="rId1"/>
          <a:stretch/>
        </p:blipFill>
        <p:spPr>
          <a:xfrm>
            <a:off x="4929120" y="5214960"/>
            <a:ext cx="32450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285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HAPTEN-CARRIER CONJUGATES</a:t>
            </a: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immunogenic molecules to which haptens have been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alently attac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munogenic molecule is called the carri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pathmicro.med.sc.edu/mayer/ag-3.jpg"/>
          <p:cNvPicPr/>
          <p:nvPr/>
        </p:nvPicPr>
        <p:blipFill>
          <a:blip r:embed="rId1"/>
          <a:stretch/>
        </p:blipFill>
        <p:spPr>
          <a:xfrm>
            <a:off x="3214800" y="3143160"/>
            <a:ext cx="3406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6760" y="285480"/>
            <a:ext cx="8372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ANTIGENIC DETERMINANTS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. Determinants recognized by B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mall and are limited to approximately 4-8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o acids and or suga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eith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equence residu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formational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, tertiary or quatern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Determinants recognized by T cell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limited to approximately 8-15 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primary sequence 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6:09:32Z</dcterms:created>
  <dc:creator>computer</dc:creator>
  <dc:description/>
  <dc:language>en-US</dc:language>
  <cp:lastModifiedBy>computer</cp:lastModifiedBy>
  <dcterms:modified xsi:type="dcterms:W3CDTF">2009-03-11T03:04:32Z</dcterms:modified>
  <cp:revision>50</cp:revision>
  <dc:subject/>
  <dc:title>Slide 1</dc:title>
</cp:coreProperties>
</file>