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90A-F77E-42E1-BED3-D6FFDCD1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1D35-DEAA-4960-993E-AB593F6C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6AB-E1BD-4774-8CEC-39172913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6C8-E721-469C-A881-DD6087DC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39B-EF64-430F-A392-5B7EDF1A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BF5-22D9-48FD-AD6B-C2865D5F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3A9-9198-4A5A-ADCD-AA59C856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B78D-0214-4B19-B807-441F3D57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BAF-6E02-4C1F-A36B-4795FA14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B44D-8ED3-4D31-9985-FCFA31FF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D98-29F0-499B-90B7-BF7C6F9A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886-5954-470E-A51F-1EF5862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8DDD-6DBA-47A7-AA58-2A4E586E08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"/>
              </a:rPr>
              <a:t>Antige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ntigen is defined as a substance that is recognized by the immune syst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An organism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a molecule 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or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part of molecu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Simple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complex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protein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carbohydrate</a:t>
            </a:r>
            <a:r>
              <a:rPr b="1" i="1" lang="en-US" sz="2400" spc="-1" strike="noStrike">
                <a:solidFill>
                  <a:srgbClr val="00642d"/>
                </a:solidFill>
                <a:latin typeface="Times New Roman"/>
                <a:ea typeface="Times New Roman"/>
              </a:rPr>
              <a:t>, or </a:t>
            </a:r>
            <a:r>
              <a:rPr b="1" i="1" lang="en-US" sz="2400" spc="-1" strike="noStrike" u="sng">
                <a:solidFill>
                  <a:srgbClr val="00642d"/>
                </a:solidFill>
                <a:uFillTx/>
                <a:latin typeface="Times New Roman"/>
                <a:ea typeface="Times New Roman"/>
              </a:rPr>
              <a:t>synth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Epito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re the antigenic determinants or the smallest part of the antigen recognized by lymphoc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ntigens are divided into three functional sub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c216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Immunogen: A substance that induces a specific immun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4c216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Hapten: </a:t>
            </a: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A substance that is non-immunogenic but can react with the products of a specific immune response. Haptens are small molecules which could never induce an immune response when administered by themsel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olerogen: A substance that produces immunological tolerance (a state of specific immunological unresponsiveness to subsequent challenging doses of that anti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IMMUNOGEN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The ability to elicit an immune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FACTORS INFLUENCING IMMUNOGENICIT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1. Foreignness:</a:t>
            </a:r>
            <a:br>
              <a:rPr sz="2200"/>
            </a:b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The immune system </a:t>
            </a:r>
            <a:r>
              <a:rPr b="0" lang="en-US" sz="2200" spc="-1" strike="noStrike" u="sng">
                <a:solidFill>
                  <a:srgbClr val="4c216d"/>
                </a:solidFill>
                <a:uFillTx/>
                <a:latin typeface="Times New Roman"/>
                <a:ea typeface="Times New Roman"/>
              </a:rPr>
              <a:t>normally</a:t>
            </a: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 discriminates between self and non-self (only foreign molecules are immunogen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2. Size: </a:t>
            </a: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Proteins greater than 10 kDa are more immunogen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3. Chemical Composition: </a:t>
            </a: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the more complex the substance is chemically the more immunogenic it will b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buClr>
                <a:srgbClr val="4c216d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Degradability</a:t>
            </a:r>
            <a:br>
              <a:rPr sz="2200"/>
            </a:br>
            <a:r>
              <a:rPr b="0" lang="en-US" sz="2200" spc="-1" strike="noStrike">
                <a:solidFill>
                  <a:srgbClr val="4c216d"/>
                </a:solidFill>
                <a:latin typeface="Times New Roman"/>
                <a:ea typeface="Times New Roman"/>
              </a:rPr>
              <a:t>Antigens that are easily phagocytosed are generally more immunoge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Dose, route (SC is better than IV&amp; oral) </a:t>
            </a:r>
            <a:r>
              <a:rPr b="1" lang="ar-SA" sz="22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: </a:t>
            </a:r>
            <a:r>
              <a:rPr b="1" lang="en-US" sz="22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5. Method of Administ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550"/>
              </a:spcBef>
              <a:buClr>
                <a:srgbClr val="572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858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Chemical nature of immu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proteins: (glycoproteins or lipoproteins)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the vast majority of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Immunogens are 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2. polysaccharides: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good immuno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3. Nucleic acids: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usually poorly immunogenic, become immunogenic if single stranded or are complexed with prote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4. Lipids: </a:t>
            </a:r>
            <a:r>
              <a:rPr b="0" lang="en-US" sz="2400" spc="-1" strike="noStrike">
                <a:solidFill>
                  <a:srgbClr val="57257d"/>
                </a:solidFill>
                <a:latin typeface="Times New Roman"/>
                <a:ea typeface="Times New Roman"/>
              </a:rPr>
              <a:t>in general are non-immunogenic but may be hapt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57120" y="285840"/>
            <a:ext cx="85010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IV. TYPES OF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A. T-independent Antigens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antigens which can directly stimulate the B cells to produce antibody without the requirement for T cell help e.g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lysacchar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of T-independent anti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ymeric struct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antigens are characterized by the same antigenic determinant repeated many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http://pathmicro.med.sc.edu/mayer/ag-1.jpg"/>
          <p:cNvPicPr/>
          <p:nvPr/>
        </p:nvPicPr>
        <p:blipFill>
          <a:blip r:embed="rId1"/>
          <a:stretch/>
        </p:blipFill>
        <p:spPr>
          <a:xfrm>
            <a:off x="4714920" y="4000680"/>
            <a:ext cx="350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28584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yclonal activation of B cell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activate B cell clones specific for other antigens (polyclonal activation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istance to degrad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-independent antigens are generally more resistant to degradation and thus they persist for longer periods of time and continue to stimulate the immune syste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60000"/>
                </a:solidFill>
                <a:latin typeface="Calibri"/>
              </a:rPr>
              <a:t>:</a:t>
            </a: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B. T-dependent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-dependent antigens are those that do not directly stimulate the production of antibody without the help of  T cells 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(Proteins are T-dependent antigens)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d by a few copies of many different antigenic determinants</a:t>
            </a:r>
            <a:r>
              <a:rPr b="1" i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pathmicro.med.sc.edu/mayer/ag-2a.jpg"/>
          <p:cNvPicPr/>
          <p:nvPr/>
        </p:nvPicPr>
        <p:blipFill>
          <a:blip r:embed="rId1"/>
          <a:stretch/>
        </p:blipFill>
        <p:spPr>
          <a:xfrm>
            <a:off x="4929120" y="5214960"/>
            <a:ext cx="32450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00040" y="285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HAPTEN-CARRIER CONJUGATES</a:t>
            </a:r>
            <a:r>
              <a:rPr b="1" lang="en-US" sz="2800" spc="-1" strike="noStrike">
                <a:solidFill>
                  <a:srgbClr val="d6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immunogenic molecules to which haptens have been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valently attach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munogenic molecule is called the carri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pathmicro.med.sc.edu/mayer/ag-3.jpg"/>
          <p:cNvPicPr/>
          <p:nvPr/>
        </p:nvPicPr>
        <p:blipFill>
          <a:blip r:embed="rId1"/>
          <a:stretch/>
        </p:blipFill>
        <p:spPr>
          <a:xfrm>
            <a:off x="3214800" y="3143160"/>
            <a:ext cx="3406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56760" y="285480"/>
            <a:ext cx="8372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ANTIGENIC DETERMINANTS</a:t>
            </a:r>
            <a:r>
              <a:rPr b="1" lang="en-US" sz="2800" spc="-1" strike="noStrike">
                <a:solidFill>
                  <a:srgbClr val="d6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. Determinants recognized by B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small and are limited to approximately 4-8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o acids and or suga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 eith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sequence residu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formational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, tertiary or quaterna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Determinants recognized by T cell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limited to approximately 8-15 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primary sequence 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6:09:32Z</dcterms:created>
  <dc:creator>computer</dc:creator>
  <dc:description/>
  <dc:language>en-US</dc:language>
  <cp:lastModifiedBy>computer</cp:lastModifiedBy>
  <dcterms:modified xsi:type="dcterms:W3CDTF">2009-03-11T03:04:32Z</dcterms:modified>
  <cp:revision>50</cp:revision>
  <dc:subject/>
  <dc:title>Slide 1</dc:title>
</cp:coreProperties>
</file>