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17D-F396-465A-8EFE-D6778646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E49-9054-4D63-837B-2C2F62F8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1A5-5778-46D0-8A92-2E5DA6FA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5ED-CE65-4AE5-89F5-6FF0A6AA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C37-8222-47AA-9C85-3C7F074D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BFE-2A5F-4661-B574-426E29F3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2B3-DCA2-4D2C-AAA5-BFE63BE1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720-B73B-47F1-86B0-4CC487C6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99F-84B3-42D5-A7B9-7491A40F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7FB-0A5C-4949-B434-7C08A9F6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3D8-526A-4EB5-9FC9-A953DE29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D0E-D658-4353-8A0C-C58B8923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92D2-EA10-4B46-9B4C-93595ED3E13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0076"/>
                </a:solidFill>
                <a:latin typeface="comic"/>
              </a:rPr>
              <a:t>IMMUNOGLOBULI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"/>
          <p:cNvPicPr/>
          <p:nvPr/>
        </p:nvPicPr>
        <p:blipFill>
          <a:blip r:embed="rId1"/>
          <a:srcRect l="0" t="25370" r="0" b="10411"/>
          <a:stretch/>
        </p:blipFill>
        <p:spPr>
          <a:xfrm>
            <a:off x="1071720" y="1500120"/>
            <a:ext cx="66434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"/>
              </a:rPr>
              <a:t>CLINICAL IMPLICATIONS OF HUMAN IMMUNOGLOBULIN CLAS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21428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00a4"/>
                </a:solidFill>
                <a:latin typeface="Calibri"/>
              </a:rPr>
              <a:t>I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Increases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ronic granulomatous infe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ections of all typ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yperimmuniz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ver dise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vere Malnutr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sproteinem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3280" y="1571760"/>
            <a:ext cx="425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Decreases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ammaglobulinem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ymphoid aplas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lective IgG &amp; IgA defici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gA myelo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e Jones proteinem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ronic lymphocytic leukemi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00a4"/>
                </a:solidFill>
                <a:latin typeface="Calibri"/>
              </a:rPr>
              <a:t>Ig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840" y="571320"/>
            <a:ext cx="40384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IgM increases (in newborn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level of IgM above 20 mg/dl is an indication of 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r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bella vir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ytomegalovir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phi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xoplasmosi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85840" y="428760"/>
            <a:ext cx="40388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IgM increases (in adults)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ldenström’s macroglobulinem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ypanosomias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nomycos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l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ious mononucle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upus erythematos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heumatoid arthrit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00040" y="4000680"/>
            <a:ext cx="692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IgM decreas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mmaglobulinem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ymphoid aplas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gG &amp; IgA myelo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sgammaglobulinem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ronic lymphocytic leuke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0344f"/>
                </a:solidFill>
                <a:uFillTx/>
                <a:latin typeface="Arial"/>
                <a:ea typeface="Arial"/>
              </a:rPr>
              <a:t>Ig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3840" y="642600"/>
            <a:ext cx="42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344f"/>
                </a:solidFill>
                <a:uFillTx/>
                <a:latin typeface="Arial"/>
              </a:rPr>
              <a:t>IgA increases 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iskott-Aldrich syndr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2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st cases of liver Cirrh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stages of collagen &amp; other autoimmune disorders such as rheumatoid arthritis &amp; lupus erythematos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gA myelo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3280" y="785880"/>
            <a:ext cx="4181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d6006b"/>
                </a:solidFill>
                <a:uFillTx/>
                <a:latin typeface="Arial"/>
              </a:rPr>
              <a:t>IgA decreases in:</a:t>
            </a:r>
            <a:r>
              <a:rPr b="1" lang="en-US" sz="2300" spc="-1" strike="noStrike">
                <a:solidFill>
                  <a:srgbClr val="d6006b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Arial"/>
              </a:rPr>
              <a:t>1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reditary ataxia telangiectasia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Arial"/>
              </a:rPr>
              <a:t>2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mmunologic deficiency states (e.g.:dysgammaglobulinemia, congenital &amp; acquired agammaglobulinemia, &amp; hypogammaglobulinemia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Arial"/>
              </a:rPr>
              <a:t>3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alabsorption syndrome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Arial"/>
              </a:rPr>
              <a:t>4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Lymphoid aplasia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Arial"/>
              </a:rPr>
              <a:t>5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gG myeloma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Arial"/>
              </a:rPr>
              <a:t>6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cute &amp; Chronic lymphoblastic leukemia.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85840" y="357120"/>
            <a:ext cx="85154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IgD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increases in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c infec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gD myelom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IgE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increases in: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opic skin diseases such as ecze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2)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y fev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th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4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phylactic shoc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5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gE-myelo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IgE decreases in: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genital agammaglobulinemi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5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7900"/>
                </a:solidFill>
                <a:latin typeface="Arial"/>
                <a:ea typeface="Arial"/>
              </a:rPr>
              <a:t>Immunoglobulin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Content Placeholder 3"/>
          <p:cNvGrpSpPr/>
          <p:nvPr/>
        </p:nvGrpSpPr>
        <p:grpSpPr>
          <a:xfrm>
            <a:off x="457200" y="1600200"/>
            <a:ext cx="8228160" cy="4523040"/>
            <a:chOff x="457200" y="1600200"/>
            <a:chExt cx="8228160" cy="4523040"/>
          </a:xfrm>
        </p:grpSpPr>
        <p:grpSp>
          <p:nvGrpSpPr>
            <p:cNvPr id="66" name="Group 4"/>
            <p:cNvGrpSpPr/>
            <p:nvPr/>
          </p:nvGrpSpPr>
          <p:grpSpPr>
            <a:xfrm>
              <a:off x="598680" y="2024640"/>
              <a:ext cx="8086680" cy="4034880"/>
              <a:chOff x="598680" y="2024640"/>
              <a:chExt cx="8086680" cy="4034880"/>
            </a:xfrm>
          </p:grpSpPr>
          <p:sp>
            <p:nvSpPr>
              <p:cNvPr id="67" name="Oval 5"/>
              <p:cNvSpPr/>
              <p:nvPr/>
            </p:nvSpPr>
            <p:spPr>
              <a:xfrm>
                <a:off x="5826600" y="4763880"/>
                <a:ext cx="270720" cy="201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6"/>
              <p:cNvGrpSpPr/>
              <p:nvPr/>
            </p:nvGrpSpPr>
            <p:grpSpPr>
              <a:xfrm>
                <a:off x="598680" y="2024640"/>
                <a:ext cx="8086680" cy="4034880"/>
                <a:chOff x="598680" y="2024640"/>
                <a:chExt cx="8086680" cy="4034880"/>
              </a:xfrm>
            </p:grpSpPr>
            <p:sp>
              <p:nvSpPr>
                <p:cNvPr id="69" name="Line 7"/>
                <p:cNvSpPr/>
                <p:nvPr/>
              </p:nvSpPr>
              <p:spPr>
                <a:xfrm>
                  <a:off x="4671720" y="3933000"/>
                  <a:ext cx="0" cy="201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8"/>
                <p:cNvSpPr/>
                <p:nvPr/>
              </p:nvSpPr>
              <p:spPr>
                <a:xfrm>
                  <a:off x="4964400" y="3933000"/>
                  <a:ext cx="0" cy="201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AutoShape 9"/>
                <p:cNvSpPr/>
                <p:nvPr/>
              </p:nvSpPr>
              <p:spPr>
                <a:xfrm rot="20060400">
                  <a:off x="2254320" y="4155120"/>
                  <a:ext cx="1408320" cy="48672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10"/>
                <p:cNvSpPr/>
                <p:nvPr/>
              </p:nvSpPr>
              <p:spPr>
                <a:xfrm rot="20060400">
                  <a:off x="3198240" y="4316760"/>
                  <a:ext cx="70452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11"/>
                <p:cNvSpPr/>
                <p:nvPr/>
              </p:nvSpPr>
              <p:spPr>
                <a:xfrm rot="20060400">
                  <a:off x="2220480" y="4668840"/>
                  <a:ext cx="70452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AutoShape 12"/>
                <p:cNvSpPr/>
                <p:nvPr/>
              </p:nvSpPr>
              <p:spPr>
                <a:xfrm rot="20060400">
                  <a:off x="657000" y="4736520"/>
                  <a:ext cx="1408320" cy="48672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13"/>
                <p:cNvSpPr/>
                <p:nvPr/>
              </p:nvSpPr>
              <p:spPr>
                <a:xfrm rot="20060400">
                  <a:off x="1600560" y="4893840"/>
                  <a:ext cx="70380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14"/>
                <p:cNvSpPr/>
                <p:nvPr/>
              </p:nvSpPr>
              <p:spPr>
                <a:xfrm rot="20060400">
                  <a:off x="614880" y="5250600"/>
                  <a:ext cx="70380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AutoShape 15"/>
                <p:cNvSpPr/>
                <p:nvPr/>
              </p:nvSpPr>
              <p:spPr>
                <a:xfrm flipV="1">
                  <a:off x="5285880" y="4285800"/>
                  <a:ext cx="1408320" cy="48672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16"/>
                <p:cNvSpPr/>
                <p:nvPr/>
              </p:nvSpPr>
              <p:spPr>
                <a:xfrm flipV="1">
                  <a:off x="6184800" y="4305960"/>
                  <a:ext cx="70380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17"/>
                <p:cNvSpPr/>
                <p:nvPr/>
              </p:nvSpPr>
              <p:spPr>
                <a:xfrm flipV="1">
                  <a:off x="5091480" y="4295520"/>
                  <a:ext cx="70380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utoShape 18"/>
                <p:cNvSpPr/>
                <p:nvPr/>
              </p:nvSpPr>
              <p:spPr>
                <a:xfrm flipV="1">
                  <a:off x="7077600" y="4293720"/>
                  <a:ext cx="1407960" cy="48672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Rectangle 19"/>
                <p:cNvSpPr/>
                <p:nvPr/>
              </p:nvSpPr>
              <p:spPr>
                <a:xfrm flipV="1">
                  <a:off x="7981560" y="4318920"/>
                  <a:ext cx="70380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20"/>
                <p:cNvSpPr/>
                <p:nvPr/>
              </p:nvSpPr>
              <p:spPr>
                <a:xfrm flipV="1">
                  <a:off x="6888600" y="4303440"/>
                  <a:ext cx="703800" cy="11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Oval 21"/>
                <p:cNvSpPr/>
                <p:nvPr/>
              </p:nvSpPr>
              <p:spPr>
                <a:xfrm flipV="1">
                  <a:off x="4815720" y="4117680"/>
                  <a:ext cx="27000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Oval 22"/>
                <p:cNvSpPr/>
                <p:nvPr/>
              </p:nvSpPr>
              <p:spPr>
                <a:xfrm flipV="1">
                  <a:off x="4004280" y="4117680"/>
                  <a:ext cx="27000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Oval 23"/>
                <p:cNvSpPr/>
                <p:nvPr/>
              </p:nvSpPr>
              <p:spPr>
                <a:xfrm flipV="1">
                  <a:off x="4274640" y="4117680"/>
                  <a:ext cx="27000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val 24"/>
                <p:cNvSpPr/>
                <p:nvPr/>
              </p:nvSpPr>
              <p:spPr>
                <a:xfrm flipV="1">
                  <a:off x="4544640" y="4117680"/>
                  <a:ext cx="27072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AutoShape 25"/>
                <p:cNvSpPr/>
                <p:nvPr/>
              </p:nvSpPr>
              <p:spPr>
                <a:xfrm flipV="1" rot="20063400">
                  <a:off x="1020960" y="5292360"/>
                  <a:ext cx="1407960" cy="48672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26"/>
                <p:cNvSpPr/>
                <p:nvPr/>
              </p:nvSpPr>
              <p:spPr>
                <a:xfrm flipV="1" rot="20063400">
                  <a:off x="1775160" y="5149080"/>
                  <a:ext cx="70452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27"/>
                <p:cNvSpPr/>
                <p:nvPr/>
              </p:nvSpPr>
              <p:spPr>
                <a:xfrm flipV="1" rot="20063400">
                  <a:off x="777960" y="5495760"/>
                  <a:ext cx="70452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AutoShape 28"/>
                <p:cNvSpPr/>
                <p:nvPr/>
              </p:nvSpPr>
              <p:spPr>
                <a:xfrm flipV="1" rot="20063400">
                  <a:off x="2643480" y="4721760"/>
                  <a:ext cx="1407960" cy="48672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29"/>
                <p:cNvSpPr/>
                <p:nvPr/>
              </p:nvSpPr>
              <p:spPr>
                <a:xfrm flipV="1" rot="20063400">
                  <a:off x="3392640" y="4583520"/>
                  <a:ext cx="70380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30"/>
                <p:cNvSpPr/>
                <p:nvPr/>
              </p:nvSpPr>
              <p:spPr>
                <a:xfrm flipV="1" rot="20063400">
                  <a:off x="2400480" y="4929480"/>
                  <a:ext cx="704520" cy="11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31"/>
                <p:cNvSpPr/>
                <p:nvPr/>
              </p:nvSpPr>
              <p:spPr>
                <a:xfrm>
                  <a:off x="5798880" y="4352760"/>
                  <a:ext cx="405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32"/>
                <p:cNvSpPr/>
                <p:nvPr/>
              </p:nvSpPr>
              <p:spPr>
                <a:xfrm>
                  <a:off x="7589880" y="4373640"/>
                  <a:ext cx="405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33"/>
                <p:cNvSpPr/>
                <p:nvPr/>
              </p:nvSpPr>
              <p:spPr>
                <a:xfrm flipV="1">
                  <a:off x="3053160" y="4716360"/>
                  <a:ext cx="362880" cy="18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34"/>
                <p:cNvSpPr/>
                <p:nvPr/>
              </p:nvSpPr>
              <p:spPr>
                <a:xfrm flipV="1">
                  <a:off x="1278720" y="5043240"/>
                  <a:ext cx="362880" cy="18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35"/>
                <p:cNvSpPr/>
                <p:nvPr/>
              </p:nvSpPr>
              <p:spPr>
                <a:xfrm flipV="1">
                  <a:off x="2884680" y="4468680"/>
                  <a:ext cx="362880" cy="18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36"/>
                <p:cNvSpPr/>
                <p:nvPr/>
              </p:nvSpPr>
              <p:spPr>
                <a:xfrm flipV="1">
                  <a:off x="1447920" y="5286960"/>
                  <a:ext cx="362880" cy="18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37"/>
                <p:cNvSpPr/>
                <p:nvPr/>
              </p:nvSpPr>
              <p:spPr>
                <a:xfrm>
                  <a:off x="3860640" y="4304160"/>
                  <a:ext cx="134640" cy="201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AutoShape 38"/>
                <p:cNvSpPr/>
                <p:nvPr/>
              </p:nvSpPr>
              <p:spPr>
                <a:xfrm flipV="1" rot="1539600">
                  <a:off x="2232360" y="3445560"/>
                  <a:ext cx="1408320" cy="48708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39"/>
                <p:cNvSpPr/>
                <p:nvPr/>
              </p:nvSpPr>
              <p:spPr>
                <a:xfrm flipV="1" rot="1539600">
                  <a:off x="3175920" y="3644640"/>
                  <a:ext cx="70380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40"/>
                <p:cNvSpPr/>
                <p:nvPr/>
              </p:nvSpPr>
              <p:spPr>
                <a:xfrm flipV="1" rot="1539600">
                  <a:off x="2184120" y="3290400"/>
                  <a:ext cx="703800" cy="122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AutoShape 41"/>
                <p:cNvSpPr/>
                <p:nvPr/>
              </p:nvSpPr>
              <p:spPr>
                <a:xfrm flipV="1" rot="1539600">
                  <a:off x="634680" y="2859840"/>
                  <a:ext cx="1408320" cy="48708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42"/>
                <p:cNvSpPr/>
                <p:nvPr/>
              </p:nvSpPr>
              <p:spPr>
                <a:xfrm flipV="1" rot="1539600">
                  <a:off x="1572840" y="3071880"/>
                  <a:ext cx="70380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43"/>
                <p:cNvSpPr/>
                <p:nvPr/>
              </p:nvSpPr>
              <p:spPr>
                <a:xfrm flipV="1" rot="1539600">
                  <a:off x="592200" y="2711520"/>
                  <a:ext cx="70452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AutoShape 44"/>
                <p:cNvSpPr/>
                <p:nvPr/>
              </p:nvSpPr>
              <p:spPr>
                <a:xfrm>
                  <a:off x="5263560" y="3311640"/>
                  <a:ext cx="1408320" cy="48672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45"/>
                <p:cNvSpPr/>
                <p:nvPr/>
              </p:nvSpPr>
              <p:spPr>
                <a:xfrm>
                  <a:off x="6161760" y="3651840"/>
                  <a:ext cx="70452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46"/>
                <p:cNvSpPr/>
                <p:nvPr/>
              </p:nvSpPr>
              <p:spPr>
                <a:xfrm>
                  <a:off x="5068440" y="3666600"/>
                  <a:ext cx="70452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AutoShape 47"/>
                <p:cNvSpPr/>
                <p:nvPr/>
              </p:nvSpPr>
              <p:spPr>
                <a:xfrm>
                  <a:off x="7060320" y="3295080"/>
                  <a:ext cx="1408320" cy="48672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48"/>
                <p:cNvSpPr/>
                <p:nvPr/>
              </p:nvSpPr>
              <p:spPr>
                <a:xfrm>
                  <a:off x="7959240" y="3643200"/>
                  <a:ext cx="70380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49"/>
                <p:cNvSpPr/>
                <p:nvPr/>
              </p:nvSpPr>
              <p:spPr>
                <a:xfrm>
                  <a:off x="6866280" y="3649320"/>
                  <a:ext cx="70380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50"/>
                <p:cNvSpPr/>
                <p:nvPr/>
              </p:nvSpPr>
              <p:spPr>
                <a:xfrm>
                  <a:off x="4792680" y="3462840"/>
                  <a:ext cx="27072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51"/>
                <p:cNvSpPr/>
                <p:nvPr/>
              </p:nvSpPr>
              <p:spPr>
                <a:xfrm>
                  <a:off x="3981240" y="3462840"/>
                  <a:ext cx="27072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52"/>
                <p:cNvSpPr/>
                <p:nvPr/>
              </p:nvSpPr>
              <p:spPr>
                <a:xfrm>
                  <a:off x="4252320" y="3462840"/>
                  <a:ext cx="27000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53"/>
                <p:cNvSpPr/>
                <p:nvPr/>
              </p:nvSpPr>
              <p:spPr>
                <a:xfrm>
                  <a:off x="4522320" y="3462840"/>
                  <a:ext cx="27000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54"/>
                <p:cNvSpPr/>
                <p:nvPr/>
              </p:nvSpPr>
              <p:spPr>
                <a:xfrm rot="1536600">
                  <a:off x="997560" y="2305080"/>
                  <a:ext cx="1408320" cy="48672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55"/>
                <p:cNvSpPr/>
                <p:nvPr/>
              </p:nvSpPr>
              <p:spPr>
                <a:xfrm rot="1536600">
                  <a:off x="1747080" y="2808360"/>
                  <a:ext cx="70452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Rectangle 56"/>
                <p:cNvSpPr/>
                <p:nvPr/>
              </p:nvSpPr>
              <p:spPr>
                <a:xfrm rot="1536600">
                  <a:off x="755640" y="2466360"/>
                  <a:ext cx="704520" cy="11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AutoShape 57"/>
                <p:cNvSpPr/>
                <p:nvPr/>
              </p:nvSpPr>
              <p:spPr>
                <a:xfrm rot="1536600">
                  <a:off x="2620440" y="2875320"/>
                  <a:ext cx="1408320" cy="48672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58"/>
                <p:cNvSpPr/>
                <p:nvPr/>
              </p:nvSpPr>
              <p:spPr>
                <a:xfrm rot="1536600">
                  <a:off x="3369600" y="3378960"/>
                  <a:ext cx="70452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59"/>
                <p:cNvSpPr/>
                <p:nvPr/>
              </p:nvSpPr>
              <p:spPr>
                <a:xfrm rot="1536600">
                  <a:off x="2378160" y="3032640"/>
                  <a:ext cx="70452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60"/>
                <p:cNvSpPr/>
                <p:nvPr/>
              </p:nvSpPr>
              <p:spPr>
                <a:xfrm>
                  <a:off x="7556040" y="3697920"/>
                  <a:ext cx="405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61"/>
                <p:cNvSpPr/>
                <p:nvPr/>
              </p:nvSpPr>
              <p:spPr>
                <a:xfrm>
                  <a:off x="5759280" y="3714840"/>
                  <a:ext cx="405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62"/>
                <p:cNvSpPr/>
                <p:nvPr/>
              </p:nvSpPr>
              <p:spPr>
                <a:xfrm flipH="1" flipV="1">
                  <a:off x="2855880" y="3432240"/>
                  <a:ext cx="362880" cy="18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63"/>
                <p:cNvSpPr/>
                <p:nvPr/>
              </p:nvSpPr>
              <p:spPr>
                <a:xfrm flipH="1" flipV="1">
                  <a:off x="1419840" y="2609640"/>
                  <a:ext cx="362880" cy="18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64"/>
                <p:cNvSpPr/>
                <p:nvPr/>
              </p:nvSpPr>
              <p:spPr>
                <a:xfrm flipH="1" flipV="1">
                  <a:off x="1256400" y="2857320"/>
                  <a:ext cx="362880" cy="18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5"/>
                <p:cNvSpPr/>
                <p:nvPr/>
              </p:nvSpPr>
              <p:spPr>
                <a:xfrm flipH="1" flipV="1">
                  <a:off x="3042360" y="3180600"/>
                  <a:ext cx="362880" cy="18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6"/>
                <p:cNvSpPr/>
                <p:nvPr/>
              </p:nvSpPr>
              <p:spPr>
                <a:xfrm flipH="1">
                  <a:off x="3846600" y="3564000"/>
                  <a:ext cx="134640" cy="201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67"/>
                <p:cNvSpPr/>
                <p:nvPr/>
              </p:nvSpPr>
              <p:spPr>
                <a:xfrm>
                  <a:off x="5807160" y="3110400"/>
                  <a:ext cx="270000" cy="2012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Text Box 68"/>
            <p:cNvSpPr/>
            <p:nvPr/>
          </p:nvSpPr>
          <p:spPr>
            <a:xfrm>
              <a:off x="3184200" y="5158440"/>
              <a:ext cx="946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H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9"/>
            <p:cNvSpPr/>
            <p:nvPr/>
          </p:nvSpPr>
          <p:spPr>
            <a:xfrm>
              <a:off x="457200" y="4302720"/>
              <a:ext cx="811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0"/>
            <p:cNvSpPr/>
            <p:nvPr/>
          </p:nvSpPr>
          <p:spPr>
            <a:xfrm>
              <a:off x="2037600" y="3788640"/>
              <a:ext cx="811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71"/>
            <p:cNvSpPr/>
            <p:nvPr/>
          </p:nvSpPr>
          <p:spPr>
            <a:xfrm>
              <a:off x="1499760" y="5752440"/>
              <a:ext cx="811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2"/>
            <p:cNvSpPr/>
            <p:nvPr/>
          </p:nvSpPr>
          <p:spPr>
            <a:xfrm>
              <a:off x="5525280" y="5007600"/>
              <a:ext cx="946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H2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73"/>
            <p:cNvSpPr/>
            <p:nvPr/>
          </p:nvSpPr>
          <p:spPr>
            <a:xfrm>
              <a:off x="7319880" y="5007600"/>
              <a:ext cx="946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H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74"/>
            <p:cNvSpPr/>
            <p:nvPr/>
          </p:nvSpPr>
          <p:spPr>
            <a:xfrm rot="16200000">
              <a:off x="4503240" y="4244400"/>
              <a:ext cx="100800" cy="946800"/>
            </a:xfrm>
            <a:custGeom>
              <a:avLst/>
              <a:gdLst>
                <a:gd name="textAreaLeft" fmla="*/ 29520 w 100800"/>
                <a:gd name="textAreaRight" fmla="*/ 101160 w 100800"/>
                <a:gd name="textAreaTop" fmla="*/ 39240 h 946800"/>
                <a:gd name="textAreaBottom" fmla="*/ 907560 h 94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75"/>
            <p:cNvSpPr/>
            <p:nvPr/>
          </p:nvSpPr>
          <p:spPr>
            <a:xfrm>
              <a:off x="4514040" y="4764240"/>
              <a:ext cx="541080" cy="100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6"/>
            <p:cNvSpPr/>
            <p:nvPr/>
          </p:nvSpPr>
          <p:spPr>
            <a:xfrm>
              <a:off x="3913920" y="5687280"/>
              <a:ext cx="256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Hinge Reg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77"/>
            <p:cNvSpPr/>
            <p:nvPr/>
          </p:nvSpPr>
          <p:spPr>
            <a:xfrm>
              <a:off x="6102720" y="2723040"/>
              <a:ext cx="256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arbohyd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78"/>
            <p:cNvSpPr/>
            <p:nvPr/>
          </p:nvSpPr>
          <p:spPr>
            <a:xfrm>
              <a:off x="2437560" y="1600200"/>
              <a:ext cx="229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sulfide bo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9"/>
            <p:cNvSpPr/>
            <p:nvPr/>
          </p:nvSpPr>
          <p:spPr>
            <a:xfrm flipV="1">
              <a:off x="5959800" y="2976120"/>
              <a:ext cx="270000" cy="20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0"/>
            <p:cNvSpPr/>
            <p:nvPr/>
          </p:nvSpPr>
          <p:spPr>
            <a:xfrm flipV="1">
              <a:off x="1581480" y="1874520"/>
              <a:ext cx="946080" cy="8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012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Immunoglobulin Cla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6b"/>
                </a:solidFill>
                <a:latin typeface="Arial"/>
              </a:rPr>
              <a:t>I.  Ig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:  Monomer (m.wt 150,00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ntage serum antibodies:  75-8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major Ig in </a:t>
            </a:r>
            <a:r>
              <a:rPr b="1" lang="en-US" sz="2600" spc="-1" strike="noStrike">
                <a:solidFill>
                  <a:srgbClr val="8500a4"/>
                </a:solidFill>
                <a:latin typeface="Arial"/>
              </a:rPr>
              <a:t>extra vascul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: Blood, lymph, intest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f-life in serum: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 2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 Fixation: Y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G4 does not fix complement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ntal Transfer: Y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n Functio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most versati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munoglobulin, because it is capable of carrying out all of the functions of IG molecu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s phagocyt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tralizes toxins and viruse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s fetus and newbor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28429" r="0" b="0"/>
          <a:stretch/>
        </p:blipFill>
        <p:spPr>
          <a:xfrm>
            <a:off x="571680" y="1143000"/>
            <a:ext cx="8001000" cy="4853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642960" y="21420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6b"/>
                </a:solidFill>
                <a:latin typeface="Arial"/>
              </a:rPr>
              <a:t>I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428400"/>
            <a:ext cx="8458200" cy="63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6b"/>
                </a:solidFill>
                <a:latin typeface="Arial"/>
              </a:rPr>
              <a:t>II.  Ig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:  Pentamer (m.wt 900,000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an extra domain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in (CH4) &amp; it has another protein covalently bound via an S-S bond called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hain functions in polymerization of the molecule into a pentam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ntage serum antibodies:  5-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: Blood, lymp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f-life in serum: 5 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 Fixation: Y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ntal Transfer: N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n Function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antibodies produced during an infe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against microbes and agglutinating antige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pathmicro.med.sc.edu/mayer/stru-8.jpg"/>
          <p:cNvPicPr/>
          <p:nvPr/>
        </p:nvPicPr>
        <p:blipFill>
          <a:blip r:embed="rId1"/>
          <a:stretch/>
        </p:blipFill>
        <p:spPr>
          <a:xfrm>
            <a:off x="934920" y="1009800"/>
            <a:ext cx="720108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85840" y="214200"/>
            <a:ext cx="85010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6b"/>
                </a:solidFill>
                <a:latin typeface="Arial"/>
              </a:rPr>
              <a:t>III.  I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:  Dimer (m.wt 150,000-350,00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IgA exits as a dimer, a J chain is associated with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ntage serum antibodies:  10-15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: Secretions (tears, saliva, intestine, milk), blood and lymp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f-life in serum: 6 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 Fix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ly does not fix complement, unless aggreg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ntal Transfer: N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n Func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lized protection of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mucos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faces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immunity to infant digestive trac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714240" y="571680"/>
            <a:ext cx="7263000" cy="51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214200"/>
            <a:ext cx="85010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6b"/>
                </a:solidFill>
                <a:latin typeface="Arial"/>
              </a:rPr>
              <a:t>IV.  Ig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:  Monomer (m.wt 180,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serum antibodies:  0.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: B-cell surface, blood, and lym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-life in serum: 3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 Fixation: 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ntal Transfer: 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Functions: In serum function is unknown.  On B cell surface, initiate immune respon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rcRect l="0" t="23918" r="0" b="0"/>
          <a:stretch/>
        </p:blipFill>
        <p:spPr>
          <a:xfrm>
            <a:off x="1143000" y="4286160"/>
            <a:ext cx="6615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28584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6b"/>
                </a:solidFill>
                <a:latin typeface="Arial"/>
              </a:rPr>
              <a:t>V. I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:  Monomer(m.wt 190,00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ntage serum antibodies:  0.002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E is 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least comm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um Ig since it binds very tightly to Fc receptors on basophils &amp; Mast cells even before interacting with A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: Bound to mast cells and basophils throughout bod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f-life in serum: 2 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 Fixation: N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ntal Transfer: N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n Functions: Allergic reactions.  Possibly lysis of wor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9:27:24Z</dcterms:created>
  <dc:creator>computer</dc:creator>
  <dc:description/>
  <dc:language>en-US</dc:language>
  <cp:lastModifiedBy>computer</cp:lastModifiedBy>
  <dcterms:modified xsi:type="dcterms:W3CDTF">2009-03-22T17:58:39Z</dcterms:modified>
  <cp:revision>67</cp:revision>
  <dc:subject/>
  <dc:title>Slide 1</dc:title>
</cp:coreProperties>
</file>