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A0F6-0CA2-473D-8FEE-C58A62B5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DE4F-6F55-4819-AF60-6E90C432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9573-F5AA-43DC-B782-DA596539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6AE8-1106-4FED-8885-8FB64782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B5AA-4B60-4627-AE76-925E0937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96D2-8B73-4F08-BB9D-14504A7E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93AD-BDBA-4FF2-94B4-310776CD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B63B-E69C-413B-86D1-1FABAD74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DEF0-40B8-48ED-AE3F-D5F089FF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63D1-DFA7-44FA-8E69-DF8514BA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4628-D9BF-42D5-B59C-460F1758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3FFA-5FB4-431B-A008-BCA55508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5EA3-7548-4AFF-AA4A-82FAC9C5825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00076"/>
                </a:solidFill>
                <a:latin typeface="comic"/>
              </a:rPr>
              <a:t>IMMUNOGLOBULI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3" descr=""/>
          <p:cNvPicPr/>
          <p:nvPr/>
        </p:nvPicPr>
        <p:blipFill>
          <a:blip r:embed="rId1"/>
          <a:srcRect l="0" t="25370" r="0" b="10411"/>
          <a:stretch/>
        </p:blipFill>
        <p:spPr>
          <a:xfrm>
            <a:off x="1071720" y="1500120"/>
            <a:ext cx="664344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mic"/>
              </a:rPr>
              <a:t>CLINICAL IMPLICATIONS OF HUMAN IMMUNOGLOBULIN CLASS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760" y="1214280"/>
            <a:ext cx="4038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500a4"/>
                </a:solidFill>
                <a:latin typeface="Calibri"/>
              </a:rPr>
              <a:t>Ig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Increases i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ronic granulomatous infec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ections of all typ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3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yperimmuniza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4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ver diseas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5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vere Malnutri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6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sproteinem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heumatoid arthriti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3280" y="1571760"/>
            <a:ext cx="4253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Decreases i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ammaglobulinem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ymphoid aplas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3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lective IgG &amp; IgA deficien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4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gA myelom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5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ce Jones proteinem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6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ronic lymphocytic leukemia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9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500a4"/>
                </a:solidFill>
                <a:latin typeface="Calibri"/>
              </a:rPr>
              <a:t>Ig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85840" y="571320"/>
            <a:ext cx="403848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IgM increases (in newborn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level of IgM above 20 mg/dl is an indication of i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ero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cti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1)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ubella vir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2)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ytomegalovir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3)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yphil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4)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xoplasmosis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785840" y="428760"/>
            <a:ext cx="40388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IgM increases (in adults) i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ldenström’s macroglobulinem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ypanosomiasi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3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nomycosi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4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la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5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ctious mononucleos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6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upus erythematosu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heumatoid arthriti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500040" y="4000680"/>
            <a:ext cx="692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IgM decreases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1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mmaglobulinem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Lymphoid aplas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3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gG &amp; IgA myelo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4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ysgammaglobulinem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5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ronic lymphocytic leukem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3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2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3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0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f0344f"/>
                </a:solidFill>
                <a:uFillTx/>
                <a:latin typeface="Arial"/>
                <a:ea typeface="Arial"/>
              </a:rPr>
              <a:t>IgA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13840" y="642600"/>
            <a:ext cx="4286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0344f"/>
                </a:solidFill>
                <a:uFillTx/>
                <a:latin typeface="Arial"/>
              </a:rPr>
              <a:t>IgA increases i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Wiskott-Aldrich syndrom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2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st cases of liver Cirrho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3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 stages of collagen &amp; other autoimmune disorders such as rheumatoid arthritis &amp; lupus erythematosu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4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gA myelom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3280" y="785880"/>
            <a:ext cx="41817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d6006b"/>
                </a:solidFill>
                <a:uFillTx/>
                <a:latin typeface="Arial"/>
              </a:rPr>
              <a:t>IgA decreases in:</a:t>
            </a:r>
            <a:r>
              <a:rPr b="1" lang="en-US" sz="2300" spc="-1" strike="noStrike">
                <a:solidFill>
                  <a:srgbClr val="d6006b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Arial"/>
              </a:rPr>
              <a:t>1)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ereditary ataxia telangiectasia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Arial"/>
              </a:rPr>
              <a:t>2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Immunologic deficiency states (e.g.:dysgammaglobulinemia, congenital &amp; acquired agammaglobulinemia, &amp; hypogammaglobulinemia)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Arial"/>
              </a:rPr>
              <a:t>3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Malabsorption syndromes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Arial"/>
              </a:rPr>
              <a:t>4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Lymphoid aplasia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Arial"/>
              </a:rPr>
              <a:t>5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IgG myeloma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f497d"/>
                </a:solidFill>
                <a:latin typeface="Arial"/>
              </a:rPr>
              <a:t>6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cute &amp; Chronic lymphoblastic leukemia.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0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2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9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6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3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0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7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1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8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85840" y="357120"/>
            <a:ext cx="85154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00000"/>
                </a:solidFill>
                <a:uFillTx/>
                <a:latin typeface="Arial"/>
              </a:rPr>
              <a:t>IgD</a:t>
            </a:r>
            <a:r>
              <a:rPr b="1" i="1" lang="en-US" sz="26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en-US" sz="2600" spc="-1" strike="noStrike" u="sng">
                <a:solidFill>
                  <a:srgbClr val="c00000"/>
                </a:solidFill>
                <a:uFillTx/>
                <a:latin typeface="Arial"/>
              </a:rPr>
              <a:t>increases in</a:t>
            </a:r>
            <a:r>
              <a:rPr b="1" lang="en-US" sz="2600" spc="-1" strike="noStrike" u="sng">
                <a:solidFill>
                  <a:srgbClr val="c00000"/>
                </a:solidFill>
                <a:uFillTx/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ronic infectio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gD myelom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00000"/>
                </a:solidFill>
                <a:uFillTx/>
                <a:latin typeface="Arial"/>
              </a:rPr>
              <a:t>IgE</a:t>
            </a:r>
            <a:r>
              <a:rPr b="1" i="1" lang="en-US" sz="26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en-US" sz="2600" spc="-1" strike="noStrike" u="sng">
                <a:solidFill>
                  <a:srgbClr val="c00000"/>
                </a:solidFill>
                <a:uFillTx/>
                <a:latin typeface="Arial"/>
              </a:rPr>
              <a:t>increases in: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1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opic skin diseases such as eczem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2)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y feve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thm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4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phylactic shoc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</a:rPr>
              <a:t>5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gE-myelom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00000"/>
                </a:solidFill>
                <a:uFillTx/>
                <a:latin typeface="Arial"/>
              </a:rPr>
              <a:t>IgE decreases in: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genital agammaglobulinemi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9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6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3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0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7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4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1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5" dur="10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2" dur="1000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9" dur="100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6" dur="1000"/>
                                        <p:tgtEl>
                                          <p:spTgt spid="6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7900"/>
                </a:solidFill>
                <a:latin typeface="Arial"/>
                <a:ea typeface="Arial"/>
              </a:rPr>
              <a:t>Immunoglobulin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Content Placeholder 3"/>
          <p:cNvGrpSpPr/>
          <p:nvPr/>
        </p:nvGrpSpPr>
        <p:grpSpPr>
          <a:xfrm>
            <a:off x="457200" y="1600200"/>
            <a:ext cx="8228160" cy="4523040"/>
            <a:chOff x="457200" y="1600200"/>
            <a:chExt cx="8228160" cy="4523040"/>
          </a:xfrm>
        </p:grpSpPr>
        <p:grpSp>
          <p:nvGrpSpPr>
            <p:cNvPr id="66" name="Group 4"/>
            <p:cNvGrpSpPr/>
            <p:nvPr/>
          </p:nvGrpSpPr>
          <p:grpSpPr>
            <a:xfrm>
              <a:off x="598680" y="2024640"/>
              <a:ext cx="8086680" cy="4034880"/>
              <a:chOff x="598680" y="2024640"/>
              <a:chExt cx="8086680" cy="4034880"/>
            </a:xfrm>
          </p:grpSpPr>
          <p:sp>
            <p:nvSpPr>
              <p:cNvPr id="67" name="Oval 5"/>
              <p:cNvSpPr/>
              <p:nvPr/>
            </p:nvSpPr>
            <p:spPr>
              <a:xfrm>
                <a:off x="5826600" y="4763880"/>
                <a:ext cx="270720" cy="2016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Group 6"/>
              <p:cNvGrpSpPr/>
              <p:nvPr/>
            </p:nvGrpSpPr>
            <p:grpSpPr>
              <a:xfrm>
                <a:off x="598680" y="2024640"/>
                <a:ext cx="8086680" cy="4034880"/>
                <a:chOff x="598680" y="2024640"/>
                <a:chExt cx="8086680" cy="4034880"/>
              </a:xfrm>
            </p:grpSpPr>
            <p:sp>
              <p:nvSpPr>
                <p:cNvPr id="69" name="Line 7"/>
                <p:cNvSpPr/>
                <p:nvPr/>
              </p:nvSpPr>
              <p:spPr>
                <a:xfrm>
                  <a:off x="4671720" y="3933000"/>
                  <a:ext cx="0" cy="201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Line 8"/>
                <p:cNvSpPr/>
                <p:nvPr/>
              </p:nvSpPr>
              <p:spPr>
                <a:xfrm>
                  <a:off x="4964400" y="3933000"/>
                  <a:ext cx="0" cy="201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AutoShape 9"/>
                <p:cNvSpPr/>
                <p:nvPr/>
              </p:nvSpPr>
              <p:spPr>
                <a:xfrm rot="20060400">
                  <a:off x="2254320" y="4155120"/>
                  <a:ext cx="1408320" cy="486720"/>
                </a:xfrm>
                <a:prstGeom prst="pie">
                  <a:avLst/>
                </a:prstGeom>
                <a:blipFill rotWithShape="0">
                  <a:blip r:embed="rId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Rectangle 10"/>
                <p:cNvSpPr/>
                <p:nvPr/>
              </p:nvSpPr>
              <p:spPr>
                <a:xfrm rot="20060400">
                  <a:off x="3198240" y="4316760"/>
                  <a:ext cx="704520" cy="12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11"/>
                <p:cNvSpPr/>
                <p:nvPr/>
              </p:nvSpPr>
              <p:spPr>
                <a:xfrm rot="20060400">
                  <a:off x="2220480" y="4668840"/>
                  <a:ext cx="704520" cy="121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AutoShape 12"/>
                <p:cNvSpPr/>
                <p:nvPr/>
              </p:nvSpPr>
              <p:spPr>
                <a:xfrm rot="20060400">
                  <a:off x="657000" y="4736520"/>
                  <a:ext cx="1408320" cy="486720"/>
                </a:xfrm>
                <a:prstGeom prst="pie">
                  <a:avLst/>
                </a:prstGeom>
                <a:blipFill rotWithShape="0">
                  <a:blip r:embed="rId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13"/>
                <p:cNvSpPr/>
                <p:nvPr/>
              </p:nvSpPr>
              <p:spPr>
                <a:xfrm rot="20060400">
                  <a:off x="1600560" y="4893840"/>
                  <a:ext cx="703800" cy="121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Rectangle 14"/>
                <p:cNvSpPr/>
                <p:nvPr/>
              </p:nvSpPr>
              <p:spPr>
                <a:xfrm rot="20060400">
                  <a:off x="614880" y="5250600"/>
                  <a:ext cx="703800" cy="121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AutoShape 15"/>
                <p:cNvSpPr/>
                <p:nvPr/>
              </p:nvSpPr>
              <p:spPr>
                <a:xfrm flipV="1">
                  <a:off x="5285880" y="4285800"/>
                  <a:ext cx="1408320" cy="486720"/>
                </a:xfrm>
                <a:prstGeom prst="pie">
                  <a:avLst/>
                </a:prstGeom>
                <a:blipFill rotWithShape="0">
                  <a:blip r:embed="rId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Rectangle 16"/>
                <p:cNvSpPr/>
                <p:nvPr/>
              </p:nvSpPr>
              <p:spPr>
                <a:xfrm flipV="1">
                  <a:off x="6184800" y="4305960"/>
                  <a:ext cx="703800" cy="12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Rectangle 17"/>
                <p:cNvSpPr/>
                <p:nvPr/>
              </p:nvSpPr>
              <p:spPr>
                <a:xfrm flipV="1">
                  <a:off x="5091480" y="4295520"/>
                  <a:ext cx="703800" cy="12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AutoShape 18"/>
                <p:cNvSpPr/>
                <p:nvPr/>
              </p:nvSpPr>
              <p:spPr>
                <a:xfrm flipV="1">
                  <a:off x="7077600" y="4293720"/>
                  <a:ext cx="1407960" cy="486720"/>
                </a:xfrm>
                <a:prstGeom prst="pie">
                  <a:avLst/>
                </a:prstGeom>
                <a:blipFill rotWithShape="0">
                  <a:blip r:embed="rId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Rectangle 19"/>
                <p:cNvSpPr/>
                <p:nvPr/>
              </p:nvSpPr>
              <p:spPr>
                <a:xfrm flipV="1">
                  <a:off x="7981560" y="4318920"/>
                  <a:ext cx="703800" cy="121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Rectangle 20"/>
                <p:cNvSpPr/>
                <p:nvPr/>
              </p:nvSpPr>
              <p:spPr>
                <a:xfrm flipV="1">
                  <a:off x="6888600" y="4303440"/>
                  <a:ext cx="703800" cy="119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Oval 21"/>
                <p:cNvSpPr/>
                <p:nvPr/>
              </p:nvSpPr>
              <p:spPr>
                <a:xfrm flipV="1">
                  <a:off x="4815720" y="4117680"/>
                  <a:ext cx="270000" cy="50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Oval 22"/>
                <p:cNvSpPr/>
                <p:nvPr/>
              </p:nvSpPr>
              <p:spPr>
                <a:xfrm flipV="1">
                  <a:off x="4004280" y="4117680"/>
                  <a:ext cx="270000" cy="50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Oval 23"/>
                <p:cNvSpPr/>
                <p:nvPr/>
              </p:nvSpPr>
              <p:spPr>
                <a:xfrm flipV="1">
                  <a:off x="4274640" y="4117680"/>
                  <a:ext cx="270000" cy="50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Oval 24"/>
                <p:cNvSpPr/>
                <p:nvPr/>
              </p:nvSpPr>
              <p:spPr>
                <a:xfrm flipV="1">
                  <a:off x="4544640" y="4117680"/>
                  <a:ext cx="270720" cy="50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AutoShape 25"/>
                <p:cNvSpPr/>
                <p:nvPr/>
              </p:nvSpPr>
              <p:spPr>
                <a:xfrm flipV="1" rot="20063400">
                  <a:off x="1020960" y="5292360"/>
                  <a:ext cx="1407960" cy="486720"/>
                </a:xfrm>
                <a:prstGeom prst="pie">
                  <a:avLst/>
                </a:prstGeom>
                <a:blipFill rotWithShape="0">
                  <a:blip r:embed="rId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26"/>
                <p:cNvSpPr/>
                <p:nvPr/>
              </p:nvSpPr>
              <p:spPr>
                <a:xfrm flipV="1" rot="20063400">
                  <a:off x="1775160" y="5149080"/>
                  <a:ext cx="704520" cy="121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Rectangle 27"/>
                <p:cNvSpPr/>
                <p:nvPr/>
              </p:nvSpPr>
              <p:spPr>
                <a:xfrm flipV="1" rot="20063400">
                  <a:off x="777960" y="5495760"/>
                  <a:ext cx="704520" cy="119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AutoShape 28"/>
                <p:cNvSpPr/>
                <p:nvPr/>
              </p:nvSpPr>
              <p:spPr>
                <a:xfrm flipV="1" rot="20063400">
                  <a:off x="2643480" y="4721760"/>
                  <a:ext cx="1407960" cy="486720"/>
                </a:xfrm>
                <a:prstGeom prst="pie">
                  <a:avLst/>
                </a:prstGeom>
                <a:blipFill rotWithShape="0">
                  <a:blip r:embed="rId6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29"/>
                <p:cNvSpPr/>
                <p:nvPr/>
              </p:nvSpPr>
              <p:spPr>
                <a:xfrm flipV="1" rot="20063400">
                  <a:off x="3392640" y="4583520"/>
                  <a:ext cx="703800" cy="119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30"/>
                <p:cNvSpPr/>
                <p:nvPr/>
              </p:nvSpPr>
              <p:spPr>
                <a:xfrm flipV="1" rot="20063400">
                  <a:off x="2400480" y="4929480"/>
                  <a:ext cx="704520" cy="119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Line 31"/>
                <p:cNvSpPr/>
                <p:nvPr/>
              </p:nvSpPr>
              <p:spPr>
                <a:xfrm>
                  <a:off x="5798880" y="4352760"/>
                  <a:ext cx="40536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32"/>
                <p:cNvSpPr/>
                <p:nvPr/>
              </p:nvSpPr>
              <p:spPr>
                <a:xfrm>
                  <a:off x="7589880" y="4373640"/>
                  <a:ext cx="40536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33"/>
                <p:cNvSpPr/>
                <p:nvPr/>
              </p:nvSpPr>
              <p:spPr>
                <a:xfrm flipV="1">
                  <a:off x="3053160" y="4716360"/>
                  <a:ext cx="362880" cy="1807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34"/>
                <p:cNvSpPr/>
                <p:nvPr/>
              </p:nvSpPr>
              <p:spPr>
                <a:xfrm flipV="1">
                  <a:off x="1278720" y="5043240"/>
                  <a:ext cx="362880" cy="18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Line 35"/>
                <p:cNvSpPr/>
                <p:nvPr/>
              </p:nvSpPr>
              <p:spPr>
                <a:xfrm flipV="1">
                  <a:off x="2884680" y="4468680"/>
                  <a:ext cx="362880" cy="18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Line 36"/>
                <p:cNvSpPr/>
                <p:nvPr/>
              </p:nvSpPr>
              <p:spPr>
                <a:xfrm flipV="1">
                  <a:off x="1447920" y="5286960"/>
                  <a:ext cx="362880" cy="18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Line 37"/>
                <p:cNvSpPr/>
                <p:nvPr/>
              </p:nvSpPr>
              <p:spPr>
                <a:xfrm>
                  <a:off x="3860640" y="4304160"/>
                  <a:ext cx="134640" cy="201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AutoShape 38"/>
                <p:cNvSpPr/>
                <p:nvPr/>
              </p:nvSpPr>
              <p:spPr>
                <a:xfrm flipV="1" rot="1539600">
                  <a:off x="2232360" y="3445560"/>
                  <a:ext cx="1408320" cy="487080"/>
                </a:xfrm>
                <a:prstGeom prst="pie">
                  <a:avLst/>
                </a:prstGeom>
                <a:blipFill rotWithShape="0">
                  <a:blip r:embed="rId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Rectangle 39"/>
                <p:cNvSpPr/>
                <p:nvPr/>
              </p:nvSpPr>
              <p:spPr>
                <a:xfrm flipV="1" rot="1539600">
                  <a:off x="3175920" y="3644640"/>
                  <a:ext cx="703800" cy="12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Rectangle 40"/>
                <p:cNvSpPr/>
                <p:nvPr/>
              </p:nvSpPr>
              <p:spPr>
                <a:xfrm flipV="1" rot="1539600">
                  <a:off x="2184120" y="3290400"/>
                  <a:ext cx="703800" cy="122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AutoShape 41"/>
                <p:cNvSpPr/>
                <p:nvPr/>
              </p:nvSpPr>
              <p:spPr>
                <a:xfrm flipV="1" rot="1539600">
                  <a:off x="634680" y="2859840"/>
                  <a:ext cx="1408320" cy="487080"/>
                </a:xfrm>
                <a:prstGeom prst="pie">
                  <a:avLst/>
                </a:prstGeom>
                <a:blipFill rotWithShape="0">
                  <a:blip r:embed="rId8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42"/>
                <p:cNvSpPr/>
                <p:nvPr/>
              </p:nvSpPr>
              <p:spPr>
                <a:xfrm flipV="1" rot="1539600">
                  <a:off x="1572840" y="3071880"/>
                  <a:ext cx="703800" cy="12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43"/>
                <p:cNvSpPr/>
                <p:nvPr/>
              </p:nvSpPr>
              <p:spPr>
                <a:xfrm flipV="1" rot="1539600">
                  <a:off x="592200" y="2711520"/>
                  <a:ext cx="704520" cy="12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99cc"/>
                    </a:gs>
                    <a:gs pos="100000">
                      <a:srgbClr val="00475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AutoShape 44"/>
                <p:cNvSpPr/>
                <p:nvPr/>
              </p:nvSpPr>
              <p:spPr>
                <a:xfrm>
                  <a:off x="5263560" y="3311640"/>
                  <a:ext cx="1408320" cy="486720"/>
                </a:xfrm>
                <a:prstGeom prst="pie">
                  <a:avLst/>
                </a:prstGeom>
                <a:blipFill rotWithShape="0">
                  <a:blip r:embed="rId9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45"/>
                <p:cNvSpPr/>
                <p:nvPr/>
              </p:nvSpPr>
              <p:spPr>
                <a:xfrm>
                  <a:off x="6161760" y="3651840"/>
                  <a:ext cx="704520" cy="119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Rectangle 46"/>
                <p:cNvSpPr/>
                <p:nvPr/>
              </p:nvSpPr>
              <p:spPr>
                <a:xfrm>
                  <a:off x="5068440" y="3666600"/>
                  <a:ext cx="704520" cy="121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AutoShape 47"/>
                <p:cNvSpPr/>
                <p:nvPr/>
              </p:nvSpPr>
              <p:spPr>
                <a:xfrm>
                  <a:off x="7060320" y="3295080"/>
                  <a:ext cx="1408320" cy="486720"/>
                </a:xfrm>
                <a:prstGeom prst="pie">
                  <a:avLst/>
                </a:prstGeom>
                <a:blipFill rotWithShape="0">
                  <a:blip r:embed="rId10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Rectangle 48"/>
                <p:cNvSpPr/>
                <p:nvPr/>
              </p:nvSpPr>
              <p:spPr>
                <a:xfrm>
                  <a:off x="7959240" y="3643200"/>
                  <a:ext cx="703800" cy="121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Rectangle 49"/>
                <p:cNvSpPr/>
                <p:nvPr/>
              </p:nvSpPr>
              <p:spPr>
                <a:xfrm>
                  <a:off x="6866280" y="3649320"/>
                  <a:ext cx="703800" cy="121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Oval 50"/>
                <p:cNvSpPr/>
                <p:nvPr/>
              </p:nvSpPr>
              <p:spPr>
                <a:xfrm>
                  <a:off x="4792680" y="3462840"/>
                  <a:ext cx="270720" cy="50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Oval 51"/>
                <p:cNvSpPr/>
                <p:nvPr/>
              </p:nvSpPr>
              <p:spPr>
                <a:xfrm>
                  <a:off x="3981240" y="3462840"/>
                  <a:ext cx="270720" cy="50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Oval 52"/>
                <p:cNvSpPr/>
                <p:nvPr/>
              </p:nvSpPr>
              <p:spPr>
                <a:xfrm>
                  <a:off x="4252320" y="3462840"/>
                  <a:ext cx="270000" cy="50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Oval 53"/>
                <p:cNvSpPr/>
                <p:nvPr/>
              </p:nvSpPr>
              <p:spPr>
                <a:xfrm>
                  <a:off x="4522320" y="3462840"/>
                  <a:ext cx="270000" cy="50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AutoShape 54"/>
                <p:cNvSpPr/>
                <p:nvPr/>
              </p:nvSpPr>
              <p:spPr>
                <a:xfrm rot="1536600">
                  <a:off x="997560" y="2305080"/>
                  <a:ext cx="1408320" cy="486720"/>
                </a:xfrm>
                <a:prstGeom prst="pie">
                  <a:avLst/>
                </a:prstGeom>
                <a:blipFill rotWithShape="0">
                  <a:blip r:embed="rId1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Rectangle 55"/>
                <p:cNvSpPr/>
                <p:nvPr/>
              </p:nvSpPr>
              <p:spPr>
                <a:xfrm rot="1536600">
                  <a:off x="1747080" y="2808360"/>
                  <a:ext cx="704520" cy="121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Rectangle 56"/>
                <p:cNvSpPr/>
                <p:nvPr/>
              </p:nvSpPr>
              <p:spPr>
                <a:xfrm rot="1536600">
                  <a:off x="755640" y="2466360"/>
                  <a:ext cx="704520" cy="119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AutoShape 57"/>
                <p:cNvSpPr/>
                <p:nvPr/>
              </p:nvSpPr>
              <p:spPr>
                <a:xfrm rot="1536600">
                  <a:off x="2620440" y="2875320"/>
                  <a:ext cx="1408320" cy="486720"/>
                </a:xfrm>
                <a:prstGeom prst="pie">
                  <a:avLst/>
                </a:prstGeom>
                <a:blipFill rotWithShape="0">
                  <a:blip r:embed="rId1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Rectangle 58"/>
                <p:cNvSpPr/>
                <p:nvPr/>
              </p:nvSpPr>
              <p:spPr>
                <a:xfrm rot="1536600">
                  <a:off x="3369600" y="3378960"/>
                  <a:ext cx="704520" cy="119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Rectangle 59"/>
                <p:cNvSpPr/>
                <p:nvPr/>
              </p:nvSpPr>
              <p:spPr>
                <a:xfrm rot="1536600">
                  <a:off x="2378160" y="3032640"/>
                  <a:ext cx="704520" cy="119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f81bd"/>
                    </a:gs>
                    <a:gs pos="100000">
                      <a:srgbClr val="253c57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Line 60"/>
                <p:cNvSpPr/>
                <p:nvPr/>
              </p:nvSpPr>
              <p:spPr>
                <a:xfrm>
                  <a:off x="7556040" y="3697920"/>
                  <a:ext cx="40536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Line 61"/>
                <p:cNvSpPr/>
                <p:nvPr/>
              </p:nvSpPr>
              <p:spPr>
                <a:xfrm>
                  <a:off x="5759280" y="3714840"/>
                  <a:ext cx="40536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Line 62"/>
                <p:cNvSpPr/>
                <p:nvPr/>
              </p:nvSpPr>
              <p:spPr>
                <a:xfrm flipH="1" flipV="1">
                  <a:off x="2855880" y="3432240"/>
                  <a:ext cx="362880" cy="1807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Line 63"/>
                <p:cNvSpPr/>
                <p:nvPr/>
              </p:nvSpPr>
              <p:spPr>
                <a:xfrm flipH="1" flipV="1">
                  <a:off x="1419840" y="2609640"/>
                  <a:ext cx="362880" cy="18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Line 64"/>
                <p:cNvSpPr/>
                <p:nvPr/>
              </p:nvSpPr>
              <p:spPr>
                <a:xfrm flipH="1" flipV="1">
                  <a:off x="1256400" y="2857320"/>
                  <a:ext cx="362880" cy="1807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65"/>
                <p:cNvSpPr/>
                <p:nvPr/>
              </p:nvSpPr>
              <p:spPr>
                <a:xfrm flipH="1" flipV="1">
                  <a:off x="3042360" y="3180600"/>
                  <a:ext cx="362880" cy="1807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66"/>
                <p:cNvSpPr/>
                <p:nvPr/>
              </p:nvSpPr>
              <p:spPr>
                <a:xfrm flipH="1">
                  <a:off x="3846600" y="3564000"/>
                  <a:ext cx="134640" cy="201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Oval 67"/>
                <p:cNvSpPr/>
                <p:nvPr/>
              </p:nvSpPr>
              <p:spPr>
                <a:xfrm>
                  <a:off x="5807160" y="3110400"/>
                  <a:ext cx="270000" cy="20124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0" name="Text Box 68"/>
            <p:cNvSpPr/>
            <p:nvPr/>
          </p:nvSpPr>
          <p:spPr>
            <a:xfrm>
              <a:off x="3184200" y="5158440"/>
              <a:ext cx="946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Calibri"/>
                </a:rPr>
                <a:t>H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69"/>
            <p:cNvSpPr/>
            <p:nvPr/>
          </p:nvSpPr>
          <p:spPr>
            <a:xfrm>
              <a:off x="457200" y="4302720"/>
              <a:ext cx="811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Calibri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70"/>
            <p:cNvSpPr/>
            <p:nvPr/>
          </p:nvSpPr>
          <p:spPr>
            <a:xfrm>
              <a:off x="2037600" y="3788640"/>
              <a:ext cx="811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Calibri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71"/>
            <p:cNvSpPr/>
            <p:nvPr/>
          </p:nvSpPr>
          <p:spPr>
            <a:xfrm>
              <a:off x="1499760" y="5752440"/>
              <a:ext cx="8110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72"/>
            <p:cNvSpPr/>
            <p:nvPr/>
          </p:nvSpPr>
          <p:spPr>
            <a:xfrm>
              <a:off x="5525280" y="5007600"/>
              <a:ext cx="946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Calibri"/>
                </a:rPr>
                <a:t>H2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73"/>
            <p:cNvSpPr/>
            <p:nvPr/>
          </p:nvSpPr>
          <p:spPr>
            <a:xfrm>
              <a:off x="7319880" y="5007600"/>
              <a:ext cx="946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Calibri"/>
                </a:rPr>
                <a:t>H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74"/>
            <p:cNvSpPr/>
            <p:nvPr/>
          </p:nvSpPr>
          <p:spPr>
            <a:xfrm rot="16200000">
              <a:off x="4503240" y="4244400"/>
              <a:ext cx="100800" cy="946800"/>
            </a:xfrm>
            <a:custGeom>
              <a:avLst/>
              <a:gdLst>
                <a:gd name="textAreaLeft" fmla="*/ 29520 w 100800"/>
                <a:gd name="textAreaRight" fmla="*/ 101160 w 100800"/>
                <a:gd name="textAreaTop" fmla="*/ 39240 h 946800"/>
                <a:gd name="textAreaBottom" fmla="*/ 907560 h 94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75"/>
            <p:cNvSpPr/>
            <p:nvPr/>
          </p:nvSpPr>
          <p:spPr>
            <a:xfrm>
              <a:off x="4514040" y="4764240"/>
              <a:ext cx="541080" cy="100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76"/>
            <p:cNvSpPr/>
            <p:nvPr/>
          </p:nvSpPr>
          <p:spPr>
            <a:xfrm>
              <a:off x="3913920" y="5687280"/>
              <a:ext cx="256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Hinge Reg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77"/>
            <p:cNvSpPr/>
            <p:nvPr/>
          </p:nvSpPr>
          <p:spPr>
            <a:xfrm>
              <a:off x="6102720" y="2723040"/>
              <a:ext cx="256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Carbohydr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78"/>
            <p:cNvSpPr/>
            <p:nvPr/>
          </p:nvSpPr>
          <p:spPr>
            <a:xfrm>
              <a:off x="2437560" y="1600200"/>
              <a:ext cx="229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Disulfide bo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79"/>
            <p:cNvSpPr/>
            <p:nvPr/>
          </p:nvSpPr>
          <p:spPr>
            <a:xfrm flipV="1">
              <a:off x="5959800" y="2976120"/>
              <a:ext cx="270000" cy="20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80"/>
            <p:cNvSpPr/>
            <p:nvPr/>
          </p:nvSpPr>
          <p:spPr>
            <a:xfrm flipV="1">
              <a:off x="1581480" y="1874520"/>
              <a:ext cx="946080" cy="80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14200" y="285840"/>
            <a:ext cx="87012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Immunoglobulin Clas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6006b"/>
                </a:solidFill>
                <a:latin typeface="Arial"/>
              </a:rPr>
              <a:t>I.  Ig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:  Monomer (m.wt 150,000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centage serum antibodies:  75-80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major Ig in </a:t>
            </a:r>
            <a:r>
              <a:rPr b="1" lang="en-US" sz="2600" spc="-1" strike="noStrike">
                <a:solidFill>
                  <a:srgbClr val="8500a4"/>
                </a:solidFill>
                <a:latin typeface="Arial"/>
              </a:rPr>
              <a:t>extra vascula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cation: Blood, lymph, intest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lf-life in serum: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 23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y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ment Fixation: Ye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G4 does not fix complement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ntal Transfer: Y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n Function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most versatil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munoglobulin, because it is capable of carrying out all of the functions of IG molecul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hances phagocytos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utralizes toxins and viruses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ects fetus and newbor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rcRect l="0" t="28429" r="0" b="0"/>
          <a:stretch/>
        </p:blipFill>
        <p:spPr>
          <a:xfrm>
            <a:off x="571680" y="1143000"/>
            <a:ext cx="8001000" cy="48531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642960" y="21420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6b"/>
                </a:solidFill>
                <a:latin typeface="Arial"/>
              </a:rPr>
              <a:t>I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80520" y="428400"/>
            <a:ext cx="8458200" cy="63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6b"/>
                </a:solidFill>
                <a:latin typeface="Arial"/>
              </a:rPr>
              <a:t>II.  Ig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:  Pentamer (m.wt 900,000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s an extra domain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hain (CH4) &amp; it has another protein covalently bound via an S-S bond called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hai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chain functions in polymerization of the molecule into a pentam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centage serum antibodies:  5-10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cation: Blood, lymp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lf-life in serum: 5 day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ment Fixation: Y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ntal Transfer: N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n Functions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st antibodies produced during an infec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ffective against microbes and agglutinating antigen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pathmicro.med.sc.edu/mayer/stru-8.jpg"/>
          <p:cNvPicPr/>
          <p:nvPr/>
        </p:nvPicPr>
        <p:blipFill>
          <a:blip r:embed="rId1"/>
          <a:stretch/>
        </p:blipFill>
        <p:spPr>
          <a:xfrm>
            <a:off x="934920" y="1009800"/>
            <a:ext cx="720108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85840" y="214200"/>
            <a:ext cx="85010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6b"/>
                </a:solidFill>
                <a:latin typeface="Arial"/>
              </a:rPr>
              <a:t>III.  Ig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:  Dimer (m.wt 150,000-350,000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IgA exits as a dimer, a J chain is associated with i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centage serum antibodies:  10-15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cation: Secretions (tears, saliva, intestine, milk), blood and lymph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lf-life in serum: 6 day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ment Fixa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mally does not fix complement, unless aggrega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ntal Transfer: N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n Function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calized protection of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mucosal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faces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s immunity to infant digestive trac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contrast="4000"/>
          </a:blip>
          <a:stretch/>
        </p:blipFill>
        <p:spPr>
          <a:xfrm>
            <a:off x="714240" y="571680"/>
            <a:ext cx="7263000" cy="513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840" y="214200"/>
            <a:ext cx="85010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6b"/>
                </a:solidFill>
                <a:latin typeface="Arial"/>
              </a:rPr>
              <a:t>IV.  Ig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:  Monomer (m.wt 180,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age serum antibodies:  0.2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: B-cell surface, blood, and lymp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f-life in serum: 3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 Fixation: 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ntal Transfer: 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Functions: In serum function is unknown.  On B cell surface, initiate immune respons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"/>
          <p:cNvPicPr/>
          <p:nvPr/>
        </p:nvPicPr>
        <p:blipFill>
          <a:blip r:embed="rId1"/>
          <a:srcRect l="0" t="23918" r="0" b="0"/>
          <a:stretch/>
        </p:blipFill>
        <p:spPr>
          <a:xfrm>
            <a:off x="1143000" y="4286160"/>
            <a:ext cx="661500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57120" y="285840"/>
            <a:ext cx="850104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6b"/>
                </a:solidFill>
                <a:latin typeface="Arial"/>
              </a:rPr>
              <a:t>V. I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:  Monomer(m.wt 190,000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centage serum antibodies:  0.002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E is the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least commo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um Ig since it binds very tightly to Fc receptors on basophils &amp; Mast cells even before interacting with A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cation: Bound to mast cells and basophils throughout bod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lf-life in serum: 2 day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ment Fixation: N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ntal Transfer: N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n Functions: Allergic reactions.  Possibly lysis of worm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09:27:24Z</dcterms:created>
  <dc:creator>computer</dc:creator>
  <dc:description/>
  <dc:language>en-US</dc:language>
  <cp:lastModifiedBy>computer</cp:lastModifiedBy>
  <dcterms:modified xsi:type="dcterms:W3CDTF">2009-03-22T17:58:39Z</dcterms:modified>
  <cp:revision>67</cp:revision>
  <dc:subject/>
  <dc:title>Slide 1</dc:title>
</cp:coreProperties>
</file>