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1480" y="698400"/>
            <a:ext cx="4594680" cy="344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65360"/>
            <a:ext cx="548604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mplement refers, historically, to fresh serum capable of lysing antibody (Ab)-coated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This activity is destroyed (inactivated) by heating serum at 56</a:t>
            </a:r>
            <a:r>
              <a:rPr b="0" lang="en-US" sz="1800" spc="-1" strike="noStrike">
                <a:solidFill>
                  <a:srgbClr val="000000"/>
                </a:solidFill>
                <a:latin typeface="WP MathA"/>
                <a:ea typeface="WP MathA"/>
              </a:rPr>
              <a:t>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 for 30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ytic activity of complement is decreased in certain diseas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E, serum sickness, chronic infections, complement deficienci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lating agents dismantle the C1 complex and are anti-complementary.  Heat destroys the C2 component.  Sample for C measurement should be drawn in a green-top vial (no EDTA), must be kept cold and tested as soon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19D-9714-48C3-9976-C25B16FD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DEA-4BE5-4EE3-B4E9-CEF8C2E6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4CF-982D-4AE0-B373-2337E2D4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DF9-22D8-4E94-B2ED-4DFADD00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AEB6-2374-44B4-9617-28A77E83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BDB4-EBFF-45EF-ADF8-0687CFA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82D0-9120-4DBE-8D37-DED56AD4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0087-5C0C-4AF8-B6AE-4803EC2A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BE59-E9A8-4F6C-8BF1-19F587BC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133A-BE3D-45B6-B9CC-67B4807C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69AC-00B4-40C3-BD11-E923FA7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976-D476-4175-96B3-92AE72C4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BC27-8BC1-496E-B8F9-8DC3849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CB33-F9D7-4007-901C-0ADBA592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B7AA-3911-428C-91F4-446921F1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40B1-E12F-4532-BE7B-502ADA19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DFC0-0E64-47C3-826B-123402B5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DEA3-2156-44DD-BB68-D1B5D53D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33F-883B-4ED2-B041-E0F3531C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145-E913-42BA-9412-3D1D20E6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9E9-1422-4403-ACD5-8D35F104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E60-8AD7-412F-8B84-D2C30E6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1CF-72FD-467A-83D5-A5CB053E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48F-6C38-43E0-8FA0-00BD45F6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5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" name="Freeform 3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5" name="Group 9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6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3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0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6B11-6B47-4416-90FB-5D4F0981599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4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5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2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7" name="Freeform 3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58" name="Freeform 4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9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6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1" name="Freeform 7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2" name="Freeform 8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13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0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5" name="Freeform 11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66" name="Freeform 12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5464-CF3A-42F1-80E7-42F124DCEBF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WordArt 2" descr=""/>
          <p:cNvPicPr/>
          <p:nvPr/>
        </p:nvPicPr>
        <p:blipFill>
          <a:blip r:embed="rId1"/>
          <a:stretch/>
        </p:blipFill>
        <p:spPr>
          <a:xfrm>
            <a:off x="785880" y="1305000"/>
            <a:ext cx="75960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914040" y="4114800"/>
            <a:ext cx="2514600" cy="1752120"/>
            <a:chOff x="914040" y="4114800"/>
            <a:chExt cx="2514600" cy="1752120"/>
          </a:xfrm>
        </p:grpSpPr>
        <p:pic>
          <p:nvPicPr>
            <p:cNvPr id="176" name="Object 3" descr=""/>
            <p:cNvPicPr/>
            <p:nvPr/>
          </p:nvPicPr>
          <p:blipFill>
            <a:blip r:embed="rId1"/>
            <a:stretch/>
          </p:blipFill>
          <p:spPr>
            <a:xfrm>
              <a:off x="2679120" y="4114800"/>
              <a:ext cx="749520" cy="17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Object 4" descr=""/>
            <p:cNvPicPr/>
            <p:nvPr/>
          </p:nvPicPr>
          <p:blipFill>
            <a:blip r:embed="rId2"/>
            <a:stretch/>
          </p:blipFill>
          <p:spPr>
            <a:xfrm flipH="1">
              <a:off x="914040" y="4114800"/>
              <a:ext cx="756360" cy="175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Rectangle 5"/>
          <p:cNvSpPr/>
          <p:nvPr/>
        </p:nvSpPr>
        <p:spPr>
          <a:xfrm>
            <a:off x="685800" y="579132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685800" y="5545800"/>
            <a:ext cx="8077320" cy="702720"/>
            <a:chOff x="685800" y="5545800"/>
            <a:chExt cx="8077320" cy="702720"/>
          </a:xfrm>
        </p:grpSpPr>
        <p:sp>
          <p:nvSpPr>
            <p:cNvPr id="180" name="AutoShape 7"/>
            <p:cNvSpPr/>
            <p:nvPr/>
          </p:nvSpPr>
          <p:spPr>
            <a:xfrm rot="21565800">
              <a:off x="81900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 rot="21441000">
              <a:off x="2522520" y="5562720"/>
              <a:ext cx="442800" cy="23148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 rot="103800">
              <a:off x="3040200" y="5562720"/>
              <a:ext cx="44424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3" name="AutoShape 10"/>
            <p:cNvSpPr/>
            <p:nvPr/>
          </p:nvSpPr>
          <p:spPr>
            <a:xfrm rot="21336000">
              <a:off x="133632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4" name="Rectangle 11"/>
            <p:cNvSpPr/>
            <p:nvPr/>
          </p:nvSpPr>
          <p:spPr>
            <a:xfrm>
              <a:off x="685800" y="5791320"/>
              <a:ext cx="807732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1208520" y="1728360"/>
            <a:ext cx="2765880" cy="2871360"/>
            <a:chOff x="1208520" y="1728360"/>
            <a:chExt cx="2765880" cy="2871360"/>
          </a:xfrm>
        </p:grpSpPr>
        <p:sp>
          <p:nvSpPr>
            <p:cNvPr id="186" name="Text Box 23"/>
            <p:cNvSpPr/>
            <p:nvPr/>
          </p:nvSpPr>
          <p:spPr>
            <a:xfrm rot="137400">
              <a:off x="2416320" y="2413080"/>
              <a:ext cx="990360" cy="520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 rot="137400">
              <a:off x="1676160" y="1752120"/>
              <a:ext cx="1218960" cy="609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r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 rot="137400">
              <a:off x="2895120" y="1904760"/>
              <a:ext cx="106704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1208520" y="3187080"/>
              <a:ext cx="1764360" cy="1412640"/>
              <a:chOff x="1208520" y="3187080"/>
              <a:chExt cx="1764360" cy="1412640"/>
            </a:xfrm>
          </p:grpSpPr>
          <p:sp>
            <p:nvSpPr>
              <p:cNvPr id="190" name="Oval 27"/>
              <p:cNvSpPr/>
              <p:nvPr/>
            </p:nvSpPr>
            <p:spPr>
              <a:xfrm rot="137400">
                <a:off x="1676160" y="3200040"/>
                <a:ext cx="676440" cy="547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 rot="137400">
                <a:off x="1218960" y="3581280"/>
                <a:ext cx="67644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 rot="137400">
                <a:off x="1523880" y="4038480"/>
                <a:ext cx="67608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 rot="137400">
                <a:off x="2133360" y="3962160"/>
                <a:ext cx="67644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94" name="Oval 31"/>
              <p:cNvSpPr/>
              <p:nvPr/>
            </p:nvSpPr>
            <p:spPr>
              <a:xfrm rot="137400">
                <a:off x="2285640" y="3428640"/>
                <a:ext cx="676440" cy="547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95" name="Oval 32"/>
            <p:cNvSpPr/>
            <p:nvPr/>
          </p:nvSpPr>
          <p:spPr>
            <a:xfrm rot="21586800">
              <a:off x="1676520" y="2332080"/>
              <a:ext cx="847440" cy="1782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q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196" name="AutoShape 35"/>
          <p:cNvSpPr/>
          <p:nvPr/>
        </p:nvSpPr>
        <p:spPr>
          <a:xfrm rot="16173000">
            <a:off x="3579840" y="2058840"/>
            <a:ext cx="612720" cy="30456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Oval 36"/>
          <p:cNvSpPr/>
          <p:nvPr/>
        </p:nvSpPr>
        <p:spPr>
          <a:xfrm rot="17036400">
            <a:off x="4038480" y="1828440"/>
            <a:ext cx="1295280" cy="22100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98" name="Group 47"/>
          <p:cNvGrpSpPr/>
          <p:nvPr/>
        </p:nvGrpSpPr>
        <p:grpSpPr>
          <a:xfrm>
            <a:off x="820440" y="1738440"/>
            <a:ext cx="4247280" cy="1650600"/>
            <a:chOff x="820440" y="1738440"/>
            <a:chExt cx="4247280" cy="1650600"/>
          </a:xfrm>
        </p:grpSpPr>
        <p:sp>
          <p:nvSpPr>
            <p:cNvPr id="199" name="AutoShape 16"/>
            <p:cNvSpPr/>
            <p:nvPr/>
          </p:nvSpPr>
          <p:spPr>
            <a:xfrm rot="10641000">
              <a:off x="837360" y="1752120"/>
              <a:ext cx="608040" cy="763560"/>
            </a:xfrm>
            <a:prstGeom prst="flowChartDelay">
              <a:avLst/>
            </a:prstGeom>
            <a:solidFill>
              <a:srgbClr val="00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a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00" name="Group 45"/>
            <p:cNvGrpSpPr/>
            <p:nvPr/>
          </p:nvGrpSpPr>
          <p:grpSpPr>
            <a:xfrm>
              <a:off x="3446280" y="2099160"/>
              <a:ext cx="1621440" cy="1289880"/>
              <a:chOff x="3446280" y="2099160"/>
              <a:chExt cx="1621440" cy="1289880"/>
            </a:xfrm>
          </p:grpSpPr>
          <p:sp>
            <p:nvSpPr>
              <p:cNvPr id="201" name="AutoShape 37"/>
              <p:cNvSpPr/>
              <p:nvPr/>
            </p:nvSpPr>
            <p:spPr>
              <a:xfrm rot="6202800">
                <a:off x="3191400" y="2523240"/>
                <a:ext cx="1220760" cy="441360"/>
              </a:xfrm>
              <a:prstGeom prst="pi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02" name="Rectangle 38"/>
              <p:cNvSpPr/>
              <p:nvPr/>
            </p:nvSpPr>
            <p:spPr>
              <a:xfrm rot="17335200">
                <a:off x="4647960" y="2360160"/>
                <a:ext cx="304920" cy="459720"/>
              </a:xfrm>
              <a:prstGeom prst="rect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342720"/>
            <a:ext cx="64771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cal Path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eneration of C3-convert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914040" y="4114800"/>
            <a:ext cx="2514600" cy="1752120"/>
            <a:chOff x="914040" y="4114800"/>
            <a:chExt cx="2514600" cy="1752120"/>
          </a:xfrm>
        </p:grpSpPr>
        <p:pic>
          <p:nvPicPr>
            <p:cNvPr id="205" name="Object 3" descr=""/>
            <p:cNvPicPr/>
            <p:nvPr/>
          </p:nvPicPr>
          <p:blipFill>
            <a:blip r:embed="rId1"/>
            <a:stretch/>
          </p:blipFill>
          <p:spPr>
            <a:xfrm>
              <a:off x="2679120" y="4114800"/>
              <a:ext cx="749520" cy="17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Object 4" descr=""/>
            <p:cNvPicPr/>
            <p:nvPr/>
          </p:nvPicPr>
          <p:blipFill>
            <a:blip r:embed="rId2"/>
            <a:stretch/>
          </p:blipFill>
          <p:spPr>
            <a:xfrm flipH="1">
              <a:off x="914040" y="4114800"/>
              <a:ext cx="756360" cy="175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Rectangle 5"/>
          <p:cNvSpPr/>
          <p:nvPr/>
        </p:nvSpPr>
        <p:spPr>
          <a:xfrm>
            <a:off x="685800" y="579132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685800" y="5545800"/>
            <a:ext cx="8077320" cy="702720"/>
            <a:chOff x="685800" y="5545800"/>
            <a:chExt cx="8077320" cy="702720"/>
          </a:xfrm>
        </p:grpSpPr>
        <p:sp>
          <p:nvSpPr>
            <p:cNvPr id="209" name="AutoShape 7"/>
            <p:cNvSpPr/>
            <p:nvPr/>
          </p:nvSpPr>
          <p:spPr>
            <a:xfrm rot="21565800">
              <a:off x="81900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0" name="AutoShape 8"/>
            <p:cNvSpPr/>
            <p:nvPr/>
          </p:nvSpPr>
          <p:spPr>
            <a:xfrm rot="21441000">
              <a:off x="2522520" y="5562720"/>
              <a:ext cx="442800" cy="23148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 rot="103800">
              <a:off x="3040200" y="5562720"/>
              <a:ext cx="44424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 rot="21336000">
              <a:off x="133632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685800" y="5791320"/>
              <a:ext cx="807732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3248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cal Path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eneration of C3-convert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3809880" y="4038480"/>
            <a:ext cx="1295640" cy="22100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4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6" name="AutoShape 14"/>
          <p:cNvSpPr/>
          <p:nvPr/>
        </p:nvSpPr>
        <p:spPr>
          <a:xfrm>
            <a:off x="3886200" y="5823000"/>
            <a:ext cx="1295280" cy="42552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 rot="137400">
            <a:off x="3123720" y="3657240"/>
            <a:ext cx="9208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rot="10641000">
            <a:off x="837360" y="1752120"/>
            <a:ext cx="608040" cy="763560"/>
          </a:xfrm>
          <a:prstGeom prst="flowChartDelay">
            <a:avLst/>
          </a:prstGeom>
          <a:solidFill>
            <a:srgbClr val="00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4a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19" name="Group 17"/>
          <p:cNvGrpSpPr/>
          <p:nvPr/>
        </p:nvGrpSpPr>
        <p:grpSpPr>
          <a:xfrm>
            <a:off x="1208520" y="1728360"/>
            <a:ext cx="2765880" cy="2871000"/>
            <a:chOff x="1208520" y="1728360"/>
            <a:chExt cx="2765880" cy="2871000"/>
          </a:xfrm>
        </p:grpSpPr>
        <p:sp>
          <p:nvSpPr>
            <p:cNvPr id="220" name="Text Box 18"/>
            <p:cNvSpPr/>
            <p:nvPr/>
          </p:nvSpPr>
          <p:spPr>
            <a:xfrm rot="137400">
              <a:off x="2416320" y="2412720"/>
              <a:ext cx="990720" cy="52056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21" name="Oval 19"/>
            <p:cNvSpPr/>
            <p:nvPr/>
          </p:nvSpPr>
          <p:spPr>
            <a:xfrm rot="137400">
              <a:off x="1676160" y="1752120"/>
              <a:ext cx="1219320" cy="609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r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22" name="Oval 20"/>
            <p:cNvSpPr/>
            <p:nvPr/>
          </p:nvSpPr>
          <p:spPr>
            <a:xfrm rot="137400">
              <a:off x="2895480" y="1904400"/>
              <a:ext cx="1066680" cy="609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23" name="Group 21"/>
            <p:cNvGrpSpPr/>
            <p:nvPr/>
          </p:nvGrpSpPr>
          <p:grpSpPr>
            <a:xfrm>
              <a:off x="1208520" y="3186720"/>
              <a:ext cx="1764360" cy="1412640"/>
              <a:chOff x="1208520" y="3186720"/>
              <a:chExt cx="1764360" cy="1412640"/>
            </a:xfrm>
          </p:grpSpPr>
          <p:sp>
            <p:nvSpPr>
              <p:cNvPr id="224" name="Oval 22"/>
              <p:cNvSpPr/>
              <p:nvPr/>
            </p:nvSpPr>
            <p:spPr>
              <a:xfrm rot="137400">
                <a:off x="1676160" y="3199680"/>
                <a:ext cx="676440" cy="54792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5" name="Oval 23"/>
              <p:cNvSpPr/>
              <p:nvPr/>
            </p:nvSpPr>
            <p:spPr>
              <a:xfrm rot="137400">
                <a:off x="1218960" y="3580920"/>
                <a:ext cx="67644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6" name="Oval 24"/>
              <p:cNvSpPr/>
              <p:nvPr/>
            </p:nvSpPr>
            <p:spPr>
              <a:xfrm rot="137400">
                <a:off x="1523880" y="4038120"/>
                <a:ext cx="67608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7" name="Oval 25"/>
              <p:cNvSpPr/>
              <p:nvPr/>
            </p:nvSpPr>
            <p:spPr>
              <a:xfrm rot="137400">
                <a:off x="2133360" y="3961800"/>
                <a:ext cx="67644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28" name="Oval 26"/>
              <p:cNvSpPr/>
              <p:nvPr/>
            </p:nvSpPr>
            <p:spPr>
              <a:xfrm rot="137400">
                <a:off x="2285640" y="3428280"/>
                <a:ext cx="676440" cy="54792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29" name="Oval 27"/>
            <p:cNvSpPr/>
            <p:nvPr/>
          </p:nvSpPr>
          <p:spPr>
            <a:xfrm rot="21586800">
              <a:off x="1676520" y="2331720"/>
              <a:ext cx="847800" cy="17827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q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30" name="AutoShape 28"/>
          <p:cNvSpPr/>
          <p:nvPr/>
        </p:nvSpPr>
        <p:spPr>
          <a:xfrm rot="16173000">
            <a:off x="3579840" y="2058840"/>
            <a:ext cx="612720" cy="30456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1" name="AutoShape 29"/>
          <p:cNvSpPr/>
          <p:nvPr/>
        </p:nvSpPr>
        <p:spPr>
          <a:xfrm rot="10805400">
            <a:off x="3809160" y="4038480"/>
            <a:ext cx="1220760" cy="44136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2" name="AutoShape 45"/>
          <p:cNvSpPr/>
          <p:nvPr/>
        </p:nvSpPr>
        <p:spPr>
          <a:xfrm rot="19372200">
            <a:off x="3809880" y="1599840"/>
            <a:ext cx="1524240" cy="1905120"/>
          </a:xfrm>
          <a:prstGeom prst="pie">
            <a:avLst/>
          </a:prstGeom>
          <a:solidFill>
            <a:srgbClr val="33cc33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33" name="Group 54"/>
          <p:cNvGrpSpPr/>
          <p:nvPr/>
        </p:nvGrpSpPr>
        <p:grpSpPr>
          <a:xfrm>
            <a:off x="3332880" y="1277640"/>
            <a:ext cx="3808080" cy="2756160"/>
            <a:chOff x="3332880" y="1277640"/>
            <a:chExt cx="3808080" cy="2756160"/>
          </a:xfrm>
        </p:grpSpPr>
        <p:sp>
          <p:nvSpPr>
            <p:cNvPr id="234" name="AutoShape 51"/>
            <p:cNvSpPr/>
            <p:nvPr/>
          </p:nvSpPr>
          <p:spPr>
            <a:xfrm rot="19315200">
              <a:off x="3828960" y="1561680"/>
              <a:ext cx="1676520" cy="21877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 rot="21432000">
              <a:off x="5410080" y="1676160"/>
              <a:ext cx="1676520" cy="2268360"/>
            </a:xfrm>
            <a:prstGeom prst="pi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2b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6" name="Text Box 53"/>
            <p:cNvSpPr/>
            <p:nvPr/>
          </p:nvSpPr>
          <p:spPr>
            <a:xfrm flipH="1" flipV="1" rot="9186000">
              <a:off x="4761720" y="2114640"/>
              <a:ext cx="22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37" name="Group 64"/>
          <p:cNvGrpSpPr/>
          <p:nvPr/>
        </p:nvGrpSpPr>
        <p:grpSpPr>
          <a:xfrm>
            <a:off x="3389400" y="1333080"/>
            <a:ext cx="3412080" cy="5139360"/>
            <a:chOff x="3389400" y="1333080"/>
            <a:chExt cx="3412080" cy="5139360"/>
          </a:xfrm>
        </p:grpSpPr>
        <p:grpSp>
          <p:nvGrpSpPr>
            <p:cNvPr id="238" name="Group 63"/>
            <p:cNvGrpSpPr/>
            <p:nvPr/>
          </p:nvGrpSpPr>
          <p:grpSpPr>
            <a:xfrm>
              <a:off x="4933080" y="4141080"/>
              <a:ext cx="1868400" cy="2331360"/>
              <a:chOff x="4933080" y="4141080"/>
              <a:chExt cx="1868400" cy="2331360"/>
            </a:xfrm>
          </p:grpSpPr>
          <p:sp>
            <p:nvSpPr>
              <p:cNvPr id="239" name="AutoShape 57"/>
              <p:cNvSpPr/>
              <p:nvPr/>
            </p:nvSpPr>
            <p:spPr>
              <a:xfrm rot="21344400">
                <a:off x="5104800" y="4289400"/>
                <a:ext cx="1524240" cy="190476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2</a:t>
                </a: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40" name="AutoShape 58"/>
              <p:cNvSpPr/>
              <p:nvPr/>
            </p:nvSpPr>
            <p:spPr>
              <a:xfrm rot="21286800">
                <a:off x="5028840" y="4212720"/>
                <a:ext cx="1676160" cy="2187720"/>
              </a:xfrm>
              <a:prstGeom prst="pi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41" name="Text Box 59"/>
              <p:cNvSpPr/>
              <p:nvPr/>
            </p:nvSpPr>
            <p:spPr>
              <a:xfrm rot="21504000">
                <a:off x="5981400" y="4993920"/>
                <a:ext cx="30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42" name="AutoShape 60"/>
              <p:cNvSpPr/>
              <p:nvPr/>
            </p:nvSpPr>
            <p:spPr>
              <a:xfrm>
                <a:off x="5257800" y="5813280"/>
                <a:ext cx="1295280" cy="4255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43" name="AutoShape 61"/>
            <p:cNvSpPr/>
            <p:nvPr/>
          </p:nvSpPr>
          <p:spPr>
            <a:xfrm rot="19372200">
              <a:off x="3809880" y="1599840"/>
              <a:ext cx="1524240" cy="19051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44" name="Text Box 65"/>
          <p:cNvSpPr/>
          <p:nvPr/>
        </p:nvSpPr>
        <p:spPr>
          <a:xfrm>
            <a:off x="4245120" y="329508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_____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4b2a is C3 convertas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914040" y="4114800"/>
            <a:ext cx="2514600" cy="1752120"/>
            <a:chOff x="914040" y="4114800"/>
            <a:chExt cx="2514600" cy="1752120"/>
          </a:xfrm>
        </p:grpSpPr>
        <p:pic>
          <p:nvPicPr>
            <p:cNvPr id="246" name="Object 3" descr=""/>
            <p:cNvPicPr/>
            <p:nvPr/>
          </p:nvPicPr>
          <p:blipFill>
            <a:blip r:embed="rId1"/>
            <a:stretch/>
          </p:blipFill>
          <p:spPr>
            <a:xfrm>
              <a:off x="2679120" y="4114800"/>
              <a:ext cx="749520" cy="172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Object 4" descr=""/>
            <p:cNvPicPr/>
            <p:nvPr/>
          </p:nvPicPr>
          <p:blipFill>
            <a:blip r:embed="rId2"/>
            <a:stretch/>
          </p:blipFill>
          <p:spPr>
            <a:xfrm flipH="1">
              <a:off x="914040" y="4114800"/>
              <a:ext cx="756360" cy="175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Rectangle 5"/>
          <p:cNvSpPr/>
          <p:nvPr/>
        </p:nvSpPr>
        <p:spPr>
          <a:xfrm>
            <a:off x="685800" y="579132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49" name="Group 6"/>
          <p:cNvGrpSpPr/>
          <p:nvPr/>
        </p:nvGrpSpPr>
        <p:grpSpPr>
          <a:xfrm>
            <a:off x="685800" y="5545800"/>
            <a:ext cx="8077320" cy="702720"/>
            <a:chOff x="685800" y="5545800"/>
            <a:chExt cx="8077320" cy="702720"/>
          </a:xfrm>
        </p:grpSpPr>
        <p:sp>
          <p:nvSpPr>
            <p:cNvPr id="250" name="AutoShape 7"/>
            <p:cNvSpPr/>
            <p:nvPr/>
          </p:nvSpPr>
          <p:spPr>
            <a:xfrm rot="21565800">
              <a:off x="81900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1" name="AutoShape 8"/>
            <p:cNvSpPr/>
            <p:nvPr/>
          </p:nvSpPr>
          <p:spPr>
            <a:xfrm rot="21441000">
              <a:off x="2522520" y="5562720"/>
              <a:ext cx="442800" cy="23148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2" name="AutoShape 9"/>
            <p:cNvSpPr/>
            <p:nvPr/>
          </p:nvSpPr>
          <p:spPr>
            <a:xfrm rot="103800">
              <a:off x="3040200" y="5562720"/>
              <a:ext cx="44424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3" name="AutoShape 10"/>
            <p:cNvSpPr/>
            <p:nvPr/>
          </p:nvSpPr>
          <p:spPr>
            <a:xfrm rot="21336000">
              <a:off x="1336320" y="5562360"/>
              <a:ext cx="444600" cy="228600"/>
            </a:xfrm>
            <a:prstGeom prst="triangle">
              <a:avLst>
                <a:gd name="adj" fmla="val 50000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4" name="Rectangle 11"/>
            <p:cNvSpPr/>
            <p:nvPr/>
          </p:nvSpPr>
          <p:spPr>
            <a:xfrm>
              <a:off x="685800" y="5791320"/>
              <a:ext cx="807732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6400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ical Path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Generation of C5-convert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3809880" y="4038480"/>
            <a:ext cx="1295640" cy="22100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4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3886200" y="5823000"/>
            <a:ext cx="1295280" cy="425520"/>
          </a:xfrm>
          <a:prstGeom prst="pie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 rot="137400">
            <a:off x="3123720" y="3657240"/>
            <a:ext cx="9208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AutoShape 16"/>
          <p:cNvSpPr/>
          <p:nvPr/>
        </p:nvSpPr>
        <p:spPr>
          <a:xfrm rot="10641000">
            <a:off x="837360" y="1752120"/>
            <a:ext cx="608040" cy="763560"/>
          </a:xfrm>
          <a:prstGeom prst="flowChartDelay">
            <a:avLst/>
          </a:prstGeom>
          <a:solidFill>
            <a:srgbClr val="00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4a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60" name="Group 17"/>
          <p:cNvGrpSpPr/>
          <p:nvPr/>
        </p:nvGrpSpPr>
        <p:grpSpPr>
          <a:xfrm>
            <a:off x="1208520" y="1728360"/>
            <a:ext cx="2765880" cy="2871000"/>
            <a:chOff x="1208520" y="1728360"/>
            <a:chExt cx="2765880" cy="2871000"/>
          </a:xfrm>
        </p:grpSpPr>
        <p:sp>
          <p:nvSpPr>
            <p:cNvPr id="261" name="Text Box 18"/>
            <p:cNvSpPr/>
            <p:nvPr/>
          </p:nvSpPr>
          <p:spPr>
            <a:xfrm rot="137400">
              <a:off x="2416320" y="2412720"/>
              <a:ext cx="990720" cy="52056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62" name="Oval 19"/>
            <p:cNvSpPr/>
            <p:nvPr/>
          </p:nvSpPr>
          <p:spPr>
            <a:xfrm rot="137400">
              <a:off x="1676160" y="1752120"/>
              <a:ext cx="1219320" cy="609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r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63" name="Oval 20"/>
            <p:cNvSpPr/>
            <p:nvPr/>
          </p:nvSpPr>
          <p:spPr>
            <a:xfrm rot="137400">
              <a:off x="2895480" y="1904400"/>
              <a:ext cx="1066680" cy="6094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64" name="Group 21"/>
            <p:cNvGrpSpPr/>
            <p:nvPr/>
          </p:nvGrpSpPr>
          <p:grpSpPr>
            <a:xfrm>
              <a:off x="1208520" y="3186720"/>
              <a:ext cx="1764360" cy="1412640"/>
              <a:chOff x="1208520" y="3186720"/>
              <a:chExt cx="1764360" cy="1412640"/>
            </a:xfrm>
          </p:grpSpPr>
          <p:sp>
            <p:nvSpPr>
              <p:cNvPr id="265" name="Oval 22"/>
              <p:cNvSpPr/>
              <p:nvPr/>
            </p:nvSpPr>
            <p:spPr>
              <a:xfrm rot="137400">
                <a:off x="1676160" y="3199680"/>
                <a:ext cx="676440" cy="54792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66" name="Oval 23"/>
              <p:cNvSpPr/>
              <p:nvPr/>
            </p:nvSpPr>
            <p:spPr>
              <a:xfrm rot="137400">
                <a:off x="1218960" y="3580920"/>
                <a:ext cx="67644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67" name="Oval 24"/>
              <p:cNvSpPr/>
              <p:nvPr/>
            </p:nvSpPr>
            <p:spPr>
              <a:xfrm rot="137400">
                <a:off x="1523880" y="4038120"/>
                <a:ext cx="67608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68" name="Oval 25"/>
              <p:cNvSpPr/>
              <p:nvPr/>
            </p:nvSpPr>
            <p:spPr>
              <a:xfrm rot="137400">
                <a:off x="2133360" y="3961800"/>
                <a:ext cx="676440" cy="54756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269" name="Oval 26"/>
              <p:cNvSpPr/>
              <p:nvPr/>
            </p:nvSpPr>
            <p:spPr>
              <a:xfrm rot="137400">
                <a:off x="2285640" y="3428280"/>
                <a:ext cx="676440" cy="547920"/>
              </a:xfrm>
              <a:prstGeom prst="ellipse">
                <a:avLst/>
              </a:prstGeom>
              <a:solidFill>
                <a:srgbClr val="00cc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270" name="Oval 27"/>
            <p:cNvSpPr/>
            <p:nvPr/>
          </p:nvSpPr>
          <p:spPr>
            <a:xfrm rot="21586800">
              <a:off x="1676520" y="2331720"/>
              <a:ext cx="847800" cy="17827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q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71" name="AutoShape 28"/>
          <p:cNvSpPr/>
          <p:nvPr/>
        </p:nvSpPr>
        <p:spPr>
          <a:xfrm rot="16173000">
            <a:off x="3579840" y="2058840"/>
            <a:ext cx="612720" cy="30456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2" name="AutoShape 29"/>
          <p:cNvSpPr/>
          <p:nvPr/>
        </p:nvSpPr>
        <p:spPr>
          <a:xfrm rot="10805400">
            <a:off x="3809160" y="4038480"/>
            <a:ext cx="1220760" cy="44136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3" name="AutoShape 32"/>
          <p:cNvSpPr/>
          <p:nvPr/>
        </p:nvSpPr>
        <p:spPr>
          <a:xfrm rot="19315200">
            <a:off x="3828960" y="1561680"/>
            <a:ext cx="1676520" cy="2187720"/>
          </a:xfrm>
          <a:prstGeom prst="pi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4" name="AutoShape 33"/>
          <p:cNvSpPr/>
          <p:nvPr/>
        </p:nvSpPr>
        <p:spPr>
          <a:xfrm rot="21432000">
            <a:off x="5334120" y="1676160"/>
            <a:ext cx="1676160" cy="2268360"/>
          </a:xfrm>
          <a:prstGeom prst="pie">
            <a:avLst/>
          </a:prstGeom>
          <a:solidFill>
            <a:srgbClr val="33cc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75" name="Group 36"/>
          <p:cNvGrpSpPr/>
          <p:nvPr/>
        </p:nvGrpSpPr>
        <p:grpSpPr>
          <a:xfrm>
            <a:off x="4933080" y="4141080"/>
            <a:ext cx="1868400" cy="2331360"/>
            <a:chOff x="4933080" y="4141080"/>
            <a:chExt cx="1868400" cy="2331360"/>
          </a:xfrm>
        </p:grpSpPr>
        <p:sp>
          <p:nvSpPr>
            <p:cNvPr id="276" name="AutoShape 37"/>
            <p:cNvSpPr/>
            <p:nvPr/>
          </p:nvSpPr>
          <p:spPr>
            <a:xfrm rot="21344400">
              <a:off x="5104800" y="4289400"/>
              <a:ext cx="1524240" cy="190476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7" name="AutoShape 38"/>
            <p:cNvSpPr/>
            <p:nvPr/>
          </p:nvSpPr>
          <p:spPr>
            <a:xfrm rot="21286800">
              <a:off x="5028840" y="4212720"/>
              <a:ext cx="1676160" cy="21877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8" name="Text Box 39"/>
            <p:cNvSpPr/>
            <p:nvPr/>
          </p:nvSpPr>
          <p:spPr>
            <a:xfrm rot="21504000">
              <a:off x="5981400" y="49939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79" name="AutoShape 40"/>
            <p:cNvSpPr/>
            <p:nvPr/>
          </p:nvSpPr>
          <p:spPr>
            <a:xfrm>
              <a:off x="5257800" y="5813280"/>
              <a:ext cx="1295280" cy="425520"/>
            </a:xfrm>
            <a:prstGeom prst="pie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80" name="AutoShape 44"/>
          <p:cNvSpPr/>
          <p:nvPr/>
        </p:nvSpPr>
        <p:spPr>
          <a:xfrm>
            <a:off x="6629400" y="3779280"/>
            <a:ext cx="990720" cy="224460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281" name="Group 45"/>
          <p:cNvGrpSpPr/>
          <p:nvPr/>
        </p:nvGrpSpPr>
        <p:grpSpPr>
          <a:xfrm>
            <a:off x="6625080" y="1972440"/>
            <a:ext cx="1229400" cy="3153960"/>
            <a:chOff x="6625080" y="1972440"/>
            <a:chExt cx="1229400" cy="3153960"/>
          </a:xfrm>
        </p:grpSpPr>
        <p:sp>
          <p:nvSpPr>
            <p:cNvPr id="282" name="AutoShape 46"/>
            <p:cNvSpPr/>
            <p:nvPr/>
          </p:nvSpPr>
          <p:spPr>
            <a:xfrm rot="21544200">
              <a:off x="6629040" y="3946320"/>
              <a:ext cx="1068120" cy="533160"/>
            </a:xfrm>
            <a:prstGeom prst="flowChartMerge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3" name="AutoShape 47"/>
            <p:cNvSpPr/>
            <p:nvPr/>
          </p:nvSpPr>
          <p:spPr>
            <a:xfrm rot="21544200">
              <a:off x="6781320" y="1980720"/>
              <a:ext cx="1068480" cy="533520"/>
            </a:xfrm>
            <a:prstGeom prst="flowChartMerg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a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84" name="Text Box 48"/>
            <p:cNvSpPr/>
            <p:nvPr/>
          </p:nvSpPr>
          <p:spPr>
            <a:xfrm>
              <a:off x="7240320" y="4727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85" name="Text Box 50"/>
          <p:cNvSpPr/>
          <p:nvPr/>
        </p:nvSpPr>
        <p:spPr>
          <a:xfrm>
            <a:off x="4191120" y="2297520"/>
            <a:ext cx="4267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________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4b2a3b is C5 convertase; it leads into the Membrane Attack 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5FFB-8501-4866-9460-B3AA014A07C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ical Activities of Classical Pathway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681200"/>
          <a:ext cx="8305920" cy="4795920"/>
        </p:xfrm>
        <a:graphic>
          <a:graphicData uri="http://schemas.openxmlformats.org/drawingml/2006/table">
            <a:tbl>
              <a:tblPr/>
              <a:tblGrid>
                <a:gridCol w="2198520"/>
                <a:gridCol w="6107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logical Activity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b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inin; cleaved by plasmin to yield kinin, which results in edem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phylotoxin; can activate basophils and mast cells to degranulate resulting in increased vascular permeability and contraction of smooth muscle cells, which may lead to anaphylaxi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b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sonin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ion of phagocytic cell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phylaotoxin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b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sonin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1A81-A671-4B63-927B-86177ED3352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trol of Classical Pathway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57200" y="1681200"/>
          <a:ext cx="8305920" cy="4719600"/>
        </p:xfrm>
        <a:graphic>
          <a:graphicData uri="http://schemas.openxmlformats.org/drawingml/2006/table">
            <a:tbl>
              <a:tblPr/>
              <a:tblGrid>
                <a:gridCol w="2198520"/>
                <a:gridCol w="61074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ion</a:t>
                      </a:r>
                      <a:endParaRPr b="1" lang="en-US" sz="24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-inhibitor (C1-INH); dissociates C1r and C1s from C1q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a-inactivator (C3a-INA; Carboxypeptidase B)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b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s H and I; Factor H facilitates the degradation of C3b by Factor I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a-INH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b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 binding protein (C4-BP) and Factor I; C4-BP facilitates degradation of C4b by Factor I; C4-BP also prevents the association of C2a with C4b thus blocking formation of C3 convertas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mponents of mannose-binding 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(lectin)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1665-ED71-4BF5-8080-5D4FCEA4BCC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1066680" y="2644920"/>
            <a:ext cx="678204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2001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nose Binding Lectin (MBL), 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which binds to bacterial surface with mannose-containing polysaccharide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2001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BL associated serine proteases (MASP-1 MASP-2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42720"/>
            <a:ext cx="70102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 of mannose-binding lectin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8"/>
          <p:cNvGrpSpPr/>
          <p:nvPr/>
        </p:nvGrpSpPr>
        <p:grpSpPr>
          <a:xfrm>
            <a:off x="1600200" y="2437200"/>
            <a:ext cx="1447920" cy="839160"/>
            <a:chOff x="1600200" y="2437200"/>
            <a:chExt cx="1447920" cy="839160"/>
          </a:xfrm>
        </p:grpSpPr>
        <p:sp>
          <p:nvSpPr>
            <p:cNvPr id="297" name="AutoShape 6"/>
            <p:cNvSpPr/>
            <p:nvPr/>
          </p:nvSpPr>
          <p:spPr>
            <a:xfrm>
              <a:off x="1600200" y="2895480"/>
              <a:ext cx="1447920" cy="380880"/>
            </a:xfrm>
            <a:prstGeom prst="roundRect">
              <a:avLst>
                <a:gd name="adj" fmla="val 50000"/>
              </a:avLst>
            </a:prstGeom>
            <a:solidFill>
              <a:srgbClr val="ff99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298" name="Group 59"/>
            <p:cNvGrpSpPr/>
            <p:nvPr/>
          </p:nvGrpSpPr>
          <p:grpSpPr>
            <a:xfrm>
              <a:off x="1980360" y="2437200"/>
              <a:ext cx="763560" cy="457920"/>
              <a:chOff x="1980360" y="2437200"/>
              <a:chExt cx="763560" cy="457920"/>
            </a:xfrm>
          </p:grpSpPr>
          <p:grpSp>
            <p:nvGrpSpPr>
              <p:cNvPr id="299" name="Group 9"/>
              <p:cNvGrpSpPr/>
              <p:nvPr/>
            </p:nvGrpSpPr>
            <p:grpSpPr>
              <a:xfrm>
                <a:off x="1980360" y="2437200"/>
                <a:ext cx="230400" cy="457920"/>
                <a:chOff x="1980360" y="2437200"/>
                <a:chExt cx="230400" cy="457920"/>
              </a:xfrm>
            </p:grpSpPr>
            <p:sp>
              <p:nvSpPr>
                <p:cNvPr id="300" name="AutoShape 7"/>
                <p:cNvSpPr/>
                <p:nvPr/>
              </p:nvSpPr>
              <p:spPr>
                <a:xfrm rot="16165800">
                  <a:off x="1981080" y="2437920"/>
                  <a:ext cx="228240" cy="2282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8"/>
                <p:cNvSpPr/>
                <p:nvPr/>
              </p:nvSpPr>
              <p:spPr>
                <a:xfrm>
                  <a:off x="2095560" y="266652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10"/>
              <p:cNvGrpSpPr/>
              <p:nvPr/>
            </p:nvGrpSpPr>
            <p:grpSpPr>
              <a:xfrm>
                <a:off x="2513520" y="2437200"/>
                <a:ext cx="230400" cy="457920"/>
                <a:chOff x="2513520" y="2437200"/>
                <a:chExt cx="230400" cy="457920"/>
              </a:xfrm>
            </p:grpSpPr>
            <p:sp>
              <p:nvSpPr>
                <p:cNvPr id="303" name="AutoShape 11"/>
                <p:cNvSpPr/>
                <p:nvPr/>
              </p:nvSpPr>
              <p:spPr>
                <a:xfrm rot="16165800">
                  <a:off x="2514240" y="2437920"/>
                  <a:ext cx="228240" cy="228240"/>
                </a:xfrm>
                <a:prstGeom prst="hexagon">
                  <a:avLst>
                    <a:gd name="adj" fmla="val 25000"/>
                    <a:gd name="vf" fmla="val 115470"/>
                  </a:avLst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"/>
                <p:cNvSpPr/>
                <p:nvPr/>
              </p:nvSpPr>
              <p:spPr>
                <a:xfrm>
                  <a:off x="2628720" y="266652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5" name="Oval 24"/>
          <p:cNvSpPr/>
          <p:nvPr/>
        </p:nvSpPr>
        <p:spPr>
          <a:xfrm rot="4200">
            <a:off x="4114800" y="1980720"/>
            <a:ext cx="1143000" cy="17528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06" name="Group 80"/>
          <p:cNvGrpSpPr/>
          <p:nvPr/>
        </p:nvGrpSpPr>
        <p:grpSpPr>
          <a:xfrm>
            <a:off x="1600200" y="4724280"/>
            <a:ext cx="1523880" cy="761760"/>
            <a:chOff x="1600200" y="4724280"/>
            <a:chExt cx="1523880" cy="761760"/>
          </a:xfrm>
        </p:grpSpPr>
        <p:sp>
          <p:nvSpPr>
            <p:cNvPr id="307" name="Oval 55"/>
            <p:cNvSpPr/>
            <p:nvPr/>
          </p:nvSpPr>
          <p:spPr>
            <a:xfrm>
              <a:off x="1600200" y="4724280"/>
              <a:ext cx="152388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BL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08" name="AutoShape 56"/>
            <p:cNvSpPr/>
            <p:nvPr/>
          </p:nvSpPr>
          <p:spPr>
            <a:xfrm>
              <a:off x="1828800" y="5105160"/>
              <a:ext cx="533160" cy="380880"/>
            </a:xfrm>
            <a:prstGeom prst="pi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09" name="AutoShape 57"/>
            <p:cNvSpPr/>
            <p:nvPr/>
          </p:nvSpPr>
          <p:spPr>
            <a:xfrm>
              <a:off x="2361960" y="5105160"/>
              <a:ext cx="533520" cy="380880"/>
            </a:xfrm>
            <a:prstGeom prst="pi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10" name="AutoShape 70"/>
          <p:cNvSpPr/>
          <p:nvPr/>
        </p:nvSpPr>
        <p:spPr>
          <a:xfrm rot="21587400">
            <a:off x="4231800" y="4114440"/>
            <a:ext cx="1177920" cy="150660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1" name="Oval 84"/>
          <p:cNvSpPr/>
          <p:nvPr/>
        </p:nvSpPr>
        <p:spPr>
          <a:xfrm>
            <a:off x="6477120" y="4572000"/>
            <a:ext cx="76176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P1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2" name="AutoShape 85"/>
          <p:cNvSpPr/>
          <p:nvPr/>
        </p:nvSpPr>
        <p:spPr>
          <a:xfrm rot="298200">
            <a:off x="6248520" y="25146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P2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9320" y="342720"/>
            <a:ext cx="685800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nose-binding lectin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027"/>
          <p:cNvSpPr/>
          <p:nvPr/>
        </p:nvSpPr>
        <p:spPr>
          <a:xfrm>
            <a:off x="1143000" y="4876920"/>
            <a:ext cx="7162920" cy="761760"/>
          </a:xfrm>
          <a:prstGeom prst="roundRect">
            <a:avLst>
              <a:gd name="adj" fmla="val 50000"/>
            </a:avLst>
          </a:prstGeom>
          <a:solidFill>
            <a:srgbClr val="ff7c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15" name="Group 1028"/>
          <p:cNvGrpSpPr/>
          <p:nvPr/>
        </p:nvGrpSpPr>
        <p:grpSpPr>
          <a:xfrm>
            <a:off x="2132640" y="4418640"/>
            <a:ext cx="763560" cy="457920"/>
            <a:chOff x="2132640" y="4418640"/>
            <a:chExt cx="763560" cy="457920"/>
          </a:xfrm>
        </p:grpSpPr>
        <p:grpSp>
          <p:nvGrpSpPr>
            <p:cNvPr id="316" name="Group 1029"/>
            <p:cNvGrpSpPr/>
            <p:nvPr/>
          </p:nvGrpSpPr>
          <p:grpSpPr>
            <a:xfrm>
              <a:off x="2132640" y="4418640"/>
              <a:ext cx="230400" cy="457920"/>
              <a:chOff x="2132640" y="4418640"/>
              <a:chExt cx="230400" cy="457920"/>
            </a:xfrm>
          </p:grpSpPr>
          <p:sp>
            <p:nvSpPr>
              <p:cNvPr id="317" name="AutoShape 1030"/>
              <p:cNvSpPr/>
              <p:nvPr/>
            </p:nvSpPr>
            <p:spPr>
              <a:xfrm rot="16165800">
                <a:off x="2133360" y="4419360"/>
                <a:ext cx="228240" cy="2282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18" name="Line 1031"/>
              <p:cNvSpPr/>
              <p:nvPr/>
            </p:nvSpPr>
            <p:spPr>
              <a:xfrm>
                <a:off x="2247840" y="46479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1032"/>
            <p:cNvGrpSpPr/>
            <p:nvPr/>
          </p:nvGrpSpPr>
          <p:grpSpPr>
            <a:xfrm>
              <a:off x="2665800" y="4418640"/>
              <a:ext cx="230400" cy="457920"/>
              <a:chOff x="2665800" y="4418640"/>
              <a:chExt cx="230400" cy="457920"/>
            </a:xfrm>
          </p:grpSpPr>
          <p:sp>
            <p:nvSpPr>
              <p:cNvPr id="320" name="AutoShape 1033"/>
              <p:cNvSpPr/>
              <p:nvPr/>
            </p:nvSpPr>
            <p:spPr>
              <a:xfrm rot="16165800">
                <a:off x="2666520" y="4419360"/>
                <a:ext cx="228240" cy="2282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21" name="Line 1034"/>
              <p:cNvSpPr/>
              <p:nvPr/>
            </p:nvSpPr>
            <p:spPr>
              <a:xfrm>
                <a:off x="2781000" y="464796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Oval 1035"/>
          <p:cNvSpPr/>
          <p:nvPr/>
        </p:nvSpPr>
        <p:spPr>
          <a:xfrm rot="4200">
            <a:off x="3124080" y="2741400"/>
            <a:ext cx="1143000" cy="17524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23" name="Group 1036"/>
          <p:cNvGrpSpPr/>
          <p:nvPr/>
        </p:nvGrpSpPr>
        <p:grpSpPr>
          <a:xfrm>
            <a:off x="1752480" y="3962520"/>
            <a:ext cx="1523880" cy="761760"/>
            <a:chOff x="1752480" y="3962520"/>
            <a:chExt cx="1523880" cy="761760"/>
          </a:xfrm>
        </p:grpSpPr>
        <p:sp>
          <p:nvSpPr>
            <p:cNvPr id="324" name="Oval 1037"/>
            <p:cNvSpPr/>
            <p:nvPr/>
          </p:nvSpPr>
          <p:spPr>
            <a:xfrm>
              <a:off x="1752480" y="3962520"/>
              <a:ext cx="152388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BL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25" name="AutoShape 1038"/>
            <p:cNvSpPr/>
            <p:nvPr/>
          </p:nvSpPr>
          <p:spPr>
            <a:xfrm>
              <a:off x="1981080" y="4343400"/>
              <a:ext cx="533160" cy="380880"/>
            </a:xfrm>
            <a:prstGeom prst="pi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26" name="AutoShape 1039"/>
            <p:cNvSpPr/>
            <p:nvPr/>
          </p:nvSpPr>
          <p:spPr>
            <a:xfrm>
              <a:off x="2514240" y="4343400"/>
              <a:ext cx="533520" cy="380880"/>
            </a:xfrm>
            <a:prstGeom prst="pi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27" name="Group 1040"/>
          <p:cNvGrpSpPr/>
          <p:nvPr/>
        </p:nvGrpSpPr>
        <p:grpSpPr>
          <a:xfrm>
            <a:off x="1125720" y="2043360"/>
            <a:ext cx="3142080" cy="2451600"/>
            <a:chOff x="1125720" y="2043360"/>
            <a:chExt cx="3142080" cy="2451600"/>
          </a:xfrm>
        </p:grpSpPr>
        <p:sp>
          <p:nvSpPr>
            <p:cNvPr id="328" name="Oval 1041"/>
            <p:cNvSpPr/>
            <p:nvPr/>
          </p:nvSpPr>
          <p:spPr>
            <a:xfrm rot="4200">
              <a:off x="3124080" y="2741400"/>
              <a:ext cx="1142640" cy="175248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4b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329" name="Group 1042"/>
            <p:cNvGrpSpPr/>
            <p:nvPr/>
          </p:nvGrpSpPr>
          <p:grpSpPr>
            <a:xfrm>
              <a:off x="1125720" y="2043360"/>
              <a:ext cx="3061800" cy="987840"/>
              <a:chOff x="1125720" y="2043360"/>
              <a:chExt cx="3061800" cy="987840"/>
            </a:xfrm>
          </p:grpSpPr>
          <p:sp>
            <p:nvSpPr>
              <p:cNvPr id="330" name="AutoShape 1043"/>
              <p:cNvSpPr/>
              <p:nvPr/>
            </p:nvSpPr>
            <p:spPr>
              <a:xfrm rot="10805400">
                <a:off x="3198240" y="2666520"/>
                <a:ext cx="988560" cy="363600"/>
              </a:xfrm>
              <a:prstGeom prst="pi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31" name="AutoShape 1044"/>
              <p:cNvSpPr/>
              <p:nvPr/>
            </p:nvSpPr>
            <p:spPr>
              <a:xfrm rot="10641000">
                <a:off x="1142640" y="2057040"/>
                <a:ext cx="607680" cy="763560"/>
              </a:xfrm>
              <a:prstGeom prst="flowChartDelay">
                <a:avLst/>
              </a:prstGeom>
              <a:solidFill>
                <a:srgbClr val="00cc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4a</a:t>
                </a:r>
                <a:endParaRPr b="1" lang="en-US" sz="2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2" name="Group 1045"/>
          <p:cNvGrpSpPr/>
          <p:nvPr/>
        </p:nvGrpSpPr>
        <p:grpSpPr>
          <a:xfrm>
            <a:off x="3123000" y="2666160"/>
            <a:ext cx="2364120" cy="2590920"/>
            <a:chOff x="3123000" y="2666160"/>
            <a:chExt cx="2364120" cy="2590920"/>
          </a:xfrm>
        </p:grpSpPr>
        <p:grpSp>
          <p:nvGrpSpPr>
            <p:cNvPr id="333" name="Group 1046"/>
            <p:cNvGrpSpPr/>
            <p:nvPr/>
          </p:nvGrpSpPr>
          <p:grpSpPr>
            <a:xfrm>
              <a:off x="4344480" y="3363480"/>
              <a:ext cx="1142640" cy="1893600"/>
              <a:chOff x="4344480" y="3363480"/>
              <a:chExt cx="1142640" cy="1893600"/>
            </a:xfrm>
          </p:grpSpPr>
          <p:sp>
            <p:nvSpPr>
              <p:cNvPr id="334" name="Oval 1047"/>
              <p:cNvSpPr/>
              <p:nvPr/>
            </p:nvSpPr>
            <p:spPr>
              <a:xfrm rot="4200">
                <a:off x="4345200" y="3364200"/>
                <a:ext cx="1140480" cy="178272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4b</a:t>
                </a:r>
                <a:endParaRPr b="1" lang="en-US" sz="2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35" name="AutoShape 1048"/>
              <p:cNvSpPr/>
              <p:nvPr/>
            </p:nvSpPr>
            <p:spPr>
              <a:xfrm rot="10805400">
                <a:off x="4419360" y="3364200"/>
                <a:ext cx="1064160" cy="371520"/>
              </a:xfrm>
              <a:prstGeom prst="pi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36" name="AutoShape 1049"/>
              <p:cNvSpPr/>
              <p:nvPr/>
            </p:nvSpPr>
            <p:spPr>
              <a:xfrm>
                <a:off x="4421160" y="4914720"/>
                <a:ext cx="999360" cy="342360"/>
              </a:xfrm>
              <a:prstGeom prst="pi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337" name="Oval 1050"/>
            <p:cNvSpPr/>
            <p:nvPr/>
          </p:nvSpPr>
          <p:spPr>
            <a:xfrm rot="4200">
              <a:off x="3123720" y="2666880"/>
              <a:ext cx="1218600" cy="186048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38" name="AutoShape 1051"/>
          <p:cNvSpPr/>
          <p:nvPr/>
        </p:nvSpPr>
        <p:spPr>
          <a:xfrm rot="21587400">
            <a:off x="3200040" y="2989080"/>
            <a:ext cx="1177920" cy="150624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339" name="Group 1052"/>
          <p:cNvGrpSpPr/>
          <p:nvPr/>
        </p:nvGrpSpPr>
        <p:grpSpPr>
          <a:xfrm>
            <a:off x="1895760" y="1992240"/>
            <a:ext cx="2536920" cy="2544840"/>
            <a:chOff x="1895760" y="1992240"/>
            <a:chExt cx="2536920" cy="2544840"/>
          </a:xfrm>
        </p:grpSpPr>
        <p:sp>
          <p:nvSpPr>
            <p:cNvPr id="340" name="AutoShape 1053"/>
            <p:cNvSpPr/>
            <p:nvPr/>
          </p:nvSpPr>
          <p:spPr>
            <a:xfrm rot="33000">
              <a:off x="1904760" y="2000160"/>
              <a:ext cx="1676520" cy="1962360"/>
            </a:xfrm>
            <a:prstGeom prst="pie">
              <a:avLst/>
            </a:pr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2b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341" name="Group 1054"/>
            <p:cNvGrpSpPr/>
            <p:nvPr/>
          </p:nvGrpSpPr>
          <p:grpSpPr>
            <a:xfrm>
              <a:off x="3114000" y="2902680"/>
              <a:ext cx="1318680" cy="1634400"/>
              <a:chOff x="3114000" y="2902680"/>
              <a:chExt cx="1318680" cy="1634400"/>
            </a:xfrm>
          </p:grpSpPr>
          <p:sp>
            <p:nvSpPr>
              <p:cNvPr id="342" name="AutoShape 1055"/>
              <p:cNvSpPr/>
              <p:nvPr/>
            </p:nvSpPr>
            <p:spPr>
              <a:xfrm rot="21344400">
                <a:off x="3200040" y="2989080"/>
                <a:ext cx="1177920" cy="150624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2a</a:t>
                </a:r>
                <a:endParaRPr b="1" lang="en-US" sz="2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43" name="AutoShape 1056"/>
              <p:cNvSpPr/>
              <p:nvPr/>
            </p:nvSpPr>
            <p:spPr>
              <a:xfrm rot="21543600">
                <a:off x="3124440" y="2913120"/>
                <a:ext cx="1295280" cy="1295280"/>
              </a:xfrm>
              <a:prstGeom prst="pi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57"/>
          <p:cNvGrpSpPr/>
          <p:nvPr/>
        </p:nvGrpSpPr>
        <p:grpSpPr>
          <a:xfrm>
            <a:off x="3137040" y="2981880"/>
            <a:ext cx="3559320" cy="2231640"/>
            <a:chOff x="3137040" y="2981880"/>
            <a:chExt cx="3559320" cy="2231640"/>
          </a:xfrm>
        </p:grpSpPr>
        <p:grpSp>
          <p:nvGrpSpPr>
            <p:cNvPr id="345" name="Group 1058"/>
            <p:cNvGrpSpPr/>
            <p:nvPr/>
          </p:nvGrpSpPr>
          <p:grpSpPr>
            <a:xfrm>
              <a:off x="5377320" y="3494880"/>
              <a:ext cx="1319040" cy="1718640"/>
              <a:chOff x="5377320" y="3494880"/>
              <a:chExt cx="1319040" cy="1718640"/>
            </a:xfrm>
          </p:grpSpPr>
          <p:sp>
            <p:nvSpPr>
              <p:cNvPr id="346" name="AutoShape 1059"/>
              <p:cNvSpPr/>
              <p:nvPr/>
            </p:nvSpPr>
            <p:spPr>
              <a:xfrm rot="21344400">
                <a:off x="5463720" y="3581280"/>
                <a:ext cx="1177920" cy="150624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2a</a:t>
                </a:r>
                <a:endParaRPr b="1" lang="en-US" sz="20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47" name="AutoShape 1060"/>
              <p:cNvSpPr/>
              <p:nvPr/>
            </p:nvSpPr>
            <p:spPr>
              <a:xfrm>
                <a:off x="5605200" y="4876920"/>
                <a:ext cx="1001880" cy="336600"/>
              </a:xfrm>
              <a:prstGeom prst="pie">
                <a:avLst/>
              </a:prstGeom>
              <a:solidFill>
                <a:srgbClr val="ff7c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348" name="AutoShape 1061"/>
              <p:cNvSpPr/>
              <p:nvPr/>
            </p:nvSpPr>
            <p:spPr>
              <a:xfrm rot="21543600">
                <a:off x="5387760" y="3505320"/>
                <a:ext cx="1295280" cy="1295280"/>
              </a:xfrm>
              <a:prstGeom prst="pi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349" name="AutoShape 1062"/>
            <p:cNvSpPr/>
            <p:nvPr/>
          </p:nvSpPr>
          <p:spPr>
            <a:xfrm rot="21587400">
              <a:off x="3139920" y="2984040"/>
              <a:ext cx="1255680" cy="1582920"/>
            </a:xfrm>
            <a:prstGeom prst="pi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50" name="Text Box 1063"/>
          <p:cNvSpPr/>
          <p:nvPr/>
        </p:nvSpPr>
        <p:spPr>
          <a:xfrm>
            <a:off x="3505320" y="1822680"/>
            <a:ext cx="4419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_____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4b2a is C3 convertase; it will lead to the generation of </a:t>
            </a: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C5 convertas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1" name="Oval 1064"/>
          <p:cNvSpPr/>
          <p:nvPr/>
        </p:nvSpPr>
        <p:spPr>
          <a:xfrm>
            <a:off x="1676520" y="3238560"/>
            <a:ext cx="761760" cy="762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P1</a:t>
            </a: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2" name="AutoShape 1065"/>
          <p:cNvSpPr/>
          <p:nvPr/>
        </p:nvSpPr>
        <p:spPr>
          <a:xfrm rot="298200">
            <a:off x="2324160" y="3067200"/>
            <a:ext cx="914400" cy="91440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P2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3" name="AutoShape 1066"/>
          <p:cNvSpPr/>
          <p:nvPr/>
        </p:nvSpPr>
        <p:spPr>
          <a:xfrm>
            <a:off x="2590920" y="2895480"/>
            <a:ext cx="457200" cy="533520"/>
          </a:xfrm>
          <a:prstGeom prst="triangle">
            <a:avLst>
              <a:gd name="adj" fmla="val 54167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 of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AC1C-04B2-46ED-9FFA-DE2FAC926DF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1066680" y="2133720"/>
            <a:ext cx="7010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B &amp; D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din (P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and regulation of the alternativ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I &amp;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recepto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302E-B548-4262-BD34-27A1B5D81FC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ment: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69644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ed in 1894 by Bord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 was used to refer to a heat-labile serum compon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lytic activity destroyed when heated at 56°C for 30 m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 it is now known that complement contributes to many other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049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5400" indent="-95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lternative pathway can be activa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gram-negative bacter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sseria meningitidis and N. gonorrho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ram-positive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viruses and para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d immunoglobulina(particularly I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6861-9D98-4BE5-899A-93023704945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2" name="Right Brace 7"/>
          <p:cNvSpPr/>
          <p:nvPr/>
        </p:nvSpPr>
        <p:spPr>
          <a:xfrm>
            <a:off x="5562720" y="1752480"/>
            <a:ext cx="1066680" cy="2210040"/>
          </a:xfrm>
          <a:custGeom>
            <a:avLst/>
            <a:gdLst>
              <a:gd name="textAreaLeft" fmla="*/ 0 w 1066680"/>
              <a:gd name="textAreaRight" fmla="*/ 385200 w 1066680"/>
              <a:gd name="textAreaTop" fmla="*/ 243720 h 2210040"/>
              <a:gd name="textAreaBottom" fmla="*/ 196632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06"/>
                  <a:pt x="10800" y="7611"/>
                </a:cubicBezTo>
                <a:lnTo>
                  <a:pt x="10800" y="3189"/>
                </a:lnTo>
                <a:cubicBezTo>
                  <a:pt x="10800" y="6995"/>
                  <a:pt x="16200" y="10800"/>
                  <a:pt x="21600" y="10800"/>
                </a:cubicBezTo>
                <a:cubicBezTo>
                  <a:pt x="16200" y="10800"/>
                  <a:pt x="10800" y="14606"/>
                  <a:pt x="10800" y="18411"/>
                </a:cubicBezTo>
                <a:lnTo>
                  <a:pt x="10800" y="13989"/>
                </a:lnTo>
                <a:cubicBezTo>
                  <a:pt x="10800" y="1779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6705720" y="236232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the result is lysis of these organisms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ation of the alternativ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3520" y="17524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 hydrolysis of C3 to produce C3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3i cleaves Factor B into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3iBb complex acts as C3 convertase(has very short half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C3b is formed Factor B binds to it and becomes susceptible to cleavage by Factor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3bBb is a more stable C3 convertase which continues to generate more C3b(amplfication lo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212-12DD-4879-AA78-17D56138C75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09680" y="342720"/>
            <a:ext cx="502920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ive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066680" y="3044880"/>
            <a:ext cx="990720" cy="181800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9" name="AutoShape 18"/>
          <p:cNvSpPr/>
          <p:nvPr/>
        </p:nvSpPr>
        <p:spPr>
          <a:xfrm rot="72000">
            <a:off x="3352680" y="3047760"/>
            <a:ext cx="1524240" cy="190476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0" name="AutoShape 23"/>
          <p:cNvSpPr/>
          <p:nvPr/>
        </p:nvSpPr>
        <p:spPr>
          <a:xfrm rot="20697000">
            <a:off x="6095520" y="2438280"/>
            <a:ext cx="1819440" cy="912960"/>
          </a:xfrm>
          <a:prstGeom prst="lightningBol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1" name="AutoShape 27"/>
          <p:cNvSpPr/>
          <p:nvPr/>
        </p:nvSpPr>
        <p:spPr>
          <a:xfrm rot="5383800">
            <a:off x="6476760" y="4267080"/>
            <a:ext cx="762120" cy="761760"/>
          </a:xfrm>
          <a:prstGeom prst="rtTriangle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Line 4"/>
          <p:cNvSpPr/>
          <p:nvPr/>
        </p:nvSpPr>
        <p:spPr>
          <a:xfrm>
            <a:off x="4191120" y="44956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685800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gradation of spontaneously produced C3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78"/>
          <p:cNvGrpSpPr/>
          <p:nvPr/>
        </p:nvGrpSpPr>
        <p:grpSpPr>
          <a:xfrm>
            <a:off x="1900800" y="2637720"/>
            <a:ext cx="5949360" cy="1998720"/>
            <a:chOff x="1900800" y="2637720"/>
            <a:chExt cx="5949360" cy="1998720"/>
          </a:xfrm>
        </p:grpSpPr>
        <p:grpSp>
          <p:nvGrpSpPr>
            <p:cNvPr id="375" name="Group 264"/>
            <p:cNvGrpSpPr/>
            <p:nvPr/>
          </p:nvGrpSpPr>
          <p:grpSpPr>
            <a:xfrm>
              <a:off x="1900800" y="2637720"/>
              <a:ext cx="4962600" cy="1998720"/>
              <a:chOff x="1900800" y="2637720"/>
              <a:chExt cx="4962600" cy="1998720"/>
            </a:xfrm>
          </p:grpSpPr>
          <p:grpSp>
            <p:nvGrpSpPr>
              <p:cNvPr id="376" name="Group 265"/>
              <p:cNvGrpSpPr/>
              <p:nvPr/>
            </p:nvGrpSpPr>
            <p:grpSpPr>
              <a:xfrm>
                <a:off x="5786640" y="2637720"/>
                <a:ext cx="1076760" cy="1998720"/>
                <a:chOff x="5786640" y="2637720"/>
                <a:chExt cx="1076760" cy="1998720"/>
              </a:xfrm>
            </p:grpSpPr>
            <p:sp>
              <p:nvSpPr>
                <p:cNvPr id="377" name="AutoShape 266"/>
                <p:cNvSpPr/>
                <p:nvPr/>
              </p:nvSpPr>
              <p:spPr>
                <a:xfrm>
                  <a:off x="5790960" y="2637720"/>
                  <a:ext cx="990360" cy="1998720"/>
                </a:xfrm>
                <a:prstGeom prst="flowChartProcess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cc0000"/>
                    </a:solidFill>
                    <a:latin typeface="Arial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3b  </a:t>
                  </a: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78" name="AutoShape 267"/>
                <p:cNvSpPr/>
                <p:nvPr/>
              </p:nvSpPr>
              <p:spPr>
                <a:xfrm rot="21544200">
                  <a:off x="5790600" y="2742840"/>
                  <a:ext cx="1068120" cy="533160"/>
                </a:xfrm>
                <a:prstGeom prst="flowChartMerge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268"/>
              <p:cNvGrpSpPr/>
              <p:nvPr/>
            </p:nvGrpSpPr>
            <p:grpSpPr>
              <a:xfrm>
                <a:off x="1900800" y="2637720"/>
                <a:ext cx="1076760" cy="1998720"/>
                <a:chOff x="1900800" y="2637720"/>
                <a:chExt cx="1076760" cy="1998720"/>
              </a:xfrm>
            </p:grpSpPr>
            <p:sp>
              <p:nvSpPr>
                <p:cNvPr id="380" name="AutoShape 269"/>
                <p:cNvSpPr/>
                <p:nvPr/>
              </p:nvSpPr>
              <p:spPr>
                <a:xfrm>
                  <a:off x="1905120" y="2637720"/>
                  <a:ext cx="990360" cy="1998720"/>
                </a:xfrm>
                <a:prstGeom prst="flowChartProcess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cc0000"/>
                    </a:solidFill>
                    <a:latin typeface="Arial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3b  </a:t>
                  </a: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270"/>
                <p:cNvSpPr/>
                <p:nvPr/>
              </p:nvSpPr>
              <p:spPr>
                <a:xfrm rot="21544200">
                  <a:off x="1904760" y="2742840"/>
                  <a:ext cx="1068120" cy="533160"/>
                </a:xfrm>
                <a:prstGeom prst="flowChartMerge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" name="Group 271"/>
            <p:cNvGrpSpPr/>
            <p:nvPr/>
          </p:nvGrpSpPr>
          <p:grpSpPr>
            <a:xfrm>
              <a:off x="1902240" y="3116160"/>
              <a:ext cx="5947920" cy="1310760"/>
              <a:chOff x="1902240" y="3116160"/>
              <a:chExt cx="5947920" cy="1310760"/>
            </a:xfrm>
          </p:grpSpPr>
          <p:grpSp>
            <p:nvGrpSpPr>
              <p:cNvPr id="383" name="Group 272"/>
              <p:cNvGrpSpPr/>
              <p:nvPr/>
            </p:nvGrpSpPr>
            <p:grpSpPr>
              <a:xfrm>
                <a:off x="5789880" y="3116160"/>
                <a:ext cx="2060280" cy="1310760"/>
                <a:chOff x="5789880" y="3116160"/>
                <a:chExt cx="2060280" cy="1310760"/>
              </a:xfrm>
            </p:grpSpPr>
            <p:sp>
              <p:nvSpPr>
                <p:cNvPr id="384" name="Text Box 273"/>
                <p:cNvSpPr/>
                <p:nvPr/>
              </p:nvSpPr>
              <p:spPr>
                <a:xfrm>
                  <a:off x="5944680" y="4052160"/>
                  <a:ext cx="685800" cy="36828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C3b</a:t>
                  </a:r>
                  <a:endParaRPr b="1" lang="en-US" sz="18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274"/>
                <p:cNvSpPr/>
                <p:nvPr/>
              </p:nvSpPr>
              <p:spPr>
                <a:xfrm rot="916800">
                  <a:off x="5866560" y="3352320"/>
                  <a:ext cx="1906560" cy="838080"/>
                </a:xfrm>
                <a:prstGeom prst="flowChartDecision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275"/>
              <p:cNvGrpSpPr/>
              <p:nvPr/>
            </p:nvGrpSpPr>
            <p:grpSpPr>
              <a:xfrm>
                <a:off x="1902240" y="3116160"/>
                <a:ext cx="2060280" cy="1310760"/>
                <a:chOff x="1902240" y="3116160"/>
                <a:chExt cx="2060280" cy="1310760"/>
              </a:xfrm>
            </p:grpSpPr>
            <p:sp>
              <p:nvSpPr>
                <p:cNvPr id="387" name="Text Box 276"/>
                <p:cNvSpPr/>
                <p:nvPr/>
              </p:nvSpPr>
              <p:spPr>
                <a:xfrm>
                  <a:off x="2057040" y="4052160"/>
                  <a:ext cx="685800" cy="368280"/>
                </a:xfrm>
                <a:prstGeom prst="rect">
                  <a:avLst/>
                </a:prstGeom>
                <a:solidFill>
                  <a:srgbClr val="3399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C3b</a:t>
                  </a:r>
                  <a:endParaRPr b="1" lang="en-US" sz="18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277"/>
                <p:cNvSpPr/>
                <p:nvPr/>
              </p:nvSpPr>
              <p:spPr>
                <a:xfrm rot="916800">
                  <a:off x="1978920" y="3352320"/>
                  <a:ext cx="1906560" cy="838080"/>
                </a:xfrm>
                <a:prstGeom prst="flowChartDecision">
                  <a:avLst/>
                </a:prstGeom>
                <a:solidFill>
                  <a:srgbClr val="eaeaea"/>
                </a:solidFill>
                <a:ln w="936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9" name="Group 280"/>
          <p:cNvGrpSpPr/>
          <p:nvPr/>
        </p:nvGrpSpPr>
        <p:grpSpPr>
          <a:xfrm>
            <a:off x="1693800" y="3040920"/>
            <a:ext cx="5833800" cy="1157040"/>
            <a:chOff x="1693800" y="3040920"/>
            <a:chExt cx="5833800" cy="1157040"/>
          </a:xfrm>
        </p:grpSpPr>
        <p:sp>
          <p:nvSpPr>
            <p:cNvPr id="390" name="AutoShape 281"/>
            <p:cNvSpPr/>
            <p:nvPr/>
          </p:nvSpPr>
          <p:spPr>
            <a:xfrm rot="945600">
              <a:off x="5638320" y="3276360"/>
              <a:ext cx="1830240" cy="685800"/>
            </a:xfrm>
            <a:prstGeom prst="flowChartDecision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1" name="AutoShape 282"/>
            <p:cNvSpPr/>
            <p:nvPr/>
          </p:nvSpPr>
          <p:spPr>
            <a:xfrm rot="945600">
              <a:off x="1752120" y="3276360"/>
              <a:ext cx="1830240" cy="685800"/>
            </a:xfrm>
            <a:prstGeom prst="flowChartDecision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392" name="Group 290"/>
          <p:cNvGrpSpPr/>
          <p:nvPr/>
        </p:nvGrpSpPr>
        <p:grpSpPr>
          <a:xfrm>
            <a:off x="1617840" y="2938320"/>
            <a:ext cx="6014520" cy="1406160"/>
            <a:chOff x="1617840" y="2938320"/>
            <a:chExt cx="6014520" cy="1406160"/>
          </a:xfrm>
        </p:grpSpPr>
        <p:sp>
          <p:nvSpPr>
            <p:cNvPr id="393" name="Text Box 283"/>
            <p:cNvSpPr/>
            <p:nvPr/>
          </p:nvSpPr>
          <p:spPr>
            <a:xfrm>
              <a:off x="5886360" y="3961800"/>
              <a:ext cx="76212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dg</a:t>
              </a:r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4" name="Text Box 284"/>
            <p:cNvSpPr/>
            <p:nvPr/>
          </p:nvSpPr>
          <p:spPr>
            <a:xfrm>
              <a:off x="2000160" y="3976200"/>
              <a:ext cx="76212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dg</a:t>
              </a:r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5" name="Text Box 285"/>
            <p:cNvSpPr/>
            <p:nvPr/>
          </p:nvSpPr>
          <p:spPr>
            <a:xfrm>
              <a:off x="1924200" y="304704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3c</a:t>
              </a:r>
              <a:endParaRPr b="1" lang="en-US" sz="1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6" name="Text Box 286"/>
            <p:cNvSpPr/>
            <p:nvPr/>
          </p:nvSpPr>
          <p:spPr>
            <a:xfrm>
              <a:off x="5810400" y="306288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3c</a:t>
              </a:r>
              <a:endParaRPr b="1" lang="en-US" sz="1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7" name="AutoShape 288"/>
            <p:cNvSpPr/>
            <p:nvPr/>
          </p:nvSpPr>
          <p:spPr>
            <a:xfrm rot="982200">
              <a:off x="1695600" y="3200400"/>
              <a:ext cx="1981080" cy="838440"/>
            </a:xfrm>
            <a:prstGeom prst="flowChartDecision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398" name="AutoShape 289"/>
            <p:cNvSpPr/>
            <p:nvPr/>
          </p:nvSpPr>
          <p:spPr>
            <a:xfrm rot="982200">
              <a:off x="5568480" y="3265200"/>
              <a:ext cx="1995480" cy="771480"/>
            </a:xfrm>
            <a:prstGeom prst="flowChartDecision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3b stabiliza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5 ac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0912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C3b finds the appropriate surface it binds to factor B, which is cleaved by Factor D to produce C3 convertase(C3bBb) (which is more st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3 convertase(C3bBb) is further stabilized by Poperd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A332-F14E-425A-8C1B-4D47A927687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33720" y="380880"/>
            <a:ext cx="5410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3b stabilization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5 ac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"/>
          <p:cNvSpPr/>
          <p:nvPr/>
        </p:nvSpPr>
        <p:spPr>
          <a:xfrm>
            <a:off x="4191120" y="44956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04" name="Group 83"/>
          <p:cNvGrpSpPr/>
          <p:nvPr/>
        </p:nvGrpSpPr>
        <p:grpSpPr>
          <a:xfrm>
            <a:off x="2281680" y="3606840"/>
            <a:ext cx="1151640" cy="1760760"/>
            <a:chOff x="2281680" y="3606840"/>
            <a:chExt cx="1151640" cy="1760760"/>
          </a:xfrm>
        </p:grpSpPr>
        <p:sp>
          <p:nvSpPr>
            <p:cNvPr id="405" name="AutoShape 45"/>
            <p:cNvSpPr/>
            <p:nvPr/>
          </p:nvSpPr>
          <p:spPr>
            <a:xfrm>
              <a:off x="2361960" y="3734640"/>
              <a:ext cx="990720" cy="1632960"/>
            </a:xfrm>
            <a:prstGeom prst="flowChartProcess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3b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06" name="AutoShape 47"/>
            <p:cNvSpPr/>
            <p:nvPr/>
          </p:nvSpPr>
          <p:spPr>
            <a:xfrm rot="21544200">
              <a:off x="2285640" y="3616200"/>
              <a:ext cx="1143000" cy="53352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07" name="Group 79"/>
          <p:cNvGrpSpPr/>
          <p:nvPr/>
        </p:nvGrpSpPr>
        <p:grpSpPr>
          <a:xfrm>
            <a:off x="685800" y="1981080"/>
            <a:ext cx="8077320" cy="4038840"/>
            <a:chOff x="685800" y="1981080"/>
            <a:chExt cx="8077320" cy="4038840"/>
          </a:xfrm>
        </p:grpSpPr>
        <p:sp>
          <p:nvSpPr>
            <p:cNvPr id="408" name="Rectangle 30"/>
            <p:cNvSpPr/>
            <p:nvPr/>
          </p:nvSpPr>
          <p:spPr>
            <a:xfrm>
              <a:off x="685800" y="5410080"/>
              <a:ext cx="8077320" cy="60984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09" name="Text Box 49"/>
            <p:cNvSpPr/>
            <p:nvPr/>
          </p:nvSpPr>
          <p:spPr>
            <a:xfrm>
              <a:off x="1066680" y="1981080"/>
              <a:ext cx="4724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cc33"/>
                  </a:solidFill>
                  <a:latin typeface="Arial"/>
                </a:rPr>
                <a:t>C3b finds an activator (protector) membrane</a:t>
              </a:r>
              <a:endParaRPr b="1" lang="en-US" sz="36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10" name="AutoShape 66"/>
          <p:cNvSpPr/>
          <p:nvPr/>
        </p:nvSpPr>
        <p:spPr>
          <a:xfrm>
            <a:off x="4876920" y="3776040"/>
            <a:ext cx="990360" cy="163296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11" name="Group 81"/>
          <p:cNvGrpSpPr/>
          <p:nvPr/>
        </p:nvGrpSpPr>
        <p:grpSpPr>
          <a:xfrm>
            <a:off x="4795560" y="1667880"/>
            <a:ext cx="3897000" cy="3134880"/>
            <a:chOff x="4795560" y="1667880"/>
            <a:chExt cx="3897000" cy="3134880"/>
          </a:xfrm>
        </p:grpSpPr>
        <p:sp>
          <p:nvSpPr>
            <p:cNvPr id="412" name="AutoShape 68"/>
            <p:cNvSpPr/>
            <p:nvPr/>
          </p:nvSpPr>
          <p:spPr>
            <a:xfrm rot="21544200">
              <a:off x="7619760" y="1676160"/>
              <a:ext cx="1068120" cy="533160"/>
            </a:xfrm>
            <a:prstGeom prst="flowChartMerge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3a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13" name="Text Box 69"/>
            <p:cNvSpPr/>
            <p:nvPr/>
          </p:nvSpPr>
          <p:spPr>
            <a:xfrm>
              <a:off x="5629320" y="4403880"/>
              <a:ext cx="85680" cy="398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14" name="AutoShape 70"/>
            <p:cNvSpPr/>
            <p:nvPr/>
          </p:nvSpPr>
          <p:spPr>
            <a:xfrm rot="21544200">
              <a:off x="4800240" y="3657600"/>
              <a:ext cx="1143000" cy="6094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15" name="AutoShape 86"/>
          <p:cNvSpPr/>
          <p:nvPr/>
        </p:nvSpPr>
        <p:spPr>
          <a:xfrm rot="72000">
            <a:off x="3352680" y="3428640"/>
            <a:ext cx="1524240" cy="19051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6" name="AutoShape 91"/>
          <p:cNvSpPr/>
          <p:nvPr/>
        </p:nvSpPr>
        <p:spPr>
          <a:xfrm rot="20697000">
            <a:off x="3352680" y="3048120"/>
            <a:ext cx="1819440" cy="912600"/>
          </a:xfrm>
          <a:prstGeom prst="lightningBol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17" name="Group 92"/>
          <p:cNvGrpSpPr/>
          <p:nvPr/>
        </p:nvGrpSpPr>
        <p:grpSpPr>
          <a:xfrm>
            <a:off x="3265560" y="2827800"/>
            <a:ext cx="1994040" cy="1745280"/>
            <a:chOff x="3265560" y="2827800"/>
            <a:chExt cx="1994040" cy="1745280"/>
          </a:xfrm>
        </p:grpSpPr>
        <p:sp>
          <p:nvSpPr>
            <p:cNvPr id="418" name="AutoShape 93"/>
            <p:cNvSpPr/>
            <p:nvPr/>
          </p:nvSpPr>
          <p:spPr>
            <a:xfrm rot="20697000">
              <a:off x="3352680" y="3048120"/>
              <a:ext cx="1819440" cy="912600"/>
            </a:xfrm>
            <a:prstGeom prst="lightningBolt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19" name="Text Box 94"/>
            <p:cNvSpPr/>
            <p:nvPr/>
          </p:nvSpPr>
          <p:spPr>
            <a:xfrm>
              <a:off x="4267080" y="4113360"/>
              <a:ext cx="228600" cy="459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20" name="AutoShape 95"/>
          <p:cNvSpPr/>
          <p:nvPr/>
        </p:nvSpPr>
        <p:spPr>
          <a:xfrm rot="5383800">
            <a:off x="3352320" y="3200400"/>
            <a:ext cx="762120" cy="762120"/>
          </a:xfrm>
          <a:prstGeom prst="rtTriangle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1" name="Rectangle 96"/>
          <p:cNvSpPr/>
          <p:nvPr/>
        </p:nvSpPr>
        <p:spPr>
          <a:xfrm>
            <a:off x="5486400" y="28954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2" name="Text Box 97"/>
          <p:cNvSpPr/>
          <p:nvPr/>
        </p:nvSpPr>
        <p:spPr>
          <a:xfrm>
            <a:off x="4267080" y="292428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is is stable C5 convertase of the alternative 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028" descr="C3RegC"/>
          <p:cNvPicPr/>
          <p:nvPr/>
        </p:nvPicPr>
        <p:blipFill>
          <a:blip r:embed="rId1"/>
          <a:stretch/>
        </p:blipFill>
        <p:spPr>
          <a:xfrm>
            <a:off x="1600200" y="1654200"/>
            <a:ext cx="6324480" cy="458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99840" y="342720"/>
            <a:ext cx="624852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3b regulation on self and activator su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032"/>
          <p:cNvSpPr/>
          <p:nvPr/>
        </p:nvSpPr>
        <p:spPr>
          <a:xfrm>
            <a:off x="4419720" y="4114800"/>
            <a:ext cx="457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3b</a:t>
            </a: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640080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5-convertase of the two path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0"/>
          <p:cNvSpPr/>
          <p:nvPr/>
        </p:nvSpPr>
        <p:spPr>
          <a:xfrm>
            <a:off x="4800600" y="1905120"/>
            <a:ext cx="3886200" cy="38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8" name="AutoShape 62"/>
          <p:cNvSpPr/>
          <p:nvPr/>
        </p:nvSpPr>
        <p:spPr>
          <a:xfrm>
            <a:off x="5029200" y="3353760"/>
            <a:ext cx="990720" cy="163296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9" name="AutoShape 64"/>
          <p:cNvSpPr/>
          <p:nvPr/>
        </p:nvSpPr>
        <p:spPr>
          <a:xfrm rot="21544200">
            <a:off x="4952520" y="3235320"/>
            <a:ext cx="1143000" cy="533520"/>
          </a:xfrm>
          <a:prstGeom prst="flowChartMerg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0" name="AutoShape 67"/>
          <p:cNvSpPr/>
          <p:nvPr/>
        </p:nvSpPr>
        <p:spPr>
          <a:xfrm rot="72000">
            <a:off x="6029280" y="3123720"/>
            <a:ext cx="1523880" cy="1905120"/>
          </a:xfrm>
          <a:prstGeom prst="pi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1" name="AutoShape 69"/>
          <p:cNvSpPr/>
          <p:nvPr/>
        </p:nvSpPr>
        <p:spPr>
          <a:xfrm rot="20697000">
            <a:off x="5876640" y="2666520"/>
            <a:ext cx="1819080" cy="912960"/>
          </a:xfrm>
          <a:prstGeom prst="lightningBol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2" name="AutoShape 72"/>
          <p:cNvSpPr/>
          <p:nvPr/>
        </p:nvSpPr>
        <p:spPr>
          <a:xfrm>
            <a:off x="7543800" y="3353760"/>
            <a:ext cx="990720" cy="163296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3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3" name="AutoShape 74"/>
          <p:cNvSpPr/>
          <p:nvPr/>
        </p:nvSpPr>
        <p:spPr>
          <a:xfrm rot="21544200">
            <a:off x="7467120" y="3276720"/>
            <a:ext cx="1143000" cy="609480"/>
          </a:xfrm>
          <a:prstGeom prst="flowChartMerg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4" name="Rectangle 75"/>
          <p:cNvSpPr/>
          <p:nvPr/>
        </p:nvSpPr>
        <p:spPr>
          <a:xfrm>
            <a:off x="4876920" y="5029200"/>
            <a:ext cx="3809880" cy="6094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5" name="Rectangle 76"/>
          <p:cNvSpPr/>
          <p:nvPr/>
        </p:nvSpPr>
        <p:spPr>
          <a:xfrm>
            <a:off x="4952880" y="191952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5-convertase of the Alternative 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6" name="Rectangle 77"/>
          <p:cNvSpPr/>
          <p:nvPr/>
        </p:nvSpPr>
        <p:spPr>
          <a:xfrm>
            <a:off x="762120" y="1905120"/>
            <a:ext cx="3886200" cy="38862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37" name="Group 97"/>
          <p:cNvGrpSpPr/>
          <p:nvPr/>
        </p:nvGrpSpPr>
        <p:grpSpPr>
          <a:xfrm>
            <a:off x="762120" y="3280680"/>
            <a:ext cx="3886200" cy="2358000"/>
            <a:chOff x="762120" y="3280680"/>
            <a:chExt cx="3886200" cy="2358000"/>
          </a:xfrm>
        </p:grpSpPr>
        <p:grpSp>
          <p:nvGrpSpPr>
            <p:cNvPr id="438" name="Group 79"/>
            <p:cNvGrpSpPr/>
            <p:nvPr/>
          </p:nvGrpSpPr>
          <p:grpSpPr>
            <a:xfrm>
              <a:off x="762120" y="3429000"/>
              <a:ext cx="1371600" cy="2209680"/>
              <a:chOff x="762120" y="3429000"/>
              <a:chExt cx="1371600" cy="2209680"/>
            </a:xfrm>
          </p:grpSpPr>
          <p:sp>
            <p:nvSpPr>
              <p:cNvPr id="439" name="Oval 80"/>
              <p:cNvSpPr/>
              <p:nvPr/>
            </p:nvSpPr>
            <p:spPr>
              <a:xfrm>
                <a:off x="762120" y="3429000"/>
                <a:ext cx="1295640" cy="2209680"/>
              </a:xfrm>
              <a:prstGeom prst="ellipse">
                <a:avLst/>
              </a:prstGeom>
              <a:solidFill>
                <a:srgbClr val="00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4b</a:t>
                </a: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40" name="AutoShape 81"/>
              <p:cNvSpPr/>
              <p:nvPr/>
            </p:nvSpPr>
            <p:spPr>
              <a:xfrm>
                <a:off x="838440" y="5213160"/>
                <a:ext cx="1295280" cy="42516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6"/>
            <p:cNvGrpSpPr/>
            <p:nvPr/>
          </p:nvGrpSpPr>
          <p:grpSpPr>
            <a:xfrm>
              <a:off x="1884960" y="3280680"/>
              <a:ext cx="1868760" cy="2331360"/>
              <a:chOff x="1884960" y="3280680"/>
              <a:chExt cx="1868760" cy="2331360"/>
            </a:xfrm>
          </p:grpSpPr>
          <p:sp>
            <p:nvSpPr>
              <p:cNvPr id="442" name="AutoShape 83"/>
              <p:cNvSpPr/>
              <p:nvPr/>
            </p:nvSpPr>
            <p:spPr>
              <a:xfrm rot="21344400">
                <a:off x="2017440" y="3411000"/>
                <a:ext cx="1523880" cy="190512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2a</a:t>
                </a: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43" name="AutoShape 84"/>
              <p:cNvSpPr/>
              <p:nvPr/>
            </p:nvSpPr>
            <p:spPr>
              <a:xfrm rot="21286800">
                <a:off x="1980720" y="3352320"/>
                <a:ext cx="1676520" cy="2187720"/>
              </a:xfrm>
              <a:prstGeom prst="pi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444" name="Rectangle 86"/>
            <p:cNvSpPr/>
            <p:nvPr/>
          </p:nvSpPr>
          <p:spPr>
            <a:xfrm>
              <a:off x="762120" y="5029200"/>
              <a:ext cx="3886200" cy="60948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445" name="Group 95"/>
            <p:cNvGrpSpPr/>
            <p:nvPr/>
          </p:nvGrpSpPr>
          <p:grpSpPr>
            <a:xfrm>
              <a:off x="3499200" y="3333600"/>
              <a:ext cx="1077120" cy="1818000"/>
              <a:chOff x="3499200" y="3333600"/>
              <a:chExt cx="1077120" cy="1818000"/>
            </a:xfrm>
          </p:grpSpPr>
          <p:sp>
            <p:nvSpPr>
              <p:cNvPr id="446" name="AutoShape 88"/>
              <p:cNvSpPr/>
              <p:nvPr/>
            </p:nvSpPr>
            <p:spPr>
              <a:xfrm>
                <a:off x="3505320" y="3333600"/>
                <a:ext cx="990360" cy="1818000"/>
              </a:xfrm>
              <a:prstGeom prst="flowChartProcess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3b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2800" spc="-1" strike="noStrike">
                  <a:solidFill>
                    <a:srgbClr val="cc0000"/>
                  </a:solidFill>
                  <a:latin typeface="Arial"/>
                </a:endParaRPr>
              </a:p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447" name="AutoShape 89"/>
              <p:cNvSpPr/>
              <p:nvPr/>
            </p:nvSpPr>
            <p:spPr>
              <a:xfrm rot="21544200">
                <a:off x="3503160" y="3412800"/>
                <a:ext cx="1068480" cy="533520"/>
              </a:xfrm>
              <a:prstGeom prst="flowChartMerg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Rectangle 91"/>
          <p:cNvSpPr/>
          <p:nvPr/>
        </p:nvSpPr>
        <p:spPr>
          <a:xfrm>
            <a:off x="990720" y="188892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5-convertase of the Classical and lectin Pathway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2"/>
          <p:cNvSpPr/>
          <p:nvPr/>
        </p:nvSpPr>
        <p:spPr>
          <a:xfrm>
            <a:off x="990720" y="2816640"/>
            <a:ext cx="7467480" cy="2424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tion of C5 convertase leads to the activation of the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ytic pathway</a:t>
            </a:r>
            <a:endParaRPr b="1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2743200" y="533520"/>
            <a:ext cx="3913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ytic pathway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2388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s of the lytic path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14"/>
          <p:cNvSpPr/>
          <p:nvPr/>
        </p:nvSpPr>
        <p:spPr>
          <a:xfrm>
            <a:off x="4114800" y="2209680"/>
            <a:ext cx="1143000" cy="114300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3" name="AutoShape 22"/>
          <p:cNvSpPr/>
          <p:nvPr/>
        </p:nvSpPr>
        <p:spPr>
          <a:xfrm>
            <a:off x="5867280" y="4267080"/>
            <a:ext cx="30492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54" name="Group 27"/>
          <p:cNvGrpSpPr/>
          <p:nvPr/>
        </p:nvGrpSpPr>
        <p:grpSpPr>
          <a:xfrm>
            <a:off x="2614320" y="3232440"/>
            <a:ext cx="1981440" cy="2939760"/>
            <a:chOff x="2614320" y="3232440"/>
            <a:chExt cx="1981440" cy="2939760"/>
          </a:xfrm>
        </p:grpSpPr>
        <p:sp>
          <p:nvSpPr>
            <p:cNvPr id="455" name="AutoShape 19"/>
            <p:cNvSpPr/>
            <p:nvPr/>
          </p:nvSpPr>
          <p:spPr>
            <a:xfrm>
              <a:off x="3276720" y="487692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56" name="AutoShape 23"/>
            <p:cNvSpPr/>
            <p:nvPr/>
          </p:nvSpPr>
          <p:spPr>
            <a:xfrm rot="16033800">
              <a:off x="2500200" y="3443040"/>
              <a:ext cx="2209680" cy="1876680"/>
            </a:xfrm>
            <a:prstGeom prst="pi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8    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57" name="Group 26"/>
          <p:cNvGrpSpPr/>
          <p:nvPr/>
        </p:nvGrpSpPr>
        <p:grpSpPr>
          <a:xfrm>
            <a:off x="6934320" y="1905120"/>
            <a:ext cx="1143000" cy="2057400"/>
            <a:chOff x="6934320" y="1905120"/>
            <a:chExt cx="1143000" cy="2057400"/>
          </a:xfrm>
        </p:grpSpPr>
        <p:sp>
          <p:nvSpPr>
            <p:cNvPr id="458" name="Oval 11"/>
            <p:cNvSpPr/>
            <p:nvPr/>
          </p:nvSpPr>
          <p:spPr>
            <a:xfrm>
              <a:off x="6934320" y="1905120"/>
              <a:ext cx="1143000" cy="113364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7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59" name="AutoShape 25"/>
            <p:cNvSpPr/>
            <p:nvPr/>
          </p:nvSpPr>
          <p:spPr>
            <a:xfrm>
              <a:off x="7315200" y="266724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60" name="AutoShape 28"/>
          <p:cNvSpPr/>
          <p:nvPr/>
        </p:nvSpPr>
        <p:spPr>
          <a:xfrm rot="16227600">
            <a:off x="755280" y="2368440"/>
            <a:ext cx="1766880" cy="9921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43" y="0"/>
                </a:lnTo>
                <a:lnTo>
                  <a:pt x="21600" y="10800"/>
                </a:lnTo>
                <a:lnTo>
                  <a:pt x="151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19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omplement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3520" y="1676520"/>
            <a:ext cx="807696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benefit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sonization to enhance phagocytosi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gocytes attraction and activatio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sis of bacteria and infected cell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on of antibody response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ance of immune complexe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ance of apoptotic cell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453960" indent="-4539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detriment: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90972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mmation, anaphylaxi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ytic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83808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5-convert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of the Classical and lectin Pathways or the Alternative Pathwa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ves C5 into C5a &amp; C5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5b associates with C6 &amp;C7 and insrets into the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C8 binds, followed by several molecules of C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9 molecules form a pore in the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5bC6C7C8C9 is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2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E869-F741-4CC8-8423-E1A178F6588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5410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ical effects of C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5" descr="C5aPhys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27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37"/>
          <p:cNvGrpSpPr/>
          <p:nvPr/>
        </p:nvGrpSpPr>
        <p:grpSpPr>
          <a:xfrm>
            <a:off x="762120" y="2057400"/>
            <a:ext cx="7924680" cy="3733920"/>
            <a:chOff x="762120" y="2057400"/>
            <a:chExt cx="7924680" cy="3733920"/>
          </a:xfrm>
        </p:grpSpPr>
        <p:sp>
          <p:nvSpPr>
            <p:cNvPr id="467" name="Rectangle 36"/>
            <p:cNvSpPr/>
            <p:nvPr/>
          </p:nvSpPr>
          <p:spPr>
            <a:xfrm>
              <a:off x="762120" y="2057400"/>
              <a:ext cx="7924680" cy="3733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68" name="Rectangle 21"/>
            <p:cNvSpPr/>
            <p:nvPr/>
          </p:nvSpPr>
          <p:spPr>
            <a:xfrm>
              <a:off x="838800" y="2133720"/>
              <a:ext cx="1322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duct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69" name="Rectangle 22"/>
            <p:cNvSpPr/>
            <p:nvPr/>
          </p:nvSpPr>
          <p:spPr>
            <a:xfrm>
              <a:off x="3200400" y="213372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ological Effects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70" name="Rectangle 24"/>
            <p:cNvSpPr/>
            <p:nvPr/>
          </p:nvSpPr>
          <p:spPr>
            <a:xfrm>
              <a:off x="6782400" y="2133720"/>
              <a:ext cx="176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ulation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71" name="Line 35"/>
            <p:cNvSpPr/>
            <p:nvPr/>
          </p:nvSpPr>
          <p:spPr>
            <a:xfrm>
              <a:off x="762120" y="2666880"/>
              <a:ext cx="792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ical properties of C-activation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8"/>
          <p:cNvGrpSpPr/>
          <p:nvPr/>
        </p:nvGrpSpPr>
        <p:grpSpPr>
          <a:xfrm>
            <a:off x="838080" y="2911320"/>
            <a:ext cx="7169400" cy="825480"/>
            <a:chOff x="838080" y="2911320"/>
            <a:chExt cx="7169400" cy="825480"/>
          </a:xfrm>
        </p:grpSpPr>
        <p:sp>
          <p:nvSpPr>
            <p:cNvPr id="474" name="Rectangle 26"/>
            <p:cNvSpPr/>
            <p:nvPr/>
          </p:nvSpPr>
          <p:spPr>
            <a:xfrm>
              <a:off x="838080" y="291132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2b (prokinin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75" name="Rectangle 29"/>
            <p:cNvSpPr/>
            <p:nvPr/>
          </p:nvSpPr>
          <p:spPr>
            <a:xfrm>
              <a:off x="3505320" y="3124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edema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6711840" y="312408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1-INH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77" name="Group 39"/>
          <p:cNvGrpSpPr/>
          <p:nvPr/>
        </p:nvGrpSpPr>
        <p:grpSpPr>
          <a:xfrm>
            <a:off x="762120" y="3990960"/>
            <a:ext cx="7848360" cy="1576080"/>
            <a:chOff x="762120" y="3990960"/>
            <a:chExt cx="7848360" cy="1576080"/>
          </a:xfrm>
        </p:grpSpPr>
        <p:sp>
          <p:nvSpPr>
            <p:cNvPr id="478" name="Rectangle 27"/>
            <p:cNvSpPr/>
            <p:nvPr/>
          </p:nvSpPr>
          <p:spPr>
            <a:xfrm>
              <a:off x="762120" y="399096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3a (anaphylatoxin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79" name="Rectangle 30"/>
            <p:cNvSpPr/>
            <p:nvPr/>
          </p:nvSpPr>
          <p:spPr>
            <a:xfrm>
              <a:off x="3200400" y="4010040"/>
              <a:ext cx="3429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st cell degranulation; enhanced vascular permeability; 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anaphylaxi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0" name="Rectangle 33"/>
            <p:cNvSpPr/>
            <p:nvPr/>
          </p:nvSpPr>
          <p:spPr>
            <a:xfrm>
              <a:off x="6711840" y="3990960"/>
              <a:ext cx="1898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boxy-peptidase- B (C3-INA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5" dur="1" fill="hold"/>
                                  <p:tgtEl>
                                    <p:spTgt spid="4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31"/>
          <p:cNvGrpSpPr/>
          <p:nvPr/>
        </p:nvGrpSpPr>
        <p:grpSpPr>
          <a:xfrm>
            <a:off x="762120" y="2057400"/>
            <a:ext cx="7924680" cy="3733920"/>
            <a:chOff x="762120" y="2057400"/>
            <a:chExt cx="7924680" cy="3733920"/>
          </a:xfrm>
        </p:grpSpPr>
        <p:sp>
          <p:nvSpPr>
            <p:cNvPr id="482" name="Rectangle 32"/>
            <p:cNvSpPr/>
            <p:nvPr/>
          </p:nvSpPr>
          <p:spPr>
            <a:xfrm>
              <a:off x="762120" y="2057400"/>
              <a:ext cx="7924680" cy="3733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3" name="Rectangle 33"/>
            <p:cNvSpPr/>
            <p:nvPr/>
          </p:nvSpPr>
          <p:spPr>
            <a:xfrm>
              <a:off x="838800" y="2133720"/>
              <a:ext cx="1322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duct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4" name="Rectangle 34"/>
            <p:cNvSpPr/>
            <p:nvPr/>
          </p:nvSpPr>
          <p:spPr>
            <a:xfrm>
              <a:off x="3200400" y="2133720"/>
              <a:ext cx="2819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ological Effects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5" name="Rectangle 35"/>
            <p:cNvSpPr/>
            <p:nvPr/>
          </p:nvSpPr>
          <p:spPr>
            <a:xfrm>
              <a:off x="6782400" y="2133720"/>
              <a:ext cx="1764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gulation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6" name="Line 36"/>
            <p:cNvSpPr/>
            <p:nvPr/>
          </p:nvSpPr>
          <p:spPr>
            <a:xfrm>
              <a:off x="762120" y="2666880"/>
              <a:ext cx="792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51040" y="380880"/>
            <a:ext cx="7772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ical properties of C-activation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38"/>
          <p:cNvGrpSpPr/>
          <p:nvPr/>
        </p:nvGrpSpPr>
        <p:grpSpPr>
          <a:xfrm>
            <a:off x="914400" y="3809880"/>
            <a:ext cx="7467480" cy="841320"/>
            <a:chOff x="914400" y="3809880"/>
            <a:chExt cx="7467480" cy="841320"/>
          </a:xfrm>
        </p:grpSpPr>
        <p:sp>
          <p:nvSpPr>
            <p:cNvPr id="489" name="Rectangle 10"/>
            <p:cNvSpPr/>
            <p:nvPr/>
          </p:nvSpPr>
          <p:spPr>
            <a:xfrm>
              <a:off x="3276720" y="38257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s C3, but less potent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0" name="Rectangle 12"/>
            <p:cNvSpPr/>
            <p:nvPr/>
          </p:nvSpPr>
          <p:spPr>
            <a:xfrm>
              <a:off x="6781680" y="3917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3-INA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1" name="Rectangle 16"/>
            <p:cNvSpPr/>
            <p:nvPr/>
          </p:nvSpPr>
          <p:spPr>
            <a:xfrm>
              <a:off x="914400" y="380988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4a (anaphylatoxin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92" name="Group 39"/>
          <p:cNvGrpSpPr/>
          <p:nvPr/>
        </p:nvGrpSpPr>
        <p:grpSpPr>
          <a:xfrm>
            <a:off x="914400" y="4876920"/>
            <a:ext cx="7620120" cy="841320"/>
            <a:chOff x="914400" y="4876920"/>
            <a:chExt cx="7620120" cy="841320"/>
          </a:xfrm>
        </p:grpSpPr>
        <p:sp>
          <p:nvSpPr>
            <p:cNvPr id="493" name="Rectangle 9"/>
            <p:cNvSpPr/>
            <p:nvPr/>
          </p:nvSpPr>
          <p:spPr>
            <a:xfrm>
              <a:off x="3276720" y="489276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sonization; phagocytosi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4" name="Rectangle 19"/>
            <p:cNvSpPr/>
            <p:nvPr/>
          </p:nvSpPr>
          <p:spPr>
            <a:xfrm>
              <a:off x="914400" y="48769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4b (opsonin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5" name="Rectangle 23"/>
            <p:cNvSpPr/>
            <p:nvPr/>
          </p:nvSpPr>
          <p:spPr>
            <a:xfrm>
              <a:off x="6858000" y="489276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4-BP, factor I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496" name="Group 37"/>
          <p:cNvGrpSpPr/>
          <p:nvPr/>
        </p:nvGrpSpPr>
        <p:grpSpPr>
          <a:xfrm>
            <a:off x="914400" y="2743200"/>
            <a:ext cx="7722360" cy="825480"/>
            <a:chOff x="914400" y="2743200"/>
            <a:chExt cx="7722360" cy="825480"/>
          </a:xfrm>
        </p:grpSpPr>
        <p:sp>
          <p:nvSpPr>
            <p:cNvPr id="497" name="Rectangle 28"/>
            <p:cNvSpPr/>
            <p:nvPr/>
          </p:nvSpPr>
          <p:spPr>
            <a:xfrm>
              <a:off x="914400" y="27432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3b (opsonin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8" name="Rectangle 29"/>
            <p:cNvSpPr/>
            <p:nvPr/>
          </p:nvSpPr>
          <p:spPr>
            <a:xfrm>
              <a:off x="3276720" y="274320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sonization; phagocyte activation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99" name="Rectangle 30"/>
            <p:cNvSpPr/>
            <p:nvPr/>
          </p:nvSpPr>
          <p:spPr>
            <a:xfrm>
              <a:off x="6776640" y="2743200"/>
              <a:ext cx="186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tors H &amp; I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44"/>
          <p:cNvGrpSpPr/>
          <p:nvPr/>
        </p:nvGrpSpPr>
        <p:grpSpPr>
          <a:xfrm>
            <a:off x="762120" y="1676520"/>
            <a:ext cx="7924680" cy="4572000"/>
            <a:chOff x="762120" y="1676520"/>
            <a:chExt cx="7924680" cy="4572000"/>
          </a:xfrm>
        </p:grpSpPr>
        <p:sp>
          <p:nvSpPr>
            <p:cNvPr id="501" name="Rectangle 37"/>
            <p:cNvSpPr/>
            <p:nvPr/>
          </p:nvSpPr>
          <p:spPr>
            <a:xfrm>
              <a:off x="762120" y="1676520"/>
              <a:ext cx="7924680" cy="4572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502" name="Group 43"/>
            <p:cNvGrpSpPr/>
            <p:nvPr/>
          </p:nvGrpSpPr>
          <p:grpSpPr>
            <a:xfrm>
              <a:off x="762120" y="1828800"/>
              <a:ext cx="7924680" cy="533520"/>
              <a:chOff x="762120" y="1828800"/>
              <a:chExt cx="7924680" cy="533520"/>
            </a:xfrm>
          </p:grpSpPr>
          <p:grpSp>
            <p:nvGrpSpPr>
              <p:cNvPr id="503" name="Group 42"/>
              <p:cNvGrpSpPr/>
              <p:nvPr/>
            </p:nvGrpSpPr>
            <p:grpSpPr>
              <a:xfrm>
                <a:off x="838800" y="1828800"/>
                <a:ext cx="7707600" cy="489960"/>
                <a:chOff x="838800" y="1828800"/>
                <a:chExt cx="7707600" cy="489960"/>
              </a:xfrm>
            </p:grpSpPr>
            <p:sp>
              <p:nvSpPr>
                <p:cNvPr id="504" name="Rectangle 38"/>
                <p:cNvSpPr/>
                <p:nvPr/>
              </p:nvSpPr>
              <p:spPr>
                <a:xfrm>
                  <a:off x="838800" y="1828800"/>
                  <a:ext cx="13222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roduct</a:t>
                  </a: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505" name="Rectangle 39"/>
                <p:cNvSpPr/>
                <p:nvPr/>
              </p:nvSpPr>
              <p:spPr>
                <a:xfrm>
                  <a:off x="3200400" y="1828800"/>
                  <a:ext cx="281952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ological Effects</a:t>
                  </a: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  <p:sp>
              <p:nvSpPr>
                <p:cNvPr id="506" name="Rectangle 40"/>
                <p:cNvSpPr/>
                <p:nvPr/>
              </p:nvSpPr>
              <p:spPr>
                <a:xfrm>
                  <a:off x="6782400" y="1828800"/>
                  <a:ext cx="17640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spcBef>
                      <a:spcPts val="1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gulation</a:t>
                  </a:r>
                  <a:endParaRPr b="1" lang="en-US" sz="2600" spc="-1" strike="noStrike">
                    <a:solidFill>
                      <a:srgbClr val="cc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" name="Line 41"/>
              <p:cNvSpPr/>
              <p:nvPr/>
            </p:nvSpPr>
            <p:spPr>
              <a:xfrm>
                <a:off x="762120" y="2362320"/>
                <a:ext cx="7924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ological properties of C-activation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45"/>
          <p:cNvGrpSpPr/>
          <p:nvPr/>
        </p:nvGrpSpPr>
        <p:grpSpPr>
          <a:xfrm>
            <a:off x="838080" y="2514600"/>
            <a:ext cx="7772400" cy="2654280"/>
            <a:chOff x="838080" y="2514600"/>
            <a:chExt cx="7772400" cy="2654280"/>
          </a:xfrm>
        </p:grpSpPr>
        <p:sp>
          <p:nvSpPr>
            <p:cNvPr id="510" name="Rectangle 30"/>
            <p:cNvSpPr/>
            <p:nvPr/>
          </p:nvSpPr>
          <p:spPr>
            <a:xfrm>
              <a:off x="2971800" y="2514600"/>
              <a:ext cx="35812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phylactic as C3, but much more potent;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ttracts &amp; activates PMN causes neutrophil aggregation, stimulation of oxidative metabolism and leukotriene release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1" name="Rectangle 31"/>
            <p:cNvSpPr/>
            <p:nvPr/>
          </p:nvSpPr>
          <p:spPr>
            <a:xfrm>
              <a:off x="838080" y="251460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5a (</a:t>
              </a:r>
              <a:r>
                <a:rPr b="0" lang="en-US" sz="24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chemotactic fact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2" name="Rectangle 34"/>
            <p:cNvSpPr/>
            <p:nvPr/>
          </p:nvSpPr>
          <p:spPr>
            <a:xfrm>
              <a:off x="6705720" y="251460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rboxy-peptidase-B (C3-INA)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513" name="Group 46"/>
          <p:cNvGrpSpPr/>
          <p:nvPr/>
        </p:nvGrpSpPr>
        <p:grpSpPr>
          <a:xfrm>
            <a:off x="841680" y="5334120"/>
            <a:ext cx="7387920" cy="825480"/>
            <a:chOff x="841680" y="5334120"/>
            <a:chExt cx="7387920" cy="825480"/>
          </a:xfrm>
        </p:grpSpPr>
        <p:sp>
          <p:nvSpPr>
            <p:cNvPr id="514" name="Rectangle 32"/>
            <p:cNvSpPr/>
            <p:nvPr/>
          </p:nvSpPr>
          <p:spPr>
            <a:xfrm>
              <a:off x="841680" y="533412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5b67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5" name="Rectangle 33"/>
            <p:cNvSpPr/>
            <p:nvPr/>
          </p:nvSpPr>
          <p:spPr>
            <a:xfrm>
              <a:off x="6705720" y="5334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tein-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516" name="Text Box 35"/>
            <p:cNvSpPr/>
            <p:nvPr/>
          </p:nvSpPr>
          <p:spPr>
            <a:xfrm>
              <a:off x="2971800" y="5334120"/>
              <a:ext cx="308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emotaxis, attaches to other membrane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8" dur="1" fill="hold"/>
                                  <p:tgtEl>
                                    <p:spTgt spid="5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EE4B-BA8A-42DC-AD4C-DAE6034BEA7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Deficiencies and Dise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38080" y="1752480"/>
          <a:ext cx="75438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1920960"/>
                <a:gridCol w="3031920"/>
              </a:tblGrid>
              <a:tr h="85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hway Component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eas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sm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INH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editary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gioedem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production of C2b (prokinin)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9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, C2, C4 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disposition 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SL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sonization of immun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es help keep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m soluble, deficiency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s in increased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ipitation in tissue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inflammation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44DB-1A9E-429E-83F8-7E6B37B929A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Deficiencies and Dise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in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838080" y="2327400"/>
          <a:ext cx="7543800" cy="2170080"/>
        </p:xfrm>
        <a:graphic>
          <a:graphicData uri="http://schemas.openxmlformats.org/drawingml/2006/table">
            <a:tbl>
              <a:tblPr/>
              <a:tblGrid>
                <a:gridCol w="2590920"/>
                <a:gridCol w="2514600"/>
                <a:gridCol w="2438280"/>
              </a:tblGrid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hway Component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eas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sm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L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ceptibility to bacterial infections in infants or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munosuppressed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ability to initiate lectin pathway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9DEA-9245-467A-9914-EBA04A52047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Deficiencies and Dise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38080" y="1752480"/>
          <a:ext cx="7772400" cy="4626000"/>
        </p:xfrm>
        <a:graphic>
          <a:graphicData uri="http://schemas.openxmlformats.org/drawingml/2006/table">
            <a:tbl>
              <a:tblPr/>
              <a:tblGrid>
                <a:gridCol w="2590920"/>
                <a:gridCol w="1828800"/>
                <a:gridCol w="3352680"/>
              </a:tblGrid>
              <a:tr h="67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hway/Component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eas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sm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s B or D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ceptibility to pyogenic (pus-forming) bacterial infection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k of sufficient opsonization of bacteri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3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ceptibility to bacterial infection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k of opsonization and inability to utilize the membrane attack pathway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5, C6, C7 C8, or C9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ceptibility to Gram-negative infection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ability to attack the outer membrane of Gram-negative bacteri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47C6-E86A-444D-AA30-04709778C0C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Deficiencies and Disea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Pathway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838080" y="1752480"/>
          <a:ext cx="7772400" cy="4496040"/>
        </p:xfrm>
        <a:graphic>
          <a:graphicData uri="http://schemas.openxmlformats.org/drawingml/2006/table">
            <a:tbl>
              <a:tblPr/>
              <a:tblGrid>
                <a:gridCol w="2667240"/>
                <a:gridCol w="1981080"/>
                <a:gridCol w="312408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thway Component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ease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chanism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erdin (X-linked)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sceptibility meningococcal meningiti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ck of opsonization of bacteria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s H or I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3 deficiency and susceptibility to bacterial infections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controlled activation of C3 via alternative pathway resulting in depletion of C3</a:t>
                      </a:r>
                      <a:endParaRPr b="1" lang="en-US" sz="2000" spc="-1" strike="noStrike">
                        <a:solidFill>
                          <a:srgbClr val="cc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Proteins of the complement</a:t>
            </a:r>
            <a:br>
              <a:rPr sz="3000"/>
            </a:b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0"/>
          <p:cNvSpPr/>
          <p:nvPr/>
        </p:nvSpPr>
        <p:spPr>
          <a:xfrm>
            <a:off x="457200" y="1447920"/>
            <a:ext cx="8229600" cy="4293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comprises over 20 different serum proteins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proteins are produced by a variety of cells: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patocytes, macrophages, gut epithelial cells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omponents can bind to Immunoglobulins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others are proenzymes that when activated can cleave and activate other components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Proteins of the complement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system (nomencla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A22A-E829-4B23-B9A3-91377BA9A54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990720" y="1981080"/>
            <a:ext cx="708660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1(q r s), C2, C3, C4, C5, C6, C7, C8, C9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ors B, D, H and I,  properdin (P)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nose binding lectin (MBL), MBL associated serine proteases (MASP-1 MASP-2)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 marL="345960" indent="-345960">
              <a:spcBef>
                <a:spcPts val="1624"/>
              </a:spcBef>
              <a:buClr>
                <a:srgbClr val="25002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1 inhibitor (C1-INH, serpin), C4-binding protein (C4-BP), decay accelerating factor (DAF), Complement receptor 1 (CR1), protein-S (vitronectin)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685800" y="1447920"/>
            <a:ext cx="7996320" cy="481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-acti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ation of C proteins such that they interact with the next componen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-fix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tion of C by Ag-Ab complexe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molytic un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5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ion of serum which lyses 50% of a standardized suspension of Ab-coated R.B.C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-inacti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aturation  (usually by heat) of an early C-component resulting in loss of hemolytic activit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vertase/ester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ed C-protein which acts as a proteolytic enzyme for another C-component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6019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09480" y="1600200"/>
            <a:ext cx="815364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54380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ctivation product of complement proteins (nomencla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762120" y="2489040"/>
            <a:ext cx="79246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enzymatically cleaved, 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arger moie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inds to the activation complex or membrane and the smaller peptide is released into the microenvironment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839880" y="4191120"/>
            <a:ext cx="78962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ter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“b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ded to the larger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rane-binding, peptide and </a:t>
            </a: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“a”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he smaller peptide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C3b/C3a, C4b/C4a, C5b/C5a) 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XCEPTION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2 (the larger, membrane-binding moiety is C2a; the smaller one is C2b)</a:t>
            </a:r>
            <a:endParaRPr b="1" lang="en-US" sz="26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27" name="Group 22"/>
          <p:cNvGrpSpPr/>
          <p:nvPr/>
        </p:nvGrpSpPr>
        <p:grpSpPr>
          <a:xfrm>
            <a:off x="762120" y="1625760"/>
            <a:ext cx="7896240" cy="806760"/>
            <a:chOff x="762120" y="1625760"/>
            <a:chExt cx="7896240" cy="806760"/>
          </a:xfrm>
        </p:grpSpPr>
        <p:sp>
          <p:nvSpPr>
            <p:cNvPr id="128" name="Rectangle 14"/>
            <p:cNvSpPr/>
            <p:nvPr/>
          </p:nvSpPr>
          <p:spPr>
            <a:xfrm>
              <a:off x="762120" y="1625760"/>
              <a:ext cx="789624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ctivated component are usually over-lined: </a:t>
              </a:r>
              <a:r>
                <a:rPr b="0" i="1" lang="en-US" sz="2600" spc="-1" strike="noStrike">
                  <a:solidFill>
                    <a:srgbClr val="000000"/>
                  </a:solidFill>
                  <a:latin typeface="Arial"/>
                </a:rPr>
                <a:t>e.g.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C1qrs  </a:t>
              </a:r>
              <a:endParaRPr b="1" lang="en-US" sz="26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1222200" y="2057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1" dur="1" fill="hold"/>
                                  <p:tgtEl>
                                    <p:spTgt spid="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172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hways of complement ac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1081080" y="1622520"/>
            <a:ext cx="7315200" cy="464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1219320" y="1695600"/>
            <a:ext cx="1863720" cy="70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Rectangle 31"/>
          <p:cNvSpPr/>
          <p:nvPr/>
        </p:nvSpPr>
        <p:spPr>
          <a:xfrm>
            <a:off x="6019920" y="1693800"/>
            <a:ext cx="2233440" cy="66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34" name="Group 73"/>
          <p:cNvGrpSpPr/>
          <p:nvPr/>
        </p:nvGrpSpPr>
        <p:grpSpPr>
          <a:xfrm>
            <a:off x="4152960" y="4592520"/>
            <a:ext cx="1342800" cy="763560"/>
            <a:chOff x="4152960" y="4592520"/>
            <a:chExt cx="1342800" cy="763560"/>
          </a:xfrm>
        </p:grpSpPr>
        <p:sp>
          <p:nvSpPr>
            <p:cNvPr id="135" name="Rectangle 44"/>
            <p:cNvSpPr/>
            <p:nvPr/>
          </p:nvSpPr>
          <p:spPr>
            <a:xfrm>
              <a:off x="4152960" y="4802040"/>
              <a:ext cx="1342800" cy="55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tivation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f C5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36" name="Line 45"/>
            <p:cNvSpPr/>
            <p:nvPr/>
          </p:nvSpPr>
          <p:spPr>
            <a:xfrm>
              <a:off x="4843440" y="4592520"/>
              <a:ext cx="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37" name="Group 74"/>
          <p:cNvGrpSpPr/>
          <p:nvPr/>
        </p:nvGrpSpPr>
        <p:grpSpPr>
          <a:xfrm>
            <a:off x="3244680" y="5365800"/>
            <a:ext cx="3279960" cy="828720"/>
            <a:chOff x="3244680" y="5365800"/>
            <a:chExt cx="3279960" cy="828720"/>
          </a:xfrm>
        </p:grpSpPr>
        <p:sp>
          <p:nvSpPr>
            <p:cNvPr id="138" name="Line 46"/>
            <p:cNvSpPr/>
            <p:nvPr/>
          </p:nvSpPr>
          <p:spPr>
            <a:xfrm>
              <a:off x="4876920" y="53658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3244680" y="5584680"/>
              <a:ext cx="3279960" cy="60984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YTIC ATTACK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HWAY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40" name="Group 65"/>
          <p:cNvGrpSpPr/>
          <p:nvPr/>
        </p:nvGrpSpPr>
        <p:grpSpPr>
          <a:xfrm>
            <a:off x="1371600" y="2416320"/>
            <a:ext cx="1341360" cy="860400"/>
            <a:chOff x="1371600" y="2416320"/>
            <a:chExt cx="1341360" cy="860400"/>
          </a:xfrm>
        </p:grpSpPr>
        <p:sp>
          <p:nvSpPr>
            <p:cNvPr id="141" name="Rectangle 32"/>
            <p:cNvSpPr/>
            <p:nvPr/>
          </p:nvSpPr>
          <p:spPr>
            <a:xfrm>
              <a:off x="1371600" y="2722680"/>
              <a:ext cx="1341360" cy="55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tibody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pendent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42" name="Line 53"/>
            <p:cNvSpPr/>
            <p:nvPr/>
          </p:nvSpPr>
          <p:spPr>
            <a:xfrm>
              <a:off x="2057400" y="24163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143" name="Rectangle 55"/>
          <p:cNvSpPr/>
          <p:nvPr/>
        </p:nvSpPr>
        <p:spPr>
          <a:xfrm>
            <a:off x="3809880" y="1676520"/>
            <a:ext cx="186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44" name="Group 68"/>
          <p:cNvGrpSpPr/>
          <p:nvPr/>
        </p:nvGrpSpPr>
        <p:grpSpPr>
          <a:xfrm>
            <a:off x="4854600" y="2384280"/>
            <a:ext cx="2384280" cy="816120"/>
            <a:chOff x="4854600" y="2384280"/>
            <a:chExt cx="2384280" cy="816120"/>
          </a:xfrm>
        </p:grpSpPr>
        <p:sp>
          <p:nvSpPr>
            <p:cNvPr id="145" name="Rectangle 54"/>
            <p:cNvSpPr/>
            <p:nvPr/>
          </p:nvSpPr>
          <p:spPr>
            <a:xfrm>
              <a:off x="5213520" y="2646360"/>
              <a:ext cx="1676160" cy="55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tibody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dependent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46" name="Group 67"/>
            <p:cNvGrpSpPr/>
            <p:nvPr/>
          </p:nvGrpSpPr>
          <p:grpSpPr>
            <a:xfrm>
              <a:off x="4854600" y="2384280"/>
              <a:ext cx="2384280" cy="609840"/>
              <a:chOff x="4854600" y="2384280"/>
              <a:chExt cx="2384280" cy="609840"/>
            </a:xfrm>
          </p:grpSpPr>
          <p:sp>
            <p:nvSpPr>
              <p:cNvPr id="147" name="Line 57"/>
              <p:cNvSpPr/>
              <p:nvPr/>
            </p:nvSpPr>
            <p:spPr>
              <a:xfrm>
                <a:off x="4854600" y="2971800"/>
                <a:ext cx="358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48" name="Line 58"/>
              <p:cNvSpPr/>
              <p:nvPr/>
            </p:nvSpPr>
            <p:spPr>
              <a:xfrm>
                <a:off x="6912000" y="297180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7238880" y="238428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50" name="Line 63"/>
              <p:cNvSpPr/>
              <p:nvPr/>
            </p:nvSpPr>
            <p:spPr>
              <a:xfrm>
                <a:off x="4876920" y="238428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76"/>
          <p:cNvGrpSpPr/>
          <p:nvPr/>
        </p:nvGrpSpPr>
        <p:grpSpPr>
          <a:xfrm>
            <a:off x="2057400" y="2994120"/>
            <a:ext cx="5181480" cy="1596960"/>
            <a:chOff x="2057400" y="2994120"/>
            <a:chExt cx="5181480" cy="1596960"/>
          </a:xfrm>
        </p:grpSpPr>
        <p:sp>
          <p:nvSpPr>
            <p:cNvPr id="152" name="Line 38"/>
            <p:cNvSpPr/>
            <p:nvPr/>
          </p:nvSpPr>
          <p:spPr>
            <a:xfrm>
              <a:off x="2057400" y="3505320"/>
              <a:ext cx="518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53" name="Rectangle 42"/>
            <p:cNvSpPr/>
            <p:nvPr/>
          </p:nvSpPr>
          <p:spPr>
            <a:xfrm>
              <a:off x="2590920" y="3733920"/>
              <a:ext cx="4495680" cy="85716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ctivation of C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and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  <a:p>
              <a:pPr algn="ctr">
                <a:lnSpc>
                  <a:spcPct val="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eneration of C5 convertase</a:t>
              </a:r>
              <a:endParaRPr b="1" lang="en-US" sz="2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54" name="Line 59"/>
            <p:cNvSpPr/>
            <p:nvPr/>
          </p:nvSpPr>
          <p:spPr>
            <a:xfrm>
              <a:off x="2057400" y="32767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55" name="Line 62"/>
            <p:cNvSpPr/>
            <p:nvPr/>
          </p:nvSpPr>
          <p:spPr>
            <a:xfrm>
              <a:off x="7238880" y="299412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56" name="Line 64"/>
            <p:cNvSpPr/>
            <p:nvPr/>
          </p:nvSpPr>
          <p:spPr>
            <a:xfrm>
              <a:off x="4876920" y="299412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57" name="Line 69"/>
            <p:cNvSpPr/>
            <p:nvPr/>
          </p:nvSpPr>
          <p:spPr>
            <a:xfrm>
              <a:off x="4876920" y="35053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mponents of the Classical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7315200" y="2895480"/>
            <a:ext cx="1295280" cy="22100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AutoShape 40"/>
          <p:cNvSpPr/>
          <p:nvPr/>
        </p:nvSpPr>
        <p:spPr>
          <a:xfrm rot="72000">
            <a:off x="3505320" y="3200040"/>
            <a:ext cx="1523880" cy="19051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AutoShape 42"/>
          <p:cNvSpPr/>
          <p:nvPr/>
        </p:nvSpPr>
        <p:spPr>
          <a:xfrm>
            <a:off x="5562720" y="3192480"/>
            <a:ext cx="990360" cy="181800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993240" y="487692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1 complex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AutoShape 69"/>
          <p:cNvSpPr/>
          <p:nvPr/>
        </p:nvSpPr>
        <p:spPr>
          <a:xfrm rot="16173000">
            <a:off x="3579840" y="2058840"/>
            <a:ext cx="612720" cy="304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64" name="Group 70"/>
          <p:cNvGrpSpPr/>
          <p:nvPr/>
        </p:nvGrpSpPr>
        <p:grpSpPr>
          <a:xfrm>
            <a:off x="827280" y="2109600"/>
            <a:ext cx="2765880" cy="2871000"/>
            <a:chOff x="827280" y="2109600"/>
            <a:chExt cx="2765880" cy="2871000"/>
          </a:xfrm>
        </p:grpSpPr>
        <p:sp>
          <p:nvSpPr>
            <p:cNvPr id="165" name="Text Box 71"/>
            <p:cNvSpPr/>
            <p:nvPr/>
          </p:nvSpPr>
          <p:spPr>
            <a:xfrm rot="137400">
              <a:off x="2035080" y="2793960"/>
              <a:ext cx="990720" cy="520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++</a:t>
              </a:r>
              <a:endParaRPr b="1" lang="en-US" sz="2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66" name="Oval 72"/>
            <p:cNvSpPr/>
            <p:nvPr/>
          </p:nvSpPr>
          <p:spPr>
            <a:xfrm rot="137400">
              <a:off x="1294920" y="2133360"/>
              <a:ext cx="121932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r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67" name="Oval 73"/>
            <p:cNvSpPr/>
            <p:nvPr/>
          </p:nvSpPr>
          <p:spPr>
            <a:xfrm rot="137400">
              <a:off x="2514240" y="2285640"/>
              <a:ext cx="1066680" cy="609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s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68" name="Group 74"/>
            <p:cNvGrpSpPr/>
            <p:nvPr/>
          </p:nvGrpSpPr>
          <p:grpSpPr>
            <a:xfrm>
              <a:off x="827280" y="3567960"/>
              <a:ext cx="1764360" cy="1412640"/>
              <a:chOff x="827280" y="3567960"/>
              <a:chExt cx="1764360" cy="1412640"/>
            </a:xfrm>
          </p:grpSpPr>
          <p:sp>
            <p:nvSpPr>
              <p:cNvPr id="169" name="Oval 75"/>
              <p:cNvSpPr/>
              <p:nvPr/>
            </p:nvSpPr>
            <p:spPr>
              <a:xfrm rot="137400">
                <a:off x="1294920" y="3580920"/>
                <a:ext cx="676440" cy="547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0" name="Oval 76"/>
              <p:cNvSpPr/>
              <p:nvPr/>
            </p:nvSpPr>
            <p:spPr>
              <a:xfrm rot="137400">
                <a:off x="837720" y="3962160"/>
                <a:ext cx="67644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1" name="Oval 77"/>
              <p:cNvSpPr/>
              <p:nvPr/>
            </p:nvSpPr>
            <p:spPr>
              <a:xfrm rot="137400">
                <a:off x="1142640" y="4419360"/>
                <a:ext cx="67608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2" name="Oval 78"/>
              <p:cNvSpPr/>
              <p:nvPr/>
            </p:nvSpPr>
            <p:spPr>
              <a:xfrm rot="137400">
                <a:off x="1752120" y="4343040"/>
                <a:ext cx="676440" cy="547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3" name="Oval 79"/>
              <p:cNvSpPr/>
              <p:nvPr/>
            </p:nvSpPr>
            <p:spPr>
              <a:xfrm rot="137400">
                <a:off x="1904400" y="3809520"/>
                <a:ext cx="676440" cy="547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74" name="Oval 80"/>
            <p:cNvSpPr/>
            <p:nvPr/>
          </p:nvSpPr>
          <p:spPr>
            <a:xfrm rot="21586800">
              <a:off x="1295280" y="2712960"/>
              <a:ext cx="847800" cy="1782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1q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0T14:23:48Z</dcterms:created>
  <dc:creator>Abdul Ghaffar</dc:creator>
  <dc:description/>
  <dc:language>en-US</dc:language>
  <cp:lastModifiedBy>ksu</cp:lastModifiedBy>
  <cp:lastPrinted>1999-05-13T19:11:23Z</cp:lastPrinted>
  <dcterms:modified xsi:type="dcterms:W3CDTF">2009-04-01T04:34:11Z</dcterms:modified>
  <cp:revision>244</cp:revision>
  <dc:subject/>
  <dc:title>Complement</dc:title>
</cp:coreProperties>
</file>